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14.gif" ContentType="image/gif"/>
  <Override PartName="/ppt/media/image13.gif" ContentType="image/gif"/>
  <Override PartName="/ppt/media/chimes.wav" ContentType="audio/x-wav"/>
  <Override PartName="/ppt/media/image8.png" ContentType="image/png"/>
  <Override PartName="/ppt/media/image6.jpeg" ContentType="image/jpeg"/>
  <Override PartName="/ppt/media/applause.wav" ContentType="audio/x-wav"/>
  <Override PartName="/ppt/media/image12.gif" ContentType="image/gif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11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009-11F4-48ED-AF81-B7303A5C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9E1-BE65-49F1-A8D3-22FE33F7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10E-3882-4E4F-9D5C-EC186BE9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1798-173D-4F4C-A31E-A896E922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F056-6138-4D81-8705-C41F2BC8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A67F-9A40-460A-A919-2BF1ABE0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D9D4-2F26-41AC-9BED-A53A5C8D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A106-EB25-41CF-8C42-F68C9D68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837A-9955-4339-8282-FD1C7F49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F700-8005-4618-BCFC-3397A580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DF2C-D392-4B97-A0CE-A9F6C517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136-C19B-4C3B-B32F-08933213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6FE8-48A9-45E3-8023-E0CCE41F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8230-A9E8-43D1-9A30-0C44D3E3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394A-0453-4BFF-8885-C6BBF330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B1D5-ECC0-4E41-B288-51A56FEE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A69E-2B62-4B89-8A47-831F249A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090C-2CCF-46A3-8CB3-CA9DDE9C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77BA5-911E-4BA0-9AD5-3B176277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DE58-79B2-44EF-B560-C1726B4C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D1EB9-87D1-499F-854F-1FD92E04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7643F-E130-4B2D-96CF-86A77F72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F26-DB56-457F-8CB6-E06B6AEC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AFB7-E7FA-40A2-A442-B981D586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7E63-DD9B-4689-AD02-93084122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5EBFA-0BAE-459D-A636-93D7A2F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3F63-6CF1-4406-8F3D-01ECE522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7971-AAD9-4D9F-9163-01B2CA0C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7774-EBE0-4A40-89C2-8B3E9FC1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DC3FB-F4FC-4BEE-84B8-18A3CDC4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596DA-2992-4D13-97A1-B8E83F36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FA843-B261-4EA6-BC4E-5435EBC1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E30F-8183-40CD-BE6F-25FCF51B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334-D828-4A82-8490-40044FAB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498CD-8D01-4816-869C-6E6002D0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398F0-C50A-40DC-9481-0159EDD6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950BC-93CD-4E65-BD8D-FC87FA71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EF4E7-C18F-4128-8282-7005D6CE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A62DA-A50D-4180-B5F9-DAC35B0F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25DB1-514B-4967-91B0-D30E8DA3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82AD8-7311-4C42-B7D2-4ED23FA4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57E0B-A33D-4C7C-BCE5-D580252B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C644E-8484-48AE-A913-C80A6567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449-3F2E-4FF1-B4B9-301D534F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103F-8604-448E-BE95-ADBD0B5F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DDE4-A7EA-4780-9458-DC0D48D4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B54-DB35-48C8-8DCB-04C7C11A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5CC-7E2B-4526-A0AD-7C9DE3AE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687fc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" name="Picture 3" descr="ANABNR2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D325-08FE-4077-923F-7AE4D27F08DE}" type="slidenum"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1A1A-73C9-4557-9A27-5E917B8255D4}" type="slidenum">
              <a: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0D7D-F01E-4F54-A692-272DFBCA107A}" type="slidenum">
              <a: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9244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第一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PPT</a:t>
            </a:r>
            <a:r>
              <a:rPr b="0" lang="zh-CN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模板网</a:t>
            </a:r>
            <a:r>
              <a:rPr b="0" lang="en-US" sz="1400" spc="-1" strike="noStrike">
                <a:solidFill>
                  <a:srgbClr val="192449"/>
                </a:solidFill>
                <a:latin typeface="Times New Roman"/>
                <a:ea typeface="宋体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9847-3819-46EA-A8DD-671E55D3BB68}" type="slidenum">
              <a:rPr b="0" lang="en-US" sz="2400" spc="-1" strike="noStrike">
                <a:solidFill>
                  <a:srgbClr val="192449"/>
                </a:solidFill>
                <a:latin typeface="Times New Roman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270,13,&#21407;&#22240;&#21487;&#33021;&#26159;&#65306;" TargetMode="Externa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38/" TargetMode="External"/><Relationship Id="rId8" Type="http://schemas.openxmlformats.org/officeDocument/2006/relationships/hyperlink" Target="http://www.1ppt.com/kejian/yuwen/160/" TargetMode="External"/><Relationship Id="rId9" Type="http://schemas.openxmlformats.org/officeDocument/2006/relationships/hyperlink" Target="http://www.1ppt.com/kejian/yuwen/161/" TargetMode="External"/><Relationship Id="rId10" Type="http://schemas.openxmlformats.org/officeDocument/2006/relationships/hyperlink" Target="http://www.1ppt.com/kejian/yuwen/162/" TargetMode="External"/><Relationship Id="rId11" Type="http://schemas.openxmlformats.org/officeDocument/2006/relationships/hyperlink" Target="http://www.1ppt.com/kejian/yuwen/163/" TargetMode="External"/><Relationship Id="rId12" Type="http://schemas.openxmlformats.org/officeDocument/2006/relationships/hyperlink" Target="http://www.1ppt.com/kejian/yuwen/164/" TargetMode="External"/><Relationship Id="rId13" Type="http://schemas.openxmlformats.org/officeDocument/2006/relationships/hyperlink" Target="http://www.1ppt.com/kejian/yuwen/165/" TargetMode="External"/><Relationship Id="rId14" Type="http://schemas.openxmlformats.org/officeDocument/2006/relationships/hyperlink" Target="http://www.1ppt.com/" TargetMode="External"/><Relationship Id="rId15" Type="http://schemas.openxmlformats.org/officeDocument/2006/relationships/hyperlink" Target="http://www.1ppt.com/kejian/yuwen/166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kejian/yuwen/167/" TargetMode="External"/><Relationship Id="rId18" Type="http://schemas.openxmlformats.org/officeDocument/2006/relationships/hyperlink" Target="http://www.1ppt.com/kejian/yuwen/167/" TargetMode="External"/><Relationship Id="rId19" Type="http://schemas.openxmlformats.org/officeDocument/2006/relationships/hyperlink" Target="http://www.1ppt.com/kejian/yuwen/167/" TargetMode="External"/><Relationship Id="rId20" Type="http://schemas.openxmlformats.org/officeDocument/2006/relationships/image" Target="../media/image4.jpeg"/><Relationship Id="rId2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71,7,&#30475;&#30475;&#35841;&#35828;&#24471;&#22909;&#65311;" TargetMode="External"/><Relationship Id="rId3" Type="http://schemas.openxmlformats.org/officeDocument/2006/relationships/hyperlink" Target="271,7,&#30475;&#30475;&#35841;&#35828;&#24471;&#22909;&#65311;" TargetMode="External"/><Relationship Id="rId4" Type="http://schemas.openxmlformats.org/officeDocument/2006/relationships/hyperlink" Target="271,7,&#30475;&#30475;&#35841;&#35828;&#24471;&#22909;&#65311;" TargetMode="External"/><Relationship Id="rId5" Type="http://schemas.openxmlformats.org/officeDocument/2006/relationships/hyperlink" Target="271,7,&#30475;&#30475;&#35841;&#35828;&#24471;&#22909;&#65311;" TargetMode="External"/><Relationship Id="rId6" Type="http://schemas.openxmlformats.org/officeDocument/2006/relationships/hyperlink" Target="271,7,&#30475;&#30475;&#35841;&#35828;&#24471;&#22909;&#65311;" TargetMode="Externa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0,8,&#24187;&#28783;&#29255; 8" TargetMode="External"/><Relationship Id="rId3" Type="http://schemas.openxmlformats.org/officeDocument/2006/relationships/hyperlink" Target="256,-1,NEXT" TargetMode="External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76360" y="1915920"/>
            <a:ext cx="640872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8000"/>
                </a:solidFill>
                <a:latin typeface="Times New Roman"/>
                <a:ea typeface="华文行楷"/>
              </a:rPr>
              <a:t> </a:t>
            </a:r>
            <a:endParaRPr b="0" lang="en-US" sz="4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332000" y="836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7fca"/>
                </a:solidFill>
                <a:latin typeface="华文中宋"/>
                <a:ea typeface="华文中宋"/>
              </a:rPr>
              <a:t>西师大版  六年级 语文  上册 第一单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20120" y="2637000"/>
            <a:ext cx="13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87fca"/>
                </a:solidFill>
                <a:latin typeface="Times New Roman"/>
              </a:rPr>
              <a:t>《鸟的天堂》课件</a:t>
            </a:r>
            <a:r>
              <a:rPr b="0" lang="en-US" sz="3200" spc="-1" strike="noStrike">
                <a:solidFill>
                  <a:srgbClr val="687fca"/>
                </a:solidFill>
                <a:latin typeface="Times New Roman"/>
              </a:rPr>
              <a:t>PP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uamei"/>
          <p:cNvPicPr/>
          <p:nvPr/>
        </p:nvPicPr>
        <p:blipFill>
          <a:blip r:embed="rId2"/>
          <a:stretch/>
        </p:blipFill>
        <p:spPr>
          <a:xfrm>
            <a:off x="2556000" y="1557360"/>
            <a:ext cx="4284360" cy="321300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5"/>
          <p:cNvSpPr/>
          <p:nvPr/>
        </p:nvSpPr>
        <p:spPr>
          <a:xfrm flipH="1">
            <a:off x="6084720" y="5445000"/>
            <a:ext cx="503280" cy="358920"/>
          </a:xfrm>
          <a:custGeom>
            <a:avLst/>
            <a:gdLst>
              <a:gd name="textAreaLeft" fmla="*/ 22320 w 503280"/>
              <a:gd name="textAreaRight" fmla="*/ 480960 w 503280"/>
              <a:gd name="textAreaTop" fmla="*/ 22320 h 358920"/>
              <a:gd name="textAreaBottom" fmla="*/ 33660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929" y="1350"/>
                </a:lnTo>
                <a:lnTo>
                  <a:pt x="1350" y="135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929" y="20250"/>
                </a:lnTo>
                <a:lnTo>
                  <a:pt x="28929" y="135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929" y="2025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79" h="21600">
                <a:moveTo>
                  <a:pt x="8096" y="3756"/>
                </a:moveTo>
                <a:lnTo>
                  <a:pt x="22183" y="10800"/>
                </a:lnTo>
                <a:lnTo>
                  <a:pt x="8096" y="17844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ac164"/>
                </a:solidFill>
                <a:latin typeface="Times New Roman"/>
                <a:ea typeface="华文行楷"/>
              </a:rPr>
              <a:t>看看谁说得好？</a:t>
            </a:r>
            <a:endParaRPr b="0" lang="en-US" sz="6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1.</a:t>
            </a:r>
            <a:r>
              <a:rPr b="0" lang="zh-CN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起初</a:t>
            </a:r>
            <a:r>
              <a:rPr b="0" lang="en-US" sz="4400" spc="-1" strike="noStrike">
                <a:solidFill>
                  <a:srgbClr val="a12143"/>
                </a:solidFill>
                <a:latin typeface="华文中宋"/>
                <a:ea typeface="华文中宋"/>
              </a:rPr>
              <a:t>……</a:t>
            </a:r>
            <a:r>
              <a:rPr b="0" lang="zh-CN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后来</a:t>
            </a:r>
            <a:r>
              <a:rPr b="0" lang="en-US" sz="4400" spc="-1" strike="noStrike">
                <a:solidFill>
                  <a:srgbClr val="a12143"/>
                </a:solidFill>
                <a:latin typeface="华文中宋"/>
                <a:ea typeface="华文中宋"/>
              </a:rPr>
              <a:t>……</a:t>
            </a:r>
            <a:r>
              <a:rPr b="0" lang="en-US" sz="4400" spc="-1" strike="noStrike">
                <a:solidFill>
                  <a:srgbClr val="a12143"/>
                </a:solidFill>
                <a:latin typeface="Times New Roman"/>
                <a:ea typeface="华文中宋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2.</a:t>
            </a:r>
            <a:r>
              <a:rPr b="0" lang="zh-CN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有的</a:t>
            </a:r>
            <a:r>
              <a:rPr b="0" lang="en-US" sz="4400" spc="-1" strike="noStrike">
                <a:solidFill>
                  <a:srgbClr val="a12143"/>
                </a:solidFill>
                <a:latin typeface="华文中宋"/>
                <a:ea typeface="华文中宋"/>
              </a:rPr>
              <a:t>……</a:t>
            </a:r>
            <a:r>
              <a:rPr b="0" lang="zh-CN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有的</a:t>
            </a:r>
            <a:r>
              <a:rPr b="0" lang="en-US" sz="4400" spc="-1" strike="noStrike">
                <a:solidFill>
                  <a:srgbClr val="a12143"/>
                </a:solidFill>
                <a:latin typeface="华文中宋"/>
                <a:ea typeface="华文中宋"/>
              </a:rPr>
              <a:t>……</a:t>
            </a:r>
            <a:r>
              <a:rPr b="0" lang="zh-CN" sz="4400" spc="-1" strike="noStrike">
                <a:solidFill>
                  <a:srgbClr val="a12143"/>
                </a:solidFill>
                <a:latin typeface="Times New Roman"/>
                <a:ea typeface="隶书"/>
              </a:rPr>
              <a:t>有的</a:t>
            </a:r>
            <a:r>
              <a:rPr b="0" lang="en-US" sz="4400" spc="-1" strike="noStrike">
                <a:solidFill>
                  <a:srgbClr val="a12143"/>
                </a:solidFill>
                <a:latin typeface="华文中宋"/>
                <a:ea typeface="华文中宋"/>
              </a:rPr>
              <a:t>……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7451640" y="5661000"/>
            <a:ext cx="381240" cy="457200"/>
          </a:xfrm>
          <a:custGeom>
            <a:avLst/>
            <a:gdLst>
              <a:gd name="textAreaLeft" fmla="*/ 23760 w 381240"/>
              <a:gd name="textAreaRight" fmla="*/ 357480 w 381240"/>
              <a:gd name="textAreaTop" fmla="*/ 23760 h 457200"/>
              <a:gd name="textAreaBottom" fmla="*/ 43344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50" y="24550"/>
                </a:lnTo>
                <a:lnTo>
                  <a:pt x="20250" y="135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350" y="24550"/>
                </a:lnTo>
                <a:lnTo>
                  <a:pt x="20250" y="2455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4550"/>
                </a:lnTo>
                <a:close/>
              </a:path>
              <a:path fill="darken" w="21600" h="25900">
                <a:moveTo>
                  <a:pt x="3756" y="9625"/>
                </a:moveTo>
                <a:lnTo>
                  <a:pt x="7283" y="9625"/>
                </a:lnTo>
                <a:lnTo>
                  <a:pt x="7283" y="14989"/>
                </a:lnTo>
                <a:cubicBezTo>
                  <a:pt x="7283" y="15916"/>
                  <a:pt x="8088" y="16651"/>
                  <a:pt x="9129" y="16651"/>
                </a:cubicBezTo>
                <a:lnTo>
                  <a:pt x="10800" y="16651"/>
                </a:lnTo>
                <a:cubicBezTo>
                  <a:pt x="11841" y="16651"/>
                  <a:pt x="12646" y="15916"/>
                  <a:pt x="12646" y="14989"/>
                </a:cubicBezTo>
                <a:lnTo>
                  <a:pt x="12646" y="9625"/>
                </a:lnTo>
                <a:lnTo>
                  <a:pt x="10800" y="9625"/>
                </a:lnTo>
                <a:lnTo>
                  <a:pt x="14326" y="6099"/>
                </a:lnTo>
                <a:lnTo>
                  <a:pt x="18019" y="9625"/>
                </a:lnTo>
                <a:lnTo>
                  <a:pt x="16173" y="9625"/>
                </a:lnTo>
                <a:lnTo>
                  <a:pt x="16173" y="14989"/>
                </a:lnTo>
                <a:cubicBezTo>
                  <a:pt x="16173" y="17771"/>
                  <a:pt x="13583" y="20344"/>
                  <a:pt x="10800" y="20344"/>
                </a:cubicBezTo>
                <a:lnTo>
                  <a:pt x="9129" y="20344"/>
                </a:lnTo>
                <a:cubicBezTo>
                  <a:pt x="6346" y="20344"/>
                  <a:pt x="3756" y="17771"/>
                  <a:pt x="3756" y="14989"/>
                </a:cubicBezTo>
                <a:close/>
              </a:path>
            </a:pathLst>
          </a:custGeom>
          <a:solidFill>
            <a:srgbClr val="c9ddf1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鸟的天堂全景"/>
          <p:cNvPicPr/>
          <p:nvPr/>
        </p:nvPicPr>
        <p:blipFill>
          <a:blip r:embed="rId2"/>
          <a:stretch/>
        </p:blipFill>
        <p:spPr>
          <a:xfrm>
            <a:off x="2268360" y="1341360"/>
            <a:ext cx="4788000" cy="3591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6">
            <a:hlinkClick r:id="" action="ppaction://hlinkshowjump?jump=endshow"/>
          </p:cNvPr>
          <p:cNvSpPr/>
          <p:nvPr/>
        </p:nvSpPr>
        <p:spPr>
          <a:xfrm>
            <a:off x="7451640" y="5734080"/>
            <a:ext cx="576360" cy="288720"/>
          </a:xfrm>
          <a:custGeom>
            <a:avLst/>
            <a:gdLst>
              <a:gd name="textAreaLeft" fmla="*/ 18000 w 576360"/>
              <a:gd name="textAreaRight" fmla="*/ 558360 w 576360"/>
              <a:gd name="textAreaTop" fmla="*/ 18000 h 288720"/>
              <a:gd name="textAreaBottom" fmla="*/ 27072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742" y="1350"/>
                </a:lnTo>
                <a:lnTo>
                  <a:pt x="1350" y="135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742" y="20250"/>
                </a:lnTo>
                <a:lnTo>
                  <a:pt x="41742" y="135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742" y="2025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092" h="21600">
                <a:moveTo>
                  <a:pt x="25064" y="10800"/>
                </a:moveTo>
                <a:lnTo>
                  <a:pt x="14502" y="17844"/>
                </a:lnTo>
                <a:lnTo>
                  <a:pt x="14502" y="3756"/>
                </a:lnTo>
                <a:close/>
              </a:path>
              <a:path fill="darken" w="43092" h="21600">
                <a:moveTo>
                  <a:pt x="26919" y="3756"/>
                </a:moveTo>
                <a:lnTo>
                  <a:pt x="26919" y="17844"/>
                </a:lnTo>
                <a:lnTo>
                  <a:pt x="28590" y="17844"/>
                </a:lnTo>
                <a:lnTo>
                  <a:pt x="28590" y="3756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6804000" y="5734080"/>
            <a:ext cx="504720" cy="287280"/>
          </a:xfrm>
          <a:custGeom>
            <a:avLst/>
            <a:gdLst>
              <a:gd name="textAreaLeft" fmla="*/ 17640 w 504720"/>
              <a:gd name="textAreaRight" fmla="*/ 487080 w 504720"/>
              <a:gd name="textAreaTop" fmla="*/ 17640 h 287280"/>
              <a:gd name="textAreaBottom" fmla="*/ 269640 h 287280"/>
            </a:gdLst>
            <a:ahLst/>
            <a:rect l="textAreaLeft" t="textAreaTop" r="textAreaRight" b="textAreaBottom"/>
            <a:pathLst>
              <a:path w="37928" h="21600">
                <a:moveTo>
                  <a:pt x="0" y="0"/>
                </a:moveTo>
                <a:lnTo>
                  <a:pt x="37928" y="0"/>
                </a:lnTo>
                <a:lnTo>
                  <a:pt x="37928" y="21600"/>
                </a:lnTo>
                <a:lnTo>
                  <a:pt x="0" y="21600"/>
                </a:lnTo>
                <a:close/>
              </a:path>
              <a:path fill="lightenLess" w="37928" h="21600">
                <a:moveTo>
                  <a:pt x="0" y="0"/>
                </a:moveTo>
                <a:lnTo>
                  <a:pt x="37928" y="0"/>
                </a:lnTo>
                <a:lnTo>
                  <a:pt x="36578" y="1350"/>
                </a:lnTo>
                <a:lnTo>
                  <a:pt x="1350" y="1350"/>
                </a:lnTo>
                <a:close/>
              </a:path>
              <a:path fill="darken" w="37928" h="21600">
                <a:moveTo>
                  <a:pt x="37928" y="0"/>
                </a:moveTo>
                <a:lnTo>
                  <a:pt x="37928" y="21600"/>
                </a:lnTo>
                <a:lnTo>
                  <a:pt x="36578" y="20250"/>
                </a:lnTo>
                <a:lnTo>
                  <a:pt x="36578" y="1350"/>
                </a:lnTo>
                <a:close/>
              </a:path>
              <a:path fill="darkenLess" w="37928" h="21600">
                <a:moveTo>
                  <a:pt x="379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578" y="20250"/>
                </a:lnTo>
                <a:close/>
              </a:path>
              <a:path fill="lighten" w="379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928" h="21600">
                <a:moveTo>
                  <a:pt x="11920" y="10800"/>
                </a:moveTo>
                <a:lnTo>
                  <a:pt x="26008" y="3756"/>
                </a:lnTo>
                <a:lnTo>
                  <a:pt x="26008" y="17844"/>
                </a:lnTo>
                <a:close/>
              </a:path>
            </a:pathLst>
          </a:cu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3" name="bird.mp3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2169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   </a:t>
            </a:r>
            <a:r>
              <a:rPr b="0" lang="zh-CN" sz="40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我们的船渐渐逼近榕树了。我有机会看清它的真面目，真是</a:t>
            </a:r>
            <a:r>
              <a:rPr b="1" lang="zh-CN" sz="4000" spc="-1" strike="noStrike">
                <a:solidFill>
                  <a:srgbClr val="3b1fe3"/>
                </a:solidFill>
                <a:latin typeface="Times New Roman"/>
                <a:ea typeface="楷体_GB2312"/>
              </a:rPr>
              <a:t>一株</a:t>
            </a:r>
            <a:r>
              <a:rPr b="0" lang="zh-CN" sz="40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大树，枝干的数目</a:t>
            </a:r>
            <a:r>
              <a:rPr b="1" lang="zh-CN" sz="4000" spc="-1" strike="noStrike">
                <a:solidFill>
                  <a:srgbClr val="3b1fe3"/>
                </a:solidFill>
                <a:latin typeface="Times New Roman"/>
                <a:ea typeface="楷体_GB2312"/>
              </a:rPr>
              <a:t>不可计数</a:t>
            </a:r>
            <a:r>
              <a:rPr b="0" lang="zh-CN" sz="40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。枝上又生根，有许多根直垂到地上，伸进泥土里。一部分树枝垂到水面，从远处看，就像一株大树卧在水面上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鸟的天堂全景"/>
          <p:cNvPicPr/>
          <p:nvPr/>
        </p:nvPicPr>
        <p:blipFill>
          <a:blip r:embed="rId2"/>
          <a:stretch/>
        </p:blipFill>
        <p:spPr>
          <a:xfrm>
            <a:off x="6084720" y="4221000"/>
            <a:ext cx="2448000" cy="18352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0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150f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150f"/>
                </a:solidFill>
                <a:latin typeface="Times New Roman"/>
                <a:ea typeface="楷体_GB2312"/>
              </a:rPr>
              <a:t>榕树正在茂盛的时期，好像把它的全部生命力展示给我们看。那么多的绿叶，一簇堆在另一簇上面，不留一点缝隙。那翠绿的颜色，明亮地照耀着我们的眼睛，似乎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3"/>
              </a:rPr>
              <a:t>每一片绿叶上都有一个新的生命在颤动</a:t>
            </a:r>
            <a:r>
              <a:rPr b="1" lang="zh-CN" sz="3200" spc="-1" strike="noStrike">
                <a:solidFill>
                  <a:srgbClr val="ff150f"/>
                </a:solidFill>
                <a:latin typeface="Times New Roman"/>
                <a:ea typeface="楷体_GB2312"/>
              </a:rPr>
              <a:t>。这美丽的南国的树。</a:t>
            </a:r>
            <a:br>
              <a:rPr sz="3200"/>
            </a:br>
            <a:endParaRPr b="0" lang="en-US" sz="32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568141"/>
                </a:solidFill>
                <a:latin typeface="Times New Roman"/>
                <a:ea typeface="隶书"/>
              </a:rPr>
              <a:t>你读懂了吗？</a:t>
            </a:r>
            <a:endParaRPr b="0" lang="en-US" sz="54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12143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a12143"/>
                </a:solidFill>
                <a:latin typeface="隶书"/>
                <a:ea typeface="隶书"/>
              </a:rPr>
              <a:t>1.</a:t>
            </a:r>
            <a:r>
              <a:rPr b="1" lang="en-US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a12143"/>
                </a:solidFill>
                <a:latin typeface="隶书"/>
                <a:ea typeface="隶书"/>
              </a:rPr>
              <a:t>榕树正在茂盛的时期，好像把它的全部、生命力展示给我们看。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12143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a12143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a12143"/>
                </a:solidFill>
                <a:latin typeface="隶书"/>
                <a:ea typeface="隶书"/>
              </a:rPr>
              <a:t>树叶多，每一片叶子都绿得发亮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872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3933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 Narrow"/>
              </a:rPr>
              <a:t>来源</a:t>
            </a:r>
            <a:r>
              <a:rPr b="1" lang="zh-CN" sz="1800" spc="-1" strike="noStrike">
                <a:solidFill>
                  <a:srgbClr val="1c1c1c"/>
                </a:solidFill>
                <a:latin typeface="Arial Narrow"/>
              </a:rPr>
              <a:t>: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06960" y="443232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Times New Roman"/>
              </a:rPr>
              <a:t>: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PPT模板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5373720"/>
            <a:ext cx="64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eeppt.com- 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为您免费提供大量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下载包括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背景图片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素材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图表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动态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,PowerPoin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等各类幻灯片模板。让您轻松制作出精美好看的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1c1c1c"/>
                </a:solidFill>
                <a:latin typeface="微软雅黑"/>
                <a:ea typeface="微软雅黑"/>
              </a:rPr>
              <a:t>模板！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57160" y="333360"/>
            <a:ext cx="1524240" cy="628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2927520" y="333360"/>
            <a:ext cx="1428480" cy="590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4775040" y="404640"/>
            <a:ext cx="1238400" cy="514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6"/>
          <a:stretch/>
        </p:blipFill>
        <p:spPr>
          <a:xfrm>
            <a:off x="6813720" y="485640"/>
            <a:ext cx="1143000" cy="4762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16720" y="623736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Times New Roman"/>
                <a:ea typeface="黑体"/>
              </a:rPr>
              <a:t> </a:t>
            </a:r>
            <a:r>
              <a:rPr b="0" lang="zh-CN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免费</a:t>
            </a:r>
            <a:r>
              <a:rPr b="0" lang="zh-CN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PPT</a:t>
            </a:r>
            <a:r>
              <a:rPr b="0" lang="zh-CN" sz="1300" spc="-1" strike="noStrike">
                <a:solidFill>
                  <a:srgbClr val="1c1c1c"/>
                </a:solidFill>
                <a:latin typeface="Times New Roman"/>
                <a:ea typeface="黑体"/>
              </a:rPr>
              <a:t>模板下载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i="1" lang="zh-CN" sz="1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1c1c1c"/>
                </a:solidFill>
                <a:latin typeface="Times New Roman"/>
              </a:rPr>
              <a:t>http://</a:t>
            </a:r>
            <a:r>
              <a:rPr b="0" lang="zh-CN" sz="16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13440" y="2382840"/>
            <a:ext cx="250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-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     加最后一个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-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     加两个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7-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   加三个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张以上  加四个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0D55-F7C0-4048-B4CD-40225C7B7C75}" type="slidenum">
              <a:t>16</a:t>
            </a:fld>
          </a:p>
        </p:txBody>
      </p:sp>
    </p:spTree>
  </p:cSld>
  <p:transition spd="slow">
    <p:blinds dir="vert"/>
    <p:sndAc>
      <p:stSnd>
        <p:snd r:embed="rId7" name="applaus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eb414"/>
                </a:solidFill>
                <a:latin typeface="Times New Roman"/>
                <a:ea typeface="隶书"/>
              </a:rPr>
              <a:t>课外延伸题：</a:t>
            </a:r>
            <a:endParaRPr b="0" lang="en-US" sz="6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0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1d3187"/>
                </a:solidFill>
                <a:latin typeface="Times New Roman"/>
                <a:ea typeface="楷体_GB2312"/>
              </a:rPr>
              <a:t>         </a:t>
            </a:r>
            <a:r>
              <a:rPr b="0" lang="en-US" sz="4000" spc="-1" strike="noStrike">
                <a:solidFill>
                  <a:srgbClr val="1d3187"/>
                </a:solidFill>
                <a:latin typeface="Times New Roman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1d3187"/>
                </a:solidFill>
                <a:latin typeface="Times New Roman"/>
                <a:ea typeface="楷体_GB2312"/>
              </a:rPr>
              <a:t>鸟的天堂”已成为一处游览胜地，请你根据课文内容，并收集一些有关材料，为导游写一篇解说词。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2" name="chimes.wav"/>
      </p:stSnd>
    </p:sndAc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7"/>
          <p:cNvSpPr txBox="1"/>
          <p:nvPr/>
        </p:nvSpPr>
        <p:spPr>
          <a:xfrm>
            <a:off x="2916360" y="2492280"/>
            <a:ext cx="3671640" cy="15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华文行楷"/>
              </a:rPr>
              <a:t>再见！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b0ae6a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32bb9c8b0b4147c5fd1f10d3"/>
          <p:cNvPicPr/>
          <p:nvPr/>
        </p:nvPicPr>
        <p:blipFill>
          <a:blip r:embed="rId2"/>
          <a:stretch/>
        </p:blipFill>
        <p:spPr>
          <a:xfrm>
            <a:off x="684360" y="836640"/>
            <a:ext cx="1197000" cy="1368360"/>
          </a:xfrm>
          <a:prstGeom prst="rect">
            <a:avLst/>
          </a:prstGeom>
          <a:ln w="0">
            <a:noFill/>
          </a:ln>
        </p:spPr>
      </p:pic>
      <p:sp>
        <p:nvSpPr>
          <p:cNvPr id="173" name="Line 9"/>
          <p:cNvSpPr/>
          <p:nvPr/>
        </p:nvSpPr>
        <p:spPr>
          <a:xfrm>
            <a:off x="539640" y="2276640"/>
            <a:ext cx="78487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79640" y="105264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巴金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755640" y="2492280"/>
            <a:ext cx="7704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巴金，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00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原名李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尧棠，字芾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è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第四声，取“蔽芾甘棠”）甘，四川成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人，祖籍浙江嘉兴，汉族。代表作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流三部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爱情三部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散文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想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现代文学家，翻译家，出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版家，“五四”新文化运动以来最有影响的作家之一，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现代文坛的巨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611280" y="2349360"/>
            <a:ext cx="79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blinds dir="vert"/>
    <p:sndAc>
      <p:stSnd>
        <p:snd r:embed="rId3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283a"/>
                </a:solidFill>
                <a:latin typeface="Times New Roman"/>
              </a:rPr>
              <a:t>探究：</a:t>
            </a:r>
            <a:endParaRPr b="0" lang="en-US" sz="66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997000"/>
            <a:ext cx="813096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为什么说那“鸟的天堂”的确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华文中宋"/>
                <a:ea typeface="华文中宋"/>
              </a:rPr>
              <a:t>是鸟的天堂啊！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225000" y="5013360"/>
            <a:ext cx="42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模板网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WWW.1PPT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omb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3"/>
          <p:cNvSpPr/>
          <p:nvPr/>
        </p:nvSpPr>
        <p:spPr>
          <a:xfrm>
            <a:off x="3132000" y="2330280"/>
            <a:ext cx="6238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一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www.1ppt.com/kejian/yuwen/138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二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三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四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五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六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www.1ppt.com/kejian/yuwen/164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七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八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www.1ppt.com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/kejian/yuwen/166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人教版九年级语文上册：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7"/>
              </a:rPr>
              <a:t>www.1ppt.com/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8"/>
              </a:rPr>
              <a:t>kejian</a:t>
            </a:r>
            <a:r>
              <a:rPr b="0" lang="en-US" sz="1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9"/>
              </a:rPr>
              <a:t>/yuwen/167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2" descr="zhaogui"/>
          <p:cNvPicPr/>
          <p:nvPr/>
        </p:nvPicPr>
        <p:blipFill>
          <a:blip r:embed="rId20"/>
          <a:stretch/>
        </p:blipFill>
        <p:spPr>
          <a:xfrm>
            <a:off x="2050920" y="1413000"/>
            <a:ext cx="5505480" cy="3633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78920" y="3933360"/>
            <a:ext cx="86043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283a"/>
                </a:solidFill>
                <a:latin typeface="隶书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鸟的天堂，位于广东省新会市南部天马河上的一座小岛上。榕树的树冠大得出奇，浓阴覆盖着天马河河心岛上约</a:t>
            </a:r>
            <a:r>
              <a:rPr b="1" lang="en-US" sz="2400" spc="-1" strike="noStrike">
                <a:solidFill>
                  <a:srgbClr val="008000"/>
                </a:solidFill>
                <a:latin typeface="隶书"/>
                <a:ea typeface="隶书"/>
              </a:rPr>
              <a:t>20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多亩土地。大树上栖息着成千上万只各种各样的鸟，其中最引人注目的是白鹤和灰麻鹤。</a:t>
            </a:r>
            <a:r>
              <a:rPr b="1" lang="en-US" sz="2400" spc="-1" strike="noStrike">
                <a:solidFill>
                  <a:srgbClr val="008000"/>
                </a:solidFill>
                <a:latin typeface="隶书"/>
                <a:ea typeface="隶书"/>
              </a:rPr>
              <a:t>1933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年，巴金到新会访友，路过此地，写下了脍炙人口的</a:t>
            </a:r>
            <a:r>
              <a:rPr b="1" lang="en-US" sz="2400" spc="-1" strike="noStrike">
                <a:solidFill>
                  <a:srgbClr val="008000"/>
                </a:solidFill>
                <a:latin typeface="隶书"/>
                <a:ea typeface="隶书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鸟的天堂</a:t>
            </a:r>
            <a:r>
              <a:rPr b="1" lang="en-US" sz="2400" spc="-1" strike="noStrike">
                <a:solidFill>
                  <a:srgbClr val="008000"/>
                </a:solidFill>
                <a:latin typeface="隶书"/>
                <a:ea typeface="隶书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隶书"/>
                <a:ea typeface="隶书"/>
              </a:rPr>
              <a:t>，更使鸟的天堂美名传扬四海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7" descr="zhaogui"/>
          <p:cNvPicPr/>
          <p:nvPr/>
        </p:nvPicPr>
        <p:blipFill>
          <a:blip r:embed="rId2"/>
          <a:stretch/>
        </p:blipFill>
        <p:spPr>
          <a:xfrm>
            <a:off x="2268360" y="1052640"/>
            <a:ext cx="4753080" cy="26701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26" descr="rendou"/>
          <p:cNvPicPr/>
          <p:nvPr/>
        </p:nvPicPr>
        <p:blipFill>
          <a:blip r:embed="rId2"/>
          <a:stretch/>
        </p:blipFill>
        <p:spPr>
          <a:xfrm>
            <a:off x="2411280" y="1700280"/>
            <a:ext cx="4491000" cy="29955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028"/>
          <p:cNvSpPr/>
          <p:nvPr/>
        </p:nvSpPr>
        <p:spPr>
          <a:xfrm>
            <a:off x="2484360" y="515772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</a:rPr>
              <a:t>前来观鸟的人群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百鸟出巢"/>
          <p:cNvPicPr/>
          <p:nvPr/>
        </p:nvPicPr>
        <p:blipFill>
          <a:blip r:embed="rId2"/>
          <a:stretch/>
        </p:blipFill>
        <p:spPr>
          <a:xfrm>
            <a:off x="1979640" y="184464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2819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309f5"/>
                </a:solidFill>
                <a:latin typeface="Times New Roman"/>
                <a:ea typeface="华文彩云"/>
              </a:rPr>
              <a:t>百鸟出巢</a:t>
            </a:r>
            <a:endParaRPr b="0" lang="en-US" sz="4800" spc="-1" strike="noStrike">
              <a:solidFill>
                <a:srgbClr val="192449"/>
              </a:solidFill>
              <a:latin typeface="Times New Roman"/>
            </a:endParaRPr>
          </a:p>
        </p:txBody>
      </p:sp>
      <p:pic>
        <p:nvPicPr>
          <p:cNvPr id="189" name="njs.mp3" descr=""/>
          <p:cNvPicPr/>
          <p:nvPr/>
        </p:nvPicPr>
        <p:blipFill>
          <a:blip r:embed="rId3"/>
          <a:stretch/>
        </p:blipFill>
        <p:spPr>
          <a:xfrm>
            <a:off x="752472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993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92449"/>
                </a:solidFill>
                <a:latin typeface="Times New Roman"/>
                <a:ea typeface="华文中宋"/>
              </a:rPr>
              <a:t>你会读了吗？</a:t>
            </a:r>
            <a:endParaRPr b="0" lang="en-US" sz="4000" spc="-1" strike="noStrike">
              <a:solidFill>
                <a:srgbClr val="192449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隶书"/>
                <a:hlinkClick r:id="rId2"/>
              </a:rPr>
              <a:t>起初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周围是静寂的。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隶书"/>
                <a:hlinkClick r:id="rId3"/>
              </a:rPr>
              <a:t>后来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忽然起了一声鸟叫。我们把手一拍，便看见一只大鸟飞了起来。接着又看见第二只，第三只。我们继续拍掌，树上就变得热闹了，到处都是鸟声，到处都是鸟影。大的，小的，花的，黑的，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隶书"/>
                <a:hlinkClick r:id="rId4"/>
              </a:rPr>
              <a:t>有的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站在树枝上，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隶书"/>
                <a:hlinkClick r:id="rId5"/>
              </a:rPr>
              <a:t>有的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飞起来，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ea typeface="隶书"/>
                <a:hlinkClick r:id="rId6"/>
              </a:rPr>
              <a:t>有的</a:t>
            </a:r>
            <a:r>
              <a:rPr b="1" lang="zh-CN" sz="3200" spc="-1" strike="noStrike">
                <a:solidFill>
                  <a:srgbClr val="a12143"/>
                </a:solidFill>
                <a:latin typeface="Times New Roman"/>
                <a:ea typeface="隶书"/>
              </a:rPr>
              <a:t>在扑翅膀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7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我注意地看着，眼睛</a:t>
            </a: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2"/>
              </a:rPr>
              <a:t>应接不睱</a:t>
            </a:r>
            <a:r>
              <a:rPr b="1" lang="zh-CN" sz="36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，看清楚了这只，又错过了那只，看见了那只，另一只又飞起来了，一只</a:t>
            </a:r>
            <a:r>
              <a:rPr b="0" lang="zh-CN" sz="3600" spc="-1" strike="noStrike" u="sng">
                <a:solidFill>
                  <a:srgbClr val="b0ae6a"/>
                </a:solidFill>
                <a:uFillTx/>
                <a:latin typeface="Times New Roman"/>
                <a:ea typeface="楷体_GB2312"/>
                <a:hlinkClick r:id="rId3"/>
              </a:rPr>
              <a:t>画眉鸟</a:t>
            </a:r>
            <a:r>
              <a:rPr b="1" lang="zh-CN" sz="3600" spc="-1" strike="noStrike">
                <a:solidFill>
                  <a:srgbClr val="a12143"/>
                </a:solidFill>
                <a:latin typeface="Times New Roman"/>
                <a:ea typeface="楷体_GB2312"/>
              </a:rPr>
              <a:t>飞了出来，被我们的掌声一吓，又飞进了叶丛，站在一根小枝上兴奋地叫着，那歌声真好听。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Picture 5" descr="MCj04326680000[1]"/>
          <p:cNvPicPr/>
          <p:nvPr/>
        </p:nvPicPr>
        <p:blipFill>
          <a:blip r:embed="rId4"/>
          <a:stretch/>
        </p:blipFill>
        <p:spPr>
          <a:xfrm>
            <a:off x="7451640" y="5084640"/>
            <a:ext cx="1214640" cy="1214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  <p:sndAc>
      <p:stSnd>
        <p:snd r:embed="rId5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1T04:49:15Z</dcterms:created>
  <dc:creator/>
  <dc:description/>
  <cp:keywords>幻灯片之家 http:/www.eeppt.com</cp:keywords>
  <dc:language>en-US</dc:language>
  <cp:lastModifiedBy/>
  <dcterms:modified xsi:type="dcterms:W3CDTF">2015-07-10T13:28:37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