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GY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4DF-AA10-4128-83C9-51493665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636-EFE0-41EF-B3EA-00A69BD5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C685-05F3-429B-BD01-0FCCA5E1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D9A-BD4F-4033-A7AF-3A0823D7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1F16-1A08-4FCC-B91D-A47930F9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711A-5E3F-4FA6-AAC6-910E18B0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72D4-7354-48E9-84B8-4D2C4FF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EB42-C3FD-4224-AE9E-958461DD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FA01-4440-49B8-84AE-03F84179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70AC-4749-42F1-A12A-942C22B5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1335-7B16-4B7F-86D4-E0A7B937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0C8-0BED-431A-BE03-D76D6559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BD47-6A33-4514-855A-38AD641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CBA4-6609-47FB-AA8C-FE0E8433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2C3E-0471-49C5-8C13-754F0665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1CEB-1A2E-47B9-B716-D808D106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A8F5-AB70-4AE6-8657-A14A88B4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148-C790-46F9-9907-FC49C98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2DA-126B-4EC5-A88B-1FE23143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0D1-56DA-49CE-8433-DB3D5AE9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2CD-789E-4F69-8E79-13DC73D0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05A-B956-4CB8-A99C-ECB4D5C5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8D4-E3C7-4710-BA0B-70AC15CC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FEE-6948-4AE3-9E7C-CA534332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7AA1-2A64-47F3-A0D9-D3625A496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97EF-12AF-4B66-815C-4F93732CE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xxyw.stedu.net/kjzy/kejian/niao-tiantang.swf" TargetMode="External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GY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GY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304920" y="549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7">
            <a:hlinkClick r:id="rId16"/>
          </p:cNvPr>
          <p:cNvPicPr/>
          <p:nvPr/>
        </p:nvPicPr>
        <p:blipFill>
          <a:blip r:embed="rId17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04960" y="83664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鸟的天堂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9640" y="404640"/>
            <a:ext cx="82314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堆在另一簇上面，不留一点缝隙。那翠绿的颜色，明亮地照耀着我们的眼睛，似乎每一片新的生命在颤动。这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826920" y="260280"/>
            <a:ext cx="77281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另一簇上面，不留一点缝隙。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华文楷体"/>
                <a:ea typeface="华文楷体"/>
              </a:rPr>
              <a:t>那翠绿的颜色，明亮地照耀着我们的眼睛，似乎每一片新的生命在颤动。</a:t>
            </a:r>
            <a:r>
              <a:rPr b="0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这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热闹了，到处都是鸟声，到处都是鸟影。大的，小的，花的，黑的，有的站在树枝上叫，有的飞起来，有的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26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7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8"/>
          <p:cNvSpPr/>
          <p:nvPr/>
        </p:nvSpPr>
        <p:spPr>
          <a:xfrm>
            <a:off x="0" y="0"/>
            <a:ext cx="9144000" cy="202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热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了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声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影。大的，小的，花的，黑的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站在树枝上叫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飞起来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a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566100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a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332000" y="1628640"/>
            <a:ext cx="66992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昨天是我的眼睛骗了我，那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鸟的天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的确是鸟的天堂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62120" y="609480"/>
            <a:ext cx="7543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鸟的天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田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三百年来榕一章，浓荫十亩鸟千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并肩只许木棉树，立脚长依天马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新枝还比旧枝壮，白鹤能眠灰鹤床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历难经灾从不犯，人间毕竟有天堂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这首诗，是著名剧作家田汉同志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1962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年到新会，游览小鸟天堂时即兴而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G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0020702d"/>
          <p:cNvPicPr/>
          <p:nvPr/>
        </p:nvPicPr>
        <p:blipFill>
          <a:blip r:embed="rId2"/>
          <a:stretch/>
        </p:blipFill>
        <p:spPr>
          <a:xfrm>
            <a:off x="228600" y="38088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352680" y="83808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505320" y="4572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巴金（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04~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）原名李尧棠、字芾甘。四川成都人。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3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从封建家庭出走，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7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赴法国留学，写成了处女作出了长篇小说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灭亡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，发表时始用巴金的笔名。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8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底回到上海，从事创造和翻译。从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9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到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37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中，创作了主要代表作出长篇小说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激流三部曲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家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，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5640" y="3429000"/>
            <a:ext cx="807732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海的梦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春天里的秋天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砂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爱情三部曲（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雾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雨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电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）等中长篇小说。出版了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复仇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等短篇小说集和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海行集记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等散文集。以其独特的风格和丰硕的创作令人瞩目，被鲁迅称为“一个有热情的有进步思想的作家，在屈指可数的好作家之列的作家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838080" y="541008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33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，巴金到广东新会访友时，途经新会天马河，看到一株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树龄的大榕树，于是写下了脍炙人口的</a:t>
            </a:r>
            <a:r>
              <a:rPr b="1" lang="en-US" sz="16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鸟的天堂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（一说是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666699"/>
                </a:solidFill>
                <a:latin typeface="Times New Roman"/>
              </a:rPr>
              <a:t>小鸟的天堂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666699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G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900000" y="2565360"/>
            <a:ext cx="7239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巴金爷爷几次经过鸟的天堂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经过鸟的天堂后分别在课文中给我们描写了什么样的景象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我会猜"/>
          <p:cNvPicPr/>
          <p:nvPr/>
        </p:nvPicPr>
        <p:blipFill>
          <a:blip r:embed="rId2"/>
          <a:stretch/>
        </p:blipFill>
        <p:spPr>
          <a:xfrm>
            <a:off x="998640" y="560520"/>
            <a:ext cx="1295280" cy="1201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8"/>
          <p:cNvSpPr txBox="1"/>
          <p:nvPr/>
        </p:nvSpPr>
        <p:spPr>
          <a:xfrm>
            <a:off x="2433600" y="109224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读书思考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14240" y="1811160"/>
            <a:ext cx="6782040" cy="7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900000" y="620640"/>
            <a:ext cx="77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一株大树，枝干的数目不可计数。枝上又生根，有许多根直垂到地上，伸进泥土里。一部分树枝垂到水面，从远处看，就像一株大树卧在水面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55640" y="981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一株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大树，枝干的数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不可计数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。枝上又生根，有许多根直垂到地上，伸进泥土里。一部分树枝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垂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到水面，从远处看，就像一株大树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卧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水面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柳树"/>
          <p:cNvPicPr/>
          <p:nvPr/>
        </p:nvPicPr>
        <p:blipFill>
          <a:blip r:embed="rId2"/>
          <a:stretch/>
        </p:blipFill>
        <p:spPr>
          <a:xfrm>
            <a:off x="533520" y="228600"/>
            <a:ext cx="3606840" cy="2935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松树"/>
          <p:cNvPicPr/>
          <p:nvPr/>
        </p:nvPicPr>
        <p:blipFill>
          <a:blip r:embed="rId3"/>
          <a:stretch/>
        </p:blipFill>
        <p:spPr>
          <a:xfrm>
            <a:off x="5334120" y="228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独木成林"/>
          <p:cNvPicPr/>
          <p:nvPr/>
        </p:nvPicPr>
        <p:blipFill>
          <a:blip r:embed="rId4"/>
          <a:stretch/>
        </p:blipFill>
        <p:spPr>
          <a:xfrm>
            <a:off x="1752480" y="3521160"/>
            <a:ext cx="50292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鸟的天堂1111"/>
          <p:cNvPicPr/>
          <p:nvPr/>
        </p:nvPicPr>
        <p:blipFill>
          <a:blip r:embed="rId2"/>
          <a:stretch/>
        </p:blipFill>
        <p:spPr>
          <a:xfrm>
            <a:off x="1600200" y="0"/>
            <a:ext cx="585144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4" descr="a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5:04:30Z</dcterms:created>
  <dc:creator/>
  <dc:description/>
  <cp:keywords>幻灯片之家 http:/www.eeppt.com</cp:keywords>
  <dc:language>en-US</dc:language>
  <cp:lastModifiedBy/>
  <dcterms:modified xsi:type="dcterms:W3CDTF">2015-07-04T10:35:59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