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0F3-D65B-4FC4-B5CA-A2B93526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5B4-BE2D-4273-AA39-A757E49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F41-027A-43E1-87C1-7433DE29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7AE-4716-4D66-9991-442176DD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77E-A16D-45C7-88A8-A617A4B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B56-7443-4BDB-AB41-87393F7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925-75C8-4EB1-A4AC-885FD55B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8DD-878F-4269-81D8-6DDE8F90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A84-8E26-4E30-B0AA-3C049D3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649-A1C3-4428-B6DD-53D9FA3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DE7-19D9-4878-95D2-60F43CB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E53-6558-4671-9F72-6B3B02F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E3F-2A71-4156-BC90-FE68A77E6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ZM_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416480" y="1341360"/>
            <a:ext cx="311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7920" y="90972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女娲补天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PM_022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900000" y="98100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过了多少年，一天夜里，女娲突然被一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轰隆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巨大响声震醒了，他急忙起床，跑到外面一看，天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可怕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远的天空塌下一大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出一个黑黑的大窟窿。地被震裂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了一道道深沟。山冈上 燃烧着熊熊大火，田野里到处是洪水。许多人被火围困在山顶上，许多人在水里挣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4839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决定冒着生命危险，把天补上。她跑到山上，去寻找补天用的五彩石，她原以为这种石头很多，用不着费多大力气。到山上一看，全是一些零零星星的碎块。她忙了几天几夜，找到了红、黄、蓝、白四种颜色的石头，还缺少一种纯青石。于是， 她又找啊找啊，终于在一眼清清的泉水中找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彩石找齐了，女娲在地上挖个圆坑，把五彩石放在里面，用神火进行冶炼。炼了五天五夜，五彩石化成了很稠的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把它装在一个大盆里，端到天边，对准那个大黑窟窿，往上一泼，只见金光四射，大窟窿立刻被补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D0A-5D64-464E-908D-A226308F4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104292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09_出埃及记.MP3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48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主作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中国神话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将这个故事讲给家人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抄写文中生动的语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9:51:37Z</dcterms:created>
  <dc:creator/>
  <dc:description/>
  <cp:keywords>幻灯片之家 http:/www.eeppt.com</cp:keywords>
  <dc:language>en-US</dc:language>
  <cp:lastModifiedBy/>
  <dcterms:modified xsi:type="dcterms:W3CDTF">2015-07-18T14:01:3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