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63B-DC96-478E-A2B6-9A4D0C55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C8A-89B3-466B-8244-46346309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092-1F9A-4413-AB6F-401B88C1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3F-E0CE-4320-8D38-77386287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1EA-6CD6-438B-A76B-6E98082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B06-F460-449F-8FD5-2665D3A7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FBD-F89F-4908-8055-D20A48DD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065-60B9-4897-B690-E1485DB7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D66-9767-4273-A330-A171AD9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C17-1E47-4E63-BACC-C09FA31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D6B-4E24-48C0-BC6F-294E460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EC3-726F-49CD-B9F4-3B0B741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97E-8AC0-446E-A19C-A7C458DAE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wyjs.edu.cn/20020812/3063983.s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F:\ppt\630\小学三年级上册语文第七课奇怪的大石头PPT课件2\6015111_101937912000_2.jpg"/>
          <p:cNvPicPr/>
          <p:nvPr/>
        </p:nvPicPr>
        <p:blipFill>
          <a:blip r:embed="rId2"/>
          <a:stretch/>
        </p:blipFill>
        <p:spPr>
          <a:xfrm>
            <a:off x="-252360" y="117360"/>
            <a:ext cx="9144000" cy="6863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356000" y="836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李四光，中国地质事业的奠基者和领导人。他毕生从事地质科学的研究和教育事业，成就卓著，蜚声海内外，是我国冰川学研究的奠基人。他独创的地质力学理论，为我国的地质、石油勘探和建设事业做出了巨大贡献。</a:t>
            </a:r>
            <a:r>
              <a:rPr b="1" lang="en-US" sz="3200" spc="-1" strike="noStrike">
                <a:solidFill>
                  <a:srgbClr val="f3f6fa"/>
                </a:solidFill>
                <a:latin typeface="楷体_GB2312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98600" y="345960"/>
            <a:ext cx="453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F:\ppt\630\小学三年级上册语文第七课奇怪的大石头PPT课件2\6125458_164601034000_2.jpg"/>
          <p:cNvPicPr/>
          <p:nvPr/>
        </p:nvPicPr>
        <p:blipFill>
          <a:blip r:embed="rId3"/>
          <a:srcRect l="0" t="0" r="0" b="4105"/>
          <a:stretch/>
        </p:blipFill>
        <p:spPr>
          <a:xfrm>
            <a:off x="0" y="3765600"/>
            <a:ext cx="4071960" cy="30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4000" y="638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2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800" y="1773360"/>
            <a:ext cx="34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奇怪的大石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遗    震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7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</a:rPr>
              <a:t>著   悄  闪  卧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</a:rPr>
              <a:t>推   旅  纪  究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6381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D2B-3E74-4772-98BC-62DE51EF1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988720" y="392040"/>
            <a:ext cx="31982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奇怪的大石头，“怪”在哪里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417840" y="2863800"/>
            <a:ext cx="185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李四光是如何思考和解决自己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问题的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76320" y="453960"/>
            <a:ext cx="9067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大的流星在经过地球大气层时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没有完全烧毁坠落到地球上的含石质较多或全部为石质的陨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从事地球物质形成和地壳构造研究，以探讨地球的形成和发展的科学家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高耸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76320" y="304920"/>
            <a:ext cx="92966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地质历史的最后一个纪。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距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年前至今。此时高纬度地区广泛地发生了多次冰川作用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横贯我国中部，东西走向的古老褶皱断层山脉。我国地理上的南北分解线。分布有冰川槽谷、角峰等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极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0812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极科学家拍摄到的海上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xinsrc_36b22d769d9a40789acdf58db312145a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冰川遗迹"/>
          <p:cNvPicPr/>
          <p:nvPr/>
        </p:nvPicPr>
        <p:blipFill>
          <a:blip r:embed="rId2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四纪冰川遗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唐古拉山冰川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唐古拉山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52280"/>
            <a:ext cx="94489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奇怪   著名   悄悄   躲闪  兴趣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历史   平整   旅行   专门  考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秦岭   遗迹   研究   成果  震惊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卧室   土坑   推测   世纪  纪念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质学家     严严实实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捉迷藏        转来转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/>
  <dc:description/>
  <cp:keywords>幻灯片之家 http:/www.eeppt.com</cp:keywords>
  <dc:language>en-US</dc:language>
  <cp:lastModifiedBy/>
  <dcterms:modified xsi:type="dcterms:W3CDTF">2015-07-04T12:56:5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