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5E7-60FA-47A1-8E0E-B9D1DEE8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048-9CAD-44F8-885E-0CAC9F42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8F381-BDEE-44FA-90F3-190C47BC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77B37-2C40-41AE-8D65-0F4192C6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B18F7-63D9-49EA-8736-BA8CE534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DA0B4-DB5E-4DC3-AEF5-84E16D06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E9411-0BCA-4257-8D8E-602BF47B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CCC9D-5CB2-4790-98EE-10A6C2B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4C9BF-E120-4FDC-94E4-2E0582A6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273D8-7DE8-483A-8C8A-766AA5DC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98DE3-0131-4361-9927-3E96AFB3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2A7D0-8661-4356-A76E-A0611F5A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F73-7C6D-462B-81BA-AEF9F6CA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6E078-8DE9-4742-B393-0308981D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BA65A-ACDE-4686-9B87-0878C38A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CAC8B-37FD-40E6-BD47-1450448E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7C950-65B4-45EB-BC90-8E2FB67D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1937D-B478-45E9-AAE4-0A339058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5C0ED-F3BA-45E5-AFD9-112CB8F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90A87-524A-469D-A223-56389164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D4FD9-F99D-4D4D-9C3B-1AADDA33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C54EA-05C0-41FE-B610-30313229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C5E3F-86B1-4C9C-AB05-CFF29400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910-0C63-4893-947F-4A737FBF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86521-0B24-4AE9-9B92-1EE86513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1540C-4A98-402E-B8AE-09B2B2EF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FE9D2-8F56-4A55-ABC7-DBAF852C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9DD6B-83F9-4E19-85C9-8F94AA55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C4AF0-8837-4EEE-82C0-3197BB80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D3B11-B154-47C5-8FCE-9E45D22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F5810-8C84-469E-B9D3-DBF2D68B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2D924-CC78-40D8-8142-85545868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1A0A2-2D11-4B08-AB00-169CAC9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6A33C-BEA0-43E2-B029-2FB2276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8C4B-BB14-43D2-BF92-4CE0E52C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4196B-42AC-478D-8D91-6D10C6E4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A858C-D96F-441E-BD8F-B00B92A2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FFD2A-D5E7-4868-8E1C-2FDEE8C9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9B4D0-C322-4A52-9AD2-CE6EE25B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BAE0A-7865-4F77-B5BF-969A171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CFD48-3C1B-450F-AF82-4F791ED9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C3354-FEAD-473A-B168-1D992E08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48BEA-D1B0-44D8-B1D3-6A4790F2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6AD09-A8ED-46E3-8395-98D74DF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EEA0F-CC10-4B3E-B6E1-43FDAE9F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1384-25C4-47A8-914D-E615C8EB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B165D-8F11-4906-B073-10FE5AF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0F373-54E4-45B8-8316-CBA65C32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94AB4-8C6B-4ADB-896F-06B5FFCE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0FDA6-A59A-4848-B588-EE5B3C41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936FE-F0E2-49C0-8837-03F3907D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A4574-E937-4309-81AA-89E3851D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A1933-D6C1-4085-9CE0-5F96732B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05CB3-6CAD-4087-A818-AE0EBE40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36321-ACFA-4DD5-8E4E-7AA6AE76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0A251-C606-4FDB-983B-E1AB13AD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7BE-23EE-4FF8-946F-42739C97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3ADCA-D52F-45A1-A7B4-6C9D088B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62BB3-C810-4114-94F6-F98BFCD0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CF3FD-D815-4A2E-B421-B5CB1B1E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12626-38EE-4980-88A4-8361ECBD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FC727-7F92-4E42-AA25-D3D6F948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CE383-0E2E-4B85-AC8C-F2B052D4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BDD93-29F8-4930-A6DA-6BF005E5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D439-65F8-4CF8-9CF7-F69A08B1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61DF-5ADE-4BCA-8D26-4BC69ABF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7D12-C331-4A55-A0FF-AF04647A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15AB-69F9-42A6-AEA8-B0AC414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FFF-371D-404F-A0AF-358A3DF1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5F91-157D-48CF-B7D8-F361BEEB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A2A6-AD5F-40B3-B792-572FEF0A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2C8D-BE55-44D4-86CB-793FB0D4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E184-3CE8-4CC8-8EB8-9D332D23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1FD3-1531-4A9D-83D6-C166A593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E63B-3F13-4359-8066-4F1333B3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B2B8-2256-402E-8169-0FEAC572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95BC-660F-4B51-8F9F-96CA28A1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1C24-0CEB-4DFF-A763-C4D8ED5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1B33-CE99-4A00-84FC-D792A313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503-2B79-4BFE-9BEE-6811DE7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C986-0B22-41A4-999F-CE4E8A5A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4E3E1-EEB7-452B-BE4E-19BE932B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9E20A-BEFB-4275-AF4A-2679B76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4021-67F4-4FC5-B1F3-7B3F9183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3192-91BF-431C-9AE9-B238CEBB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A79C-0EA1-4EAB-B972-E12F9779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3A41-DA96-47DE-A37C-88DFFD9F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A6F1-7684-43AA-B477-BF728772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3B6BD-1BEC-49A6-AA4D-572B8FF1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0766-FF59-4CD6-8BC6-D2608F9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1F8-4DBB-4226-8A3F-B4E02AC5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68FB-9911-4DD6-B138-EF4F19AD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68D6-FC84-477F-AB4B-1FA5EA2B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94F7-88CB-42AC-A1F0-FEE2E9A3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EB68-91AA-4A97-A4DA-A5B1F61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EED79-E9D5-4FAA-96DD-81E943D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2D4C-E768-4D1F-A3DB-9CE942E5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DFE4-4524-4E3B-95BB-F33A8949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D8FE-AA1C-48D2-8F19-5A501CF5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05A8-F49C-4AFF-A039-A576D444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D220E-EBCA-4435-807E-A8B29E7D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8B7-C6EC-479C-8ADE-CD969CF4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5A076-1156-4895-9F07-B6E5EB8B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CBD89-396C-4B95-8949-73CE499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70C1-19F8-42DB-B97A-E99EB2FD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E8BB-3A1C-46C7-B01E-B40EB6DC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5BC5-FF34-4C0A-8F6B-60F0122B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8451F-B3A1-48FA-A569-DA21F4AC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DA3B2-0651-45A9-8E1D-EA92B66A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9295-DCAD-43CF-9BBF-ABF9659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8252D-8141-4130-9A30-159D752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74358-DB3E-4033-AE2A-386F6245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20C-1959-4964-AD3F-C864DDB0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43962-0EBE-4D50-968C-5E7DC889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74B5-238D-4016-BF93-AC06C523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ED26-E318-4578-9A6D-FB44ADFA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F1D3F-D758-4464-ADD1-CF8C23E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A75CE-D8F4-4528-8416-B9B894F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9D422-C13B-4EC1-9942-CC284C7D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48AB3-7495-4E25-BBE0-BFB82C06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BC8A1-2C60-4716-BB00-24570F79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1EB25-F91B-4012-9BD3-A9DC85C1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CD039-72DF-4A2C-97E4-62880E89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86A-8CCD-4CD9-9DF4-9456C87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B0D1-FEC3-4007-B3DF-517FD8A7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15A2B-910B-43F2-BBFB-41E9713C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9F9D8-197F-4357-A321-7A44DD2F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867C7-3275-43E3-B020-7CE8E5D1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EF3E4-054C-4E5E-B1F3-573F0A0A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E74FD-8B9D-49FA-8612-D16CB998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98087-59FD-4CE7-BDBD-FA07589B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C433-B50E-4571-833C-63E132EA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29E9E-E53F-4B23-A813-1712E499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C92A-750B-4F3E-8F52-CABCDFF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840-9830-448C-8790-EE941719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7D6C-B5AB-4D05-8A87-534974A0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55BE6-51E6-4D98-B387-F4FDF0CE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CAA1-7F5D-4194-A10B-24E353D4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ABC19-BA53-441B-8895-37A814AA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9505C-F827-42A2-9A1D-E721AA37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AE233-08C1-41A9-990E-B4B3CA76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6E983-FFFA-4EC0-885A-FD91A4D2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CE01D-3C7E-4AC4-A83C-2EE0DF60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C8102-4844-40CD-80D4-C3B82F32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4EAF1-7E9E-422F-868D-A2B05063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0FC-05B0-4E64-AA8E-A96336E4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4F155-BCF1-4B6C-96D8-909548CF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CE777-3FBF-4629-A2BD-8CD7B05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59FAE-B0CC-4B5E-91E4-F9C4C66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7F815-FD31-4D38-9EFD-8F11333E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60468-4DC1-46F2-91E2-8026AF42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6F661-78B4-4D67-BB47-3086EFCF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2A32E-F113-4870-A1BF-25E21927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81D4E-1DD1-406A-BD06-0309ACB2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3172F-5F4F-4D44-8343-3DCECCC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849F4-F7E3-4B1A-BA45-D424D666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2d05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2d05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92d05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0891-AB6C-4CFA-969A-CBC59D28EE0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56BD-8153-46CE-888B-BD703522E8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1B53-52F9-402B-9CA6-48D73EBF1E0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E183-4E98-4747-93E2-55A4E15448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7D45-8F9B-43CD-BB11-23A80640ED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0736-A14E-488F-A1A7-13FB89C411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2C0D-4F6B-4973-82D3-5C581610BE5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982F-BB9C-49CE-8EBD-FF68651957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AE2C-D3EE-4EFD-B720-A37AC9C94F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0F92-4577-4194-B823-B50C4098C4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2EB9-AEFB-45A3-987E-384E1A5DF9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A4F-3C97-4A71-AEDC-5344CE3D2A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1039-A6EC-4C0D-92BC-D7F9134F0D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DE01-4C27-4FE3-8439-C88DCC0E52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8E6D-DA36-4C2B-AB24-DAA2B44053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B366-FD38-4EF8-917A-A1C451D339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2143-420B-4504-87C1-4D8F8DC8F1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9C7-682C-4D9D-A3AF-B82405C7F3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EBB9-F9B0-4CDA-A155-FD0075EB5E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C203-DCD4-4B56-B3B5-E9E60DD64D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A3F6-5E2E-439A-A95D-E028284E20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5F8-7168-43ED-A91C-7DF7F2B6D9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3BCB-9DD1-42F8-A120-4202577F0C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1DE1-4B67-41B9-8AA1-E7EBB49E1A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016F-D048-45D5-B0AD-650C9902A7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B474-2BB3-4023-A205-E75044CD1F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0" y="327024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2162160" y="1384200"/>
            <a:ext cx="539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情侣</a:t>
            </a:r>
            <a:r>
              <a:rPr b="1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116000" y="587700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9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0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