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D0A-38C1-457B-8EAE-49C4099D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755-0D49-42BB-AAB5-8A934768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D7B-4903-4C01-BC72-BB2F77E2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A1B-6394-4019-B323-ACBB785F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7BC-FB41-412D-B696-0E68DAA8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6672-2CD0-4892-B762-0034F721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3B0-99BF-4795-AFB6-1ADE61F0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54AE-9C67-4D47-A38F-330B0956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D2E-18CE-4E4B-BA4D-1FB9380A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3CE-24A4-4FD4-8BB1-D0CFBDD4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E30-AD9D-429E-A954-D9E660A7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287-C2C7-42BB-B82E-5DA92680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B5CE-CE7F-43B9-93E6-441D84A03C63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2" name="Picture 2" descr="{DA8255D7-3035-4B41-B158-8CC2FD3BFCB3}"/>
          <p:cNvPicPr/>
          <p:nvPr/>
        </p:nvPicPr>
        <p:blipFill>
          <a:blip r:embed="rId17">
            <a:alphaModFix amt="3000"/>
          </a:blip>
          <a:stretch/>
        </p:blipFill>
        <p:spPr>
          <a:xfrm>
            <a:off x="-324000" y="0"/>
            <a:ext cx="9971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457200" y="1447920"/>
            <a:ext cx="6988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076720" y="5013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执教者：王善姬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33240" y="1197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00"/>
                </a:solidFill>
                <a:latin typeface="Arial"/>
              </a:rPr>
              <a:t>去年的树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333300"/>
                </a:solidFill>
                <a:latin typeface="Arial"/>
              </a:rPr>
              <a:t>课件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52E-631F-4840-9FD3-219F2CAF74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M_001"/>
          <p:cNvPicPr/>
          <p:nvPr/>
        </p:nvPicPr>
        <p:blipFill>
          <a:blip r:embed="rId2"/>
          <a:stretch/>
        </p:blipFill>
        <p:spPr>
          <a:xfrm>
            <a:off x="-18108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28600" y="838080"/>
            <a:ext cx="891540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鸟儿睁大眼睛，盯着灯火看了一会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接着，她就唱起去年唱过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歌给灯火听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唱完了歌，鸟儿又对着灯火看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一会儿，就飞走了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3200"/>
            </a:b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249240" y="83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588000" y="3573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1671480" y="1268280"/>
            <a:ext cx="35337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想对</a:t>
            </a:r>
            <a:r>
              <a:rPr b="0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说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r>
              <a:rPr b="0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鸟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大树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们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自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5589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66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PM_001"/>
          <p:cNvPicPr/>
          <p:nvPr/>
        </p:nvPicPr>
        <p:blipFill>
          <a:blip r:embed="rId2"/>
          <a:stretch/>
        </p:blipFill>
        <p:spPr>
          <a:xfrm>
            <a:off x="-25236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179280" y="80892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一棵树和一只鸟儿是好朋友。鸟儿站在树枝上，天天给树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唱歌。树呢，天天听着鸟儿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唱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接着，她就唱起去年唱过的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歌给灯火听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PM_001"/>
          <p:cNvPicPr/>
          <p:nvPr/>
        </p:nvPicPr>
        <p:blipFill>
          <a:blip r:embed="rId2"/>
          <a:stretch/>
        </p:blipFill>
        <p:spPr>
          <a:xfrm>
            <a:off x="-25236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24000" y="112572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棵树和一只鸟儿是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好朋友。鸟儿站在树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上，天天给树唱歌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树呢，天天听着鸟儿唱。</a:t>
            </a: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M_001"/>
          <p:cNvPicPr/>
          <p:nvPr/>
        </p:nvPicPr>
        <p:blipFill>
          <a:blip r:embed="rId2"/>
          <a:stretch/>
        </p:blipFill>
        <p:spPr>
          <a:xfrm>
            <a:off x="-18108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324000" y="112572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棵树和一只鸟儿是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好朋友。鸟儿站在树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上，天天给树唱歌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树呢，天天听着鸟儿唱。</a:t>
            </a: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793160" y="2565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天天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369520" y="328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天天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PM_001"/>
          <p:cNvPicPr/>
          <p:nvPr/>
        </p:nvPicPr>
        <p:blipFill>
          <a:blip r:embed="rId2"/>
          <a:stretch/>
        </p:blipFill>
        <p:spPr>
          <a:xfrm>
            <a:off x="-25236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539640" y="243144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鸟儿站在树枝上，天天给树唱歌。树呢，天天听着鸟儿唱。</a:t>
            </a: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7" name="music.wav" descr=""/>
          <p:cNvPicPr/>
          <p:nvPr/>
        </p:nvPicPr>
        <p:blipFill>
          <a:blip r:embed="rId3"/>
          <a:stretch/>
        </p:blipFill>
        <p:spPr>
          <a:xfrm>
            <a:off x="539640" y="558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196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{DA8255D7-3035-4B41-B158-8CC2FD3BFCB3}"/>
          <p:cNvPicPr/>
          <p:nvPr/>
        </p:nvPicPr>
        <p:blipFill>
          <a:blip r:embed="rId2">
            <a:alphaModFix amt="3000"/>
          </a:blip>
          <a:stretch/>
        </p:blipFill>
        <p:spPr>
          <a:xfrm>
            <a:off x="-304920" y="0"/>
            <a:ext cx="99727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/>
          <p:cNvSpPr/>
          <p:nvPr/>
        </p:nvSpPr>
        <p:spPr>
          <a:xfrm rot="4153800">
            <a:off x="5164560" y="2948400"/>
            <a:ext cx="2770200" cy="4629240"/>
          </a:xfrm>
          <a:prstGeom prst="cloudCallout">
            <a:avLst>
              <a:gd name="adj1" fmla="val -26166"/>
              <a:gd name="adj2" fmla="val 8308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419720" y="434340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再见了，小鸟！        明年春天请你回来，  还唱歌给我听。”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 rot="15963000">
            <a:off x="1033200" y="-729000"/>
            <a:ext cx="2733480" cy="4800600"/>
          </a:xfrm>
          <a:prstGeom prst="cloudCallout">
            <a:avLst>
              <a:gd name="adj1" fmla="val -1222"/>
              <a:gd name="adj2" fmla="val 73606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685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好的，我明年春          天一定回来，给你唱歌。请等着我吧！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M_001"/>
          <p:cNvPicPr/>
          <p:nvPr/>
        </p:nvPicPr>
        <p:blipFill>
          <a:blip r:embed="rId2"/>
          <a:stretch/>
        </p:blipFill>
        <p:spPr>
          <a:xfrm>
            <a:off x="-25236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0" y="457200"/>
            <a:ext cx="8915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立在这儿的那棵树，到什么地方去了呀？”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伐木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用斧子把他砍倒，拉到山谷里去了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门先生，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的好朋友树在哪儿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您知道吗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树么，在厂子里给切成细条条儿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做成火柴，运到那边的村子里卖掉了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姑娘，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请告诉我，你知道火柴在哪儿吗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火柴已经用光了。可是，火柴点燃的火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还在这盏灯里亮着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304920" y="990000"/>
            <a:ext cx="82296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鸟儿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地问树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立在这儿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棵树，到什么地方去了呀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鸟儿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地问大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门先生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好朋友树在哪儿，您知道吗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鸟儿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地问女孩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姑娘，请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诉我，你知道火柴在哪儿吗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M_001"/>
          <p:cNvPicPr/>
          <p:nvPr/>
        </p:nvPicPr>
        <p:blipFill>
          <a:blip r:embed="rId2"/>
          <a:stretch/>
        </p:blipFill>
        <p:spPr>
          <a:xfrm>
            <a:off x="-25236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0" y="457200"/>
            <a:ext cx="8915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立在这儿的那棵树，到什么地方去了呀？”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伐木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用斧子把他砍倒，拉到山谷里去了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门先生，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的好朋友树在哪儿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您知道吗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树么，在厂子里给切成细条条儿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做成火柴，运到那边的村子里卖掉了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姑娘，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请告诉我，你知道火柴在哪儿吗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火柴已经用光了。可是，火柴点燃的火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还在这盏灯里亮着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2:04:17Z</dcterms:created>
  <dc:creator/>
  <dc:description/>
  <cp:keywords>幻灯片之家 http:/www.eeppt.com</cp:keywords>
  <dc:language>en-US</dc:language>
  <cp:lastModifiedBy/>
  <dcterms:modified xsi:type="dcterms:W3CDTF">2015-07-18T14:37:48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