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CCA-73C6-48AC-B1F3-36E474BD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4D0-1BB9-47EA-806B-96EA5AA6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471-DF4A-41DD-A10F-7C277E10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FCE-8A2F-40D0-AA06-4809E5B9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523-FD01-4D46-A442-1FECC822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BD3-A3FF-4D3C-A2E2-82F101C7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B44-0592-4928-A2C3-5897C4F1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6D3-253F-44B3-85F4-CB2D2B66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E05-EBFC-410F-BB43-241504A0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5A2-8608-44D4-9A56-5C54267D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EEF-532B-41E3-801E-CE128887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120-D2A0-42DD-8A2F-12A5CF21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D149-0CE8-411B-87BB-DF2D1B2AC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无标题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黑体"/>
              </a:rPr>
              <a:t>《秋天的雨》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  <a:ea typeface="黑体"/>
              </a:rPr>
              <a:t>PPT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黑体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837720" y="1523520"/>
            <a:ext cx="5791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秋天是个美丽的季节，秋天的雨是什么样儿的呢？你看，它来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秋天的雨.mp3" descr=""/>
          <p:cNvPicPr/>
          <p:nvPr/>
        </p:nvPicPr>
        <p:blipFill>
          <a:blip r:embed="rId2"/>
          <a:stretch/>
        </p:blipFill>
        <p:spPr>
          <a:xfrm>
            <a:off x="5029200" y="35812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课文都写了秋天的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343320" y="2284200"/>
            <a:ext cx="223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00"/>
                </a:solidFill>
                <a:latin typeface="隶书"/>
                <a:ea typeface="隶书"/>
              </a:rPr>
              <a:t>秋的颜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00"/>
                </a:solidFill>
                <a:latin typeface="隶书"/>
                <a:ea typeface="隶书"/>
              </a:rPr>
              <a:t>秋的味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00"/>
                </a:solidFill>
                <a:latin typeface="隶书"/>
                <a:ea typeface="隶书"/>
              </a:rPr>
              <a:t>秋的声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617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为什么说秋天的雨是一把钥匙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7920" y="3276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隶书"/>
                <a:ea typeface="隶书"/>
              </a:rPr>
              <a:t>因为它不知不觉地就来到了我们身边，打开秋天的大门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13F-3F50-4F08-A90B-E1DDA972B4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你是怎样理解秋雨有“五彩缤纷”的颜料盒的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秋天的雨，藏着非常好闻的气味。是哪些气味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13012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秋天的雨吹起了金色的小喇叭，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小喇叭吹的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隶书"/>
              </a:rPr>
              <a:t>你还发现秋天有什么“宝贝”？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隶书"/>
              </a:rPr>
              <a:t>将你的发现写下来与大家分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4:23:23Z</dcterms:created>
  <dc:creator/>
  <dc:description/>
  <cp:keywords>幻灯片之家 http:/www.eeppt.com</cp:keywords>
  <dc:language>en-US</dc:language>
  <cp:lastModifiedBy/>
  <dcterms:modified xsi:type="dcterms:W3CDTF">2015-07-18T14:03:05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