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8A4A-A7B8-49A4-BEEB-446AF1CB2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0450-2ADD-4BFC-AD49-EBA59DDC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554D4-948F-40EF-A8CB-2AD05CBC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7A2DE-40A3-4C5F-BD98-23F915D3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25018-77FF-4455-BE3A-288A8C81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DEC30-0334-4AA7-9306-0E820859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119C5-39FC-430E-BC46-64ABEFEA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FD132-4945-426E-82F8-F74542E0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99CBC-9032-4788-85A0-5BF0B892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821DB-4C2B-4BD0-973C-79C9BA8B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58487-1213-477F-B03A-E8795F90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D8127-8467-47B3-8031-0D8CBF30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A9C0-A3F1-48B6-8E61-0EBBAFE4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235C1-A6BC-4F75-88A7-F0939705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C3070-7FB7-4A4F-AB3B-E5B88C3D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F916A-7C3E-434E-94DA-4253F3C6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2CA31-BFC2-4529-9F04-DDD4563F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250F5-2507-4170-83AA-3679F20F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9EB22-697F-4200-A7D1-1A8426BE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57819-4D1A-4645-BE5B-E66244E4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D37B5-EFF0-4413-BE6C-6C5166CB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DA8A2-AB2E-4979-AF32-00CAF25D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68403-2438-4F8D-916C-AE34FC71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DFC7-0D72-47BC-8235-31B6F002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E5602-13A4-44A1-BC0D-0CF40782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6117E-4298-4FB1-9263-C54CD693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ED810-BF1D-42AB-9F6E-A0E8FB08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C91A8-68C9-48D5-9740-2F1436E5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8421A-2962-45DF-A354-75D1B7F8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C49BE-6FCA-40F8-9519-36E62018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DFEB0-3F18-4B0C-915E-D0BC216A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B7500-71E8-47A9-AA6B-B15A8D89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90291-515C-43B2-93D2-CCB0291B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28BA9-2B6E-4A1B-9646-356F4858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0D35-F2BC-4BB8-B315-7A070943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A7411-3316-43CB-9A66-B705487B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5A873-9E3A-4D71-99E2-E33D505A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68CBF-6511-440D-9E5D-46B5E804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2F57E-F725-49D3-B652-7699881A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A4DF0-85C5-45B4-B8A8-59B5596D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8A91F-756F-402B-A0F3-753CDF00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2B4A2-C09B-4E6C-9950-E034D827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7834B-F513-4A8A-A20D-11BF2D28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AAC78-DC16-4948-9846-8EBC7225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21001-8ADC-4C8D-93D7-9CC540FD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E0E3-7FC3-4D4F-B344-C82A7424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AF446-8198-4B29-9CF3-0A8C0974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27188-17A0-4662-BAB1-8E780AC1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3BCE9-CA92-4581-8566-3B435C70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D4289-B802-4B49-87A8-094E3BD2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B1753-F04C-4954-95F8-3613DE0E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CA7C63-1476-4FDD-B11F-163FAA0D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73D087-FCDB-4FAB-AEB6-4233DC46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833913-CEA2-4CA7-8614-498466E4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7F8459-91B3-4BFB-B510-88B64B73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954BB3-2D40-4494-9F84-CA2ED926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6F1B-BF05-4EE8-81D1-A5933FA2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1DADB8-F5DB-4CE8-9A27-D985D32D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73038D-28E6-43D5-8437-063BB3EC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5680A4-617B-469E-A980-4D7C0E93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1F9F79-97F3-49D8-8C6E-E7A85135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067497-43EB-4069-BACB-D9A5FD09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FA11FD-089E-4AE1-A6C6-713B89BA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6BA3D0-87C4-4CCD-BFFD-1A55C590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8D1C-B5B3-4C35-90C2-8053B76C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65B0-0B3E-4168-AAA5-67C67FE7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435B-8D82-4345-9B54-6237E10D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622D-A9B6-4135-B0A7-CF571033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B0FE-879C-474B-A4E5-630633D9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250A-299C-4A57-9471-B641D77B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E191-AF22-413E-AC2A-FC6238F6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D4CF-7D02-4096-8540-0A3F7CAE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8F50-1157-4F98-9D9F-6D22A702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ED95-6AB4-4006-9BF0-AD8B2DA9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08C58-E1B3-4332-BC19-1FEBB30D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1F4A2-7658-42F9-AD14-B79AFE4F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9DC56-1F27-455B-A2E8-9AB96E03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C7287-582A-45D4-B7CE-8091705F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B7CF1-F248-421B-A3AA-D9DB46E2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9A90-9153-4D9F-B8CE-3FEE4569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A037B-0EA0-4CF8-97F0-980FB6B6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36AB5-55D2-49DF-819E-0FFBCADF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5BF21-B8B7-4D17-915C-EFAB6136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C8A33-40BA-47A0-B6E8-0DAB80C3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4580B-F8DA-4C35-B8BD-75768407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D79A1-B449-4600-AA57-13538E0E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7991E-629F-4080-B65D-E614C111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B8CB5-3AC0-4746-895A-F784802C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EBA00-8012-4D04-85E5-E7581036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08F17-8A19-4B67-9DA0-EEB58F52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2200-D0AA-420D-A4AF-0A0B7421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D0EEF-A52E-4ED7-92F7-4ECDE858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DF0E8-69EE-4E46-9B13-18899198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71A36-7D63-40F7-B59C-A7678A72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67920-EA70-440C-B405-91F3502C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55F2C-F812-4D4A-B670-681B5BD6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B8D79-4135-4D28-AFC4-86D1BF83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73BD6-BB17-488A-9805-55FF5A3B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559AD-ACFC-435E-8480-3E074E3C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20345-FED3-4B5A-9C33-21ABC2C5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D3A66-58B1-4CAF-9CA4-11637C60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2254-F07E-4B64-8187-2B69738D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8355F-458A-4A39-A3F1-2A1751DF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21207-DB54-41AA-B759-C96AEE25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73AAB-5939-40BB-BA27-CF0AE383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2641C-79C1-40DD-B164-800B6DEE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8CF15-9D29-47E2-9303-F9BCB9AE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29F63-F3EC-4114-BF0B-B13B778F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EAF35-6748-4F7F-9224-EA0872CE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7ECF6-BCA8-4D2A-8CF2-DE1B9F58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A5B1C-5F6D-43F8-90AA-C312F9C4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20809-C4BD-4824-B121-3D3534E1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9714-1843-4F02-95DE-861723CD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80FF1-4470-4C83-9DF2-8C276B71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66331-A9E4-4F29-9464-B1FCB8E2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0D262-4730-4F21-89AA-0F861379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CE094-314C-4851-86F3-AD5FBCBC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6FDF9-A7C5-4D45-9AA8-E3BEFB18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143F5-885F-49BB-BE72-AAE3DEC0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73984-75C3-445F-B8D5-D72CBB45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7813A-7660-4E3E-B9DD-EFE02A1A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76BCC-7AE8-41EC-9838-74F93F84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973A9-7AFD-4B6C-83DC-16914AB9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5D51-201C-44BD-B19F-7FF83D1F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4FE09-0B59-46B2-9A6B-A4AE26C3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D022C-9F5E-47BE-A941-5234AF2A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11C38-D89E-41AF-A9A1-368562D5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EBDDC-5B10-4795-A5F9-8130995F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48814-99DF-47B3-9256-66E7FF13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48C84-DA73-45A5-A70A-0D9A012A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0A0DC-649D-4A7C-815B-981686BE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F5AAB-30E1-48C9-9839-702F6992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CAB0E-1813-4199-AB3D-0346DD85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F431E-6D87-432A-9648-3582E6E5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7101-1898-43FE-8E0F-108A5B4F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44303-CC74-49F3-9877-FDB7F649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37030-0299-4776-9C58-ED0E410D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67FDD-1342-4A4B-990E-A2CE9FBC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216E6-F537-4CFD-87C0-F2BC1815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89DDC-C9DC-4C3B-B1F4-6EEB9895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1890A-C999-4AB0-8354-81C40555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D7E1F-4CE2-49A7-9BEB-2D9D9582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CC6C1-290C-44CB-ACFB-FF78027C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D1367-FB12-415E-9D9E-F1F56A01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44A3D-A15D-4BE3-8D34-F9AFC9C8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7362-7041-4842-846D-45519D8A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21B74-D6F7-4948-BBB1-363F3453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98D8D-87BB-42FB-A737-04E05ABA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CC433-FB2D-44B5-8954-0ED9ED27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03B3B-CD4A-414D-8475-39B0045C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93021-5048-4943-BFAA-7BC48474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94A0A-C596-458E-AD57-D6DE7698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6424E-9DEE-4E7C-BC8A-3AE6B0EC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FD059-6522-4043-8EDF-7F3C0019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B8164-ED85-4E23-BED6-30B5FACF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550C0-78BE-4F40-89C6-6C27A97A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D2B9-07E0-48FB-9EC2-322FF8D67F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78AD-CD04-4D6C-B984-EF926C2F31C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0671-C7DF-4D5D-A059-6FD71A92B55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5E81-6AF8-47E4-B131-719FDE3152F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82A0-E0BA-4E18-80FE-2B54E7738B4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CFD3-7EE2-4D08-8372-A5C0CA5E7E9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091F-0B74-4B85-8918-13B79687D9C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9BB8-693C-4F7B-BC8D-CDF785374FF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BE73-71AE-4C26-863E-47B83B80BD3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DFA2-A0DE-4A30-A88E-92EFE085684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4A38-50E1-4405-8C8E-B2C2C01AB83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3269-AB21-4468-BD75-F7746E64CF9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D688-7875-42BF-AAD8-280AB6A236B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2"/>
          <p:cNvSpPr/>
          <p:nvPr/>
        </p:nvSpPr>
        <p:spPr>
          <a:xfrm>
            <a:off x="966960" y="981000"/>
            <a:ext cx="7277040" cy="23781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1187280" y="170028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三顾茅庐完整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矩形 4"/>
          <p:cNvSpPr/>
          <p:nvPr/>
        </p:nvSpPr>
        <p:spPr>
          <a:xfrm>
            <a:off x="302400" y="645336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月总结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精美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说课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3"/>
          <p:cNvSpPr/>
          <p:nvPr/>
        </p:nvSpPr>
        <p:spPr>
          <a:xfrm>
            <a:off x="1149480" y="2009880"/>
            <a:ext cx="69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　　请同学们读一读课文的</a:t>
            </a:r>
            <a:r>
              <a:rPr b="0" lang="en-US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2</a:t>
            </a: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－</a:t>
            </a:r>
            <a:r>
              <a:rPr b="0" lang="en-US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4</a:t>
            </a: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小节，说一说：你觉得刘备能够取得拜访成功的原因是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AutoShape 1026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027"/>
          <p:cNvSpPr/>
          <p:nvPr/>
        </p:nvSpPr>
        <p:spPr>
          <a:xfrm>
            <a:off x="890640" y="2268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　　请同学们读一读课文第</a:t>
            </a:r>
            <a:r>
              <a:rPr b="0" lang="en-US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2</a:t>
            </a: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小节，说一说：从哪儿可以看出刘备对诸葛亮很尊重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826920" y="1268280"/>
            <a:ext cx="7561440" cy="30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张飞嚷道：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这次用不着大哥亲自去。他如果不来，我只要用一根麻绳就把他捆来了！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刘备生气地说：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你一点儿也不懂尊重人才，这次你就不要去了！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                </a:t>
            </a:r>
            <a:r>
              <a:rPr b="0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读一读</a:t>
            </a:r>
            <a:r>
              <a:rPr b="0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870120" y="187020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请同学们读一读课文的第</a:t>
            </a:r>
            <a:r>
              <a:rPr b="0" lang="en-US" sz="4400" spc="-1" strike="noStrike">
                <a:solidFill>
                  <a:srgbClr val="6600cc"/>
                </a:solidFill>
                <a:latin typeface="黑体"/>
                <a:ea typeface="黑体"/>
              </a:rPr>
              <a:t>3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小节，用笔画出表现刘备尊重诸葛亮的词句，并说说自己的理解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3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"/>
          <p:cNvSpPr/>
          <p:nvPr/>
        </p:nvSpPr>
        <p:spPr>
          <a:xfrm>
            <a:off x="544680" y="958680"/>
            <a:ext cx="82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离诸葛亮的住处还有半里多路，刘备就下马步行。到了诸葛亮的家，刘备上前轻轻敲门。出来开门的童子告诉刘备，诸葛先生正在草堂午睡。刘备让童子不要惊醒先生，吩咐关羽、张飞在门口休息，自己轻轻地走进去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544680" y="958680"/>
            <a:ext cx="82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离诸葛亮的住处还有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里多路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刘备就下马步行。到了诸葛亮的家，刘备上前轻轻敲门。出来开门的童子告诉刘备，诸葛先生正在草堂午睡。刘备让童子不要惊醒先生，吩咐关羽、张飞在门口休息，自己轻轻地走进去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544680" y="958680"/>
            <a:ext cx="82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离诸葛亮的住处还有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里多路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刘备就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下马步行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。到了诸葛亮的家，刘备上前轻轻敲门。出来开门的童子告诉刘备，诸葛先生正在草堂午睡。刘备让童子不要惊醒先生，吩咐关羽、张飞在门口休息，自己轻轻地走进去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544680" y="958680"/>
            <a:ext cx="820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离诸葛亮的住处还有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里多路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刘备就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下马步行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。到了诸葛亮的家，刘备上前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轻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敲门。出来开门的童子告诉刘备，诸葛先生正在草堂午睡。刘备让童子不要惊醒先生，吩咐关羽、张飞在门口休息，自己轻轻地走进去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544680" y="958680"/>
            <a:ext cx="82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离诸葛亮的住处还有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里多路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刘备就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下马步行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。到了诸葛亮的家，刘备上前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轻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敲门。出来开门的童子告诉刘备，诸葛先生正在草堂午睡。刘备让童子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要惊醒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先生，吩咐关羽、张飞在门口休息，自己轻轻地走进去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AutoShape 2"/>
          <p:cNvSpPr/>
          <p:nvPr/>
        </p:nvSpPr>
        <p:spPr>
          <a:xfrm>
            <a:off x="539640" y="47628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539640" y="1268280"/>
            <a:ext cx="856944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诸葛亮  山冈  半晌  三顾茅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秀丽宜人  恭恭敬敬  群雄纷争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蜿蜒起伏  青翠欲滴  茅塞顿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"/>
          <p:cNvSpPr/>
          <p:nvPr/>
        </p:nvSpPr>
        <p:spPr>
          <a:xfrm>
            <a:off x="544680" y="958680"/>
            <a:ext cx="82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离诸葛亮的住处还有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里多路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刘备就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下马步行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。到了诸葛亮的家，刘备上前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轻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敲门。出来开门的童子告诉刘备，诸葛先生正在草堂午睡。刘备让童子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要惊醒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先生，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吩咐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关羽、张飞在门口休息，自己轻轻地走进去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544680" y="958680"/>
            <a:ext cx="82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离诸葛亮的住处还有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里多路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刘备就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下马步行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。到了诸葛亮的家，刘备上前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轻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敲门。出来开门的童子告诉刘备，诸葛先生正在草堂午睡。刘备让童子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要惊醒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先生，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吩咐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关羽、张飞在门口休息，自己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轻地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走进去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826920" y="1197000"/>
            <a:ext cx="784404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恭恭敬敬地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站在草堂的台阶上等候。等了半晌工夫，诸葛亮翻了一个身，又朝里睡着了。又等了一个时辰，诸葛亮才悠然醒来。刘备快步走进草堂，同诸葛亮见面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826920" y="1197000"/>
            <a:ext cx="784404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恭恭敬敬地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站在草堂的台阶上等候。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等了半晌工夫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诸葛亮翻了一个身，又朝里睡着了。又等了一个时辰，诸葛亮才悠然醒来。刘备快步走进草堂，同诸葛亮见面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826920" y="1197000"/>
            <a:ext cx="784404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恭恭敬敬地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站在草堂的台阶上等候。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等了半晌工夫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诸葛亮翻了一个身，又朝里睡着了。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又等了一个时辰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诸葛亮才悠然醒来。刘备快步走进草堂，同诸葛亮见面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826920" y="1197000"/>
            <a:ext cx="784404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恭恭敬敬地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站在草堂的台阶上等候。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等了半晌工夫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诸葛亮翻了一个身，又朝里睡着了。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又等了一个时辰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诸葛亮才悠然醒来。刘备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快步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走进草堂，同诸葛亮见面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544680" y="958680"/>
            <a:ext cx="82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离诸葛亮的住处还有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里多路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刘备就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下马步行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。到了诸葛亮的家，刘备上前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轻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敲门。出来开门的童子告诉刘备，诸葛先生正在草堂午睡。刘备让童子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要惊醒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先生，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吩咐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关羽、张飞在门口休息，自己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轻地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走进去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826920" y="1197000"/>
            <a:ext cx="784404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恭恭敬敬地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站在草堂的台阶上等候。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等了半晌工夫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诸葛亮翻了一个身，又朝里睡着了。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又等了一个时辰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诸葛亮才悠然醒来。刘备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快步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走进草堂，同诸葛亮见面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AutoShape 4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2"/>
          <p:cNvSpPr/>
          <p:nvPr/>
        </p:nvSpPr>
        <p:spPr>
          <a:xfrm>
            <a:off x="755640" y="184464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请同学们自由读一读第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5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小节，说一说：刘备是怎样对待诸葛亮的？这些做法让你强烈地感受到了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AutoShape 4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2"/>
          <p:cNvSpPr/>
          <p:nvPr/>
        </p:nvSpPr>
        <p:spPr>
          <a:xfrm>
            <a:off x="755640" y="134136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诸葛亮出山后，刘备把他当做自己的老师，两人同桌吃饭，同榻睡觉，一起讨论天下大事。刘备高兴地对关羽、张飞说：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我得到诸葛先生，就像鱼儿得到水一样啊！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AutoShape 2"/>
          <p:cNvSpPr/>
          <p:nvPr/>
        </p:nvSpPr>
        <p:spPr>
          <a:xfrm>
            <a:off x="539640" y="47628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574560" y="1773360"/>
            <a:ext cx="8569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诸葛亮  山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冈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半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晌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三顾茅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秀丽宜人  恭恭敬敬  群雄纷争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蜿蜒起伏  青翠欲滴  茅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塞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顿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3"/>
          <p:cNvSpPr/>
          <p:nvPr/>
        </p:nvSpPr>
        <p:spPr>
          <a:xfrm>
            <a:off x="755640" y="134136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诸葛亮出山后，刘备把他当做自己的老师，两人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桌吃饭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同榻睡觉，一起讨论天下大事。刘备高兴地对关羽、张飞说：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我得到诸葛先生，就像鱼儿得到水一样啊！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755640" y="134136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诸葛亮出山后，刘备把他当做自己的老师，两人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桌吃饭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榻睡觉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一起讨论天下大事。刘备高兴地对关羽、张飞说：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我得到诸葛先生，就像鱼儿得到水一样啊！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684360" y="1052640"/>
            <a:ext cx="7632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诸葛亮出山后，刘备把他当做自己的老师，两人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桌吃饭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榻睡觉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一起讨论天下大事。刘备高兴地对关羽、张飞说：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我得到诸葛先生，就像鱼儿得到水一样啊！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　　　　　 </a:t>
            </a:r>
            <a:r>
              <a:rPr b="0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读一读</a:t>
            </a:r>
            <a:r>
              <a:rPr b="0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971640" y="184464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</a:t>
            </a:r>
            <a:r>
              <a:rPr b="0" lang="zh-CN" sz="4800" spc="-1" strike="noStrike">
                <a:solidFill>
                  <a:srgbClr val="6600cc"/>
                </a:solidFill>
                <a:latin typeface="黑体"/>
                <a:ea typeface="黑体"/>
              </a:rPr>
              <a:t>请同学们再默读一遍课文，想一想，说一说：刘备为什么会对诸葛亮如此尊重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AutoShape 3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2"/>
          <p:cNvSpPr/>
          <p:nvPr/>
        </p:nvSpPr>
        <p:spPr>
          <a:xfrm>
            <a:off x="826920" y="170028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诸葛亮分析了群雄纷争的形势，提出了三分天下，最后取胜的策略。刘备听了茅塞顿开，像拨开云雾见到了青天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826920" y="170028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诸葛亮分析了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群雄纷争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的形势，提出了三分天下，最后取胜的策略。刘备听了茅塞顿开，像拨开云雾见到了青天。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　　　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3"/>
          <p:cNvSpPr/>
          <p:nvPr/>
        </p:nvSpPr>
        <p:spPr>
          <a:xfrm>
            <a:off x="826920" y="170028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诸葛亮分析了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群雄纷争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的形势，提出了三分天下，最后取胜的策略。刘备听了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茅塞顿开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像拨开云雾见到了青天。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　　　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826920" y="1197000"/>
            <a:ext cx="7561440" cy="25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诸葛亮分析了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群雄纷争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的形势，提出了三分天下，最后取胜的策略。刘备听了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茅塞顿开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，像拨开云雾见到了青天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说一说：这两个词分别是什么意思？）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　　　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3"/>
          <p:cNvSpPr/>
          <p:nvPr/>
        </p:nvSpPr>
        <p:spPr>
          <a:xfrm>
            <a:off x="684360" y="803160"/>
            <a:ext cx="78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  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曹操战胜了袁绍，从弱小变为强大。现在曹操已拥有百万大军，挟制皇帝来号令诸侯，这的确不能与他较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孙权占据江东，已经历了三代。江东地势险要，民众归附，有才能的人被他重用，孙权这方面可以以他为外援，而不可谋取他。 </a:t>
            </a:r>
            <a:r>
              <a:rPr b="0" lang="zh-CN" sz="4000" spc="-1" strike="noStrike">
                <a:solidFill>
                  <a:srgbClr val="6600cc"/>
                </a:solidFill>
                <a:latin typeface="黑体"/>
                <a:ea typeface="黑体"/>
              </a:rPr>
              <a:t>　　　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3"/>
          <p:cNvSpPr/>
          <p:nvPr/>
        </p:nvSpPr>
        <p:spPr>
          <a:xfrm>
            <a:off x="898560" y="920880"/>
            <a:ext cx="75610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荆州是兵家必争的地方，但是他的主人刘表不能守住，这地方大概是老天用来资助将军的，将军难道没有占领的意思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益州有险要的关塞，有广阔肥沃的土地，是自然条件优越，物产丰饶，形势险固的地方，但君主昏庸。 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　　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AutoShape 2"/>
          <p:cNvSpPr/>
          <p:nvPr/>
        </p:nvSpPr>
        <p:spPr>
          <a:xfrm>
            <a:off x="539640" y="47628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1484280" y="1628640"/>
            <a:ext cx="64454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顾  　　茅   　诸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葛　　　冈 　　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晌  　　恭  　 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684360" y="1082520"/>
            <a:ext cx="78483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将军您是汉朝皇帝的后代，威信和义气闻名于天下，如果占据了荆州、益州，凭借两州险要的地势，西面和各族和好，南面安抚各族，对外跟孙权结成联盟，对内改善国家政治；那么汉朝的政权就可以复兴了。 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　　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3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"/>
          <p:cNvSpPr/>
          <p:nvPr/>
        </p:nvSpPr>
        <p:spPr>
          <a:xfrm>
            <a:off x="1042920" y="1989000"/>
            <a:ext cx="7416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</a:t>
            </a:r>
            <a:r>
              <a:rPr b="1" lang="zh-CN" sz="4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刘备听了茅塞顿开，像拨开云雾见到了青天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900000" y="1268280"/>
            <a:ext cx="7417080" cy="26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</a:t>
            </a:r>
            <a:r>
              <a:rPr b="1" lang="zh-CN" sz="4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刘备听了茅塞顿开，像拨开云雾见到了青天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　　　　　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（读一读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AutoShape 2"/>
          <p:cNvSpPr/>
          <p:nvPr/>
        </p:nvSpPr>
        <p:spPr>
          <a:xfrm>
            <a:off x="611280" y="549360"/>
            <a:ext cx="8064360" cy="5686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709560" y="1509840"/>
            <a:ext cx="7704360" cy="35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那里的山冈蜿蜒起伏，好像一条等待时机腾飞的卧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我得到诸葛先生，就像鱼儿得到水一样啊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AutoShape 4"/>
          <p:cNvSpPr/>
          <p:nvPr/>
        </p:nvSpPr>
        <p:spPr>
          <a:xfrm>
            <a:off x="611280" y="549360"/>
            <a:ext cx="8064360" cy="5686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2"/>
          <p:cNvSpPr/>
          <p:nvPr/>
        </p:nvSpPr>
        <p:spPr>
          <a:xfrm>
            <a:off x="887400" y="981000"/>
            <a:ext cx="7704000" cy="35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读一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那里的山冈蜿蜒起伏，好像一条等待时机腾飞的卧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我得到诸葛先生，就像鱼儿得到水一样啊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AutoShape 2"/>
          <p:cNvSpPr/>
          <p:nvPr/>
        </p:nvSpPr>
        <p:spPr>
          <a:xfrm>
            <a:off x="611280" y="549360"/>
            <a:ext cx="8064360" cy="5686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687240" y="806400"/>
            <a:ext cx="784872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那里的山冈蜿蜒起伏，好像一条等待时机腾飞的卧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刘备听了茅塞顿开，像拨开云雾见到了青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我得到诸葛先生，就像鱼儿得到水一样啊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读一读，说一说：每个句子的前后两个部分是什么关系？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684360" y="1052640"/>
            <a:ext cx="76327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那里的山冈蜿蜒起伏，好像一条等待时机腾飞腾飞的卧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刘备听了茅塞顿开，像拨开云雾见到了青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我得到诸葛先生，就像鱼儿得到水一样啊！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　　　　　　　（读一读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826920" y="2060640"/>
            <a:ext cx="7490160" cy="25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cc"/>
                </a:solidFill>
                <a:latin typeface="黑体"/>
                <a:ea typeface="黑体"/>
              </a:rPr>
              <a:t>说一说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　　　　</a:t>
            </a: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你还知道哪些事例能说明诸葛亮的才干之大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AutoShape 3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2"/>
          <p:cNvSpPr/>
          <p:nvPr/>
        </p:nvSpPr>
        <p:spPr>
          <a:xfrm>
            <a:off x="755640" y="134136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他们来到隆中，只见那里的山冈蜿蜒起伏，好像一条等待时机腾飞的卧龙。冈前几片松林疏疏朗朗，潺潺的溪流清澈见底，茂密的竹林青翠欲滴，景色秀丽宜人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900000" y="1844640"/>
            <a:ext cx="7632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请同学们自由读一读课文第三小节开头的景色描写，说一说：哪些词语让你感觉到了景色的宜人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AutoShape 2"/>
          <p:cNvSpPr/>
          <p:nvPr/>
        </p:nvSpPr>
        <p:spPr>
          <a:xfrm>
            <a:off x="539640" y="47628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700200" y="2203560"/>
            <a:ext cx="774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     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请同学们完成书上的描红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684360" y="1844640"/>
            <a:ext cx="784836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cc"/>
                </a:solidFill>
                <a:latin typeface="黑体"/>
                <a:ea typeface="黑体"/>
              </a:rPr>
              <a:t>说一说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</a:t>
            </a: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“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蜿蜒起伏</a:t>
            </a: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”“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 青翠欲滴</a:t>
            </a: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”“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秀丽宜人</a:t>
            </a: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”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等词语的意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3"/>
          <p:cNvSpPr/>
          <p:nvPr/>
        </p:nvSpPr>
        <p:spPr>
          <a:xfrm>
            <a:off x="538200" y="2060640"/>
            <a:ext cx="8137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再读一读，看看这一段景色描写是怎么写的？先写什么？再写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3"/>
          <p:cNvSpPr/>
          <p:nvPr/>
        </p:nvSpPr>
        <p:spPr>
          <a:xfrm>
            <a:off x="755640" y="134136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他们来到隆中，只见那里的山冈蜿蜒起伏，好像一条等待时机腾飞的卧龙。冈前几片松林疏疏朗朗，潺潺的溪流清澈见底，茂密的竹林青翠欲滴，景色秀丽宜人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755640" y="134136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他们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来到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隆中，只见那里的山冈蜿蜒起伏，好像一条等待时机腾飞的卧龙。冈前几片松林疏疏朗朗，潺潺的溪流清澈见底，茂密的竹林青翠欲滴，景色秀丽宜人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755640" y="134136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他们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来到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隆中，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只见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那里的山冈蜿蜒起伏，好像一条等待时机腾飞的卧龙。冈前几片松林疏疏朗朗，潺潺的溪流清澈见底，茂密的竹林青翠欲滴，景色秀丽宜人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3"/>
          <p:cNvSpPr/>
          <p:nvPr/>
        </p:nvSpPr>
        <p:spPr>
          <a:xfrm>
            <a:off x="1508040" y="1773360"/>
            <a:ext cx="651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黑体"/>
                <a:ea typeface="黑体"/>
              </a:rPr>
              <a:t>　　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请同学们仿照这样的写法，用上</a:t>
            </a: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“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来到</a:t>
            </a:r>
            <a:r>
              <a:rPr b="0" lang="en-US" sz="44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，只见</a:t>
            </a:r>
            <a:r>
              <a:rPr b="0" lang="en-US" sz="44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0" lang="en-US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”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的句式描写一处景色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AutoShape 2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611280" y="1484280"/>
            <a:ext cx="799308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cc"/>
                </a:solidFill>
                <a:latin typeface="黑体"/>
                <a:ea typeface="黑体"/>
              </a:rPr>
              <a:t>作业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</a:t>
            </a:r>
            <a:r>
              <a:rPr b="0" lang="en-US" sz="4400" spc="-1" strike="noStrike">
                <a:solidFill>
                  <a:srgbClr val="6600cc"/>
                </a:solidFill>
                <a:latin typeface="黑体"/>
                <a:ea typeface="黑体"/>
              </a:rPr>
              <a:t>1.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背诵课文</a:t>
            </a:r>
            <a:r>
              <a:rPr b="0" lang="en-US" sz="4400" spc="-1" strike="noStrike">
                <a:solidFill>
                  <a:srgbClr val="6600cc"/>
                </a:solidFill>
                <a:latin typeface="黑体"/>
                <a:ea typeface="黑体"/>
              </a:rPr>
              <a:t>3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、</a:t>
            </a:r>
            <a:r>
              <a:rPr b="0" lang="en-US" sz="4400" spc="-1" strike="noStrike">
                <a:solidFill>
                  <a:srgbClr val="6600cc"/>
                </a:solidFill>
                <a:latin typeface="黑体"/>
                <a:ea typeface="黑体"/>
              </a:rPr>
              <a:t>4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两小节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</a:t>
            </a:r>
            <a:r>
              <a:rPr b="0" lang="en-US" sz="4400" spc="-1" strike="noStrike">
                <a:solidFill>
                  <a:srgbClr val="6600cc"/>
                </a:solidFill>
                <a:latin typeface="黑体"/>
                <a:ea typeface="黑体"/>
              </a:rPr>
              <a:t>2.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找一本</a:t>
            </a:r>
            <a:r>
              <a:rPr b="0" lang="en-US" sz="4400" spc="-1" strike="noStrike">
                <a:solidFill>
                  <a:srgbClr val="6600cc"/>
                </a:solidFill>
                <a:latin typeface="黑体"/>
                <a:ea typeface="黑体"/>
              </a:rPr>
              <a:t>《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三国演义</a:t>
            </a:r>
            <a:r>
              <a:rPr b="0" lang="en-US" sz="4400" spc="-1" strike="noStrike">
                <a:solidFill>
                  <a:srgbClr val="6600cc"/>
                </a:solidFill>
                <a:latin typeface="黑体"/>
                <a:ea typeface="黑体"/>
              </a:rPr>
              <a:t>》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故事书来读一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1106640" y="6477120"/>
            <a:ext cx="67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AutoShape 2"/>
          <p:cNvSpPr/>
          <p:nvPr/>
        </p:nvSpPr>
        <p:spPr>
          <a:xfrm>
            <a:off x="539640" y="47628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74560" y="1197000"/>
            <a:ext cx="7958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自由朗读课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黑体"/>
                <a:ea typeface="黑体"/>
              </a:rPr>
              <a:t>   </a:t>
            </a:r>
            <a:r>
              <a:rPr b="0" lang="en-US" sz="4400" spc="-1" strike="noStrike">
                <a:solidFill>
                  <a:srgbClr val="6600cc"/>
                </a:solidFill>
                <a:latin typeface="黑体"/>
                <a:ea typeface="黑体"/>
              </a:rPr>
              <a:t>1.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注意读准每个字的字音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黑体"/>
                <a:ea typeface="黑体"/>
              </a:rPr>
              <a:t>   </a:t>
            </a:r>
            <a:r>
              <a:rPr b="0" lang="en-US" sz="4400" spc="-1" strike="noStrike">
                <a:solidFill>
                  <a:srgbClr val="6600cc"/>
                </a:solidFill>
                <a:latin typeface="黑体"/>
                <a:ea typeface="黑体"/>
              </a:rPr>
              <a:t>2.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想一想：</a:t>
            </a:r>
            <a:r>
              <a:rPr b="0" lang="en-US" sz="4400" spc="-1" strike="noStrike">
                <a:solidFill>
                  <a:srgbClr val="6600cc"/>
                </a:solidFill>
                <a:latin typeface="黑体"/>
                <a:ea typeface="黑体"/>
              </a:rPr>
              <a:t>《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三顾茅庐</a:t>
            </a:r>
            <a:r>
              <a:rPr b="0" lang="en-US" sz="4400" spc="-1" strike="noStrike">
                <a:solidFill>
                  <a:srgbClr val="6600cc"/>
                </a:solidFill>
                <a:latin typeface="黑体"/>
                <a:ea typeface="黑体"/>
              </a:rPr>
              <a:t>》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写的是一件什么事情？这里的</a:t>
            </a: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“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顾</a:t>
            </a: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”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是什么意思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AutoShape 1026"/>
          <p:cNvSpPr/>
          <p:nvPr/>
        </p:nvSpPr>
        <p:spPr>
          <a:xfrm>
            <a:off x="539640" y="47628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027"/>
          <p:cNvSpPr/>
          <p:nvPr/>
        </p:nvSpPr>
        <p:spPr>
          <a:xfrm>
            <a:off x="798480" y="1413000"/>
            <a:ext cx="7742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　　请学生分段读课文，其他同学注意听，看看这位同学有没有读错的地方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AutoShape 2"/>
          <p:cNvSpPr/>
          <p:nvPr/>
        </p:nvSpPr>
        <p:spPr>
          <a:xfrm>
            <a:off x="539640" y="47628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900000" y="1293840"/>
            <a:ext cx="748980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说一说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　　</a:t>
            </a:r>
            <a:r>
              <a:rPr b="0" lang="en-US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《</a:t>
            </a: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三顾茅庐</a:t>
            </a:r>
            <a:r>
              <a:rPr b="0" lang="en-US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》</a:t>
            </a: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写的是一件什么事情？这里的“顾”是什么意思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AutoShape 3"/>
          <p:cNvSpPr/>
          <p:nvPr/>
        </p:nvSpPr>
        <p:spPr>
          <a:xfrm>
            <a:off x="539640" y="620640"/>
            <a:ext cx="8064720" cy="568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2"/>
          <p:cNvSpPr/>
          <p:nvPr/>
        </p:nvSpPr>
        <p:spPr>
          <a:xfrm>
            <a:off x="826920" y="1577880"/>
            <a:ext cx="7632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说一说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　　课文重点写的是第几次拜访？哪几小节写出了这一次拜访的全过程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8T15:40:36Z</dcterms:created>
  <dc:creator/>
  <dc:description/>
  <cp:keywords>幻灯片之家 http:/www.eeppt.com</cp:keywords>
  <dc:language>en-US</dc:language>
  <cp:lastModifiedBy/>
  <dcterms:modified xsi:type="dcterms:W3CDTF">2015-07-20T02:57:5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