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8BA-FB18-42A2-9FBF-BFCE3096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7FD6-94EF-474A-8E12-9A01043E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0210-1A77-4FC9-9CDE-4214BD2D4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828-F5E3-4E61-94A5-409158AB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12DB-5CDE-491C-B793-F401A1C1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4401-C77D-4C83-8486-217C12F2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FEEE-CD8E-40A8-94BD-D0803EF8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D02E-B976-4BF3-8CC2-D9A99A05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1B7-B81B-47C0-A0B7-136078FC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CC03-B9D2-41EC-AF49-7A0DA2E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961-C37C-4295-8AFB-E266CF83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C98B-853C-41C6-967E-B21855A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2A8B-2F45-40AB-BB3E-0C56E221E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59280" y="476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835280" y="1192320"/>
            <a:ext cx="5400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1908000" y="4653000"/>
            <a:ext cx="49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城关回小　　马丽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96800" y="765000"/>
            <a:ext cx="321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司马光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课件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250920" y="765000"/>
            <a:ext cx="92520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黑体"/>
              </a:rPr>
              <a:t>拓展思维 </a:t>
            </a: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50920" y="2349360"/>
            <a:ext cx="889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小朋友都谎了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司马光为什么不跑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你知道他在想什么吗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、如果当时你也在花园玩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你有什么办法救小伙伴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0" y="86400"/>
            <a:ext cx="91440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板书设计</a:t>
            </a: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没有慌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司马光──举石头砸缸救人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想办法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5518080"/>
            <a:ext cx="611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ttp://www.eeppt.com/moban/kejian/</a:t>
            </a:r>
            <a:endParaRPr b="0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B87-399B-426F-A0E6-04B1E126A68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44280"/>
            <a:ext cx="8532720" cy="74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ff"/>
                </a:solidFill>
                <a:latin typeface="Arial"/>
              </a:rPr>
              <a:t>         </a:t>
            </a:r>
            <a:r>
              <a:rPr b="1" lang="zh-CN" sz="6600" spc="-1" strike="noStrike">
                <a:solidFill>
                  <a:srgbClr val="3333ff"/>
                </a:solidFill>
                <a:latin typeface="Arial"/>
              </a:rPr>
              <a:t>选字填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友   有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）我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 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许多好朋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 )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块   快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2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我们一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 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儿玩得很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乐</a:t>
            </a: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042920" y="549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" name="Picture 5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2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-762120" y="0"/>
            <a:ext cx="9906120" cy="7270920"/>
          </a:xfrm>
          <a:prstGeom prst="rect">
            <a:avLst/>
          </a:prstGeom>
          <a:ln w="0">
            <a:noFill/>
          </a:ln>
        </p:spPr>
      </p:pic>
      <p:pic>
        <p:nvPicPr>
          <p:cNvPr id="55" name="Object 5" descr=""/>
          <p:cNvPicPr/>
          <p:nvPr/>
        </p:nvPicPr>
        <p:blipFill>
          <a:blip r:embed="rId2"/>
          <a:stretch/>
        </p:blipFill>
        <p:spPr>
          <a:xfrm>
            <a:off x="3419640" y="1557360"/>
            <a:ext cx="1099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468360" y="47628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学习要求：</a:t>
            </a:r>
            <a:endParaRPr b="0" lang="en-US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395280" y="1628640"/>
            <a:ext cx="8748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１）自由读课文，注意读准字音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２）听老师范读，学生边听边画出生字新词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３）同桌互读生字词，纠正错音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（４）检查生字词．</a:t>
            </a:r>
            <a:endParaRPr b="0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8218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4920" y="44280"/>
            <a:ext cx="9144000" cy="75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ɡǔ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tā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jǐ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 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péng     yǒu  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古　　他　　几　　朋　　友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mǎn     xín     bié     dōu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满　　心　　别　　都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kū      zhǎo     kuài     de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哭　　找     　快　　得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41828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4418640" y="3246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ō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5140440"/>
            <a:ext cx="86868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95280" y="54936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认一认　读一读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2205000"/>
            <a:ext cx="8820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几个　小朋友　小心　石头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　出来　古时候　 孩子　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得救　砸破　   花园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476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学习课文</a:t>
            </a:r>
            <a:endParaRPr b="0" lang="en-US" sz="6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0" y="1700280"/>
            <a:ext cx="9144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"/>
              </a:rPr>
              <a:t>●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发生了什么危险的事？别的小朋友看到小伙伴掉进水缸，他们的表现怎样？</a:t>
            </a:r>
            <a:br>
              <a:rPr sz="4400"/>
            </a:b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●司马光的表现与别的孩子有什么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不同？结果怎么样？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ed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-108000" y="981000"/>
            <a:ext cx="91425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别的小朋友都慌了，有的吓哭了有的叫着喊着，跑去找大人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</a:rPr>
              <a:t>司马光没有慌，他举起一块石头，使劲砸那口缸，几下子就砸破了。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4643280" y="4221000"/>
            <a:ext cx="338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95280" y="5013360"/>
            <a:ext cx="80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Line 7"/>
          <p:cNvSpPr/>
          <p:nvPr/>
        </p:nvSpPr>
        <p:spPr>
          <a:xfrm>
            <a:off x="0" y="5734080"/>
            <a:ext cx="826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Line 9"/>
          <p:cNvSpPr/>
          <p:nvPr/>
        </p:nvSpPr>
        <p:spPr>
          <a:xfrm>
            <a:off x="3851280" y="2349360"/>
            <a:ext cx="489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0" y="3141720"/>
            <a:ext cx="70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684360" y="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答案</a:t>
            </a:r>
            <a:endParaRPr b="0" lang="en-US" sz="7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06:39:20Z</dcterms:created>
  <dc:creator/>
  <dc:description/>
  <cp:keywords>幻灯片之家 http:/www.eeppt.com</cp:keywords>
  <dc:language>en-US</dc:language>
  <cp:lastModifiedBy/>
  <dcterms:modified xsi:type="dcterms:W3CDTF">2015-07-04T12:50:40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