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FF6B-B5EA-4478-A8FD-B4ABFB3E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F23-9EB1-494A-8CBC-A3D2020C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6E6-92D4-460C-9758-F16AA12A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C93F-AAF1-4C70-A81E-FACFEFB1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2E17-527A-4B60-B677-6C91E936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FF9A-8D5A-4E82-9402-CB1CDC89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932-BBA5-4ED9-8DDB-17D9BCF9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3D1-B022-4160-BE03-10D3F341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0D84-36D1-4735-80F5-3A3B7F57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8C2-D653-47F0-A92A-D8FC697D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3BF-9636-4107-B9E2-45D0C25D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5AA-8700-4910-8B67-60616123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47B2-E80A-493B-B9E8-42041DA3D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3132000" y="3935520"/>
            <a:ext cx="4896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100000000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97680" y="1413000"/>
            <a:ext cx="27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一亿有多大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95724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、我们全国大约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亿人，如果每人每天节省一粒米，全国一天大约能节省多少克粮食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749680" y="3478320"/>
            <a:ext cx="29426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、如果每人每天吃大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克，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些节省下来的大米可供一个人吃多少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约合多少年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671200" y="5229360"/>
            <a:ext cx="59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2500000÷400=8125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天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1250÷365≈22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年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340720" y="2565360"/>
            <a:ext cx="660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500000×13=3250000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克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96080" y="115920"/>
            <a:ext cx="13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活动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6516720" y="256536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0"/>
          <p:cNvSpPr/>
          <p:nvPr/>
        </p:nvSpPr>
        <p:spPr>
          <a:xfrm>
            <a:off x="2916360" y="256536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3419640" y="522936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>
            <a:off x="6227640" y="522936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2987640" y="580536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79280" y="1125360"/>
            <a:ext cx="8713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亚洲严重缺水，缺乏符合卫生标准的饮用水人数约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。因缺水不能使用卫生设备人数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后，全世界缺水人口可能达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58600" y="4076640"/>
            <a:ext cx="54612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亿个小朋友手拉手，可以绕地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赤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圈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地球赤道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0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468360" y="0"/>
            <a:ext cx="1390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资料</a:t>
            </a:r>
            <a:endParaRPr b="1" lang="en-US" sz="5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4427640" y="5373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1254240"/>
            <a:ext cx="91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如果一个人能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，以亿计算，其度过的岁月不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多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468360" y="0"/>
            <a:ext cx="1390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资料</a:t>
            </a:r>
            <a:endParaRPr b="1" lang="en-US" sz="5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356560" y="3573360"/>
            <a:ext cx="401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我们学校大约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学生，如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人每学年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书，那么一亿本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够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1254240"/>
            <a:ext cx="914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3"/>
          <p:cNvSpPr txBox="1"/>
          <p:nvPr/>
        </p:nvSpPr>
        <p:spPr>
          <a:xfrm>
            <a:off x="468360" y="0"/>
            <a:ext cx="1390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资料</a:t>
            </a:r>
            <a:endParaRPr b="1" lang="en-US" sz="5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50920" y="981000"/>
            <a:ext cx="864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分钟如果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次心跳，一亿次心跳大约要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滴水大约可以汇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33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升水，能够装四辆大型运水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张纸叠在一起，约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高，比珠穆朗玛峰还要高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3"/>
          <p:cNvSpPr txBox="1"/>
          <p:nvPr/>
        </p:nvSpPr>
        <p:spPr>
          <a:xfrm>
            <a:off x="468360" y="0"/>
            <a:ext cx="1390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资料</a:t>
            </a:r>
            <a:endParaRPr b="1" lang="en-US" sz="5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95280" y="981000"/>
            <a:ext cx="84978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中国移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底的财务公布平均每天净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新明日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电，爆发禽流感的亚洲迄今已杀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多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地球是一个年轻的星球，她的年龄大约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岁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8"/>
          <p:cNvSpPr txBox="1"/>
          <p:nvPr/>
        </p:nvSpPr>
        <p:spPr>
          <a:xfrm>
            <a:off x="468360" y="0"/>
            <a:ext cx="1390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资料</a:t>
            </a:r>
            <a:endParaRPr b="1" lang="en-US" sz="5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241200" y="1197000"/>
            <a:ext cx="8651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据国家统计局统计，全国每月消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双一次性筷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刻不停数一亿个数大约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。人总得吃饭睡觉，假如每天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小时数完一亿就会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。也就是说，你今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，从现在就开始数，要数到十八岁才能把一亿本练习本数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4920" y="2492280"/>
          <a:ext cx="9109080" cy="2448000"/>
        </p:xfrm>
        <a:graphic>
          <a:graphicData uri="http://schemas.openxmlformats.org/drawingml/2006/table">
            <a:tbl>
              <a:tblPr/>
              <a:tblGrid>
                <a:gridCol w="1584360"/>
                <a:gridCol w="1081080"/>
                <a:gridCol w="1295280"/>
                <a:gridCol w="1619280"/>
                <a:gridCol w="1513080"/>
                <a:gridCol w="2016000"/>
              </a:tblGrid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下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31"/>
          <p:cNvSpPr/>
          <p:nvPr/>
        </p:nvSpPr>
        <p:spPr>
          <a:xfrm>
            <a:off x="46656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活动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数一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1693800" y="4005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1"/>
          <p:cNvSpPr/>
          <p:nvPr/>
        </p:nvSpPr>
        <p:spPr>
          <a:xfrm>
            <a:off x="2776320" y="40053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2"/>
          <p:cNvSpPr/>
          <p:nvPr/>
        </p:nvSpPr>
        <p:spPr>
          <a:xfrm>
            <a:off x="4067280" y="4005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5"/>
          <p:cNvSpPr/>
          <p:nvPr/>
        </p:nvSpPr>
        <p:spPr>
          <a:xfrm>
            <a:off x="7157520" y="400536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0"/>
          <p:cNvSpPr/>
          <p:nvPr/>
        </p:nvSpPr>
        <p:spPr>
          <a:xfrm>
            <a:off x="5343480" y="5235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1"/>
          <p:cNvSpPr/>
          <p:nvPr/>
        </p:nvSpPr>
        <p:spPr>
          <a:xfrm>
            <a:off x="3471840" y="5091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2"/>
          <p:cNvSpPr/>
          <p:nvPr/>
        </p:nvSpPr>
        <p:spPr>
          <a:xfrm>
            <a:off x="5709960" y="400536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1"/>
          <p:cNvSpPr/>
          <p:nvPr/>
        </p:nvSpPr>
        <p:spPr>
          <a:xfrm>
            <a:off x="162720" y="40053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0"/>
          <p:cNvSpPr/>
          <p:nvPr/>
        </p:nvSpPr>
        <p:spPr>
          <a:xfrm>
            <a:off x="6084720" y="256536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1"/>
          <p:cNvSpPr/>
          <p:nvPr/>
        </p:nvSpPr>
        <p:spPr>
          <a:xfrm>
            <a:off x="8244000" y="24922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"/>
          <p:cNvSpPr/>
          <p:nvPr/>
        </p:nvSpPr>
        <p:spPr>
          <a:xfrm>
            <a:off x="7380360" y="24922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3"/>
          <p:cNvSpPr/>
          <p:nvPr/>
        </p:nvSpPr>
        <p:spPr>
          <a:xfrm>
            <a:off x="8172360" y="4005360"/>
            <a:ext cx="0" cy="718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5"/>
          <p:cNvSpPr/>
          <p:nvPr/>
        </p:nvSpPr>
        <p:spPr>
          <a:xfrm>
            <a:off x="6012000" y="4005360"/>
            <a:ext cx="0" cy="718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6165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12F3-A814-4E8A-8AA3-36922B66ED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1173240" y="1197000"/>
            <a:ext cx="392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0000000÷6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2340000" y="12682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>
            <a:off x="6012000" y="119700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101960" y="2349360"/>
            <a:ext cx="37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000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÷6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350360" y="3500280"/>
            <a:ext cx="285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00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÷24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1588680" y="4653000"/>
            <a:ext cx="296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42÷365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>
            <a:off x="1979640" y="234936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6"/>
          <p:cNvSpPr/>
          <p:nvPr/>
        </p:nvSpPr>
        <p:spPr>
          <a:xfrm>
            <a:off x="5219640" y="234936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7"/>
          <p:cNvSpPr/>
          <p:nvPr/>
        </p:nvSpPr>
        <p:spPr>
          <a:xfrm>
            <a:off x="1476360" y="35002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4984920" y="1268280"/>
            <a:ext cx="33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00000(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4765320" y="2349360"/>
            <a:ext cx="265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5000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4195800" y="3500280"/>
            <a:ext cx="21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42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4771440" y="4653000"/>
            <a:ext cx="134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6"/>
          <p:cNvSpPr/>
          <p:nvPr/>
        </p:nvSpPr>
        <p:spPr>
          <a:xfrm>
            <a:off x="1258920" y="542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95280" y="155736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刻不停数一亿个数大约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。人总得吃饭睡觉，假如每天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小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数完一亿就会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。也就是说，你今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，从现在就开始数，要数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才能把一亿本练习本数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95280" y="155736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刻不停数一亿个数大约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。人总得吃饭睡觉，假如每天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小时数完一亿就会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。也就是说，你今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，从现在就开始数，要数到十八岁才能把一亿本练习本数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mingzhudianshita20070826_51"/>
          <p:cNvPicPr/>
          <p:nvPr/>
        </p:nvPicPr>
        <p:blipFill>
          <a:blip r:embed="rId1"/>
          <a:stretch/>
        </p:blipFill>
        <p:spPr>
          <a:xfrm>
            <a:off x="0" y="0"/>
            <a:ext cx="4782960" cy="7174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4859280" y="106200"/>
            <a:ext cx="42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海东方明珠电视塔的高度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6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亿张纸叠起来的高度会有它高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840200" y="3413160"/>
            <a:ext cx="430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有的话，一亿张纸叠起来有几个上海东方明珠电视塔的高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7928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活动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量一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1440" y="64231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24000" y="1557360"/>
          <a:ext cx="8064360" cy="2448000"/>
        </p:xfrm>
        <a:graphic>
          <a:graphicData uri="http://schemas.openxmlformats.org/drawingml/2006/table">
            <a:tbl>
              <a:tblPr/>
              <a:tblGrid>
                <a:gridCol w="1727280"/>
                <a:gridCol w="1152360"/>
                <a:gridCol w="1224000"/>
                <a:gridCol w="1513080"/>
                <a:gridCol w="2447640"/>
              </a:tblGrid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(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张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31"/>
          <p:cNvSpPr/>
          <p:nvPr/>
        </p:nvSpPr>
        <p:spPr>
          <a:xfrm>
            <a:off x="2895480" y="4443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9"/>
          <p:cNvSpPr/>
          <p:nvPr/>
        </p:nvSpPr>
        <p:spPr>
          <a:xfrm>
            <a:off x="250920" y="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活动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量一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324000" y="414972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楼房每层大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米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亿张纸叠起来的高度大约相当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33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层楼房，大约相当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上海东方明珠电视塔，比珠穆朗玛峰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84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米）还要高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2"/>
          <p:cNvSpPr/>
          <p:nvPr/>
        </p:nvSpPr>
        <p:spPr>
          <a:xfrm>
            <a:off x="1908000" y="3137040"/>
            <a:ext cx="15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4"/>
          <p:cNvSpPr/>
          <p:nvPr/>
        </p:nvSpPr>
        <p:spPr>
          <a:xfrm>
            <a:off x="3309840" y="3141720"/>
            <a:ext cx="9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5"/>
          <p:cNvSpPr/>
          <p:nvPr/>
        </p:nvSpPr>
        <p:spPr>
          <a:xfrm>
            <a:off x="4572000" y="3141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6"/>
          <p:cNvSpPr/>
          <p:nvPr/>
        </p:nvSpPr>
        <p:spPr>
          <a:xfrm>
            <a:off x="5867280" y="314172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1"/>
          <p:cNvSpPr/>
          <p:nvPr/>
        </p:nvSpPr>
        <p:spPr>
          <a:xfrm>
            <a:off x="318960" y="2997360"/>
            <a:ext cx="14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厘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>
            <a:off x="4932360" y="155736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8"/>
          <p:cNvSpPr/>
          <p:nvPr/>
        </p:nvSpPr>
        <p:spPr>
          <a:xfrm>
            <a:off x="7020000" y="155736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9"/>
          <p:cNvSpPr/>
          <p:nvPr/>
        </p:nvSpPr>
        <p:spPr>
          <a:xfrm>
            <a:off x="6227640" y="155736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1"/>
          <p:cNvSpPr/>
          <p:nvPr/>
        </p:nvSpPr>
        <p:spPr>
          <a:xfrm>
            <a:off x="6227640" y="3141720"/>
            <a:ext cx="0" cy="718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755640" y="3068640"/>
          <a:ext cx="5830920" cy="2376360"/>
        </p:xfrm>
        <a:graphic>
          <a:graphicData uri="http://schemas.openxmlformats.org/drawingml/2006/table">
            <a:tbl>
              <a:tblPr/>
              <a:tblGrid>
                <a:gridCol w="2014560"/>
                <a:gridCol w="1224000"/>
                <a:gridCol w="259236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粒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 Box 29"/>
          <p:cNvSpPr/>
          <p:nvPr/>
        </p:nvSpPr>
        <p:spPr>
          <a:xfrm>
            <a:off x="2895480" y="4443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4068360" y="436248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00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4"/>
          <p:cNvSpPr/>
          <p:nvPr/>
        </p:nvSpPr>
        <p:spPr>
          <a:xfrm>
            <a:off x="2773080" y="43624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395280" y="1890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活动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称一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1"/>
          <p:cNvSpPr/>
          <p:nvPr/>
        </p:nvSpPr>
        <p:spPr>
          <a:xfrm>
            <a:off x="30312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7"/>
          <p:cNvSpPr/>
          <p:nvPr/>
        </p:nvSpPr>
        <p:spPr>
          <a:xfrm>
            <a:off x="914400" y="436248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3"/>
          <p:cNvSpPr/>
          <p:nvPr/>
        </p:nvSpPr>
        <p:spPr>
          <a:xfrm>
            <a:off x="3059280" y="30700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4"/>
          <p:cNvSpPr/>
          <p:nvPr/>
        </p:nvSpPr>
        <p:spPr>
          <a:xfrm>
            <a:off x="5076720" y="30700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5"/>
          <p:cNvSpPr/>
          <p:nvPr/>
        </p:nvSpPr>
        <p:spPr>
          <a:xfrm>
            <a:off x="4284720" y="30700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7"/>
          <p:cNvSpPr/>
          <p:nvPr/>
        </p:nvSpPr>
        <p:spPr>
          <a:xfrm>
            <a:off x="4859280" y="42940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0"/>
          <p:cNvSpPr/>
          <p:nvPr/>
        </p:nvSpPr>
        <p:spPr>
          <a:xfrm>
            <a:off x="250920" y="126828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数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粒大米，称称大约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克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照这样计算，一亿粒大米约重多少克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11:46:17Z</dcterms:created>
  <dc:creator/>
  <dc:description/>
  <cp:keywords>幻灯片之家 http:/www.eeppt.com</cp:keywords>
  <dc:language>en-US</dc:language>
  <cp:lastModifiedBy/>
  <dcterms:modified xsi:type="dcterms:W3CDTF">2015-07-18T14:07:39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