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drumroll.wav" ContentType="audio/x-wav"/>
  <Override PartName="/ppt/media/applause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585-013B-4A5A-AEAD-CC9929E0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A5F-CDA0-48F8-AB1D-CF155E67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0E2-C087-451A-8B10-68AE7DBB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C63-F121-41AE-BC0B-A8C17C61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BA53-D03F-4D67-9DB0-F41689D8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C6B9-D55D-40A4-9D23-E0568DAD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950B-91F2-4B50-B8EF-1F6B7E7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8404-A650-4875-8299-46A88B03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5A83-BD38-491A-996B-E042C6A1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8509-62BC-4F9D-A946-1BE6A373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9E76-1CA7-44A0-A755-C14E8D41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1E8-35B2-45DB-A9B1-76297032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D5D8-C181-4621-9777-5E1E92A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EAF0-7BF8-4B54-BFD3-6455BF4F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E354-42A8-4D59-8696-0E77069B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C809-CBCE-4F2F-A22E-8080AAFB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760C-CC3F-49A0-AC55-FD3281B5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6B8-442A-4EBF-9F2A-EAD5430F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2A6-BA97-4A10-B99E-6FBFA04F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648-DF7A-4B27-A653-957100DF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49F-6893-48EC-9542-5B946235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266-054E-43E3-8D13-BA4FE4C3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89E-C51E-4AF8-A8C0-A454C1D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3FE-6503-40BE-9A7B-AB5ADB4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AB07-C47A-4E25-A97F-E3FDC8E620D4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FE57-4636-4CE2-B662-EE5BDF3E3BA3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574920"/>
            <a:ext cx="6550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0000"/>
              </a:solidFill>
              <a:latin typeface="Times New Roman"/>
              <a:ea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送别诗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                  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-----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王维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0160" y="162864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《送元二使安西》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4" name="Picture 10" descr="20043181657270"/>
          <p:cNvPicPr/>
          <p:nvPr/>
        </p:nvPicPr>
        <p:blipFill>
          <a:blip r:embed="rId2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7908840" y="762120"/>
            <a:ext cx="5493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8594640" y="0"/>
            <a:ext cx="54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7744680" y="0"/>
            <a:ext cx="1399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Times New Roman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渭城朝雨挹轻尘，客舍清清柳色新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877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8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8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9F42-8BF5-4F87-8481-DDF589C1B5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693200" y="476280"/>
            <a:ext cx="850680" cy="6075360"/>
          </a:xfrm>
          <a:prstGeom prst="rect">
            <a:avLst/>
          </a:prstGeom>
          <a:solidFill>
            <a:srgbClr val="ccffcc"/>
          </a:solidFill>
          <a:ln w="158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劝君更进一杯酒，西出阳关无故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Picture 4" descr="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3"/>
            <p:cNvSpPr/>
            <p:nvPr/>
          </p:nvSpPr>
          <p:spPr>
            <a:xfrm>
              <a:off x="5882400" y="692280"/>
              <a:ext cx="2397960" cy="5562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Times New Roman"/>
                  <a:ea typeface="华文新魏"/>
                </a:rPr>
                <a:t>       </a:t>
              </a:r>
              <a:r>
                <a:rPr b="1" lang="zh-CN" sz="3600" spc="-1" strike="noStrike">
                  <a:solidFill>
                    <a:srgbClr val="003300"/>
                  </a:solidFill>
                  <a:latin typeface="Times New Roman"/>
                  <a:ea typeface="华文新魏"/>
                </a:rPr>
                <a:t>送元二使安西</a:t>
              </a:r>
              <a:endParaRPr b="0" lang="en-US" sz="3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00"/>
                  </a:solidFill>
                  <a:latin typeface="Times New Roman"/>
                  <a:ea typeface="隶书"/>
                </a:rPr>
                <a:t>渭城朝雨挹轻尘，客舍清清柳色新。劝君更进一杯酒，西出阳关无故人。</a:t>
              </a:r>
              <a:endParaRPr b="0" lang="en-US" sz="3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3"/>
          <p:cNvSpPr txBox="1"/>
          <p:nvPr/>
        </p:nvSpPr>
        <p:spPr>
          <a:xfrm>
            <a:off x="914400" y="3124080"/>
            <a:ext cx="7010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同学们再见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8080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applaus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8:36:46Z</dcterms:created>
  <dc:creator/>
  <dc:description/>
  <cp:keywords>幻灯片之家 http:/www.eeppt.com</cp:keywords>
  <dc:language>en-US</dc:language>
  <cp:lastModifiedBy/>
  <dcterms:modified xsi:type="dcterms:W3CDTF">2015-07-03T11:53:30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