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9EEB-B0EE-4639-8A0A-5E771964B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A8AE-12A7-4CD1-A08A-342BB4EC4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526F-4978-4AF8-A256-BBF2C26CD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687D-917D-4793-B1DC-A0CC73B6E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8954C-5EF2-422E-B040-449667EB6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2BA68-86BC-4E16-B65E-6268C5220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D2290-37F5-4BAD-AC7A-ABFAE00C7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B4B68-A7A6-4FCB-BCA3-85FF15C45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7EA1C-73A4-48E0-97C8-0552E48FF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34395-3E33-494F-8813-808D67931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EA2C4-5989-4D1E-A113-878AD3E8E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2F05-09A0-4320-A0C5-2F4DFD587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1FAE7-0820-4B5A-A5EA-9C4D34E49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5AEB5-90D8-4BD2-B34C-031061EEA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785AD-8A0C-4C5C-84F1-470C8ADE5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3AB98-D8B7-45CF-BBB2-F66B70BE0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25473-4D36-497F-86BA-73E7C38C7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B8EF-6D25-4445-B7DF-AE6B4E340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CB07-69EA-4EB0-BA1D-D9B92E4E1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7268-142E-49A0-9351-55C00CEBF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0837-8F16-4107-9997-75A778161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BD0C-88B3-410D-8D27-867669C75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58BE-1E59-4B65-8CF6-4B8DE6ED0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D62B-AF6B-47CA-BABB-63DE67DF7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A049C-C811-4263-BEFE-C53E0B6F08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34332-325D-404A-9FA0-9FE2453334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image" Target="../media/image1.jpeg"/><Relationship Id="rId1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/moban/kejian/" TargetMode="External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beareyes.com.cn/2/lib/200307/30/004/22.jpg&amp;imgrefurl=http://www.beareyes.com.cn/2/lib/200307/30/20030730004.htm&amp;h=624&amp;w=960&amp;sz=418&amp;tbnid=uIe5CKjmPowJ:&amp;tbnh=95&amp;tbnw=147&amp;hl=zh-CN&amp;start=3&amp;prev=/images%3Fq%3D%25E8%259F%258B%25E8%259F%2580%26svnum%3D10%26hl%3Dzh-CN%26lr%3D%26newwindow%3D1%26sa%3DN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hb.xinhuanet.com/zhuanti/2005-03/17/xin_260302171557343106262.jpg&amp;imgrefurl=http://www.hb.xinhuanet.com/zhuanti/2005-03/17/content_3895279.htm&amp;h=300&amp;w=400&amp;sz=24&amp;tbnid=PX-TPH1uE-sJ:&amp;tbnh=90&amp;tbnw=120&amp;hl=zh-CN&amp;start=11&amp;prev=/images%3Fq%3D%25E5%25A4%25A7%25E9%259B%2581%26svnum%3D10%26hl%3Dzh-CN%26lr%3D%26newwindow%3D1%26sa%3DN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6"/>
          <p:cNvSpPr/>
          <p:nvPr/>
        </p:nvSpPr>
        <p:spPr>
          <a:xfrm>
            <a:off x="295200" y="87012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31"/>
          <p:cNvPicPr/>
          <p:nvPr/>
        </p:nvPicPr>
        <p:blipFill>
          <a:blip r:embed="rId1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34920" y="645480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678760" y="404640"/>
            <a:ext cx="225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《听听，秋的声音》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课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50000">
              <a:srgbClr val="00cc00"/>
            </a:gs>
            <a:gs pos="100000">
              <a:srgbClr val="cc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3"/>
          <p:cNvSpPr/>
          <p:nvPr/>
        </p:nvSpPr>
        <p:spPr>
          <a:xfrm>
            <a:off x="457200" y="457200"/>
            <a:ext cx="8209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ff"/>
                </a:solidFill>
                <a:latin typeface="隶书"/>
                <a:ea typeface="隶书"/>
              </a:rPr>
              <a:t>    </a:t>
            </a:r>
            <a:r>
              <a:rPr b="1" lang="zh-CN" sz="4400" spc="-1" strike="noStrike">
                <a:solidFill>
                  <a:srgbClr val="ff0000"/>
                </a:solidFill>
                <a:latin typeface="隶书"/>
                <a:ea typeface="隶书"/>
              </a:rPr>
              <a:t>大树抖抖手臂，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隶书"/>
              </a:rPr>
              <a:t>“</a:t>
            </a:r>
            <a:r>
              <a:rPr b="1" lang="zh-CN" sz="4400" spc="-1" strike="noStrike">
                <a:solidFill>
                  <a:srgbClr val="ff0000"/>
                </a:solidFill>
                <a:latin typeface="隶书"/>
                <a:ea typeface="隶书"/>
              </a:rPr>
              <a:t>刷刷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隶书"/>
              </a:rPr>
              <a:t>”</a:t>
            </a:r>
            <a:r>
              <a:rPr b="1" lang="zh-CN" sz="4400" spc="-1" strike="noStrike">
                <a:solidFill>
                  <a:srgbClr val="ff0000"/>
                </a:solidFill>
                <a:latin typeface="隶书"/>
                <a:ea typeface="隶书"/>
              </a:rPr>
              <a:t>，是黄叶道别的声音，黄叶说：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隶书"/>
              </a:rPr>
              <a:t>“</a:t>
            </a:r>
            <a:r>
              <a:rPr b="1" lang="zh-CN" sz="4400" spc="-1" strike="noStrike">
                <a:solidFill>
                  <a:srgbClr val="ff0000"/>
                </a:solidFill>
                <a:latin typeface="隶书"/>
                <a:ea typeface="隶书"/>
              </a:rPr>
              <a:t>                 。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隶书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533520" y="2590920"/>
            <a:ext cx="7777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隶书"/>
                <a:ea typeface="隶书"/>
              </a:rPr>
              <a:t>    </a:t>
            </a:r>
            <a:r>
              <a:rPr b="1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蟋蟀振动翅膀，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隶书"/>
              </a:rPr>
              <a:t>“</a:t>
            </a:r>
            <a:r>
              <a:rPr b="1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口瞿口瞿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隶书"/>
              </a:rPr>
              <a:t>”</a:t>
            </a:r>
            <a:r>
              <a:rPr b="1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，是和阳台告别的歌韵，蟋蟀在唱着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隶书"/>
              </a:rPr>
              <a:t>“</a:t>
            </a:r>
            <a:r>
              <a:rPr b="1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                  。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隶书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611280" y="4937040"/>
            <a:ext cx="7129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ff"/>
                </a:solidFill>
                <a:latin typeface="隶书"/>
                <a:ea typeface="隶书"/>
              </a:rPr>
              <a:t>    </a:t>
            </a:r>
            <a:r>
              <a:rPr b="1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一排排大雁追上白云，撒下一阵暖暖的叮咛：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隶书"/>
              </a:rPr>
              <a:t>“</a:t>
            </a:r>
            <a:r>
              <a:rPr b="1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                 。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隶书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6"/>
          <p:cNvSpPr/>
          <p:nvPr/>
        </p:nvSpPr>
        <p:spPr>
          <a:xfrm>
            <a:off x="826920" y="2421000"/>
            <a:ext cx="4648320" cy="0"/>
          </a:xfrm>
          <a:prstGeom prst="line">
            <a:avLst/>
          </a:prstGeom>
          <a:ln w="2844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7"/>
          <p:cNvSpPr/>
          <p:nvPr/>
        </p:nvSpPr>
        <p:spPr>
          <a:xfrm>
            <a:off x="2484360" y="4365720"/>
            <a:ext cx="4343400" cy="0"/>
          </a:xfrm>
          <a:prstGeom prst="line">
            <a:avLst/>
          </a:prstGeom>
          <a:ln w="2844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8"/>
          <p:cNvSpPr/>
          <p:nvPr/>
        </p:nvSpPr>
        <p:spPr>
          <a:xfrm>
            <a:off x="1066680" y="6705720"/>
            <a:ext cx="4038840" cy="0"/>
          </a:xfrm>
          <a:prstGeom prst="line">
            <a:avLst/>
          </a:prstGeom>
          <a:ln w="2844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06640" y="6648480"/>
            <a:ext cx="6759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28720" y="4581360"/>
            <a:ext cx="6111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ppt课件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5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4"/>
          <p:cNvSpPr/>
          <p:nvPr/>
        </p:nvSpPr>
        <p:spPr>
          <a:xfrm>
            <a:off x="685800" y="1600200"/>
            <a:ext cx="79246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楷体"/>
                <a:ea typeface="华文楷体"/>
              </a:rPr>
              <a:t>阅读提示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楷体"/>
                <a:ea typeface="华文楷体"/>
              </a:rPr>
              <a:t>       </a:t>
            </a:r>
            <a:r>
              <a:rPr b="1" lang="zh-CN" sz="4000" spc="-1" strike="noStrike">
                <a:solidFill>
                  <a:srgbClr val="ffffff"/>
                </a:solidFill>
                <a:latin typeface="华文楷体"/>
                <a:ea typeface="华文楷体"/>
              </a:rPr>
              <a:t>秋天，不仅有丰富的色彩，还有美妙的声音。让我们有感情地朗读这首诗，一边读，一边展开想象，把读后的体会和同学交流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109+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2560" y="764640"/>
            <a:ext cx="900108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0000ff"/>
                </a:solidFill>
                <a:latin typeface="Arial"/>
                <a:ea typeface="楷体_GB2312"/>
              </a:rPr>
              <a:t>听听，</a:t>
            </a:r>
            <a:br>
              <a:rPr sz="5400"/>
            </a:br>
            <a:r>
              <a:rPr b="1" i="1" lang="zh-CN" sz="5400" spc="-1" strike="noStrike">
                <a:solidFill>
                  <a:srgbClr val="0000ff"/>
                </a:solidFill>
                <a:latin typeface="Arial"/>
                <a:ea typeface="楷体_GB2312"/>
              </a:rPr>
              <a:t>秋的声音，</a:t>
            </a:r>
            <a:br>
              <a:rPr sz="5400"/>
            </a:br>
            <a:r>
              <a:rPr b="1" i="1" lang="zh-CN" sz="5400" spc="-1" strike="noStrike">
                <a:solidFill>
                  <a:srgbClr val="0000ff"/>
                </a:solidFill>
                <a:latin typeface="Arial"/>
                <a:ea typeface="楷体_GB2312"/>
              </a:rPr>
              <a:t>大树抖抖手臂，</a:t>
            </a:r>
            <a:br>
              <a:rPr sz="5400"/>
            </a:br>
            <a:r>
              <a:rPr b="1" i="1" lang="en-US" sz="5400" spc="-1" strike="noStrike">
                <a:solidFill>
                  <a:srgbClr val="0000ff"/>
                </a:solidFill>
                <a:latin typeface="Arial"/>
                <a:ea typeface="楷体_GB2312"/>
              </a:rPr>
              <a:t>“刷刷”，</a:t>
            </a:r>
            <a:br>
              <a:rPr sz="5400"/>
            </a:br>
            <a:r>
              <a:rPr b="1" i="1" lang="zh-CN" sz="5400" spc="-1" strike="noStrike">
                <a:solidFill>
                  <a:srgbClr val="0000ff"/>
                </a:solidFill>
                <a:latin typeface="Arial"/>
                <a:ea typeface="楷体_GB2312"/>
              </a:rPr>
              <a:t>是黄叶道别的话音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7" descr="2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11280" y="1341000"/>
            <a:ext cx="792144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ff0000"/>
                </a:solidFill>
                <a:latin typeface="Arial"/>
              </a:rPr>
              <a:t>听听，</a:t>
            </a:r>
            <a:br>
              <a:rPr sz="6000"/>
            </a:br>
            <a:r>
              <a:rPr b="1" i="1" lang="zh-CN" sz="6000" spc="-1" strike="noStrike">
                <a:solidFill>
                  <a:srgbClr val="ff0000"/>
                </a:solidFill>
                <a:latin typeface="Arial"/>
              </a:rPr>
              <a:t>秋的声音，</a:t>
            </a:r>
            <a:br>
              <a:rPr sz="6000"/>
            </a:br>
            <a:r>
              <a:rPr b="1" i="1" lang="zh-CN" sz="6000" spc="-1" strike="noStrike">
                <a:solidFill>
                  <a:srgbClr val="ff0000"/>
                </a:solidFill>
                <a:latin typeface="Arial"/>
              </a:rPr>
              <a:t>蟋蟀振动翅膀，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2556000" y="3500280"/>
            <a:ext cx="4857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i="1" lang="zh-CN" sz="6000" spc="-1" strike="noStrike">
                <a:solidFill>
                  <a:srgbClr val="ff0000"/>
                </a:solidFill>
                <a:latin typeface="Arial"/>
              </a:rPr>
              <a:t>口瞿口瞿”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1187280" y="4365720"/>
            <a:ext cx="712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ff0000"/>
                </a:solidFill>
                <a:latin typeface="Arial"/>
              </a:rPr>
              <a:t>是和阳台告别的歌韵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9" descr="xin_26030217155734310626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Text Box 4"/>
          <p:cNvSpPr/>
          <p:nvPr/>
        </p:nvSpPr>
        <p:spPr>
          <a:xfrm>
            <a:off x="0" y="765000"/>
            <a:ext cx="9144000" cy="72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ff"/>
                </a:solidFill>
                <a:latin typeface="Arial"/>
                <a:ea typeface="隶书"/>
              </a:rPr>
              <a:t>一排排大雁追上白云，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ff"/>
                </a:solidFill>
                <a:latin typeface="Arial"/>
                <a:ea typeface="隶书"/>
              </a:rPr>
              <a:t>撒下一阵暖暖的叮咛；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ff"/>
                </a:solidFill>
                <a:latin typeface="Arial"/>
                <a:ea typeface="隶书"/>
              </a:rPr>
              <a:t>一阵阵秋风掠过田野，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ff"/>
                </a:solidFill>
                <a:latin typeface="Arial"/>
                <a:ea typeface="隶书"/>
              </a:rPr>
              <a:t>送来一片丰收的歌吟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5" descr="20052917513318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4"/>
          <p:cNvSpPr/>
          <p:nvPr/>
        </p:nvSpPr>
        <p:spPr>
          <a:xfrm>
            <a:off x="0" y="404640"/>
            <a:ext cx="9828360" cy="56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9900"/>
                </a:solidFill>
                <a:latin typeface="Arial"/>
                <a:ea typeface="隶书"/>
              </a:rPr>
              <a:t>听听，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9900"/>
                </a:solidFill>
                <a:latin typeface="Arial"/>
                <a:ea typeface="隶书"/>
              </a:rPr>
              <a:t>走进秋，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9900"/>
                </a:solidFill>
                <a:latin typeface="Arial"/>
                <a:ea typeface="隶书"/>
              </a:rPr>
              <a:t>走进这辽阔的音乐厅，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9900"/>
                </a:solidFill>
                <a:latin typeface="Arial"/>
                <a:ea typeface="隶书"/>
              </a:rPr>
              <a:t>你好好地去听秋的声音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7093080" y="6093000"/>
            <a:ext cx="1439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5" descr="照片 0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4"/>
          <p:cNvSpPr/>
          <p:nvPr/>
        </p:nvSpPr>
        <p:spPr>
          <a:xfrm>
            <a:off x="0" y="0"/>
            <a:ext cx="8748720" cy="59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ff"/>
                </a:solidFill>
                <a:latin typeface="Arial"/>
                <a:ea typeface="华文中宋"/>
              </a:rPr>
              <a:t>秋的声音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ff"/>
                </a:solidFill>
                <a:latin typeface="Arial"/>
                <a:ea typeface="华文中宋"/>
              </a:rPr>
              <a:t>在每一片叶子里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ff"/>
                </a:solidFill>
                <a:latin typeface="Arial"/>
                <a:ea typeface="华文中宋"/>
              </a:rPr>
              <a:t>在每一朵小花上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ff"/>
                </a:solidFill>
                <a:latin typeface="Arial"/>
                <a:ea typeface="华文中宋"/>
              </a:rPr>
              <a:t>在每一滴汗水里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ff"/>
                </a:solidFill>
                <a:latin typeface="Arial"/>
                <a:ea typeface="华文中宋"/>
              </a:rPr>
              <a:t>在每一颗绽开的谷粒里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5" descr="64501155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4"/>
          <p:cNvSpPr/>
          <p:nvPr/>
        </p:nvSpPr>
        <p:spPr>
          <a:xfrm>
            <a:off x="395280" y="0"/>
            <a:ext cx="7993080" cy="63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Arial"/>
                <a:ea typeface="隶书"/>
              </a:rPr>
              <a:t>听听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Arial"/>
                <a:ea typeface="隶书"/>
              </a:rPr>
              <a:t>秋的声音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Arial"/>
                <a:ea typeface="隶书"/>
              </a:rPr>
              <a:t>从远方匆匆地来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Arial"/>
                <a:ea typeface="隶书"/>
              </a:rPr>
              <a:t>向远方匆匆地去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Arial"/>
                <a:ea typeface="隶书"/>
              </a:rPr>
              <a:t>听听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Arial"/>
                <a:ea typeface="隶书"/>
              </a:rPr>
              <a:t>我们听到了秋的声音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C164-2D6C-4724-8204-193CB5BACB9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7T13:25:51Z</dcterms:created>
  <dc:creator/>
  <dc:description/>
  <cp:keywords>幻灯片之家 http:/www.eeppt.com</cp:keywords>
  <dc:language>en-US</dc:language>
  <cp:lastModifiedBy/>
  <dcterms:modified xsi:type="dcterms:W3CDTF">2015-07-19T02:19:15Z</dcterms:modified>
  <cp:revision>2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