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105-1F13-47DC-8F93-C397535C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9EC-FC07-4D8E-8C7B-2B14FE0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3AA-D42C-43E6-BFE1-F3443663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A3E-BA3A-4CE4-BEE9-8FF4A194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E24-2339-46D1-A2C1-5BE176AE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B3E2-737F-4FA7-BBDF-740470B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371F-1E3D-4484-8AA9-CBCDFA9B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BDA-0812-47E9-A224-C863B48C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C77-B98C-4E5B-AFAD-F679755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ACF-0472-43E4-8A25-4CEEA57F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CF52-CC67-40BA-A668-6AA7994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125-58F2-4C4D-81EF-6631ED8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0F76-90E3-4979-9CFA-4C0CD71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9D4F-BF4D-4DCE-B06A-8D405D4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6B1-CE6F-47C7-89DA-B582AE6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548D-23D0-47BB-86C2-E534E3CD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1D57-2527-4F93-B117-CA515496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E01-B846-4457-A0A3-E951C0DE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FB1-F4C6-4E2A-8DED-DEF62CD7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B88-981D-497A-82C3-9240D68C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B72-8542-4717-97CB-858ADBA7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791-02AB-4930-A268-61C0F82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164-38A4-4654-851A-3956027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9E1-A8DA-4DDD-AF26-CF03AD3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745-0529-48F8-9E1A-1FA56749B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226-84E0-4A70-ABF7-7E4BDC7A276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hyperlink" Target="http://cai.wxsf.com/?types=view&amp;action=paste&amp;c_id=3&amp;s_id=3&amp;id=241" TargetMode="External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iujiang.gov.cn/jjlyw/lushan/lvyou/index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duhom.com/wslf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nta.org.cn/2003101yb/city/lushan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3" name="Picture 5" descr="g200461813060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736240" y="1268280"/>
            <a:ext cx="2375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宋   苏轼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横看成岭侧成峰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远近高低各不同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不识庐山真面目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只缘身在此山中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8720" y="765000"/>
            <a:ext cx="56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《题西林壁》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5736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bilongt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1603800" y="1066680"/>
            <a:ext cx="605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欣赏了刚才几组庐山的图片，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学们认为庐山怎样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远近高低各不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不识庐山真面目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只缘身在此山中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你能用自己的话说说对它的理解吗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同桌互相讨论，交流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chunti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7656480" y="671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66"/>
                </a:solidFill>
                <a:latin typeface="Arial"/>
                <a:ea typeface="华文彩云"/>
              </a:rPr>
              <a:t>远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hanpokou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showim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77160" y="549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cc"/>
                </a:solidFill>
                <a:latin typeface="Arial"/>
              </a:rPr>
              <a:t>近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shuangjianf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独树一帜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816120" y="5013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高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wulaofen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9" name="Picture 5" descr="t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lusan0927_05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4128840" y="646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幼圆"/>
              </a:rPr>
              <a:t>低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4A6-C25C-4CCD-9464-2D5F5E9F5762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8:15:38Z</dcterms:created>
  <dc:creator/>
  <dc:description/>
  <cp:keywords>幻灯片之家 http:/www.eeppt.com</cp:keywords>
  <dc:language>en-US</dc:language>
  <cp:lastModifiedBy/>
  <dcterms:modified xsi:type="dcterms:W3CDTF">2015-07-18T14:05:29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