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12.gif" ContentType="image/gif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image10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E26-639A-408F-B25D-C53A205C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02C-A599-4AF5-AB04-0D9763ED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B4E31-8080-41BF-BF8D-F4524067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3995E-B1B9-4D55-AF9A-7D686BBD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EE51C-8C36-4D85-8C79-58F6959D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D3084-E728-446D-83C3-5906AAC7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DDF4D-C5A7-4DD6-9414-202516C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536EA-C693-43D5-88BA-654CCE03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9AF66-705E-4D92-A2B6-D37068D5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8B335-9B3B-4124-BD39-FE52C2AF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22109-8CBB-4E56-A2DA-9F52A173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FD3B1-DDE1-4BCE-A3E2-C52BE418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600-6F6C-4C29-9630-F9CFE78F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2EE68-9146-4A67-A6CD-909796B2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8E639-742A-478A-94AD-090E694A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EC486-168A-46C1-97B3-980EF3E1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9E452-20B1-436E-A868-2DC0058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C4614-237F-41CD-BAFC-85DA00E9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7957E-5F45-4E40-AB4B-D350BDF6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6CF91-21BC-4B01-AF03-C858A074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4912A-9E54-41E5-8F21-A9A4491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64062-B979-4F3C-A0A8-2A2C7CD0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DBF65-F183-40B2-A08C-E948C0DF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254-932B-4CA7-BEA2-5A5E6746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98DEB-11DD-472F-AF35-F0920680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A6359-B27F-4B43-BCC0-5ECF2F7F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26469-F12F-4219-9808-1AEE7308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5E7C9-8026-4637-A18F-5952BA39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9F3F6-E285-4A19-BB64-2887F41E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CEBBF-5CDD-4543-A8A0-66D67995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A6497-0D41-4422-9FE2-D682214C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874F7-A228-402C-B043-31818A6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850E7-A2B7-429A-9687-3864EBC9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BFB1A-EF79-437E-BBDF-047305B5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C3AE-83C8-4D45-B192-321D106F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95181-F31A-4513-94AA-7C198983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FD352-9933-46F0-BF8A-DB0C02B9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AA7FF-89E7-4910-8E25-60F13B36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00E84-F64E-4C01-BCFA-D6F6F258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2C748-AB4B-455F-9E79-2679A390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383B4-FA1D-45FD-8B99-23DB5AC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E9218-AB18-4635-9BBA-FBF3338D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7488F-020E-4A8B-82B6-81DA5ED0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1A8B7-9832-4E82-BBDD-482D6F8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1054C-9F2E-448D-AF9F-8249590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341-D58A-420A-A119-F3106E21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719C8-1B6E-4230-AA9B-4F9D8173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17433-441C-45D9-98AE-BD8DD62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110BA-8E2F-4E36-8800-FA6F442F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9A467-7DCF-47EA-8770-5A72FDF3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B790B-8206-47BA-91BC-CE63D0A4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F76EC-2A28-4553-A62F-FF1C8EE2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AC642-B2C0-4238-B8BD-F804076C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6A227-6D1C-407C-8B2D-31D970B2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430C5-BA20-42D5-BF75-6AD73AEA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BD848-8A95-445C-AE81-0679B19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6F13-94F8-46F4-ABAB-2AFF87B4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BC228-073E-47CF-9B5E-197F985C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8725A-FA7F-47EF-A290-E0C8D91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A381D-BDF0-44C4-8F34-CDF0D7B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ED522-4A3A-47EE-9568-CB9E4C7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99443-5340-4958-A712-9734D6C2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93BE3-E6B7-4955-A96E-BEF40F81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4BE37-71B4-4D74-9973-0DDC2A67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19184-3262-4876-93ED-E6A800BF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2AF19-0999-46B3-BB15-C3AFC858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AF2ED-12FB-461E-874B-5268D1A1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E264-59B2-4C6D-BD2F-20E9631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BD7B4-F8AA-4A73-95BD-D53D753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40133-594B-4200-8779-49AADEB0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2296D-43D5-40ED-946B-DA837CFE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7DF43-2770-4B22-B13A-BCD6A41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E4D89-24BF-4B07-B75F-7EDE3B0E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1412E-14C8-47CD-8DD7-43EE8C3C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7CAD4-4217-437D-8039-5963B6A3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C17AC-93A1-4587-8C38-617C4A16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205E8-D3AB-417C-812B-18ABBE08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D9B9-B15A-4A86-A00A-06CBAA5F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263A-7EEB-413B-8D38-E9077680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3152-0CA4-4A41-8E69-5F815CA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B77-572A-4ADB-ACA1-BBBAA427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6F7E-6589-4D34-9135-84E9C50A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1117-7D55-43EF-8B4C-326CE094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3F7C-65B8-476A-BF1B-0E4D03DE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81E0-A5F4-45A0-991D-A7DC0068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334-F94D-442D-97F7-7EC4CCE7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A78F-43B9-4B30-BAD3-53A06295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25E7-20D4-41E8-B7D9-8D16E15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A404-8243-4B5D-BBD4-ECE4C58B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9806-AE41-4868-992C-12E71347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4994-94F8-4D11-8098-2083BB74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CD4-BF1F-47AA-A852-B683E457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5F12-297A-46D1-B33A-11192C91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A338-06FD-4690-82A9-D379B3E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73674-5C58-4518-8C99-B50202D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8CE13-D3D1-4787-A2F2-B4A943A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B996F-8B7F-4E24-BFEA-5FCBB232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3BFB-29AF-4938-A8CF-0157959D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3F45-FE13-4677-A9EB-608BC8B6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E078C-2A4D-4684-8CB6-79B26C84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1015-BEAD-4149-9C11-537F6E0E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32CB-3DEB-4F11-AEA8-FBDD0133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543-14F8-4FA2-A68E-42FA2A71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D1F7-00FD-4AC6-B0BB-0EA33D02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5DD58-4667-4A73-A82F-4CFC92DE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626D-9D27-4D0B-A797-A923C86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0DF09-F894-416D-A90B-96ED03AE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2A16D-EAE7-4439-869A-B1EA3141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5C70-C72F-4D60-A4C3-FD1283CB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C4B5-B2CD-42A0-9CCA-693F3038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461B2-49F0-4C15-90FD-0B99F15A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74A7-1D8C-4BDE-9D8C-6E826D2F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6454-7BAF-4916-82BD-0AECCBE6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F38-7E69-498A-8879-B9DE20ED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F97F-5A70-43C6-9E21-B99F61A4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686B9-73E2-402A-8965-86385C2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3FF7-36A0-43CE-9741-1ABCBFC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FE337-4D50-4BF9-843E-F57867FB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F068-713A-4D50-97DC-5F1CFC3F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62F4-AF75-466B-A110-03DB7BE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FF7A-E0A5-483C-80E9-5411E9E4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9F436-CA72-40F1-9D64-AFEAAB2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ACB5-7895-4B3D-9788-53665D7A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EF54-48F2-4440-84E6-F7F89017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C17-70C5-4668-8951-21825B73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98E5D-CC8F-4CB8-97E9-73414C4A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64CCD-5642-4104-B7CD-DE8B89E1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E1F0E-A58A-4A2C-A227-5172569A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5E8E8-E327-4AC9-B918-67CB42CC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47D54-833D-4785-86E4-D098BF9D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569AC-B248-414F-816B-CA037613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A886-603B-4F91-AF4D-F5CA692D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896B3-1248-4BAF-8D59-E3117C1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3FD2-09EE-4768-948D-C2A6CF2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9CB5B-349A-40B8-B157-CA7C9BF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24E-62BB-427D-947C-886F05E5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417A-1DD9-4497-BB30-4BA0E7F1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437E-8C3D-43D8-8740-19EBCCC4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E568B-0AFB-4241-8A3F-99C3719E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FD5A-B876-4335-997D-BD074B1D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2174-C15B-49EC-BD41-EEDD2367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1A331-15D8-4893-91A2-35E07EAF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95FE-6372-4937-8B8D-2BDC9AB3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F8C27-C82F-4A69-8E19-BBE49AC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B6CEB-71C6-40D1-AE51-DF1590AC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FA1E-8029-4B7A-864E-B917911B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CD0-A774-4EB5-9338-AF14367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60917-7D3A-4D69-8999-A7B3D898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E6247-2F68-4DF4-AB31-7FFE5D2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2828F-DA61-48BD-B10A-CE38CD52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0FC8F-D147-437E-B717-2DD80D3C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A3E0-7486-4B16-8330-013DB20A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551C-6A10-49A1-AC88-CF9F5C4C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E39FA-A904-4A4A-8589-BC2E48F5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4B6E2-918D-4B6A-BDF5-7A010156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C4582-AC1C-4619-81F6-8C60B632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33EEC-E278-4AA3-B1AE-550115D7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F7F-8489-4B36-ABE1-745CF23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2BCED-BBD4-4E7F-A6E6-E965B29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23D6-8AAC-4FE8-93F0-F8E7EEBC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DE256-E172-4B37-B7CB-49290FB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9962-6951-46B3-9196-729A346D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1E3C3-F0B3-4ECD-936A-9EED6553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E9F3D-83D7-4CB0-80C9-C0E79BAE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B1698-7DB1-482D-AC20-068CC1E6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0EB47-EFE8-4A4C-9E48-C74EF3EA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B4F1E-66A0-42DD-875A-785E3158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98D11-F2CA-43A8-BE39-4BFE7359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9297-0324-42CF-9A29-6CACCD1E22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E615-5A49-47B2-BA5F-BA6FE52841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F64F-6096-45F9-953E-F8BDBF7AEA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6687-BDDF-4D1E-B5DF-28335233C9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048F-231F-4566-B2B1-8B8A774B2F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3508-F30A-419C-A6B0-1A14CF4D62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4CF3-BDFA-47AC-80E7-89A607F12C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5443-973C-4B39-BCD1-1300F11BB0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AA1-B8DE-4EFE-9534-0ABE17C175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AF53-7460-4FD6-85F4-DA6EECFFFE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DBC5-34AD-4B2E-B8D4-533F56E0CB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85DA-46A7-4AC8-98D9-301ED35FAE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3CC3-F095-46A1-9448-FF6312A83D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2C7D-8F5B-4B01-AC69-4E9D77ED01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课文情景图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4681440" y="4383720"/>
            <a:ext cx="370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《战国策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ti"/>
          <p:cNvPicPr/>
          <p:nvPr/>
        </p:nvPicPr>
        <p:blipFill>
          <a:blip r:embed="rId2"/>
          <a:stretch/>
        </p:blipFill>
        <p:spPr>
          <a:xfrm>
            <a:off x="324000" y="907920"/>
            <a:ext cx="6624360" cy="2521080"/>
          </a:xfrm>
          <a:prstGeom prst="rect">
            <a:avLst/>
          </a:prstGeom>
          <a:ln w="0">
            <a:noFill/>
          </a:ln>
        </p:spPr>
      </p:pic>
      <p:sp>
        <p:nvSpPr>
          <p:cNvPr id="586" name="矩形 9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de3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fefde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efde3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30400" y="260280"/>
            <a:ext cx="78343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40208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240208"/>
                </a:solidFill>
                <a:latin typeface="Times New Roman"/>
                <a:ea typeface="华文新魏"/>
              </a:rPr>
              <a:t>揣摩人物的语言、神态、动作，用下面的句式说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读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”，我看到一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的秦王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读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”，我看到一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的唐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4" descr="1"/>
          <p:cNvPicPr/>
          <p:nvPr/>
        </p:nvPicPr>
        <p:blipFill>
          <a:blip r:embed="rId1"/>
          <a:stretch/>
        </p:blipFill>
        <p:spPr>
          <a:xfrm>
            <a:off x="1143000" y="205740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1"/>
          <p:cNvPicPr/>
          <p:nvPr/>
        </p:nvPicPr>
        <p:blipFill>
          <a:blip r:embed="rId2"/>
          <a:stretch/>
        </p:blipFill>
        <p:spPr>
          <a:xfrm>
            <a:off x="1066680" y="396252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 rot="21535200">
            <a:off x="5562720" y="3809520"/>
            <a:ext cx="2968560" cy="2438640"/>
          </a:xfrm>
          <a:prstGeom prst="wedgeRoundRectCallout">
            <a:avLst>
              <a:gd name="adj1" fmla="val -113092"/>
              <a:gd name="adj2" fmla="val -739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3"/>
          <p:cNvSpPr/>
          <p:nvPr/>
        </p:nvSpPr>
        <p:spPr>
          <a:xfrm>
            <a:off x="5334120" y="838080"/>
            <a:ext cx="3200400" cy="2362320"/>
          </a:xfrm>
          <a:prstGeom prst="wedgeRoundRectCallout">
            <a:avLst>
              <a:gd name="adj1" fmla="val -96277"/>
              <a:gd name="adj2" fmla="val 5310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WordArt 4"/>
          <p:cNvSpPr txBox="1"/>
          <p:nvPr/>
        </p:nvSpPr>
        <p:spPr>
          <a:xfrm rot="5400000">
            <a:off x="2361960" y="160020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秦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28" name="WordArt 5"/>
          <p:cNvSpPr txBox="1"/>
          <p:nvPr/>
        </p:nvSpPr>
        <p:spPr>
          <a:xfrm rot="5400000">
            <a:off x="2324160" y="4457520"/>
            <a:ext cx="18288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唐雎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2057400" y="2209680"/>
            <a:ext cx="380880" cy="3124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77000" y="2666880"/>
            <a:ext cx="139932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黑体"/>
              </a:rPr>
              <a:t>人物性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6273720" y="1219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奸诈狡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蛮横无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色厉内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6172200" y="4191120"/>
            <a:ext cx="181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爱国忠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机智勇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能言善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C:/Users/pc/AppData/Local/Temp/360zip$Temp/360$3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WordArt 3"/>
          <p:cNvSpPr txBox="1"/>
          <p:nvPr/>
        </p:nvSpPr>
        <p:spPr>
          <a:xfrm>
            <a:off x="533520" y="0"/>
            <a:ext cx="2286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启示一：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838080" y="1981080"/>
            <a:ext cx="75438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在与人交往中，说话技巧起着很重要的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勇敢与善辩也是好的品质与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黑体"/>
              </a:rPr>
              <a:t>在平时要多锻炼自己的说话能力，培养自己的说话技巧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3259080" y="1295280"/>
            <a:ext cx="2619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懂得下面的道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6" descr="3"/>
          <p:cNvPicPr/>
          <p:nvPr/>
        </p:nvPicPr>
        <p:blipFill>
          <a:blip r:embed="rId2"/>
          <a:stretch/>
        </p:blipFill>
        <p:spPr>
          <a:xfrm>
            <a:off x="685800" y="3276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1"/>
          <p:cNvPicPr/>
          <p:nvPr/>
        </p:nvPicPr>
        <p:blipFill>
          <a:blip r:embed="rId3"/>
          <a:stretch/>
        </p:blipFill>
        <p:spPr>
          <a:xfrm>
            <a:off x="762120" y="457200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1"/>
          <p:cNvPicPr/>
          <p:nvPr/>
        </p:nvPicPr>
        <p:blipFill>
          <a:blip r:embed="rId4"/>
          <a:stretch/>
        </p:blipFill>
        <p:spPr>
          <a:xfrm>
            <a:off x="685800" y="2057400"/>
            <a:ext cx="547560" cy="547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2432160" y="609480"/>
            <a:ext cx="539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你知道哪些关于说话能力和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巧的名言警句？试列举一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3" descr="1"/>
          <p:cNvPicPr/>
          <p:nvPr/>
        </p:nvPicPr>
        <p:blipFill>
          <a:blip r:embed="rId1"/>
          <a:stretch/>
        </p:blipFill>
        <p:spPr>
          <a:xfrm>
            <a:off x="1295280" y="198108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2"/>
          <p:cNvPicPr/>
          <p:nvPr/>
        </p:nvPicPr>
        <p:blipFill>
          <a:blip r:embed="rId2"/>
          <a:stretch/>
        </p:blipFill>
        <p:spPr>
          <a:xfrm>
            <a:off x="1295280" y="28954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3"/>
          <p:cNvPicPr/>
          <p:nvPr/>
        </p:nvPicPr>
        <p:blipFill>
          <a:blip r:embed="rId3"/>
          <a:stretch/>
        </p:blipFill>
        <p:spPr>
          <a:xfrm>
            <a:off x="1295280" y="40384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" descr="gif014"/>
          <p:cNvPicPr/>
          <p:nvPr/>
        </p:nvPicPr>
        <p:blipFill>
          <a:blip r:embed="rId4"/>
          <a:stretch/>
        </p:blipFill>
        <p:spPr>
          <a:xfrm rot="727200">
            <a:off x="761760" y="380520"/>
            <a:ext cx="1253880" cy="121932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7"/>
          <p:cNvSpPr/>
          <p:nvPr/>
        </p:nvSpPr>
        <p:spPr>
          <a:xfrm>
            <a:off x="2133720" y="1981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荀子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口能言之，身能行之，国宝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3850920" y="2819520"/>
            <a:ext cx="19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刘勰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人之辩胜于九鼎之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寸之舌强于百万之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4124520" y="4038480"/>
            <a:ext cx="20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西方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世界的三大战略武器：口才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美元、电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6804000" y="6308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C:/Users/pc/AppData/Local/Temp/360zip$Temp/360$3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WordArt 3"/>
          <p:cNvSpPr txBox="1"/>
          <p:nvPr/>
        </p:nvSpPr>
        <p:spPr>
          <a:xfrm>
            <a:off x="1066680" y="533520"/>
            <a:ext cx="259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启示二：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2369520" y="204156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培养一种能力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2379240" y="3200400"/>
            <a:ext cx="4569840" cy="27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能够在我们以后的写作过程中，充分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用</a:t>
            </a: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个性化的人物语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来凸现人物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性格特点，提高我们的写作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《唐雎不辱使命》课件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WordArt 3"/>
          <p:cNvSpPr txBox="1"/>
          <p:nvPr/>
        </p:nvSpPr>
        <p:spPr>
          <a:xfrm>
            <a:off x="457200" y="304920"/>
            <a:ext cx="444348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拓展思考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666880" y="3780000"/>
            <a:ext cx="5181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晏子：出使楚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蔺相如：完璧归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诸葛亮：舌战群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371600" y="1447920"/>
            <a:ext cx="6248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efde3"/>
                </a:solidFill>
                <a:latin typeface="Times New Roman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你还了解外交史上哪些出使他国 而“不辱使命”的人或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C:/Users/pc/AppData/Local/Temp/360zip$Temp/360$3/http:/www.kochi.isp.ntt-west.co.jp/wnn-c/SPECIAL/van/iwa/img/yatarou.gif"/>
          <p:cNvPicPr/>
          <p:nvPr/>
        </p:nvPicPr>
        <p:blipFill>
          <a:blip r:embed="rId1"/>
          <a:stretch/>
        </p:blipFill>
        <p:spPr>
          <a:xfrm>
            <a:off x="0" y="0"/>
            <a:ext cx="1419120" cy="20574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>
            <a:off x="3352680" y="1523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节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4"/>
          <p:cNvSpPr/>
          <p:nvPr/>
        </p:nvSpPr>
        <p:spPr>
          <a:xfrm>
            <a:off x="2666880" y="198108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-1932480" y="1676520"/>
            <a:ext cx="4569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黑体"/>
              </a:rPr>
              <a:t>说话技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唐雎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916360" y="2852640"/>
            <a:ext cx="546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据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3419640" y="429264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力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0" y="279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是“巧”在言辞委婉，言之有“节”上。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秦王要求以五百里之地易安陵，纯是诈骗。当遭到安陵君拒绝后，</a:t>
            </a:r>
            <a:r>
              <a:rPr b="1" lang="zh-CN" sz="2400" spc="-1" strike="noStrike">
                <a:solidFill>
                  <a:srgbClr val="221304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秦王不说</a:t>
            </a:r>
            <a:r>
              <a:rPr b="1" lang="zh-CN" sz="2400" spc="-1" strike="noStrike">
                <a:solidFill>
                  <a:srgbClr val="221304"/>
                </a:solidFill>
                <a:latin typeface="Tahoma"/>
              </a:rPr>
              <a:t>”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，于是当着唐雎的面露出威胁之意，并盛气凌人地责备安陵君</a:t>
            </a:r>
            <a:r>
              <a:rPr b="1" lang="zh-CN" sz="2400" spc="-1" strike="noStrike">
                <a:solidFill>
                  <a:srgbClr val="221304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轻寡人</a:t>
            </a:r>
            <a:r>
              <a:rPr b="1" lang="zh-CN" sz="2400" spc="-1" strike="noStrike">
                <a:solidFill>
                  <a:srgbClr val="221304"/>
                </a:solidFill>
                <a:latin typeface="Tahoma"/>
              </a:rPr>
              <a:t>”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。对此，唐雎先用屈从的口吻说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否，非若是也。”这一回答，既缓和了秦王以强凌弱的气势，使会谈能够继续下去；又强调了不肯易地的原因。然后从容地说明安陵君不肯易地是因为“受地于先王而守之”，并非故意违背秦王的意愿。这一句答得委婉，言之有理，言之有“节”，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一个“守”字，含义丰富；既说明愿忠于先王的遗业，维护国家主权和领土的完整，宁“守”不“易”，这是一种崇仰先王、不为利诱的明显反映；又表明安陵国并无扩张之意，倒有御敌之心，这不仅婉言拒绝了秦王的易地要求，还暗暗告诫秦王不要轻举妄动。“守”是一种坚持正义，不畏强暴的具体表现，显示出安陵国土的神圣不可侵犯。“虽千里不敢易也，岂直五百里哉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  <a:ea typeface="Tahoma"/>
              </a:rPr>
              <a:t>?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221304"/>
                </a:solidFill>
                <a:latin typeface="宋体"/>
              </a:rPr>
              <a:t>这一反语，十分有力，表明安陵国非但不想易地，而且根本不愿意易地。因为安陵君明白秦王的“易”即是“抢”的同义语。可见，“守”是不畏强暴、坚守国土的具体表现。由于唐雎坚持原则，言之有“节”，从“道义”方面暗刺了秦王的不义，触犯了他的尊严，难怪他要“沸然怒”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965160" y="681192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609480" y="14616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ahoma"/>
              </a:rPr>
              <a:t>    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Tahoma"/>
              </a:rPr>
              <a:t> 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是“巧”在针锋相对、言之有“据”上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秦王见诈骗不行，便用“伏尸百万，流血千里”的所谓“天子之怒”进行威吓。唐雎正气凛然，针锋相对，用“伏尸二人，流血五步”的“士之怒”进行回击。在这场围绕天子与布衣之“怒”的交锋中，唐服很快就由被动而变为主动。当秦王以“亦……尔”的口吻鄙视“布衣之怒”时，唐雎立即驳斥：“此庸夫之怒也，非士之怒也”，提醒秦王正视“士之怒”。接着用语势强烈的排比句，列举专诸刺王僚、聂政刺韩傀、要离刺庆忌的史实，对“士之怒”加以渲染说明。这三个史实，犹如锃亮锋利的匕首，直刺贪生怕死的秦王心窝；又好似撼天动地的警钟，警告秦王必须吸取历史教训，不要自蹈死地。但是，这些有根有据的“士之怒”，毕竟是历史上的事，已经过去了，它对秦王虽有所触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威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但还不足以使利令智昏的秦王幡然悔悟。于是，唐雄又逼近一步：“此三子者”，“与臣而将四矣”。这是暗示他将效法三人，刺杀秦王。这样就把血淋淋的史实，变成对秦王的直接威胁，迫使秦王不得不考虑自己的危急处境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pic_12006"/>
          <p:cNvPicPr/>
          <p:nvPr/>
        </p:nvPicPr>
        <p:blipFill>
          <a:blip r:embed="rId1"/>
          <a:srcRect l="0" t="0" r="-54" b="-73"/>
          <a:stretch/>
        </p:blipFill>
        <p:spPr>
          <a:xfrm>
            <a:off x="0" y="895320"/>
            <a:ext cx="9144000" cy="532944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-42480" y="1268280"/>
            <a:ext cx="164268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唐雎不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使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2050920" y="3213000"/>
            <a:ext cx="1657440" cy="36828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92160 h 368280"/>
              <a:gd name="textAreaBottom" fmla="*/ 276480 h 368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158600" y="504720"/>
            <a:ext cx="1642680" cy="630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唐雎完成了出使的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094560" y="2752560"/>
            <a:ext cx="248544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21304"/>
                </a:solidFill>
                <a:latin typeface="Arial"/>
              </a:rPr>
              <a:t>辜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21304"/>
                </a:solidFill>
                <a:latin typeface="Arial"/>
              </a:rPr>
              <a:t>辱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228600" y="685800"/>
            <a:ext cx="844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1304"/>
                </a:solidFill>
                <a:latin typeface="宋体"/>
                <a:ea typeface="Tahoma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三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在以行征言，言之有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力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上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221304"/>
                </a:solidFill>
                <a:latin typeface="宋体"/>
              </a:rPr>
              <a:t>倘若唐雎只用文战，不辅以武攻，秦王势必会存侥幸心理，绝不会轻易折服。以行证言，就能使“言”更富于慑敌的威力。唐雎辅以“挺剑而起”这一义无反顾的行动，来证明“今日”欲刺秦王之“言”的实在性和尖锐性，这就从根本上彻底打破了秦王的一切幻想，迫使秦王不得不“长跪而谢之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60066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bb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252360" y="22860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了解背景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战国末期，秦国先后灭掉了韩、魏等国，气势日炽。安陵国是魏国的附庸小国，秦国想用诈骗手段吞并安陵，安陵君派唐雎到秦国去谈判，唐雎在秦王面前，不畏强暴，以死相拼，终于没有辜负出使之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pic_12006"/>
          <p:cNvPicPr/>
          <p:nvPr/>
        </p:nvPicPr>
        <p:blipFill>
          <a:blip r:embed="rId1"/>
          <a:srcRect l="0" t="0" r="-54" b="-73"/>
          <a:stretch/>
        </p:blipFill>
        <p:spPr>
          <a:xfrm>
            <a:off x="5183280" y="0"/>
            <a:ext cx="3960720" cy="23083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539640" y="644400"/>
            <a:ext cx="8153640" cy="52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读准字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正确断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、疏通大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92000" y="5300640"/>
            <a:ext cx="77407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结合注释，同桌互译，不懂的画出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质疑并释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6804000" y="6021360"/>
            <a:ext cx="2160720" cy="836640"/>
          </a:xfrm>
          <a:custGeom>
            <a:avLst/>
            <a:gdLst>
              <a:gd name="textAreaLeft" fmla="*/ 52200 w 2160720"/>
              <a:gd name="textAreaRight" fmla="*/ 2108520 w 2160720"/>
              <a:gd name="textAreaTop" fmla="*/ 52200 h 836640"/>
              <a:gd name="textAreaBottom" fmla="*/ 784440 h 836640"/>
            </a:gdLst>
            <a:ahLst/>
            <a:rect l="textAreaLeft" t="textAreaTop" r="textAreaRight" b="textAreaBottom"/>
            <a:pathLst>
              <a:path w="55770" h="21600">
                <a:moveTo>
                  <a:pt x="0" y="0"/>
                </a:moveTo>
                <a:lnTo>
                  <a:pt x="55770" y="0"/>
                </a:lnTo>
                <a:lnTo>
                  <a:pt x="55770" y="21600"/>
                </a:lnTo>
                <a:lnTo>
                  <a:pt x="0" y="21600"/>
                </a:lnTo>
                <a:close/>
              </a:path>
              <a:path fill="lightenLess" w="55770" h="21600">
                <a:moveTo>
                  <a:pt x="0" y="0"/>
                </a:moveTo>
                <a:lnTo>
                  <a:pt x="55770" y="0"/>
                </a:lnTo>
                <a:lnTo>
                  <a:pt x="54420" y="1350"/>
                </a:lnTo>
                <a:lnTo>
                  <a:pt x="1350" y="1350"/>
                </a:lnTo>
                <a:close/>
              </a:path>
              <a:path fill="darken" w="55770" h="21600">
                <a:moveTo>
                  <a:pt x="55770" y="0"/>
                </a:moveTo>
                <a:lnTo>
                  <a:pt x="55770" y="21600"/>
                </a:lnTo>
                <a:lnTo>
                  <a:pt x="54420" y="20250"/>
                </a:lnTo>
                <a:lnTo>
                  <a:pt x="54420" y="1350"/>
                </a:lnTo>
                <a:close/>
              </a:path>
              <a:path fill="darkenLess" w="55770" h="21600">
                <a:moveTo>
                  <a:pt x="5577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4420" y="20250"/>
                </a:lnTo>
                <a:close/>
              </a:path>
              <a:path fill="lighten" w="5577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5770" h="21600">
                <a:moveTo>
                  <a:pt x="20841" y="8394"/>
                </a:moveTo>
                <a:lnTo>
                  <a:pt x="25295" y="8394"/>
                </a:lnTo>
                <a:lnTo>
                  <a:pt x="29740" y="3756"/>
                </a:lnTo>
                <a:lnTo>
                  <a:pt x="29740" y="17844"/>
                </a:lnTo>
                <a:lnTo>
                  <a:pt x="25295" y="13206"/>
                </a:lnTo>
                <a:lnTo>
                  <a:pt x="20841" y="13206"/>
                </a:lnTo>
                <a:close/>
              </a:path>
              <a:path fill="darken" w="55770" h="21600">
                <a:moveTo>
                  <a:pt x="31402" y="10800"/>
                </a:moveTo>
                <a:lnTo>
                  <a:pt x="34929" y="10800"/>
                </a:lnTo>
              </a:path>
              <a:path fill="darken" w="55770" h="21600">
                <a:moveTo>
                  <a:pt x="31402" y="8394"/>
                </a:moveTo>
                <a:lnTo>
                  <a:pt x="34929" y="5611"/>
                </a:lnTo>
              </a:path>
              <a:path fill="darken" w="55770" h="21600">
                <a:moveTo>
                  <a:pt x="31402" y="13206"/>
                </a:moveTo>
                <a:lnTo>
                  <a:pt x="34929" y="15989"/>
                </a:lnTo>
              </a:path>
            </a:pathLst>
          </a:cu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BK010098"/>
          <p:cNvPicPr/>
          <p:nvPr/>
        </p:nvPicPr>
        <p:blipFill>
          <a:blip r:embed="rId1"/>
          <a:stretch/>
        </p:blipFill>
        <p:spPr>
          <a:xfrm>
            <a:off x="914400" y="1219320"/>
            <a:ext cx="7924680" cy="53337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3"/>
          <p:cNvSpPr/>
          <p:nvPr/>
        </p:nvSpPr>
        <p:spPr>
          <a:xfrm>
            <a:off x="1752480" y="1676520"/>
            <a:ext cx="4800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雎不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谓安陵君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仓鹰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殿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使唐雎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553080" y="1600200"/>
            <a:ext cx="1905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出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到、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11924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2510280" y="522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  <a:ea typeface="黑体"/>
              </a:rPr>
              <a:t>解释下列句中的多义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2"/>
          <p:cNvPicPr/>
          <p:nvPr/>
        </p:nvPicPr>
        <p:blipFill>
          <a:blip r:embed="rId1"/>
          <a:stretch/>
        </p:blipFill>
        <p:spPr>
          <a:xfrm>
            <a:off x="838080" y="228600"/>
            <a:ext cx="8051760" cy="6400800"/>
          </a:xfrm>
          <a:prstGeom prst="rect">
            <a:avLst/>
          </a:prstGeom>
          <a:ln w="0">
            <a:noFill/>
          </a:ln>
        </p:spPr>
      </p:pic>
      <p:sp>
        <p:nvSpPr>
          <p:cNvPr id="603" name="WordArt 3"/>
          <p:cNvSpPr txBox="1"/>
          <p:nvPr/>
        </p:nvSpPr>
        <p:spPr>
          <a:xfrm>
            <a:off x="2133720" y="990720"/>
            <a:ext cx="56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解释下列句中突出的词语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143000" y="2057400"/>
            <a:ext cx="4495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故不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错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意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下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缟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休祲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降于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寡人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谕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头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抢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5181480" y="1981080"/>
            <a:ext cx="3429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通“措”，放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动词“穿丧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吉凶的征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明白、懂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687708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106668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cc"/>
                </a:solidFill>
                <a:latin typeface="新宋体"/>
                <a:ea typeface="新宋体"/>
              </a:rPr>
              <a:t>翻译下面的文言句子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833400" y="114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990720" y="1752480"/>
            <a:ext cx="8153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838080" y="3048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920880" y="3701880"/>
            <a:ext cx="746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是安陵君却违背我的意愿，是轻视我吗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8380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1143000" y="548640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9" descr="ti"/>
          <p:cNvPicPr/>
          <p:nvPr/>
        </p:nvPicPr>
        <p:blipFill>
          <a:blip r:embed="rId1"/>
          <a:stretch/>
        </p:blipFill>
        <p:spPr>
          <a:xfrm>
            <a:off x="6804000" y="6154560"/>
            <a:ext cx="1981080" cy="587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219320" y="685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阅读课文，分组讨论下列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914400" y="1447920"/>
            <a:ext cx="784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秦王以五百里地易安陵的真正目的是什么 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唐雎出使秦国的原因是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秦王说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子之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具体内容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唐雎举专诸、聂政、要离等三个人物的目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秦王最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长跪而谢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说明了什么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C:/Users/pc/AppData/Local/Temp/360zip$Temp/360$3/http:/www.kayoh-tech.co.jp/image/shikishi_m56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18" name="AutoShape 3"/>
          <p:cNvSpPr/>
          <p:nvPr/>
        </p:nvSpPr>
        <p:spPr>
          <a:xfrm>
            <a:off x="2286000" y="2286000"/>
            <a:ext cx="5257800" cy="3352680"/>
          </a:xfrm>
          <a:prstGeom prst="horizontalScroll">
            <a:avLst>
              <a:gd name="adj" fmla="val 15685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304920" y="371520"/>
            <a:ext cx="72198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c2ac3"/>
                </a:solidFill>
                <a:latin typeface="Times New Roman"/>
                <a:ea typeface="黑体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课文运用了哪些刻画人物的方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191240" y="2819520"/>
            <a:ext cx="554292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语言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神态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动作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11:18:42Z</dcterms:created>
  <dc:creator/>
  <dc:description/>
  <cp:keywords>幻灯片之家 http:/www.eeppt.com</cp:keywords>
  <dc:language>en-US</dc:language>
  <cp:lastModifiedBy/>
  <dcterms:modified xsi:type="dcterms:W3CDTF">2015-07-20T11:19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