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F6A-DD94-40FD-A2D1-18BA0F54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074-DE0C-4E11-B80F-73F8B7A2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373-3A88-490B-9B59-8ED5703C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80-EF37-4A19-9C3E-27D75592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846-32E6-48EE-8A26-71CC736A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A13-FA74-4222-AEF2-D26DE2C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19C-4AE5-4634-98AD-5F8CC86B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3EF-70CD-44B0-976C-2172466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792-5324-48E1-9B3C-FBEC650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A4B-E2BA-4B2E-AD1F-61EEC54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A19-CFA2-4AB7-BB2D-D45B1D9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C78-3FC8-4487-AB8A-4CB410E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073D-30D5-4662-8127-7813B56C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1"/>
          <p:cNvPicPr/>
          <p:nvPr/>
        </p:nvPicPr>
        <p:blipFill>
          <a:blip r:embed="rId1"/>
          <a:srcRect l="0" t="107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43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71040" y="9907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我最好的老师优》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3276720" y="2590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好老师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上课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感谢师恩"/>
          <p:cNvPicPr/>
          <p:nvPr/>
        </p:nvPicPr>
        <p:blipFill>
          <a:blip r:embed="rId4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1219320" y="1066680"/>
            <a:ext cx="6553080" cy="1219320"/>
          </a:xfrm>
          <a:prstGeom prst="cloudCallout">
            <a:avLst>
              <a:gd name="adj1" fmla="val -29069"/>
              <a:gd name="adj2" fmla="val 3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3324240"/>
            <a:ext cx="6019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凯蒂旺普斯　　记录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警惕　　　　　驳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崭新　　　　　惊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8360" y="27432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ǎi  d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945040" y="2743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73200" y="3978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786200" y="39020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12160" y="49687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h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320080" y="496872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395360" y="685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初读课文，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006920" y="2940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8656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5228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你喜欢的方式自由读课文，看看你读懂了什么？有什么不明白的或是想知道的？在书上做个标记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0574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029200" y="21337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682680" y="214776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说你读懂了什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504840" y="37782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出不懂的问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443240" y="57780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主探究，因需交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594960" y="174456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宋体"/>
              </a:rPr>
              <a:t>怀特森老师是一个（           ）的老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838080" y="2514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默读课文，看看怀特森老师说了什么，做了什么？想一想怀特森老师是一个（        ）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990720" y="4114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默读课文，思考在怀特森老师教“我们”的过程中“我”的心情和行为有了哪些变化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我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为怀特森老师是一个（          ）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040-24A5-4488-B6A6-CA307A793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982080" y="57780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拓展延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676520" y="1752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怀特森老师用自己独特的教学方式教会了孩子们怎样学习，这不仅改变了孩子们的学习方式，也改变了他们的生活方式。这篇文章的作者是美国著名作家大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文，他写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家爸爸银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靡全球。试想如果他在少年时代没有遇到怀特森老师，那么他还是今天的大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文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762120" y="609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蜜蜂并不是靠翅膀振动发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600" y="113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蜜蜂发音靠的是翅膀振动──这个被列入我国小学教材的生物学“常识”，被一位名叫聂利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小学生用实验推翻。聂利为此撰写的论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蜜蜂并不是靠翅膀振动发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荣获全国青少年科技创新大赛银奖和高士其科普专项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一科学发现出自一名年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的小学生之手，确实难能可贵！无数生物学家没有发现的自然奥秘，小小的聂利发现了；成年人没有怀疑过的来自书本的“定论”，聂利把它推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人民日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报道说，聂利的发现过程并不复杂：她先是偶然发现翅膀不振动（或被剪下双翅）的蜜蜂仍然嗡嗡叫，然后用放大镜观察了一个多月，终于找到了蜜蜂的发声器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同许多重大科学发现一样，发现过程本身也许并不曲折，关键在于发现者是否勇于向“定论”提出质疑，向科学权威提出挑战。体现在聂利身上的离经叛道和勇于怀疑的精神，比“蜜蜂的发声器官”这个发现本身更为可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659304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9:33Z</dcterms:created>
  <dc:creator/>
  <dc:description/>
  <cp:keywords>幻灯片之家 http:/www.eeppt.com</cp:keywords>
  <dc:language>en-US</dc:language>
  <cp:lastModifiedBy/>
  <dcterms:modified xsi:type="dcterms:W3CDTF">2015-07-11T01:33:3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