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1A98-DC0C-439F-9F00-A874E4EFF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B794-3805-4DA7-AEF9-E3443EC7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2F12-A72E-4A57-B831-7FC4D116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61591-7543-43FD-9A0C-8E5685839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0A7B-1970-4A7A-9E13-B4ACDB1F1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71B-85D3-4085-9D79-270A16D21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3AC0-82A2-4F3E-AB60-9C8F3EEF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C425-C06D-4973-9D9C-2DB6B09B5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172B-25C8-43CD-976C-FD5599B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F0DA-5308-42B2-961A-6C08327C9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09A6-03DE-4E05-83A2-CAAAFBF02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96DC-9F94-4F60-AA9D-0F28BE255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02089-92D6-4E2B-84AD-8876BF68A1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kejian/" TargetMode="Externa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星空"/>
          <p:cNvPicPr/>
          <p:nvPr/>
        </p:nvPicPr>
        <p:blipFill>
          <a:blip r:embed="rId2"/>
          <a:srcRect l="0" t="0" r="0" b="534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4932360" y="2565360"/>
            <a:ext cx="466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zh-CN" sz="4400" spc="-1" strike="noStrike">
                <a:solidFill>
                  <a:srgbClr val="ff6600"/>
                </a:solidFill>
                <a:latin typeface="方正启体简体"/>
                <a:ea typeface="方正启体简体"/>
              </a:rPr>
              <a:t>江   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2060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08080" y="909720"/>
            <a:ext cx="320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星星变奏曲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课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908000" y="404640"/>
            <a:ext cx="5834160" cy="2664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春天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落满枝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星星落满天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闪闪烁烁的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声音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从远方飘来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团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白丁香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朦朦胧胧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4364280" y="4005360"/>
            <a:ext cx="688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春天般温馨迷人，充满生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理想世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）探究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闪闪烁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通常用来描写什么的？为什么作者却用来描写声音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698400" y="16621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4"/>
          <p:cNvSpPr/>
          <p:nvPr/>
        </p:nvSpPr>
        <p:spPr>
          <a:xfrm>
            <a:off x="609480" y="2143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"/>
          <p:cNvSpPr/>
          <p:nvPr/>
        </p:nvSpPr>
        <p:spPr>
          <a:xfrm>
            <a:off x="843120" y="2608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6"/>
          <p:cNvSpPr/>
          <p:nvPr/>
        </p:nvSpPr>
        <p:spPr>
          <a:xfrm>
            <a:off x="426960" y="2133720"/>
            <a:ext cx="7961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通感是人们的各种感觉通过比喻或形容沟通起来的修辞方式。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A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微风过处，送来屡屡清香，仿佛远处高楼上渺茫的歌声似的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嗅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B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、塘中的月色并不均匀，但光与影有着和谐的旋律，如梵阿玲上奏着的名曲。（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视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移植为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听觉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8"/>
          <p:cNvSpPr/>
          <p:nvPr/>
        </p:nvSpPr>
        <p:spPr>
          <a:xfrm>
            <a:off x="843120" y="22874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826920" y="148428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运用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修辞手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11280" y="1197000"/>
            <a:ext cx="8229600" cy="188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里是视觉移植为听觉，以声音时断时续、隐隐约约的真切感受来突出“朦朦胧胧”的白丁香的视觉形象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684360" y="3573360"/>
            <a:ext cx="845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运用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方正启体简体"/>
              </a:rPr>
              <a:t>通感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启体简体"/>
              </a:rPr>
              <a:t>的修辞手法是诗歌创作常用的手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7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第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89960" y="2060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  <a:ea typeface="方正启体简体"/>
              </a:rPr>
              <a:t>意象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1871640" y="3645000"/>
            <a:ext cx="68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甜蜜、温馨、自由幸福、充满生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932840" y="50133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表达了诗人对美好世界的热烈向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1979640" y="2060640"/>
            <a:ext cx="612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星星、诗、蜜蜂、萤火虫、睡莲、春天、鸟、白丁香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488160" y="353052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意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8"/>
          <p:cNvSpPr/>
          <p:nvPr/>
        </p:nvSpPr>
        <p:spPr>
          <a:xfrm>
            <a:off x="4356000" y="436572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知识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这首诗采用变奏曲的结构，什么叫变奏曲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变奏曲是音乐术语。这首诗是借用此术语来说的，具体特征有以下两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939960" y="3349800"/>
            <a:ext cx="1839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611280" y="4149720"/>
            <a:ext cx="831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②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围绕一个主题与主要意象变换情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2050560" y="2781360"/>
            <a:ext cx="4791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①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诗的上下两节结构相称，基本手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和用语相同或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一下两节诗之间的结构、句式有和异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0920" y="1628280"/>
            <a:ext cx="460836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结构相同、句式相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960480" y="2925720"/>
            <a:ext cx="687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一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还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不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867960" y="4365720"/>
            <a:ext cx="659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第二节：谁还需要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都会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               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r>
              <a:rPr b="1" lang="zh-CN" sz="36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谁愿意</a:t>
            </a:r>
            <a:r>
              <a:rPr b="1" lang="en-US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445080" y="3573360"/>
            <a:ext cx="19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肯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443640" y="5013360"/>
            <a:ext cx="215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否定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258920" y="1413000"/>
            <a:ext cx="655308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如果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寒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中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寂寞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地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燃烧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寻找星星点点的希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2581200" y="3933720"/>
            <a:ext cx="3856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同样是交代现实环境，与第一节前四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相比有何不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069920" y="5202360"/>
            <a:ext cx="580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更加具体：寒冷、寂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79280" y="26028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6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比较第二节诗中描绘的意象有什么不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方正启体简体"/>
              </a:rPr>
              <a:t>探究：如何理解“寂寞地燃烧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个世界是寒冷的，寂寞的，你可能看不到一丝光芒，唯有燃烧自己，才能点亮心中的光明和希望，这是一种坚持，对信念的永不放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395280" y="4365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虽然身陷黑暗、孤独的世界，但作者没有放弃，而是通过牺牲奉献自己来寻找光明、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692000" y="333360"/>
            <a:ext cx="6264360" cy="3240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一年又一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总写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苦难的诗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每一首都是一群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颤抖的星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冰雪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覆盖在心头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783800" y="4076640"/>
            <a:ext cx="40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展示了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539640" y="494172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让诗人感到心灵颤抖和冰冷压抑的苦难的现实世界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9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2050920" y="333000"/>
            <a:ext cx="5399280" cy="1800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愿意，看着夜晚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冻僵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僵硬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得像一片土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风吹落一颗又一颗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瘦小的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031120" y="2492280"/>
            <a:ext cx="4386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体会其中蕴含的感情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2035080" y="3573360"/>
            <a:ext cx="5057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个冰冷的社会，它无情地摧残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人们本已十分渺茫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0" dur="indefinite" restart="never" nodeType="tmRoot">
          <p:childTnLst>
            <p:seq>
              <p:cTn id="401" dur="indefinite" nodeType="mainSeq">
                <p:childTnLst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6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3" descr="图片6.jpg"/>
          <p:cNvPicPr/>
          <p:nvPr/>
        </p:nvPicPr>
        <p:blipFill>
          <a:blip r:embed="rId2"/>
          <a:stretch/>
        </p:blipFill>
        <p:spPr>
          <a:xfrm>
            <a:off x="3240" y="6480"/>
            <a:ext cx="9137520" cy="68450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611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江河，原名于友泽，生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49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北京人，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68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高中毕业，是新时期朦胧诗的代表诗人之一。著有诗集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从这里开始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。他的诗作中灌注了厚重的历史感，以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纪念碑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等政治抒情诗和古代神话组诗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太阳和他的反光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赢得了社会的瞩目。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变奏曲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便是江河的处女作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作者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971280" y="404280"/>
            <a:ext cx="7343640" cy="223236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谁不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飘动的旗子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，喜欢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火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涌出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金黄的星星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在天上的星星疲倦了的时候</a:t>
            </a:r>
            <a:r>
              <a:rPr b="1" lang="en-US" sz="3200" spc="-1" strike="noStrike">
                <a:solidFill>
                  <a:srgbClr val="3399ff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升起</a:t>
            </a: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Arial"/>
              </a:rPr>
              <a:t>去照亮太阳照不到的地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"/>
          <p:cNvSpPr/>
          <p:nvPr/>
        </p:nvSpPr>
        <p:spPr>
          <a:xfrm>
            <a:off x="755640" y="299736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你能读出这里象征的意义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900000" y="39337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旗子，象征这自由和胜利；火、星星，是光明的象征，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方正启体简体"/>
              </a:rPr>
              <a:t>表达了诗人渴望自由和光明的早日来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7" dur="indefinite" restart="never" nodeType="tmRoot">
          <p:childTnLst>
            <p:seq>
              <p:cTn id="428" dur="indefinite" nodeType="mainSeq">
                <p:childTnLst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8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tsk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636640"/>
            <a:ext cx="8229600" cy="276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ff33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全诗表达了诗人对黑暗冰冷的现实的否定，抒发了自己对理想的向往和追求，以及虽然迷茫失落而又不失坚定的希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WordArt 7"/>
          <p:cNvSpPr txBox="1"/>
          <p:nvPr/>
        </p:nvSpPr>
        <p:spPr>
          <a:xfrm>
            <a:off x="2916360" y="189000"/>
            <a:ext cx="3744720" cy="14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>
                      <a:alpha val="76000"/>
                    </a:srgbClr>
                  </a:outerShdw>
                </a:effectLst>
                <a:latin typeface="方正硬笔行书简体"/>
              </a:rPr>
              <a:t>总结主旨</a:t>
            </a:r>
            <a:endParaRPr b="0" lang="en-US" sz="18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>
                    <a:alpha val="76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6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6" descr="20041101145097735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26560" y="2205000"/>
            <a:ext cx="78692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方正启体简体"/>
              </a:rPr>
              <a:t>具有朦胧诗的语言特色：多用象征、比喻的修辞手法，具有不透明性和多义性，使得诗歌含蓄朦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3200400" y="11160"/>
            <a:ext cx="274320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6000"/>
                    </a:srgbClr>
                  </a:outerShdw>
                </a:effectLst>
                <a:latin typeface="方正瘦金书简体"/>
              </a:rPr>
              <a:t>语言特色</a:t>
            </a:r>
            <a:endParaRPr b="0" lang="en-US" sz="54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6000"/>
                  </a:srgbClr>
                </a:outerShdw>
              </a:effectLst>
              <a:latin typeface="方正瘦金书简体"/>
              <a:ea typeface="方正瘦金书简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WordArt 4"/>
          <p:cNvSpPr txBox="1"/>
          <p:nvPr/>
        </p:nvSpPr>
        <p:spPr>
          <a:xfrm>
            <a:off x="250920" y="189000"/>
            <a:ext cx="3657600" cy="100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6000"/>
                    </a:srgbClr>
                  </a:outerShdw>
                </a:effectLst>
                <a:latin typeface="方正硬笔行书简体"/>
              </a:rPr>
              <a:t>知识拓展</a:t>
            </a:r>
            <a:endParaRPr b="0" lang="en-US" sz="72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6000"/>
                  </a:srgbClr>
                </a:outerShdw>
              </a:effectLst>
              <a:latin typeface="方正硬笔行书简体"/>
              <a:ea typeface="方正硬笔行书简体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5036040" y="476280"/>
            <a:ext cx="286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ff"/>
                </a:solidFill>
                <a:latin typeface="Arial"/>
                <a:ea typeface="方正启体简体"/>
              </a:rPr>
              <a:t>看几首有代表性的朦胧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0" y="1846080"/>
            <a:ext cx="5113440" cy="469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       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回  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 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卑鄙是卑鄙者的通行证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高尚是高尚者的墓志铭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看吧 ，在那镀金的天空中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飘满了死者弯曲的倒影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冰川纪过去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到处是冰凌？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好望角发现了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什么死海里千帆相争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来到这个世界上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只带着纸、绳索和身影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为了在审判之前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宣读那些被判决的声音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告诉你吧，世界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信！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4284720" y="2276640"/>
            <a:ext cx="4572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纵使你脚下有一千名挑战者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就把我算第一千零一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不相信天是蓝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雷的回声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梦是假的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我不相信死无报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如果海洋注定要决堤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让所有的苦注入我心中；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如果陆地注定要上升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就让人类重新选择生存的峰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新的转机和闪闪的星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正在缀满没有遮拦的天空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五千年的象形文字，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那是未来人们凝视的眼睛。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                 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（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1976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．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3128040" y="1413000"/>
            <a:ext cx="256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北岛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49―――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原名赵振开，祖籍浙江，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0" y="342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884160" y="550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179280" y="242100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意象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546480" y="3716280"/>
            <a:ext cx="100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 Narrow"/>
                <a:ea typeface="方正启体简体"/>
              </a:rPr>
              <a:t>意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24000" y="494172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表达了诗人对黑暗现实强烈否定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9"/>
          <p:cNvSpPr/>
          <p:nvPr/>
        </p:nvSpPr>
        <p:spPr>
          <a:xfrm>
            <a:off x="179280" y="836640"/>
            <a:ext cx="8748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这一节诗中描绘的意象有哪些？构成怎样的意境？表达作者怎样的感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1763640" y="242100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方正启体简体"/>
                <a:ea typeface="方正启体简体"/>
              </a:rPr>
              <a:t>夜、冰雪、苦难的诗、颤抖的星星、僵硬的土地、    瘦小的星星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1"/>
          <p:cNvSpPr/>
          <p:nvPr/>
        </p:nvSpPr>
        <p:spPr>
          <a:xfrm>
            <a:off x="3730320" y="375300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方正启体简体"/>
              </a:rPr>
              <a:t>凄苦、寒冷、孤寂、压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1042920" y="92520"/>
            <a:ext cx="6915240" cy="66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一切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北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命运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烟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没有结局的开始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都是稍纵即逝的追寻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欢乐都没有微笑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苦难都没有泪痕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语言都是重复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交往都是初逢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爱情都在心里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往事都在梦中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希望都带着注释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信仰都带着呻吟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爆发都有片刻的宁静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切死亡都有冗长的回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2162880" y="333000"/>
            <a:ext cx="263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顾城（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6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－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93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），出生于北京。朦胧诗派代表诗人之一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       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1252800" y="920880"/>
            <a:ext cx="3024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80c0"/>
                </a:solidFill>
                <a:latin typeface="宋体"/>
              </a:rPr>
              <a:t>　　        </a:t>
            </a:r>
            <a:r>
              <a:rPr b="1" lang="zh-CN" sz="3600" spc="-1" strike="noStrike">
                <a:solidFill>
                  <a:srgbClr val="ff0000"/>
                </a:solidFill>
                <a:latin typeface="方正瘦金书简体"/>
                <a:ea typeface="方正瘦金书简体"/>
              </a:rPr>
              <a:t>一代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宋体"/>
              </a:rPr>
              <a:t>　　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黑夜给了我黑色的眼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我却用它寻找光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r>
              <a:rPr b="1" lang="zh-CN" sz="2800" spc="-1" strike="noStrike">
                <a:solidFill>
                  <a:srgbClr val="0080c0"/>
                </a:solidFill>
                <a:latin typeface="黑体"/>
                <a:ea typeface="黑体"/>
              </a:rPr>
              <a:t>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826920" y="3429000"/>
            <a:ext cx="4572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c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远和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c0"/>
                </a:solidFill>
                <a:latin typeface="Arial"/>
              </a:rPr>
              <a:t>　　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你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一会看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我觉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我时很远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　　你看云时很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62ED-489C-4969-8616-9EE02F10DA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4"/>
          <p:cNvSpPr/>
          <p:nvPr/>
        </p:nvSpPr>
        <p:spPr>
          <a:xfrm>
            <a:off x="395280" y="1366200"/>
            <a:ext cx="237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舒婷，原名龚佩瑜，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1952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年出生于福建石码镇。主要著作有诗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双桅船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会唱歌的鸢尾花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始祖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，散文集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心烟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等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5292720" y="-720"/>
            <a:ext cx="147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瘦金书简体"/>
              </a:rPr>
              <a:t>致橡树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"/>
          <p:cNvSpPr/>
          <p:nvPr/>
        </p:nvSpPr>
        <p:spPr>
          <a:xfrm>
            <a:off x="4284720" y="692280"/>
            <a:ext cx="45720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像攀援的凌霄花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借你的高枝炫耀自己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如果爱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绝不学痴情的鸟儿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为绿荫重复单调的歌曲；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泉源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常年送来清凉的慰籍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不止像险峰，增加你的高度，衬托你的威仪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日光。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甚至春雨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，这些都还不够！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必须是你近旁的一株木棉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做为树的形象和你站在一起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根，紧握在地下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叶，相触在云里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4"/>
          <p:cNvSpPr/>
          <p:nvPr/>
        </p:nvSpPr>
        <p:spPr>
          <a:xfrm>
            <a:off x="1835280" y="260280"/>
            <a:ext cx="504036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每一阵风过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都互相致意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但没有人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听懂我们的言语。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你有你的铜枝铁干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刀，像剑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像戟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有我的红硕花朵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像沉重的叹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又像英勇的火炬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分担寒潮、风雷、霹雳；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我们共享雾霭流岚、虹霓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仿佛永远分离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却又终身相依， </a:t>
            </a:r>
            <a:br>
              <a:rPr sz="1800"/>
            </a:b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这才是伟大的爱情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贞就在这里：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不仅爱你伟岸的身躯， </a:t>
            </a: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也爱你坚持的位置，脚下的土地。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106640" y="6405480"/>
            <a:ext cx="67593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图片 3" descr="图片3.jpg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9999"/>
                </a:solidFill>
                <a:latin typeface="Arial"/>
                <a:ea typeface="方正硬笔行书简体"/>
              </a:rPr>
              <a:t>关于朦胧诗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朦胧诗产生于七十年代末、八十年代初的诗歌流派，因其在艺术形式上多用总体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的手法，具有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不透明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多义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所以被称作“朦胧诗”。内容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含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，它往往借助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象征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等手法，创造一种朦胧的意境，从而引发人们的好奇心和想象力，使人获得特殊的审美享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代表诗人有舒婷、北岛、顾城、江河等。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图片 3" descr="图片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听读课文，赏析课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8229600" cy="19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硬笔行书简体"/>
              </a:rPr>
              <a:t>赏析角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Arial"/>
                <a:ea typeface="方正启体简体"/>
              </a:rPr>
              <a:t>意象、情感、写法、语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0154xxbzq.mp3" descr=""/>
          <p:cNvPicPr/>
          <p:nvPr/>
        </p:nvPicPr>
        <p:blipFill>
          <a:blip r:embed="rId3"/>
          <a:stretch/>
        </p:blipFill>
        <p:spPr>
          <a:xfrm>
            <a:off x="7524720" y="69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828720" y="4581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25611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2837160" y="260280"/>
            <a:ext cx="4082400" cy="2043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如果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大地的每个角落都充满了光明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还需要星星，谁还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夜里凝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寻找遥远的安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00" y="2492280"/>
            <a:ext cx="84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如果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是表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关系的关联词，可见诗歌开头给我们交代了一个怎样的现实环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815920" y="43657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黑暗笼罩着大地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3934080" y="2492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方正启体简体"/>
              </a:rPr>
              <a:t>假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259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方正硬笔行书简体"/>
              </a:rPr>
              <a:t>背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方正启体简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本诗写于</a:t>
            </a:r>
            <a:r>
              <a:rPr b="1" lang="en-US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1980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年，也是诗人首次发表的诗作。诗人经历了恶梦一样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十年，目睹了专制的残酷和人情亲情的被毁灭，回想暗夜如磐的年代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诗人倾诉着自己质朴的愿望，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对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文革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时代的黑暗进行了揭露和反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借助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方正启体简体"/>
                <a:ea typeface="方正启体简体"/>
              </a:rPr>
              <a:t>            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寻找黑暗中遥远的安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755640" y="3860640"/>
            <a:ext cx="182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4329720" y="3141720"/>
            <a:ext cx="4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方正启体简体"/>
                <a:ea typeface="方正启体简体"/>
              </a:rPr>
              <a:t>星星象征黑暗中的光明和微弱的希望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2095200" y="2060640"/>
            <a:ext cx="48441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启体简体"/>
              </a:rPr>
              <a:t>可见，“星星”在这里有何深刻含义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324000" y="443700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3</a:t>
            </a:r>
            <a:r>
              <a:rPr b="1" lang="zh-CN" sz="36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、诗人渴望的生活是怎样的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9"/>
          <p:cNvSpPr/>
          <p:nvPr/>
        </p:nvSpPr>
        <p:spPr>
          <a:xfrm>
            <a:off x="3245400" y="333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方正启体简体"/>
              </a:rPr>
              <a:t>星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2484000" y="333360"/>
            <a:ext cx="5256360" cy="295272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天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都是一首</a:t>
            </a:r>
            <a:r>
              <a:rPr b="0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诗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每一个字都是一颗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</a:t>
            </a:r>
            <a:r>
              <a:rPr b="1" lang="en-US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像</a:t>
            </a:r>
            <a:r>
              <a:rPr b="1" lang="zh-CN" sz="32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蜜蜂</a:t>
            </a:r>
            <a:r>
              <a:rPr b="1" lang="zh-CN" sz="32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心头颤动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324000" y="4581360"/>
            <a:ext cx="8567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方正启体简体"/>
              </a:rPr>
              <a:t>美好的生活就像诗一样，它是明亮的，甜蜜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1539000" y="342900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生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1476000" y="333360"/>
            <a:ext cx="6769080" cy="2232000"/>
          </a:xfrm>
          <a:prstGeom prst="rect">
            <a:avLst/>
          </a:prstGeom>
          <a:noFill/>
          <a:ln w="9360">
            <a:solidFill>
              <a:srgbClr val="009999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谁不愿意，有一个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柔软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的晚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柔软得像一片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湖</a:t>
            </a:r>
            <a:r>
              <a:rPr b="1" lang="en-US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萤火虫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和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星星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在</a:t>
            </a: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睡莲</a:t>
            </a:r>
            <a:r>
              <a:rPr b="1" lang="zh-CN" sz="3600" spc="-1" strike="noStrike">
                <a:solidFill>
                  <a:srgbClr val="3399ff"/>
                </a:solidFill>
                <a:latin typeface="楷体_GB2312"/>
                <a:ea typeface="楷体_GB2312"/>
              </a:rPr>
              <a:t>丛中游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384120" y="3060720"/>
            <a:ext cx="3110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681560" y="3141720"/>
            <a:ext cx="377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（</a:t>
            </a:r>
            <a:r>
              <a:rPr b="1" lang="en-US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方正启体简体"/>
                <a:ea typeface="方正启体简体"/>
              </a:rPr>
              <a:t>）这是怎样的世界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5"/>
          <p:cNvSpPr/>
          <p:nvPr/>
        </p:nvSpPr>
        <p:spPr>
          <a:xfrm>
            <a:off x="395280" y="4149720"/>
            <a:ext cx="82296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方正启体简体"/>
              </a:rPr>
              <a:t>这是一个如夏夜般柔美的理想世界，它安宁、平静、温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01:51:38Z</dcterms:created>
  <dc:creator/>
  <dc:description/>
  <cp:keywords>幻灯片之家 http:/www.eeppt.com</cp:keywords>
  <dc:language>en-US</dc:language>
  <cp:lastModifiedBy/>
  <dcterms:modified xsi:type="dcterms:W3CDTF">2015-07-18T14:46:37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