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13B-4642-42FA-8BE6-796699CF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5DC-F197-410B-8D6D-B4BA8AA9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D43-BDA6-4A70-9182-042C96B5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8EC-9B74-424B-B7B8-F9749596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F3A3-D1A5-4D9C-8047-5C86CD64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1668-EFFC-4A10-8EC3-377E8350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67AF-0F4D-468C-AF19-D80491BE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2099-81F6-44FB-AE99-29758192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08CA-0BCF-4C66-A2F6-5281CEA9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BAAE-0B71-4115-BF61-A914FA28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47D2-3189-4CB2-B6AF-87E84378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9232-B7C8-4384-873E-8EA23A73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F019-B91D-4AFE-85E7-BC2D3EAF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92CD-06A9-411B-BBAB-F1B7EA10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7256-1AD6-4FC7-97D0-A04D4F06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863D-C599-4D1F-98E5-86773D67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CC4A-AD52-46EF-8DD0-BB9912AC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BE3-7495-49B6-91FB-2C05F65C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A91-0BC6-4297-B5FC-657F5689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9C1-70EE-4029-AB95-022AF332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F9E-A677-4194-829A-663D438B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BEC-84FC-4F1E-9E26-9D9B85B6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4F7-5CD3-41B9-9939-21398446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224-A6C4-4A1D-B006-2B7A8F45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1DFD-673D-45DF-97B5-E11E6EBA1A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6A5A-A061-47B4-96DE-50F7B8B04183}" type="slidenum">
              <a:rPr b="0" lang="zh-CN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5.jpeg"/><Relationship Id="rId18" Type="http://schemas.openxmlformats.org/officeDocument/2006/relationships/hyperlink" Target="http://www.eeppt.com/moban/kejian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5157720"/>
            <a:ext cx="46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066680" y="990720"/>
            <a:ext cx="2667240" cy="714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3292200" y="2071800"/>
            <a:ext cx="409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　　我会画：把你看到或想象到的星空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画下来。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028760" y="39099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辩论会：月亮上面真的有嫦娥吗？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42" name="Picture 6" descr="卡通脸"/>
          <p:cNvPicPr/>
          <p:nvPr/>
        </p:nvPicPr>
        <p:blipFill>
          <a:blip r:embed="rId3"/>
          <a:stretch/>
        </p:blipFill>
        <p:spPr>
          <a:xfrm>
            <a:off x="1523880" y="3809880"/>
            <a:ext cx="990720" cy="792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我会画"/>
          <p:cNvPicPr/>
          <p:nvPr/>
        </p:nvPicPr>
        <p:blipFill>
          <a:blip r:embed="rId4"/>
          <a:stretch/>
        </p:blipFill>
        <p:spPr>
          <a:xfrm>
            <a:off x="1197000" y="2057400"/>
            <a:ext cx="110016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33ff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7"/>
          <p:cNvSpPr/>
          <p:nvPr/>
        </p:nvSpPr>
        <p:spPr>
          <a:xfrm>
            <a:off x="2309760" y="406728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3"/>
              </a:rPr>
              <a:t>www.1ppt.com/ziliao/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3333ff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85" name="Picture 2" descr="小学语文（散文）02-1"/>
          <p:cNvPicPr/>
          <p:nvPr/>
        </p:nvPicPr>
        <p:blipFill>
          <a:blip r:embed="rId16"/>
          <a:stretch/>
        </p:blipFill>
        <p:spPr>
          <a:xfrm>
            <a:off x="990720" y="990720"/>
            <a:ext cx="2514600" cy="685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660680" y="1752480"/>
            <a:ext cx="5975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有时落在山腰，有时挂在树梢。有时像个圆盘，有时像把镰刀。</a:t>
            </a:r>
            <a:r>
              <a:rPr b="1" lang="zh-CN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234320" y="1295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猜谜语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88" name="Picture 6" descr="100100000138"/>
          <p:cNvPicPr/>
          <p:nvPr/>
        </p:nvPicPr>
        <p:blipFill>
          <a:blip r:embed="rId17"/>
          <a:stretch/>
        </p:blipFill>
        <p:spPr>
          <a:xfrm>
            <a:off x="1219320" y="2827440"/>
            <a:ext cx="6933960" cy="3487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18"/>
              </a:rPr>
              <a:t>ppt课件模板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1066680" y="990720"/>
            <a:ext cx="2590920" cy="53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小小的船"/>
          <p:cNvPicPr/>
          <p:nvPr/>
        </p:nvPicPr>
        <p:blipFill>
          <a:blip r:embed="rId3"/>
          <a:stretch/>
        </p:blipFill>
        <p:spPr>
          <a:xfrm>
            <a:off x="971640" y="152388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990720" y="990720"/>
            <a:ext cx="2666880" cy="71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1295280" y="1828800"/>
            <a:ext cx="6705720" cy="4102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1605240" y="1692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弯弯的月儿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675320" y="17161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弯弯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23880" y="2622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小小的船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675320" y="26528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小小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625760" y="3618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闪闪的星星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675320" y="36482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闪闪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1523880" y="4699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蓝蓝的天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675320" y="47293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蓝蓝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579680" y="55976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（      ）的（      ）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04" name="Picture 15" descr="小学语文（散文）02-4"/>
          <p:cNvPicPr/>
          <p:nvPr/>
        </p:nvPicPr>
        <p:blipFill>
          <a:blip r:embed="rId2"/>
          <a:stretch/>
        </p:blipFill>
        <p:spPr>
          <a:xfrm>
            <a:off x="1258920" y="692280"/>
            <a:ext cx="266688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小学语文（散文）02-4"/>
          <p:cNvPicPr/>
          <p:nvPr/>
        </p:nvPicPr>
        <p:blipFill>
          <a:blip r:embed="rId2"/>
          <a:stretch/>
        </p:blipFill>
        <p:spPr>
          <a:xfrm>
            <a:off x="1258920" y="692280"/>
            <a:ext cx="2666880" cy="714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391320" y="1963800"/>
            <a:ext cx="865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弯弯的月亮像</a:t>
            </a:r>
            <a:r>
              <a:rPr b="0" lang="zh-CN" sz="40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62520" y="3133800"/>
            <a:ext cx="865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蓝蓝的天空像</a:t>
            </a:r>
            <a:r>
              <a:rPr b="0" lang="zh-CN" sz="40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62520" y="4286160"/>
            <a:ext cx="865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闪闪的星星像</a:t>
            </a:r>
            <a:r>
              <a:rPr b="0" lang="zh-CN" sz="40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-1249560" y="5437080"/>
            <a:ext cx="118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的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像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27880" y="1890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船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646960" y="30621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大海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646960" y="4213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宝石</a:t>
            </a:r>
            <a:endParaRPr b="0" lang="en-US" sz="40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239480" y="21985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船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58920" y="3382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见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74920" y="2230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坐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39480" y="33908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看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58920" y="2230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弯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074920" y="3382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闪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058920" y="4606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蓝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948000" y="2230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只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946560" y="3382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星</a:t>
            </a:r>
            <a:endParaRPr b="0" lang="en-US" sz="4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812240" y="2408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舟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722040" y="2443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弓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738400" y="244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土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517880" y="244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口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1812240" y="3557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目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3722040" y="3592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见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738400" y="35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门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7517880" y="35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日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3722040" y="4784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艹）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31" name="Picture 22" descr="小学语文（散文）02-4"/>
          <p:cNvPicPr/>
          <p:nvPr/>
        </p:nvPicPr>
        <p:blipFill>
          <a:blip r:embed="rId2"/>
          <a:stretch/>
        </p:blipFill>
        <p:spPr>
          <a:xfrm>
            <a:off x="1258920" y="692280"/>
            <a:ext cx="2666880" cy="714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066680" y="914400"/>
            <a:ext cx="2667240" cy="7142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159440" y="1319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嫦娥奔月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2781360" y="1828800"/>
            <a:ext cx="35877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33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9933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9933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A48-999A-4883-9159-9A48F05887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0:00:31Z</dcterms:created>
  <dc:creator/>
  <dc:description/>
  <cp:keywords>幻灯片之家 http:/www.eeppt.com</cp:keywords>
  <dc:language>en-US</dc:language>
  <cp:lastModifiedBy/>
  <dcterms:modified xsi:type="dcterms:W3CDTF">2015-07-04T10:49:49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