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95AE-B4AD-4DE1-A234-392F3147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684-9E5B-4F22-A238-6C714307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CEF-2E6D-4477-90DA-F4D5A073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945-06A4-44A1-ACDB-A3413C90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65CE-5B20-43A8-84C1-02DF047B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1366-DD53-4780-9C2F-0FEDB33A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78E-D45C-480C-86F1-EB8CFA60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78E-4082-4469-AD8F-9AB385B6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EA63-751A-4617-B6DE-B67A7E40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7CD-CF1D-4A30-A9AF-E12A440F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768-214D-47A1-833E-A0A04AC2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9CE-437F-4737-BA96-03F26846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D664-631A-407A-A9FB-68C9D1ACF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26080" y="1054080"/>
            <a:ext cx="4277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圆的认识</a:t>
            </a: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4500" spc="-1" strike="noStrike">
                <a:solidFill>
                  <a:srgbClr val="000000"/>
                </a:solidFill>
                <a:latin typeface="Times New Roman"/>
              </a:rPr>
              <a:t>课件下载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val 2"/>
          <p:cNvSpPr/>
          <p:nvPr/>
        </p:nvSpPr>
        <p:spPr>
          <a:xfrm>
            <a:off x="1219320" y="1447920"/>
            <a:ext cx="3047760" cy="3047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362320" y="2422440"/>
            <a:ext cx="76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743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 flipV="1">
            <a:off x="2743200" y="2209320"/>
            <a:ext cx="129528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6"/>
          <p:cNvSpPr/>
          <p:nvPr/>
        </p:nvSpPr>
        <p:spPr>
          <a:xfrm>
            <a:off x="5181480" y="1523880"/>
            <a:ext cx="3048120" cy="3048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6324480" y="249876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670572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9"/>
          <p:cNvSpPr/>
          <p:nvPr/>
        </p:nvSpPr>
        <p:spPr>
          <a:xfrm flipV="1">
            <a:off x="6705720" y="2285640"/>
            <a:ext cx="1295280" cy="7621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0"/>
          <p:cNvSpPr/>
          <p:nvPr/>
        </p:nvSpPr>
        <p:spPr>
          <a:xfrm flipV="1">
            <a:off x="3200400" y="2209320"/>
            <a:ext cx="129528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1"/>
          <p:cNvSpPr/>
          <p:nvPr/>
        </p:nvSpPr>
        <p:spPr>
          <a:xfrm flipV="1">
            <a:off x="3505320" y="2209320"/>
            <a:ext cx="129528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2"/>
          <p:cNvSpPr/>
          <p:nvPr/>
        </p:nvSpPr>
        <p:spPr>
          <a:xfrm flipV="1">
            <a:off x="3962520" y="2209320"/>
            <a:ext cx="129528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3"/>
          <p:cNvSpPr/>
          <p:nvPr/>
        </p:nvSpPr>
        <p:spPr>
          <a:xfrm flipV="1">
            <a:off x="4343400" y="2209320"/>
            <a:ext cx="129528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4"/>
          <p:cNvSpPr/>
          <p:nvPr/>
        </p:nvSpPr>
        <p:spPr>
          <a:xfrm flipV="1">
            <a:off x="4952880" y="2209320"/>
            <a:ext cx="129564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5"/>
          <p:cNvSpPr/>
          <p:nvPr/>
        </p:nvSpPr>
        <p:spPr>
          <a:xfrm flipV="1">
            <a:off x="5410080" y="2209320"/>
            <a:ext cx="129564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6"/>
          <p:cNvSpPr/>
          <p:nvPr/>
        </p:nvSpPr>
        <p:spPr>
          <a:xfrm flipV="1">
            <a:off x="5867280" y="2209320"/>
            <a:ext cx="129564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7"/>
          <p:cNvSpPr/>
          <p:nvPr/>
        </p:nvSpPr>
        <p:spPr>
          <a:xfrm flipV="1">
            <a:off x="6324480" y="2209320"/>
            <a:ext cx="129564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8"/>
          <p:cNvSpPr/>
          <p:nvPr/>
        </p:nvSpPr>
        <p:spPr>
          <a:xfrm flipV="1">
            <a:off x="6705720" y="2285640"/>
            <a:ext cx="129528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2057400" y="5334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等圆的半径也相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609480" y="304920"/>
            <a:ext cx="518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5050"/>
                </a:solidFill>
                <a:latin typeface="Times New Roman"/>
              </a:rPr>
              <a:t>练习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295280" y="1066680"/>
            <a:ext cx="563904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判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两端都在圆上的线段叫圆的直径。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半径是连接圆心与圆上的直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等圆的半径都相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圆的半径是直径的二分之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295280" y="40384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口答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6002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600200" y="5562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1523880" y="548640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1523880" y="4876920"/>
            <a:ext cx="701064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2438280" y="4876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4800600" y="4876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3581280" y="4876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6019920" y="4876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2590920" y="4952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8098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5029200" y="4952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6324480" y="5562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7315200" y="48769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7696080" y="4952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7238880" y="1600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72388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723888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723888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7620120" y="2514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505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7696080" y="15382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7696080" y="2057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7696080" y="3200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5050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2590920" y="55627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3809880" y="4952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0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50292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2.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6324480" y="4952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0.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769608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5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208-622E-4607-B851-42A4B879E7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447920" y="914400"/>
            <a:ext cx="5257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明用硬纸版做汽车模型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轮胎规格为半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帮他设计一只轮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Object 3" descr=""/>
          <p:cNvPicPr/>
          <p:nvPr/>
        </p:nvPicPr>
        <p:blipFill>
          <a:blip r:embed="rId2"/>
          <a:stretch/>
        </p:blipFill>
        <p:spPr>
          <a:xfrm>
            <a:off x="1219320" y="4114800"/>
            <a:ext cx="6546600" cy="17064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9640" y="5805360"/>
            <a:ext cx="6112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Object 2" descr=""/>
          <p:cNvPicPr/>
          <p:nvPr/>
        </p:nvPicPr>
        <p:blipFill>
          <a:blip r:embed="rId2"/>
          <a:stretch/>
        </p:blipFill>
        <p:spPr>
          <a:xfrm>
            <a:off x="1523880" y="990720"/>
            <a:ext cx="5762880" cy="24224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3048120" y="37339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半径</a:t>
            </a:r>
            <a:r>
              <a:rPr b="0" lang="en-US" sz="3200" spc="-1" strike="noStrike">
                <a:solidFill>
                  <a:srgbClr val="3333cc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3333cc"/>
                </a:solidFill>
                <a:latin typeface="黑体"/>
                <a:ea typeface="黑体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472428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你能知道什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还想知道什么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7"/>
          <p:cNvSpPr/>
          <p:nvPr/>
        </p:nvSpPr>
        <p:spPr>
          <a:xfrm>
            <a:off x="4427640" y="566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2"/>
          <p:cNvGraphicFramePr/>
          <p:nvPr/>
        </p:nvGraphicFramePr>
        <p:xfrm>
          <a:off x="2933640" y="2014560"/>
          <a:ext cx="4076640" cy="282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2" descr="纸袋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3640" y="2014560"/>
                    <a:ext cx="407664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3"/>
          <p:cNvGraphicFramePr/>
          <p:nvPr/>
        </p:nvGraphicFramePr>
        <p:xfrm>
          <a:off x="2076480" y="2590920"/>
          <a:ext cx="752400" cy="172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3" descr="纸袋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76480" y="2590920"/>
                    <a:ext cx="75240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Text Box 4"/>
          <p:cNvSpPr/>
          <p:nvPr/>
        </p:nvSpPr>
        <p:spPr>
          <a:xfrm>
            <a:off x="1523880" y="54864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金鱼是由哪些图形组成的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2"/>
          <p:cNvGraphicFramePr/>
          <p:nvPr/>
        </p:nvGraphicFramePr>
        <p:xfrm>
          <a:off x="2933640" y="2014560"/>
          <a:ext cx="4076640" cy="282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2" descr="纸袋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33640" y="2014560"/>
                    <a:ext cx="407664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4"/>
          <p:cNvSpPr/>
          <p:nvPr/>
        </p:nvSpPr>
        <p:spPr>
          <a:xfrm>
            <a:off x="2133720" y="5334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这些图形有哪些相同点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438280" y="9144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由线段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2076480" y="2590920"/>
          <a:ext cx="752400" cy="172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Object 2" descr="纸袋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76480" y="2590920"/>
                    <a:ext cx="75240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5"/>
          <p:cNvSpPr/>
          <p:nvPr/>
        </p:nvSpPr>
        <p:spPr>
          <a:xfrm>
            <a:off x="1981080" y="480060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由曲线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6"/>
          <p:cNvGraphicFramePr/>
          <p:nvPr/>
        </p:nvGraphicFramePr>
        <p:xfrm>
          <a:off x="1143000" y="380880"/>
          <a:ext cx="2630520" cy="259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80880"/>
                    <a:ext cx="26305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7"/>
          <p:cNvGraphicFramePr/>
          <p:nvPr/>
        </p:nvGraphicFramePr>
        <p:xfrm>
          <a:off x="5103720" y="380880"/>
          <a:ext cx="2668680" cy="245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3720" y="380880"/>
                    <a:ext cx="2668680" cy="24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8"/>
          <p:cNvGraphicFramePr/>
          <p:nvPr/>
        </p:nvGraphicFramePr>
        <p:xfrm>
          <a:off x="838080" y="3124080"/>
          <a:ext cx="3581640" cy="3124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3124080"/>
                    <a:ext cx="358164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9"/>
          <p:cNvGraphicFramePr/>
          <p:nvPr/>
        </p:nvGraphicFramePr>
        <p:xfrm>
          <a:off x="5105520" y="3276720"/>
          <a:ext cx="3124080" cy="2666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105520" y="3276720"/>
                    <a:ext cx="31240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10"/>
          <p:cNvSpPr/>
          <p:nvPr/>
        </p:nvSpPr>
        <p:spPr>
          <a:xfrm>
            <a:off x="2438280" y="1371600"/>
            <a:ext cx="4191120" cy="41911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2438280" y="3505320"/>
            <a:ext cx="4191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2"/>
          <p:cNvSpPr/>
          <p:nvPr/>
        </p:nvSpPr>
        <p:spPr>
          <a:xfrm flipV="1">
            <a:off x="4572000" y="13716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13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73392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圆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4648320" y="35053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18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9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20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21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22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23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24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33"/>
          <p:cNvSpPr/>
          <p:nvPr/>
        </p:nvSpPr>
        <p:spPr>
          <a:xfrm flipV="1">
            <a:off x="2940120" y="2145240"/>
            <a:ext cx="3187440" cy="27216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31"/>
          <p:cNvSpPr/>
          <p:nvPr/>
        </p:nvSpPr>
        <p:spPr>
          <a:xfrm flipH="1">
            <a:off x="3419640" y="1717560"/>
            <a:ext cx="2306160" cy="34992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9"/>
          <p:cNvSpPr/>
          <p:nvPr/>
        </p:nvSpPr>
        <p:spPr>
          <a:xfrm flipH="1">
            <a:off x="3171600" y="1908720"/>
            <a:ext cx="2802240" cy="31168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32"/>
          <p:cNvSpPr/>
          <p:nvPr/>
        </p:nvSpPr>
        <p:spPr>
          <a:xfrm>
            <a:off x="2841840" y="2193480"/>
            <a:ext cx="3384000" cy="24724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4549320" y="1371600"/>
            <a:ext cx="46800" cy="41911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9"/>
          <p:cNvSpPr/>
          <p:nvPr/>
        </p:nvSpPr>
        <p:spPr>
          <a:xfrm>
            <a:off x="3899520" y="1482840"/>
            <a:ext cx="1346400" cy="39686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28"/>
          <p:cNvSpPr/>
          <p:nvPr/>
        </p:nvSpPr>
        <p:spPr>
          <a:xfrm>
            <a:off x="3284280" y="1814400"/>
            <a:ext cx="2576880" cy="33055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27"/>
          <p:cNvSpPr/>
          <p:nvPr/>
        </p:nvSpPr>
        <p:spPr>
          <a:xfrm flipV="1">
            <a:off x="2476080" y="3108960"/>
            <a:ext cx="4115520" cy="7941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6"/>
          <p:cNvSpPr/>
          <p:nvPr/>
        </p:nvSpPr>
        <p:spPr>
          <a:xfrm flipH="1">
            <a:off x="2586240" y="2732760"/>
            <a:ext cx="3895200" cy="15465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5"/>
          <p:cNvSpPr/>
          <p:nvPr/>
        </p:nvSpPr>
        <p:spPr>
          <a:xfrm flipH="1">
            <a:off x="4008600" y="1449000"/>
            <a:ext cx="1128240" cy="40363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3099960" y="1976400"/>
            <a:ext cx="2945520" cy="29815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1"/>
          <p:cNvSpPr/>
          <p:nvPr/>
        </p:nvSpPr>
        <p:spPr>
          <a:xfrm>
            <a:off x="4217760" y="1401840"/>
            <a:ext cx="709920" cy="41306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8"/>
          <p:cNvSpPr/>
          <p:nvPr/>
        </p:nvSpPr>
        <p:spPr>
          <a:xfrm flipH="1">
            <a:off x="2715840" y="2463840"/>
            <a:ext cx="3636000" cy="20844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7"/>
          <p:cNvSpPr/>
          <p:nvPr/>
        </p:nvSpPr>
        <p:spPr>
          <a:xfrm flipH="1">
            <a:off x="3739320" y="1544400"/>
            <a:ext cx="1666800" cy="38455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2472120" y="3130560"/>
            <a:ext cx="4123440" cy="7509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2"/>
          <p:cNvSpPr/>
          <p:nvPr/>
        </p:nvSpPr>
        <p:spPr>
          <a:xfrm>
            <a:off x="2650320" y="2536560"/>
            <a:ext cx="3767040" cy="1837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3"/>
          <p:cNvSpPr/>
          <p:nvPr/>
        </p:nvSpPr>
        <p:spPr>
          <a:xfrm>
            <a:off x="3623040" y="1599120"/>
            <a:ext cx="1899360" cy="3736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6"/>
          <p:cNvSpPr/>
          <p:nvPr/>
        </p:nvSpPr>
        <p:spPr>
          <a:xfrm flipH="1">
            <a:off x="4314600" y="1371600"/>
            <a:ext cx="513360" cy="4159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>
            <a:off x="2438280" y="3505320"/>
            <a:ext cx="4191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2438280" y="3505320"/>
            <a:ext cx="419112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8"/>
          <p:cNvSpPr/>
          <p:nvPr/>
        </p:nvSpPr>
        <p:spPr>
          <a:xfrm>
            <a:off x="2438280" y="3505320"/>
            <a:ext cx="419112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2"/>
          <p:cNvSpPr/>
          <p:nvPr/>
        </p:nvSpPr>
        <p:spPr>
          <a:xfrm>
            <a:off x="2438280" y="1371600"/>
            <a:ext cx="4191120" cy="41911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2438280" y="3505320"/>
            <a:ext cx="4191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80988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圆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4648320" y="3429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5105520" y="3048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直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5943600" y="3048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Line 45"/>
          <p:cNvSpPr/>
          <p:nvPr/>
        </p:nvSpPr>
        <p:spPr>
          <a:xfrm flipH="1">
            <a:off x="4124520" y="3516480"/>
            <a:ext cx="437400" cy="20336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43"/>
          <p:cNvSpPr/>
          <p:nvPr/>
        </p:nvSpPr>
        <p:spPr>
          <a:xfrm flipH="1">
            <a:off x="3275280" y="3530520"/>
            <a:ext cx="1297080" cy="16257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42"/>
          <p:cNvSpPr/>
          <p:nvPr/>
        </p:nvSpPr>
        <p:spPr>
          <a:xfrm flipH="1">
            <a:off x="4613400" y="1492920"/>
            <a:ext cx="678960" cy="19659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0"/>
          <p:cNvSpPr/>
          <p:nvPr/>
        </p:nvSpPr>
        <p:spPr>
          <a:xfrm>
            <a:off x="4559040" y="3497040"/>
            <a:ext cx="178200" cy="20725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9"/>
          <p:cNvSpPr/>
          <p:nvPr/>
        </p:nvSpPr>
        <p:spPr>
          <a:xfrm>
            <a:off x="3540600" y="1639080"/>
            <a:ext cx="996120" cy="18255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8"/>
          <p:cNvSpPr/>
          <p:nvPr/>
        </p:nvSpPr>
        <p:spPr>
          <a:xfrm>
            <a:off x="4591080" y="3436200"/>
            <a:ext cx="1638360" cy="12808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7"/>
          <p:cNvSpPr/>
          <p:nvPr/>
        </p:nvSpPr>
        <p:spPr>
          <a:xfrm>
            <a:off x="4541400" y="3449880"/>
            <a:ext cx="518400" cy="20142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36"/>
          <p:cNvSpPr/>
          <p:nvPr/>
        </p:nvSpPr>
        <p:spPr>
          <a:xfrm flipH="1" flipV="1">
            <a:off x="4006800" y="1393200"/>
            <a:ext cx="520200" cy="20138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35"/>
          <p:cNvSpPr/>
          <p:nvPr/>
        </p:nvSpPr>
        <p:spPr>
          <a:xfrm>
            <a:off x="4515840" y="3479400"/>
            <a:ext cx="2017080" cy="5079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4"/>
          <p:cNvSpPr/>
          <p:nvPr/>
        </p:nvSpPr>
        <p:spPr>
          <a:xfrm>
            <a:off x="2451600" y="3052440"/>
            <a:ext cx="2031120" cy="4474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3"/>
          <p:cNvSpPr/>
          <p:nvPr/>
        </p:nvSpPr>
        <p:spPr>
          <a:xfrm flipH="1">
            <a:off x="4603680" y="1360800"/>
            <a:ext cx="88920" cy="2077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2"/>
          <p:cNvSpPr/>
          <p:nvPr/>
        </p:nvSpPr>
        <p:spPr>
          <a:xfrm>
            <a:off x="4547880" y="3499200"/>
            <a:ext cx="810360" cy="19155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1"/>
          <p:cNvSpPr/>
          <p:nvPr/>
        </p:nvSpPr>
        <p:spPr>
          <a:xfrm flipV="1">
            <a:off x="4613040" y="2275920"/>
            <a:ext cx="1670760" cy="12387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0"/>
          <p:cNvSpPr/>
          <p:nvPr/>
        </p:nvSpPr>
        <p:spPr>
          <a:xfrm flipV="1">
            <a:off x="2858760" y="3497400"/>
            <a:ext cx="1673640" cy="1234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9"/>
          <p:cNvSpPr/>
          <p:nvPr/>
        </p:nvSpPr>
        <p:spPr>
          <a:xfrm flipV="1">
            <a:off x="2438280" y="3505320"/>
            <a:ext cx="2057400" cy="30456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4"/>
          <p:cNvSpPr/>
          <p:nvPr/>
        </p:nvSpPr>
        <p:spPr>
          <a:xfrm>
            <a:off x="4542840" y="3473280"/>
            <a:ext cx="1430280" cy="15102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25"/>
          <p:cNvSpPr/>
          <p:nvPr/>
        </p:nvSpPr>
        <p:spPr>
          <a:xfrm flipV="1">
            <a:off x="3668040" y="3518280"/>
            <a:ext cx="893520" cy="18781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27"/>
          <p:cNvSpPr/>
          <p:nvPr/>
        </p:nvSpPr>
        <p:spPr>
          <a:xfrm flipV="1">
            <a:off x="4579560" y="1847160"/>
            <a:ext cx="1280160" cy="16390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3"/>
          <p:cNvSpPr/>
          <p:nvPr/>
        </p:nvSpPr>
        <p:spPr>
          <a:xfrm flipV="1">
            <a:off x="4572000" y="3200040"/>
            <a:ext cx="2057400" cy="3049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14"/>
          <p:cNvSpPr/>
          <p:nvPr/>
        </p:nvSpPr>
        <p:spPr>
          <a:xfrm>
            <a:off x="2438280" y="1371600"/>
            <a:ext cx="4191120" cy="41911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16"/>
          <p:cNvSpPr/>
          <p:nvPr/>
        </p:nvSpPr>
        <p:spPr>
          <a:xfrm>
            <a:off x="4495680" y="3429000"/>
            <a:ext cx="152640" cy="15228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4724280" y="33526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22"/>
          <p:cNvSpPr/>
          <p:nvPr/>
        </p:nvSpPr>
        <p:spPr>
          <a:xfrm>
            <a:off x="6553080" y="3124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6"/>
          <p:cNvSpPr/>
          <p:nvPr/>
        </p:nvSpPr>
        <p:spPr>
          <a:xfrm>
            <a:off x="3089160" y="1955520"/>
            <a:ext cx="1441800" cy="14990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8"/>
          <p:cNvSpPr/>
          <p:nvPr/>
        </p:nvSpPr>
        <p:spPr>
          <a:xfrm rot="21076200">
            <a:off x="5257440" y="3276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半径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3733920" y="3505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圆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1"/>
          <p:cNvSpPr/>
          <p:nvPr/>
        </p:nvSpPr>
        <p:spPr>
          <a:xfrm flipV="1">
            <a:off x="2554560" y="3563280"/>
            <a:ext cx="1977120" cy="6454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4"/>
          <p:cNvSpPr/>
          <p:nvPr/>
        </p:nvSpPr>
        <p:spPr>
          <a:xfrm flipH="1" flipV="1">
            <a:off x="2604600" y="2599200"/>
            <a:ext cx="1876680" cy="89712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500"/>
                            </p:stCondLst>
                            <p:childTnLst>
                              <p:par>
                                <p:cTn id="2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2"/>
          <p:cNvSpPr/>
          <p:nvPr/>
        </p:nvSpPr>
        <p:spPr>
          <a:xfrm>
            <a:off x="3124080" y="1981080"/>
            <a:ext cx="2895840" cy="2895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1911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3962520" y="2133720"/>
            <a:ext cx="152388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3200400" y="2971800"/>
            <a:ext cx="274320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3124080" y="3657600"/>
            <a:ext cx="144792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8"/>
          <p:cNvSpPr/>
          <p:nvPr/>
        </p:nvSpPr>
        <p:spPr>
          <a:xfrm flipV="1">
            <a:off x="4572000" y="3123720"/>
            <a:ext cx="91440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 flipH="1">
            <a:off x="4800240" y="2362320"/>
            <a:ext cx="22860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28954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59436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3733920" y="1752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541008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6668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4381560" y="4800600"/>
            <a:ext cx="4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5334120" y="2971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5720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49528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1028880" y="609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中哪些是半径？哪些是直径？哪些不是，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4572000" y="3429000"/>
            <a:ext cx="1371600" cy="4572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3200400" y="2971800"/>
            <a:ext cx="1371600" cy="45720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3200400" y="2971800"/>
            <a:ext cx="2743200" cy="914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3"/>
          <p:cNvSpPr/>
          <p:nvPr/>
        </p:nvSpPr>
        <p:spPr>
          <a:xfrm>
            <a:off x="3962520" y="2133720"/>
            <a:ext cx="60948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3"/>
          <p:cNvSpPr/>
          <p:nvPr/>
        </p:nvSpPr>
        <p:spPr>
          <a:xfrm>
            <a:off x="4495680" y="3352680"/>
            <a:ext cx="152640" cy="15264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200" y="6369120"/>
            <a:ext cx="337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23:40:33Z</dcterms:created>
  <dc:creator/>
  <dc:description/>
  <cp:keywords>幻灯片之家 http:/www.eeppt.com</cp:keywords>
  <dc:language>en-US</dc:language>
  <cp:lastModifiedBy/>
  <dcterms:modified xsi:type="dcterms:W3CDTF">2015-07-18T14:02:32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