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036-9AE5-4412-ADCF-71C7313C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967-FE9C-4F57-811A-EDE838C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EB8-C342-4C0C-9590-E5B6EC1D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C72-F89A-4FE1-A58D-5248D954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051-3257-4557-9EA1-5237F35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9CD-6D0A-4A54-8E74-75EF826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6FF-DD4E-4A4C-A422-A765F1F1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09A-5566-4B62-9B2E-EE523CF5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775-98C9-4B6B-B8F1-ADA3227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28C-47B0-4B5A-AF96-F7E5616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31B-C729-4D49-9E25-CCFCCA5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F7D-512B-459D-891E-E28AB0B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5ED-ABAA-4936-B0AC-920268981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a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609480" y="-176040"/>
            <a:ext cx="7882200" cy="3309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95280" y="40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儿应声答曰：“未闻孔雀是夫子家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141720"/>
            <a:ext cx="358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未：没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子：旧时对学者或老师的尊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梁国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一户姓杨的人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个九岁的儿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非常聪明。一天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君平来拜见他的父亲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恰巧他父亲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就把这个孩子叫了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孩子给孔君平端来水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其中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指着杨梅给孩子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并说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你家的水果。”孩子马上答道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可没听说孔雀是先生您家的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1"/>
          <p:cNvPicPr/>
          <p:nvPr/>
        </p:nvPicPr>
        <p:blipFill>
          <a:blip r:embed="rId2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1143000" y="14479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熟读而精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981080" y="26668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杨氏之子的回答妙在哪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4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447920" y="1676520"/>
            <a:ext cx="7696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君家果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杨氏之子的言外之意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您认为杨梅是我家的水果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孔雀不是您家的鸟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250920" y="227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风趣机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38606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想：孔君平听了孩子的话会是什么反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26920" y="47628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79280" y="476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杨氏之子是个什么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梁国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杨氏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九岁，甚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聪慧。孔君平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诣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其父，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在，乃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呼儿出。为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设果，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杨梅。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君家果。”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18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美美地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619280" y="692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有关于言语表达的小故事（广告词、对联、歇后语等）吗？和同学们交流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523880" y="45720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36450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东坡难对的千古绝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锡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锡壶掉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惜乎锡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03280" y="5157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逢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家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子遇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佳姿家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63403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yang2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5560" y="0"/>
            <a:ext cx="4752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氏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国杨氏子九岁，甚聪惠。孔君平诣其父，父不在，乃呼儿出。为设果，果有杨梅。孔指以示儿曰：“此是君家果。”儿应声答曰：“未闻孔雀是夫子家禽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42920" y="1700280"/>
            <a:ext cx="712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桥梁     优惠     造诣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乃至     子曰     家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17524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476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梁国杨氏子九岁，甚聪惠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2781360"/>
            <a:ext cx="426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惠：同“慧”，智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90720" y="1981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602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孔君平诣其父，父不在，乃呼儿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3657600"/>
            <a:ext cx="4648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诣：拜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乃：就，于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24000" y="333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70028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）为（  ）设果，果有杨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8360" y="476280"/>
            <a:ext cx="3809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儿）为（孔）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设：摆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9640" y="549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孔指以示儿曰：“此是君家果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0920" y="2781360"/>
            <a:ext cx="358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：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曰：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FA5-7C32-4735-A2C3-0D5F23A65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7:50Z</dcterms:created>
  <dc:creator/>
  <dc:description/>
  <cp:keywords>幻灯片之家 http:/www.eeppt.com</cp:keywords>
  <dc:language>en-US</dc:language>
  <cp:lastModifiedBy/>
  <dcterms:modified xsi:type="dcterms:W3CDTF">2015-07-20T04:24:0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