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F93-4D4E-469C-B4C6-AEB4E563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D2B-72FE-464D-A80C-403562C4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521D2-FF82-4973-8D53-77046DA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0DC15-055C-4161-AFC1-DE5D9F1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1C4A9-1351-477D-BAF9-D39ADA2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CF8BD-3AD6-4355-BC84-94B59C1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B8E6F-90FC-41FC-AD6C-24F2856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28257-6E31-4DA9-BE18-005E700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78595-8573-4857-ACF2-1091DA1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473FF-108E-41E9-9BBC-4E935A95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F5219-989E-40B2-8C3C-5E554685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C7A49-BB13-45D0-84CA-82DE8291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AD0-B8EA-4F6D-B64A-A0369BE1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4A45-3436-4A9B-A247-7495CA5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52960-8FAE-495F-8885-DEAE52D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926CB-329E-47CB-86F8-37449EC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AB251-CDDB-4D54-90A0-19C640C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3F14A-A617-4326-876F-1213F1F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89224-7C6B-472B-9F02-F5EB1F0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B2B8B-80DA-4D84-9BC9-F19415F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0516F-3C49-4BB4-95AB-7F08830E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0E116-CA10-4136-BDDD-A7476832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CE31C-9C0C-4DF9-B659-C4BC135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55E-1772-4E77-8121-EE700F7F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3D143-3D3D-44FF-B6AD-58E9EFCF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3C02-B006-4E12-A192-68206EC3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0DC6C-546E-44C4-8313-437D3FA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1C107-C625-4B89-8E11-959AA5ED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A22B-0BAD-4C26-907F-A810638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C588B-8C01-4CBF-B9CF-2AD234F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5E31E-6990-4594-8A84-982D8F7C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5317E-E5DA-4EDF-8C0C-F363682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34F7E-9B40-4194-BB3F-6E36FB8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F9090-7DA4-403F-8F3C-346CF9A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597A-EA46-4E60-9866-EFAA177A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C128A-38BF-45C7-9AD3-214541EC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3B55-E19C-4A0D-9235-5F61C4E7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7420-4EE2-418B-BED2-25435AF4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20C2D-60AF-4AAC-9662-19E4DC2D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EF068-783C-4B6A-B109-D1DEC75E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CA8C-2D76-4D0D-9B26-6D6C4DD1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4F3E7-5240-4FBF-96DB-FE51803D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54AE5-4B8B-45D0-8193-78F1F87A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8D258-9898-49BF-9EB9-B60E1C33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8165D-1016-4CCA-9C23-CC75D09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9304-3313-4C7C-B9ED-51494ADE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B7D44-4FF0-4131-93F8-76BD292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A89AD-C7EA-4E87-AD07-835F947A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56C59-3324-44F4-9149-80AE0503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99E3-F5C2-462E-92C5-1C08319E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D5475-D6C9-47F1-864D-6B5B447A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80014-498C-4CA2-8F8D-DC444D17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6C40A-E617-4A39-B10B-E37B6C4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6B53B-DCB4-4CBC-A93D-7C3B7F0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F6055-B616-4CD2-B229-6E134E58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DEBC4-042F-4BD2-8880-CBEA662F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D278-712C-4147-BB6C-9EFF4F64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37B6F-5502-481E-9BAE-660238D6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DE348-6331-490E-A3F3-7C7ACA5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AE13C-DE20-40D5-AA86-43B7A5E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9D824-CE76-4361-BDF8-C4E6EC5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CBF46-A1C2-4ABB-BB36-C17C1AC8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8D702-F8F0-4A67-B376-A66A9EF5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C3772-531D-4575-8BF1-50C71420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781-7031-4FFC-8578-3BF1CE3C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2A0-3D0C-40A4-8054-E64E6D09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3E51-5F17-4D50-9150-707AB7FA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A3C3-786E-4F17-AB56-E0295F0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65E-A94A-4627-BD78-EC812F5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14BE-A3FE-48AA-B48B-E089BE6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4F8-247A-4A23-A8B3-E848D442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2A05-CEA9-48DB-8698-B5E9264C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24FE-C6F1-4877-AA58-AD5E1A69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E13-5766-4B00-91B4-BB6643ED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97F0-B532-4FA6-965B-19C9499C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4317-EDD6-4ADB-B196-608B475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8C3E-BB89-45F0-9795-A6E4DF6D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C2B3-30E1-4C6A-A074-093B5BAD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6CC5-17AB-4137-812C-0BFEFAD8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4BC-27ED-4A4D-8FA8-2D1D499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4EFB-80F6-411F-AF67-DF7C5BEB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8AEB-C343-4EF7-A7A9-30B468D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7D97-AAD3-4359-B1C7-BD401CF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92FB-FEC2-44BA-BB2F-09AEEC64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DFA2-8E21-418E-BFF1-BD0064A8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65A7-A557-4AFD-A6F2-384860A9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7C78-59CD-480A-865A-E5CE5C10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5C59-67DA-4790-9537-CAFDBD92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C0D6-2FB1-435F-87D2-AF848AA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DB96-E620-4AF1-AD17-400FFDEA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2AD-A682-45C8-9CCD-8ECFA0B4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E007-0D96-4E1E-BC42-1978419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B0E73-9A29-4D44-B7BB-7CEE800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A051-EC0E-490C-95AC-F0D8292B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7A4D-F12F-424D-843F-BFCAE0D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EB63-562F-40BA-B8A5-E462BA1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9E4E-09A8-4B24-912A-4EE0856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1BA0-8986-4BAA-9AF4-A0FD5904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0BEF-7095-4CD0-9D73-E606EF0D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C95C-B5CE-4482-B4FE-488560D8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E1A3-DC91-4B79-B67A-80967036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F62-B346-4E4C-9663-99652010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6AE0-4A31-449D-A0CD-ABB012E8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B661-2429-49A3-AAB4-38B1DBF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C654-A47C-4949-B8D9-FE2AC23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D690-0134-46CA-BB7C-F9D9FB64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4ABA-B9C7-427E-A141-CE9E41E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0B20D-9CB4-4333-ACBA-1849BA4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2B2B-2ABC-4E36-A805-EE8AD87C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BAB0-B34B-4299-BF97-C9CE1B5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9C3C-25BD-4CF6-83E4-4B7A8B1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62AD-7922-468E-BAB0-A0FB7E1A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FF8-0A7D-4FD0-8D9E-B5B24CB7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7BFC0-FF6D-49C0-8B74-C6E33E27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4F12-BDC9-4780-A44F-9D5F64F4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C2DB-E986-41F5-88B7-5A7486FB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EF6B-10F5-43BE-9277-66F47A1B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CB44-A415-44A7-83CE-168E842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0E6E-FC2F-4065-A6D1-EC80F5F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39FB-5EAF-4423-9D23-5F723E6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01E3D-5AD5-45B3-AF82-D19C234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A307-8EBD-4A96-B547-5937F22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F624-3136-4783-A690-EA152417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4B-374B-4DBB-A8D2-E1007BA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3DB8C-4613-47AE-A039-F6526AF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F83A-AE11-4A69-A297-FB31BEBF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49DC4-6E75-40D5-A60F-997FB1BB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FA7C-9374-4D3E-BFE1-03EFAD90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555D-5ED1-4651-BE92-6D2163A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2F50E-0CC4-4659-AE07-6723F880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BC8D-25AB-4160-876C-9C6341D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A523-D428-4B93-B129-E05061A1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AB2C-4A3D-45E5-9ABE-D26BEEE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EDC6-DA08-4FB0-B20E-2D87E01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E58-0F82-4272-9064-BCE0B31A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BD01-9654-4F26-A666-9E25CA3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ECDC9-8C0D-4220-B0B6-237B19DD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9DB6-0571-4D6C-8D98-6BDB54C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91C1-C7BD-4D83-A514-A945394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06B7-5A61-4A0A-8B4C-16A998A0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5BF0E-08A9-4CE2-AF2F-BC329005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4650-464B-482C-B598-9480B134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222CB-7EC3-445B-8D15-23ACEAE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A7B3-00D0-4731-B891-338AA0FD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5149F-9036-42A9-AFD9-61BC320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DB8-0B7E-4411-B48C-C0335E3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D3468-2D81-4100-ACA8-C5DD3A4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7E2C-87F6-45EE-8E6C-03B5F8B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005B-7438-4204-B9EC-D6EC66B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D07EA-0F2C-4EB8-AAEA-D9F47EF3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5BBA-B147-4092-9CD5-E2FEA6FC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4BCA9-ADD2-42E6-954A-30B5F708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6F58-BFCB-4417-ACDE-B3DCD7F3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62A3E-BD64-40DD-BE98-CADFFE2B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2AABA-525D-4A6B-966D-DB7622E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812D5-B854-44A2-BF37-D0ABBE2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E9B6-C4E5-4FB6-96DB-0CE66C3D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51E-D581-4C73-9F2D-9BC0768364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6C09-1F07-4391-86BD-DA805137D9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A799-B768-4326-AA58-36B281CBA6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7DA-BEF2-4BEA-9F02-0BA955316E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75CA-5F20-40D8-ADA3-4A99DEFDA1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F3E7-4B09-4000-B69F-033496175E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607-8367-427C-AA9C-2A74800276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A636-00F6-4E0F-9487-1E73CC9C80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3A1B-CD4C-4746-8369-E258455631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2FB-E320-43E9-A8F7-29AB3715BE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47AC-FE64-4ACE-B260-4C52B20719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C602-9D7C-4024-9887-D47F8B53D0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古诗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6" name="矩形 1"/>
          <p:cNvSpPr/>
          <p:nvPr/>
        </p:nvSpPr>
        <p:spPr>
          <a:xfrm>
            <a:off x="2647440" y="13892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氏之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9"/>
          <p:cNvSpPr/>
          <p:nvPr/>
        </p:nvSpPr>
        <p:spPr>
          <a:xfrm>
            <a:off x="2076480" y="2863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《世说新语》"/>
          <p:cNvPicPr/>
          <p:nvPr/>
        </p:nvPicPr>
        <p:blipFill>
          <a:blip r:embed="rId2"/>
          <a:stretch/>
        </p:blipFill>
        <p:spPr>
          <a:xfrm>
            <a:off x="304920" y="838080"/>
            <a:ext cx="4205160" cy="51055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5105520" y="60948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南朝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刘义庆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说新语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是一部主要记载汉末至晋代士族阶层言谈轶事的小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533520" y="1600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梁国／杨氏子／九岁，甚聪惠。孔君平／诣／其父，父／不在，乃／呼儿出。为／设果，果／有杨梅。孔／指以示儿／曰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此／是君家果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儿／应声答曰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未闻／孔雀／是夫子家／禽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80880" y="380880"/>
            <a:ext cx="28958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朗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685800" y="2057400"/>
            <a:ext cx="7467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氏：姓氏，表示家族的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夫子：旧时对学者或老师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设：摆放，摆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380880" y="380880"/>
            <a:ext cx="18288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古诗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6"/>
          <p:cNvSpPr/>
          <p:nvPr/>
        </p:nvSpPr>
        <p:spPr>
          <a:xfrm>
            <a:off x="2836440" y="1828800"/>
            <a:ext cx="317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孔指以示儿曰：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此是君家果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儿应声答曰：“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未闻孔雀是夫子家禽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3276720" y="3505320"/>
            <a:ext cx="4267080" cy="20574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200400" y="3429000"/>
            <a:ext cx="4114800" cy="2286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3505320" y="2133720"/>
            <a:ext cx="3962160" cy="3429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4724280" y="990720"/>
            <a:ext cx="3200400" cy="33526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3"/>
          <p:cNvSpPr/>
          <p:nvPr/>
        </p:nvSpPr>
        <p:spPr>
          <a:xfrm>
            <a:off x="457200" y="4495680"/>
            <a:ext cx="6172200" cy="2133720"/>
          </a:xfrm>
          <a:prstGeom prst="wedgeEllipseCallout">
            <a:avLst>
              <a:gd name="adj1" fmla="val 33412"/>
              <a:gd name="adj2" fmla="val -10037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609480" y="50292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梁国杨氏子九岁，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聪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7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5"/>
          <p:cNvSpPr/>
          <p:nvPr/>
        </p:nvSpPr>
        <p:spPr>
          <a:xfrm>
            <a:off x="152280" y="19810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谢太傅寒雪日内集，与儿女讲论文义，俄而雪骤，公欣然曰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白雪纷纷何所似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兄子胡儿曰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撒盐空中差可拟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兄女曰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未若柳絮因风起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公大笑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80880" y="380880"/>
            <a:ext cx="31244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相关链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7"/>
          <p:cNvSpPr/>
          <p:nvPr/>
        </p:nvSpPr>
        <p:spPr>
          <a:xfrm>
            <a:off x="0" y="838080"/>
            <a:ext cx="899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这则故事的大意是：在一个下雪的冬日里，谢太傅召集孩子们谈论有关做文章的事。一会儿，雪下大了，谢太傅很高兴，就问孩子们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纷纷飘落的白雪像什么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他哥哥的儿子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用空中撒盐勉强可以比方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他哥哥的女儿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008000"/>
                </a:solidFill>
                <a:latin typeface="幼圆"/>
                <a:ea typeface="幼圆"/>
              </a:rPr>
              <a:t>不如用柳絮因风飞舞来比方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谢太傅大笑，非常高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1:19Z</dcterms:created>
  <dc:creator/>
  <dc:description/>
  <cp:keywords>幻灯片之家 http:/www.eeppt.com</cp:keywords>
  <dc:language>en-US</dc:language>
  <cp:lastModifiedBy/>
  <dcterms:modified xsi:type="dcterms:W3CDTF">2015-07-20T04:26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