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9CB-F233-490C-A60A-2EA6AE0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02B-6550-4880-828B-43B9BFD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6C6-C7F9-4690-AC4E-8CCAFBCC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260-6F4A-49D8-9152-9D88A956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928-7E83-4CE3-AFB7-2C0909C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942-EC67-4F4D-8C02-DBC9256E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C02-9CD0-4265-BEF2-31B7DA13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EE2-B600-4E1F-8DF2-112F5E7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0C4-7D05-4217-8C00-3DEDCF9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C61-BC30-414A-984D-2A3CD8A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D51-E33E-4DB6-853B-6334036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F2B-7BFB-493C-960A-64FED6E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155-3370-4CD7-80C4-DD81EAF248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206208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981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夜莺的歌声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08000" y="774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读读课文，说说课文讲了一件什么事，被游击队员称作小夜莺的那个孩子，给你留下了怎样的印象；课文最后的两个自然段和开头的三个自然段有什么联系，从这样的开头、结尾中，你读懂了什么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43200" y="914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夜莺的歌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52280" y="30481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小男孩（夜莺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743200" y="2438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4812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怎么会就剩下我一个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0481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野兽来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048120" y="3429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学鸟叫、打、拾、踢球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8120" y="40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是一种蘑菇吗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AutoShape 14"/>
          <p:cNvSpPr/>
          <p:nvPr/>
        </p:nvSpPr>
        <p:spPr>
          <a:xfrm flipH="1">
            <a:off x="7162200" y="2514600"/>
            <a:ext cx="228600" cy="1905120"/>
          </a:xfrm>
          <a:custGeom>
            <a:avLst/>
            <a:gdLst>
              <a:gd name="textAreaLeft" fmla="*/ 145800 w 228600"/>
              <a:gd name="textAreaRight" fmla="*/ 22860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54"/>
                </a:lnTo>
                <a:cubicBezTo>
                  <a:pt x="10800" y="9054"/>
                  <a:pt x="5400" y="9954"/>
                  <a:pt x="0" y="9954"/>
                </a:cubicBezTo>
                <a:cubicBezTo>
                  <a:pt x="5400" y="9954"/>
                  <a:pt x="10800" y="10854"/>
                  <a:pt x="10800" y="11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467480" y="2514600"/>
            <a:ext cx="1676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机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勇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爱祖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《夜莺的歌声》朗读.MP3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542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3808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战斗刚刚结束，一小队德国兵进了村庄。大道两旁全是黑色的碎瓦。空旷的花园里，烧焦的树垂头丧气地弯着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夜莺的歌声打破了夏日的沉寂。这歌声停了一会儿，接着又用一股新的劲头唱起来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2734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第二天，在被烧毁的村子的围墙旁边，在那小路分岔的地方，孩子又穿着那件绿上衣，坐在原来那河岸边削什么东西，并且不时回过头去，望望那通向村子的几条道路，好像在等谁似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从孩子的嘴里飞出宛转的夜莺的歌声。这歌声，即使是听惯了鸟叫的人也觉察不出跟真夜莺的有什么两样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234-143D-4149-8889-6F794C77927B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057400" y="274320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首尾呼应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前后连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5" descr="0(3)"/>
          <p:cNvPicPr/>
          <p:nvPr/>
        </p:nvPicPr>
        <p:blipFill>
          <a:blip r:embed="rId2"/>
          <a:stretch/>
        </p:blipFill>
        <p:spPr>
          <a:xfrm>
            <a:off x="1295280" y="1219320"/>
            <a:ext cx="243864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>
            <a:hlinkClick r:id="" action="ppaction://hlinkshowjump?jump=endshow"/>
          </p:cNvPr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7636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imes New Roman"/>
              </a:rPr>
              <a:t>想一想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42920" y="2852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你还知道哪些小英雄的机智勇敢的事迹？说出来，比一比，看谁知道得最多。说说我们应该从这些小英雄身上学习哪些优秀品质？如果你处在那样的环境里，你会像小英雄那样挺身而出吗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8:03:40Z</dcterms:created>
  <dc:creator/>
  <dc:description/>
  <cp:keywords>幻灯片之家 http:/www.eeppt.com</cp:keywords>
  <dc:language>en-US</dc:language>
  <cp:lastModifiedBy/>
  <dcterms:modified xsi:type="dcterms:W3CDTF">2015-07-10T09:37:0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