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523-6C85-4D24-B623-EA688456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2F0-A087-4663-BFE9-DFF147CB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E2D-36F9-477C-B885-8B0CED1A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133-5076-4083-840E-8D15A14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FF2-D3C5-4A54-B6B6-CC74DDA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64B-2AC3-4BEA-9210-9A4FFAC3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7EF-78B1-4DE1-956B-9FDC00C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5E0-CADD-4950-92FA-DA6242D6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7AC-2901-4FCC-958C-D93EBD2D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7C1-5CD5-4200-8310-B4C1A78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750-B795-42D1-A46A-4EF6CA3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C3C-80CF-489F-9BD6-39B9258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636-A8F8-4987-863D-76A8BC13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76,6,&#24187;&#28783;&#29255; 6" TargetMode="External"/><Relationship Id="rId3" Type="http://schemas.openxmlformats.org/officeDocument/2006/relationships/hyperlink" Target="278,10,&#24187;&#28783;&#29255; 10" TargetMode="External"/><Relationship Id="rId4" Type="http://schemas.openxmlformats.org/officeDocument/2006/relationships/hyperlink" Target="277,14,&#24187;&#28783;&#29255; 14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836640"/>
            <a:ext cx="77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4760" y="981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嫦娥奔月》优质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987640" y="1267200"/>
            <a:ext cx="40338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奸诈贪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有个叫逢蒙的，为人奸诈贪婪，也随着众人拜在后羿的门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八月十五这天清晨，后羿要带弟子出门去，逢蒙假装生病，留了下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到了晚上，逢蒙手提宝剑，迫不及待地闯进后羿家里，威逼嫦娥把仙药交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88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908000" y="1125000"/>
            <a:ext cx="57247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丽善良、机智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她经常接济生活贫苦的乡亲，乡亲们都非常喜欢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嫦娥心里想，让这样的人吃了长生不老药，不是要害更多的人吗？于是，她便机智地与逢蒙周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眼看就要搜到百宝匣了，嫦娥疾步向前，取出仙药，一口吞了下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她飞出了窗子，飞过了洒满银辉的郊野，越飞越高。碧蓝碧蓝的夜空挂着一轮明月，嫦娥一直朝着月亮飞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只见皓月当空，圆圆的月亮上树影婆娑，一只玉兔在树下跳来跳去。啊！妻子正站在一棵桂树旁深情地凝望着自己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539640" y="4683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2"/>
          <p:cNvPicPr/>
          <p:nvPr/>
        </p:nvPicPr>
        <p:blipFill>
          <a:blip r:embed="rId16"/>
          <a:stretch/>
        </p:blipFill>
        <p:spPr>
          <a:xfrm>
            <a:off x="0" y="3284640"/>
            <a:ext cx="2757600" cy="3573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79280" y="476280"/>
            <a:ext cx="763272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méng       jiān         tān        wán         qǐ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蒙   奸   贪   丸   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lún          zhà         jì             xiá                             </a:t>
            </a:r>
            <a:r>
              <a:rPr b="0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仑   诈   济   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995640" y="4869000"/>
            <a:ext cx="424656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生字学习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乡亲们很想念好心的嫦娥，在院子里摆上嫦娥平日爱吃的食品，遥遥地为她祝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702-A7F4-460B-B6CC-034CF4C3E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此以后，每年八月十五，就成了人们企盼团圆的中秋佳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此时此刻，乡亲们又想起了嫦娥对他们的帮助，不禁</a:t>
            </a:r>
            <a:r>
              <a:rPr b="0" lang="en-US" sz="5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平湖秋月.mp3" descr=""/>
          <p:cNvPicPr/>
          <p:nvPr/>
        </p:nvPicPr>
        <p:blipFill>
          <a:blip r:embed="rId2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3284640"/>
            <a:ext cx="2757600" cy="357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836640"/>
            <a:ext cx="8820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逢蒙    药丸     企盼     昆仑    接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药匣    威逼     周旋     凝望    敬重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皓月当空     树影婆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迫不及待     奸诈贪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2"/>
          <p:cNvPicPr/>
          <p:nvPr/>
        </p:nvPicPr>
        <p:blipFill>
          <a:blip r:embed="rId1"/>
          <a:stretch/>
        </p:blipFill>
        <p:spPr>
          <a:xfrm>
            <a:off x="1692360" y="404640"/>
            <a:ext cx="57052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657440" y="3477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2"/>
              </a:rPr>
              <a:t>后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57440" y="29973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3"/>
              </a:rPr>
              <a:t>逢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57440" y="17733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4"/>
              </a:rPr>
              <a:t>嫦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532720" y="6381720"/>
            <a:ext cx="503280" cy="432000"/>
          </a:xfrm>
          <a:custGeom>
            <a:avLst/>
            <a:gdLst>
              <a:gd name="textAreaLeft" fmla="*/ 27000 w 503280"/>
              <a:gd name="textAreaRight" fmla="*/ 476280 w 50328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811" y="1350"/>
                </a:lnTo>
                <a:lnTo>
                  <a:pt x="1350" y="135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811" y="20250"/>
                </a:lnTo>
                <a:lnTo>
                  <a:pt x="23811" y="135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11" y="2025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61" h="21600">
                <a:moveTo>
                  <a:pt x="5537" y="3756"/>
                </a:moveTo>
                <a:lnTo>
                  <a:pt x="19624" y="10800"/>
                </a:lnTo>
                <a:lnTo>
                  <a:pt x="5537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979640" y="1051920"/>
            <a:ext cx="568944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力大无比、为民除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有一个力大无比的英雄名叫后羿，他决心为老百姓解除这个苦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后羿登上昆仑山顶，运足气力，拉满神弓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”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口气射下了九个太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他对天上最后一个太阳说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今以后，你每天必须按时升起，按时落下，为民造福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3:50:19Z</dcterms:created>
  <dc:creator/>
  <dc:description/>
  <cp:keywords>幻灯片之家 http:/www.eeppt.com</cp:keywords>
  <dc:language>en-US</dc:language>
  <cp:lastModifiedBy/>
  <dcterms:modified xsi:type="dcterms:W3CDTF">2015-07-04T13:28:2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