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7EE-789F-40DC-A8B2-A7381964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6C0-05E3-4D8A-B117-C24FE4FF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B707C-D1FD-4636-90CF-39BB9ADB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B7156-6988-4DA6-9933-37A61105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41446-B7BC-4AF4-B33E-C22C553B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61E90-9472-4C7F-BE6A-B541DA50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D1E8F-F031-44B8-B851-156D73FC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5DB89-1E44-4C12-8539-8D6C715C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88F9B-C2D8-4443-AC21-78EDD872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77336-6A1C-41B2-BEDC-B95EE795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59F01-81D6-4B35-B6C7-470A7D8E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2F9FE-782E-46BA-9428-AC3685F5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9F3-6CB5-4A26-8142-24E6E66C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C4549-D2E7-498E-894B-A3EB332A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E629D-9C1F-42E7-9922-A37AF20F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F88FC-47CB-4582-B6F8-0643D1A2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77EEC-4311-4B54-81A9-8191817C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EE549-C3C5-4BE0-98D4-14DC4C7D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CD177-59CF-4704-BC93-25C46B12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D864E-4A02-41AD-8967-D414B733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24E12-B3DA-4A17-8C9C-6E3B22BB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10B70-C795-405E-979B-2C7F75E1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43617-0EE9-4B3D-8832-81DE634C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EA4-AC87-4FB2-87D8-0C0C8892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20E2C-8224-4646-A338-0B2E1876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713EC-8D51-4951-B874-C38C28A5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9D37B-8DBE-4F6C-AA70-5BB5A88C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5FEBC-A292-49C3-B807-9F9DC301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A9C51-EB7F-42A9-BBE4-6B9B9850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6E5A0-5664-4281-B6B2-F4F44D10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199A5-CA34-4E36-861B-6ABDDEE3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1239F-1F65-4E69-A9EE-BFBADB08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C39AD-5D18-4A67-B85D-4A8AC443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134EF-137E-4D4A-A5A2-D079E2F7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62B6-887F-4A9F-AEF9-0A008A6A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03E3F-6E26-43AA-B101-5A7A378F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EAF6D-E672-4473-A3BB-9B415457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605FD-D803-4848-A1FB-720A8F60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95893-8D0B-4AB2-B8A2-89E97326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EF56A-CE75-4D1D-A3C5-99167DA4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C80A4-F1F0-4220-947B-CFBC1AA4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16ED1-4385-4AC8-92F0-6642FB24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DC03C-CF6F-4A47-A7AF-D7E9B6E6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2025C-D276-47C9-9FF4-374288CA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CF525-CFD8-4FB8-840B-F8284E1C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BB4D-00B3-40B1-917B-082A36C6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813A1-E3DD-4C03-8001-CBECF627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55FC3-81E8-4D92-AAB7-B03C8AD9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11E81-20FA-4A14-9E88-9998D2E1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ADE62-162B-42D2-ABAC-020FD1EC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457BA-AB68-4401-A9EB-6656673D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B7A08-84A5-4209-9425-7D3781A7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6CC84-DD90-4CBB-9E46-2A4E0A31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CA4A5-97BB-4013-92F2-804E95BF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C753F-4A58-4C2D-B6A9-4F475FFE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B1A21-52B1-49B8-A6AF-0CB009DE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8123-0E12-4CC1-B540-E1CC4535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797D8-69BA-4F69-9C9B-46706017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24687-69C9-47A6-8EA6-7ADADEF2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FFBE0-023E-4FAB-BDD9-3E872919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6A43D-CF26-423B-ABBE-E3E83159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F225F-A5A7-4720-BD1F-64F61863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5D26D-E102-4CD5-A543-0DEA5434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7EB94-45DC-4695-8F43-A110F41E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D179C0-8BF3-452C-B6A1-4C3F9D67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927792-12BD-46A5-992A-A04421C3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A32D0-9E8F-41F7-82EA-9119B01C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2393-A3E2-4813-B161-E3969A02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98AA7E-05BE-4751-8A3E-2177A2C7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2EDFB-8A90-4960-B708-6CCC6E86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84922C-C58E-4CE2-8555-A85E0751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E1043-6D9C-4DBF-B798-C4F9734F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E77B0-FF1F-4360-A4AF-1EB75DEA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20E06-1F8E-4AC5-81CE-9057FB9E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EFCD7C-50AB-49BC-A47F-FDFE73DE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088CE-B97C-4A0A-B113-8DF530DE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545D9-4665-4279-A019-3E4BF2F2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B65D-AAB6-406A-A457-4C294CC3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0AA3-DA55-47C4-AC39-53C8D1BF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42C3-0C70-4C0D-9DFF-EABD723F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5EB-5587-4E1E-974A-3ABB2C80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3058-B400-416C-8CDC-3FE4DD36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7483-E6EB-4193-8702-ED886775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CDB2-AF80-4AC5-85AC-2AE9FE9C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D37B-CF39-409B-B410-3182989B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CFAE-98A1-41B5-96B4-1B85B657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C3D79-8C2F-497E-B0A3-897088DD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281F7-673E-4933-9120-4570D830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6F48-9587-4026-AAAD-D08CA8C2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91F8C-6C07-405E-96B4-997E04E6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4CA39-B3E0-4171-AB25-02F80A5D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234-094E-45E1-A4F5-724BDC45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2C4F-5AAC-4315-A4AD-E0AA8E83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C63A2-6CD6-4634-BDDC-F7438898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91F8D-4CF0-461D-946A-816EA2FF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2A13B-85F9-4F7B-AF7F-E6E5D53F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7D003-2F4D-4B46-8187-4F66F694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90E6D-E55F-48AC-93BF-B38D87B3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48D2D-2CAA-49A0-8FFD-DAEC8E58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3E2F0-28A1-4C5F-B1D5-7C2B7BDA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FF6C0-DBDD-428A-9A93-CAC26F80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DE852-AF7F-40C3-A4D4-BA7F660E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288-087F-4C0D-A456-CECFBFA8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D7EE3-D1AB-4AB9-B845-67E1BAA9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201B-529C-433C-9891-5B69A730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AC9EE-995C-4ECF-B637-B5306107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3510D-B697-4090-BEF2-BF3C42A8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CB62F-FF69-49E2-AC47-B5A83D56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FF5EB-3388-4127-AD49-27B22AB3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C91C5-B530-41F8-B7F1-521762DE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1DF5C-41DB-41F9-979B-45D32737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B731D-0291-4EFA-933F-8F5E2D43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058B4-3EDA-48C1-A562-61732E26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D78A-D7B6-4420-B153-7F01C49C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9EC56-3E9F-4361-8546-D652BF94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2570A-EB66-4951-8E55-1B78E5F7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39DD2-F96F-40F5-A8C2-83E55C1B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7F025-F033-47BF-9E84-10ED0416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98E45-0ADB-4834-BD19-EADE3B7B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6A9CA-9FE4-43A2-BD8E-176519E6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E5D69-3D75-431C-B048-157A5155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D8962-C202-4DEF-96A2-46E1BEF3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E24EF-27F3-4DCB-ADD7-CA93E969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8D218-0151-4252-8D5F-EC4D8C12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DB58-40FA-4999-AE58-027D9CB2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62AFF-8857-49A1-BB53-33EEFC64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E0332-A5F1-481A-8E32-A0EDC0A9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AE937-6562-4B05-BCA3-70D9239E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5B7F6-7F9F-4E74-A994-59D6FE03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9D8D9-CD48-4223-9FCE-7B602687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084D3-1B5E-4B44-BA64-A2D7D571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4264C-211C-40A3-86D0-ABA10944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96E7F-BBCF-42F6-AEB6-81686E9D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BBCB7-10E0-4128-A2CD-14D83E04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811E9-2C1A-4BB0-9E6B-FBEAFBE6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34D-9E6D-4248-B75D-739D9EB6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697D5-0A46-4470-A41A-41BAA0E6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6D908-3C0B-43F7-B0FD-2C0585C1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31492-3B76-4EBF-B8F4-918D1C1A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12200-9F1B-4267-AAB2-DD426D3C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13FCE-CCA9-4BF7-97FA-876B912A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4E96A-E0EA-4C87-985B-6EE68A97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D7D7B-69AA-41BB-BF86-B2D12A2C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CCBA5-2851-4549-9A15-E8F3FFCD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6B88D-6CDD-46B5-8251-19ACFBC8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2E9C3-B6F9-420E-B217-8E1A0060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E27-8131-40D7-A314-8D203F63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5FF41-4E54-43BE-841E-853AC316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E885A-69E9-4163-82C3-3A9BEE8B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228C2-6EE7-4516-8D5B-FAA9B39C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5A519-CD88-425D-84FB-B537EF25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34C46-BD25-4CD0-9176-20B6897E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E6933-9008-4599-8BC6-8ED74A97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22CFE-29D6-4D93-838E-DF7F61FE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35318-CAD3-4ED1-BF51-725EDFAD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CC0E0-C748-4B19-9854-0BF02010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2C9EC-AD8C-4FEE-ADB2-3B05274E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6B0-8AE4-4FD4-B3B2-29A8EC10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D199A-FA6F-4B7B-9B52-C446AEC2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3A726-2F14-4CE0-AA79-EE35A232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C98D2-9734-4563-8E88-5E6FE207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06747-E797-4193-843C-5BC1E1CA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F16B0-9A9B-4860-A5F0-0FAD5DA4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2A97C-EA9D-42C2-8CF4-7EE89750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E5F0B-EEF6-4056-8FDB-FF9D164B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07D6B-3B59-4FBE-AE54-BCDCC3CC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9257C-A080-461A-AB25-C2CAC333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4CB4B-D350-4C7D-BDE2-4DB91E93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4E91-3B0F-4EEA-9189-9DB89454B6EA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1" lang="en-US" sz="14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EEC9-2C70-47B8-B6A6-301497CC3EDB}" type="slidenum">
              <a:rPr b="1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2DB4-B7A9-4D3E-8905-C34EAFA08A1E}" type="slidenum">
              <a:rPr b="1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C987-A07A-4A82-9A20-A484B3F56EB4}" type="slidenum">
              <a:rPr b="1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A7FC-BFD5-45BB-A95E-5F40A7030D0F}" type="slidenum">
              <a:rPr b="1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08E0-877B-4C42-A0EB-D81C7E997820}" type="slidenum">
              <a:rPr b="1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1F7A-6AA4-4885-B182-E70BAAB22B9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5467-923E-4842-AE2E-B029874DF101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1" lang="en-US" sz="14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0E0D-B4F8-47BF-AEC9-1D8FA6392E07}" type="slidenum">
              <a:rPr b="1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5737-80EF-4B5C-BC63-6C107AA97388}" type="slidenum">
              <a:rPr b="1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E8B5-2895-4E0C-861A-BF93DBABA633}" type="slidenum">
              <a:rPr b="1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9F2E-9106-4593-8B1C-455BB0108DCE}" type="slidenum">
              <a:rPr b="1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EFCF-6372-435F-A6B8-3C43C48030A6}" type="slidenum">
              <a:rPr b="1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AB7B-8582-4F75-8760-049B660C6824}" type="slidenum">
              <a:rPr b="1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838080" y="2590920"/>
            <a:ext cx="57549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电生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磁生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电和磁之间有力的作用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WordArt 3"/>
          <p:cNvSpPr txBox="1"/>
          <p:nvPr/>
        </p:nvSpPr>
        <p:spPr>
          <a:xfrm>
            <a:off x="304920" y="38088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归纳总结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1371600" y="1187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Tahoma"/>
              </a:rPr>
              <a:t>你能说出电和磁之间有哪些联系吗？</a:t>
            </a:r>
            <a:endParaRPr b="1" lang="en-US" sz="36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594" name="矩形 1"/>
          <p:cNvSpPr/>
          <p:nvPr/>
        </p:nvSpPr>
        <p:spPr>
          <a:xfrm>
            <a:off x="220680" y="-98280"/>
            <a:ext cx="89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0000"/>
                </a:solidFill>
                <a:latin typeface="Tahoma"/>
              </a:rPr>
              <a:t>中考物理电动机与发电机复习</a:t>
            </a:r>
            <a:r>
              <a:rPr b="1" lang="zh-CN" sz="4000" spc="-1" strike="noStrike">
                <a:solidFill>
                  <a:srgbClr val="420000"/>
                </a:solidFill>
                <a:latin typeface="Tahoma"/>
              </a:rPr>
              <a:t>PPT</a:t>
            </a:r>
            <a:r>
              <a:rPr b="1" lang="zh-CN" sz="4000" spc="-1" strike="noStrike">
                <a:solidFill>
                  <a:srgbClr val="420000"/>
                </a:solidFill>
                <a:latin typeface="Tahoma"/>
              </a:rPr>
              <a:t>模板</a:t>
            </a:r>
            <a:endParaRPr b="1" lang="en-US" sz="40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595" name="矩形 8"/>
          <p:cNvSpPr/>
          <p:nvPr/>
        </p:nvSpPr>
        <p:spPr>
          <a:xfrm>
            <a:off x="96480" y="6504120"/>
            <a:ext cx="32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ttp://www.eeppt.com</a:t>
            </a:r>
            <a:endParaRPr b="1" lang="en-US" sz="16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266720" y="1676520"/>
            <a:ext cx="48769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5</a:t>
            </a: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、下图是</a:t>
            </a: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_____</a:t>
            </a: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的示意图</a:t>
            </a: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两个半环叫</a:t>
            </a: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___,</a:t>
            </a: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它的作用是</a:t>
            </a: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______.</a:t>
            </a: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线圈在如图这个位置具有什么特点</a:t>
            </a: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WordArt 3"/>
          <p:cNvSpPr txBox="1"/>
          <p:nvPr/>
        </p:nvSpPr>
        <p:spPr>
          <a:xfrm>
            <a:off x="1447920" y="990720"/>
            <a:ext cx="1409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动动脑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grpSp>
        <p:nvGrpSpPr>
          <p:cNvPr id="769" name="Group 4"/>
          <p:cNvGrpSpPr/>
          <p:nvPr/>
        </p:nvGrpSpPr>
        <p:grpSpPr>
          <a:xfrm>
            <a:off x="838080" y="2133720"/>
            <a:ext cx="3454560" cy="3797280"/>
            <a:chOff x="838080" y="2133720"/>
            <a:chExt cx="3454560" cy="3797280"/>
          </a:xfrm>
        </p:grpSpPr>
        <p:pic>
          <p:nvPicPr>
            <p:cNvPr id="770" name="Picture 5" descr=""/>
            <p:cNvPicPr/>
            <p:nvPr/>
          </p:nvPicPr>
          <p:blipFill>
            <a:blip r:embed="rId1"/>
            <a:stretch/>
          </p:blipFill>
          <p:spPr>
            <a:xfrm>
              <a:off x="838080" y="2133720"/>
              <a:ext cx="3454560" cy="37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Rectangle 6"/>
            <p:cNvSpPr/>
            <p:nvPr/>
          </p:nvSpPr>
          <p:spPr>
            <a:xfrm>
              <a:off x="1828800" y="4572000"/>
              <a:ext cx="3045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72" name="Rectangle 7"/>
            <p:cNvSpPr/>
            <p:nvPr/>
          </p:nvSpPr>
          <p:spPr>
            <a:xfrm>
              <a:off x="2438280" y="4572000"/>
              <a:ext cx="30492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73" name="Line 8"/>
            <p:cNvSpPr/>
            <p:nvPr/>
          </p:nvSpPr>
          <p:spPr>
            <a:xfrm flipH="1">
              <a:off x="2209320" y="2362320"/>
              <a:ext cx="685800" cy="2514600"/>
            </a:xfrm>
            <a:prstGeom prst="line">
              <a:avLst/>
            </a:prstGeom>
            <a:ln w="28440">
              <a:solidFill>
                <a:srgbClr val="ffcf0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74" name="AutoShape 9"/>
            <p:cNvSpPr/>
            <p:nvPr/>
          </p:nvSpPr>
          <p:spPr>
            <a:xfrm>
              <a:off x="2743200" y="2133720"/>
              <a:ext cx="304560" cy="228600"/>
            </a:xfrm>
            <a:custGeom>
              <a:avLst/>
              <a:gdLst>
                <a:gd name="textAreaLeft" fmla="*/ 53280 w 304560"/>
                <a:gd name="textAreaRight" fmla="*/ 221040 w 3045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75" name="AutoShape 10"/>
            <p:cNvSpPr/>
            <p:nvPr/>
          </p:nvSpPr>
          <p:spPr>
            <a:xfrm rot="15870600">
              <a:off x="2019240" y="4384440"/>
              <a:ext cx="380880" cy="457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457200"/>
                <a:gd name="textAreaBottom" fmla="*/ 163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400"/>
                    <a:pt x="16200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76" name="AutoShape 11"/>
            <p:cNvSpPr/>
            <p:nvPr/>
          </p:nvSpPr>
          <p:spPr>
            <a:xfrm rot="5070600">
              <a:off x="2057400" y="4343400"/>
              <a:ext cx="380880" cy="5335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33520"/>
                <a:gd name="textAreaBottom" fmla="*/ 1904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400"/>
                    <a:pt x="16200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50560" y="1218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6</a:t>
            </a: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、下列电器设备中属于利用电磁感应现象原理工作的是：   （  ）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华文行楷"/>
                <a:ea typeface="华文行楷"/>
              </a:rPr>
              <a:t>A</a:t>
            </a:r>
            <a:r>
              <a:rPr b="1" lang="zh-CN" sz="3600" spc="-1" strike="noStrike">
                <a:solidFill>
                  <a:srgbClr val="420000"/>
                </a:solidFill>
                <a:latin typeface="华文行楷"/>
                <a:ea typeface="华文行楷"/>
              </a:rPr>
              <a:t>、电烙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华文行楷"/>
                <a:ea typeface="华文行楷"/>
              </a:rPr>
              <a:t>B</a:t>
            </a:r>
            <a:r>
              <a:rPr b="1" lang="zh-CN" sz="3600" spc="-1" strike="noStrike">
                <a:solidFill>
                  <a:srgbClr val="420000"/>
                </a:solidFill>
                <a:latin typeface="华文行楷"/>
                <a:ea typeface="华文行楷"/>
              </a:rPr>
              <a:t>、发电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42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420000"/>
                </a:solidFill>
                <a:latin typeface="华文行楷"/>
                <a:ea typeface="华文行楷"/>
              </a:rPr>
              <a:t>电动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华文行楷"/>
                <a:ea typeface="华文行楷"/>
              </a:rPr>
              <a:t>D</a:t>
            </a:r>
            <a:r>
              <a:rPr b="1" lang="zh-CN" sz="3600" spc="-1" strike="noStrike">
                <a:solidFill>
                  <a:srgbClr val="420000"/>
                </a:solidFill>
                <a:latin typeface="华文行楷"/>
                <a:ea typeface="华文行楷"/>
              </a:rPr>
              <a:t>、电磁起重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WordArt 4"/>
          <p:cNvSpPr txBox="1"/>
          <p:nvPr/>
        </p:nvSpPr>
        <p:spPr>
          <a:xfrm>
            <a:off x="304920" y="380880"/>
            <a:ext cx="1409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动动脑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3636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  <a:ea typeface="宋体"/>
              </a:rPr>
              <a:t>www.eeppt.com</a:t>
            </a:r>
            <a:endParaRPr b="1" lang="en-US" sz="1600" spc="-1" strike="noStrike">
              <a:solidFill>
                <a:srgbClr val="42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9292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7</a:t>
            </a: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、小明从电动玩具上获得一个直流电动机，并对它作了一些改动，使它变成了一个交流发电机，你知道他是怎么做的吗？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2" name="WordArt 3"/>
          <p:cNvSpPr txBox="1"/>
          <p:nvPr/>
        </p:nvSpPr>
        <p:spPr>
          <a:xfrm>
            <a:off x="1371600" y="838080"/>
            <a:ext cx="14097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华文行楷"/>
              </a:rPr>
              <a:t>小应用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9328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一节干电池的正负极分不清楚了，你能不能应用本章所学的知识来设法判断出它的正负极呢？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7" name="WordArt 3"/>
          <p:cNvSpPr txBox="1"/>
          <p:nvPr/>
        </p:nvSpPr>
        <p:spPr>
          <a:xfrm>
            <a:off x="1371600" y="838080"/>
            <a:ext cx="14097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华文行楷"/>
              </a:rPr>
              <a:t>小应用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2" descr="D:\课件素材\图庫\H4.jp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372600" cy="6870600"/>
          </a:xfrm>
          <a:prstGeom prst="rect">
            <a:avLst/>
          </a:prstGeom>
          <a:ln w="0">
            <a:noFill/>
          </a:ln>
        </p:spPr>
      </p:pic>
      <p:sp>
        <p:nvSpPr>
          <p:cNvPr id="789" name="WordArt 3"/>
          <p:cNvSpPr txBox="1"/>
          <p:nvPr/>
        </p:nvSpPr>
        <p:spPr>
          <a:xfrm>
            <a:off x="3352680" y="2438280"/>
            <a:ext cx="26863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再见！</a:t>
            </a:r>
            <a:endParaRPr b="1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90" name="Text Box 4"/>
          <p:cNvSpPr/>
          <p:nvPr/>
        </p:nvSpPr>
        <p:spPr>
          <a:xfrm>
            <a:off x="828720" y="630864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www.eeppt.com</a:t>
            </a:r>
            <a:endParaRPr b="1" lang="en-US" sz="14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你知道下列实验是研究什么问题的吗？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WordArt 4"/>
          <p:cNvSpPr txBox="1"/>
          <p:nvPr/>
        </p:nvSpPr>
        <p:spPr>
          <a:xfrm>
            <a:off x="228600" y="533520"/>
            <a:ext cx="18763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实验总结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grpSp>
        <p:nvGrpSpPr>
          <p:cNvPr id="599" name="Group 5"/>
          <p:cNvGrpSpPr/>
          <p:nvPr/>
        </p:nvGrpSpPr>
        <p:grpSpPr>
          <a:xfrm>
            <a:off x="2438280" y="2666880"/>
            <a:ext cx="3733920" cy="990360"/>
            <a:chOff x="2438280" y="2666880"/>
            <a:chExt cx="3733920" cy="990360"/>
          </a:xfrm>
        </p:grpSpPr>
        <p:sp>
          <p:nvSpPr>
            <p:cNvPr id="600" name="Line 6"/>
            <p:cNvSpPr/>
            <p:nvPr/>
          </p:nvSpPr>
          <p:spPr>
            <a:xfrm>
              <a:off x="2438280" y="2666880"/>
              <a:ext cx="3733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01" name="Line 7"/>
            <p:cNvSpPr/>
            <p:nvPr/>
          </p:nvSpPr>
          <p:spPr>
            <a:xfrm>
              <a:off x="3429000" y="266688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grpSp>
          <p:nvGrpSpPr>
            <p:cNvPr id="602" name="Group 8"/>
            <p:cNvGrpSpPr/>
            <p:nvPr/>
          </p:nvGrpSpPr>
          <p:grpSpPr>
            <a:xfrm>
              <a:off x="4198320" y="3043440"/>
              <a:ext cx="450720" cy="613800"/>
              <a:chOff x="4198320" y="3043440"/>
              <a:chExt cx="450720" cy="613800"/>
            </a:xfrm>
          </p:grpSpPr>
          <p:sp>
            <p:nvSpPr>
              <p:cNvPr id="603" name="Line 9"/>
              <p:cNvSpPr/>
              <p:nvPr/>
            </p:nvSpPr>
            <p:spPr>
              <a:xfrm>
                <a:off x="4431960" y="327636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  <p:sp>
            <p:nvSpPr>
              <p:cNvPr id="604" name="Line 10"/>
              <p:cNvSpPr/>
              <p:nvPr/>
            </p:nvSpPr>
            <p:spPr>
              <a:xfrm>
                <a:off x="4279680" y="3657240"/>
                <a:ext cx="30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  <p:grpSp>
            <p:nvGrpSpPr>
              <p:cNvPr id="605" name="Group 11"/>
              <p:cNvGrpSpPr/>
              <p:nvPr/>
            </p:nvGrpSpPr>
            <p:grpSpPr>
              <a:xfrm>
                <a:off x="4198320" y="3043440"/>
                <a:ext cx="450720" cy="312480"/>
                <a:chOff x="4198320" y="3043440"/>
                <a:chExt cx="450720" cy="312480"/>
              </a:xfrm>
            </p:grpSpPr>
            <p:sp>
              <p:nvSpPr>
                <p:cNvPr id="606" name="AutoShape 12"/>
                <p:cNvSpPr/>
                <p:nvPr/>
              </p:nvSpPr>
              <p:spPr>
                <a:xfrm rot="10778400">
                  <a:off x="4203720" y="3047040"/>
                  <a:ext cx="444240" cy="30492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  <p:sp>
              <p:nvSpPr>
                <p:cNvPr id="607" name="AutoShape 13"/>
                <p:cNvSpPr/>
                <p:nvPr/>
              </p:nvSpPr>
              <p:spPr>
                <a:xfrm rot="16080000">
                  <a:off x="4161960" y="3088800"/>
                  <a:ext cx="304920" cy="221760"/>
                </a:xfrm>
                <a:prstGeom prst="triangle">
                  <a:avLst>
                    <a:gd name="adj" fmla="val 55269"/>
                  </a:avLst>
                </a:prstGeom>
                <a:solidFill>
                  <a:srgbClr val="3333cc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08" name="AutoShape 14"/>
            <p:cNvSpPr/>
            <p:nvPr/>
          </p:nvSpPr>
          <p:spPr>
            <a:xfrm>
              <a:off x="4800600" y="3124080"/>
              <a:ext cx="228600" cy="2286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45360 h 228600"/>
                <a:gd name="textAreaBottom" fmla="*/ 13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576" stAng="-5400000" swAng="5400000"/>
                  <a:lnTo>
                    <a:pt x="21600" y="8832"/>
                  </a:lnTo>
                  <a:arcTo wR="21600" hR="8576" stAng="0" swAng="2898935"/>
                  <a:lnTo>
                    <a:pt x="7200" y="21110"/>
                  </a:lnTo>
                  <a:lnTo>
                    <a:pt x="0" y="17280"/>
                  </a:lnTo>
                  <a:lnTo>
                    <a:pt x="7200" y="12470"/>
                  </a:lnTo>
                  <a:lnTo>
                    <a:pt x="7200" y="16662"/>
                  </a:lnTo>
                  <a:arcTo wR="21600" hR="8576" stAng="2898935" swAng="-2878561"/>
                  <a:lnTo>
                    <a:pt x="21598" y="8704"/>
                  </a:lnTo>
                  <a:arcTo wR="21600" hR="8576" stAng="-20374" swAng="-5379626"/>
                  <a:close/>
                </a:path>
                <a:path fill="darkenLess" w="21600" h="21600">
                  <a:moveTo>
                    <a:pt x="0" y="0"/>
                  </a:moveTo>
                  <a:arcTo wR="21600" hR="8576" stAng="-5400000" swAng="5400000"/>
                  <a:lnTo>
                    <a:pt x="21600" y="8832"/>
                  </a:lnTo>
                  <a:arcTo wR="21600" hR="8576" stAng="0" swAng="-20374"/>
                  <a:lnTo>
                    <a:pt x="21598" y="8704"/>
                  </a:lnTo>
                  <a:arcTo wR="21600" hR="8576" stAng="-20374" swAng="-5379626"/>
                  <a:close/>
                </a:path>
              </a:pathLst>
            </a:cu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</p:grpSp>
      <p:grpSp>
        <p:nvGrpSpPr>
          <p:cNvPr id="609" name="Group 15"/>
          <p:cNvGrpSpPr/>
          <p:nvPr/>
        </p:nvGrpSpPr>
        <p:grpSpPr>
          <a:xfrm>
            <a:off x="2362320" y="4419720"/>
            <a:ext cx="3733560" cy="914400"/>
            <a:chOff x="2362320" y="4419720"/>
            <a:chExt cx="3733560" cy="914400"/>
          </a:xfrm>
        </p:grpSpPr>
        <p:sp>
          <p:nvSpPr>
            <p:cNvPr id="610" name="Line 16"/>
            <p:cNvSpPr/>
            <p:nvPr/>
          </p:nvSpPr>
          <p:spPr>
            <a:xfrm>
              <a:off x="2362320" y="4419720"/>
              <a:ext cx="3733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11" name="Line 17"/>
            <p:cNvSpPr/>
            <p:nvPr/>
          </p:nvSpPr>
          <p:spPr>
            <a:xfrm>
              <a:off x="3581280" y="4419720"/>
              <a:ext cx="159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grpSp>
          <p:nvGrpSpPr>
            <p:cNvPr id="612" name="Group 18"/>
            <p:cNvGrpSpPr/>
            <p:nvPr/>
          </p:nvGrpSpPr>
          <p:grpSpPr>
            <a:xfrm>
              <a:off x="4197960" y="4720320"/>
              <a:ext cx="450720" cy="613800"/>
              <a:chOff x="4197960" y="4720320"/>
              <a:chExt cx="450720" cy="613800"/>
            </a:xfrm>
          </p:grpSpPr>
          <p:sp>
            <p:nvSpPr>
              <p:cNvPr id="613" name="Line 19"/>
              <p:cNvSpPr/>
              <p:nvPr/>
            </p:nvSpPr>
            <p:spPr>
              <a:xfrm>
                <a:off x="4431600" y="495324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4279320" y="5334120"/>
                <a:ext cx="30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  <p:grpSp>
            <p:nvGrpSpPr>
              <p:cNvPr id="615" name="Group 21"/>
              <p:cNvGrpSpPr/>
              <p:nvPr/>
            </p:nvGrpSpPr>
            <p:grpSpPr>
              <a:xfrm>
                <a:off x="4197960" y="4720320"/>
                <a:ext cx="450720" cy="312480"/>
                <a:chOff x="4197960" y="4720320"/>
                <a:chExt cx="450720" cy="312480"/>
              </a:xfrm>
            </p:grpSpPr>
            <p:sp>
              <p:nvSpPr>
                <p:cNvPr id="616" name="AutoShape 22"/>
                <p:cNvSpPr/>
                <p:nvPr/>
              </p:nvSpPr>
              <p:spPr>
                <a:xfrm rot="10778400">
                  <a:off x="4203360" y="4723920"/>
                  <a:ext cx="444240" cy="30492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  <p:sp>
              <p:nvSpPr>
                <p:cNvPr id="617" name="AutoShape 23"/>
                <p:cNvSpPr/>
                <p:nvPr/>
              </p:nvSpPr>
              <p:spPr>
                <a:xfrm rot="16080000">
                  <a:off x="4161600" y="4765680"/>
                  <a:ext cx="304920" cy="221760"/>
                </a:xfrm>
                <a:prstGeom prst="triangle">
                  <a:avLst>
                    <a:gd name="adj" fmla="val 55269"/>
                  </a:avLst>
                </a:prstGeom>
                <a:solidFill>
                  <a:srgbClr val="3333cc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18" name="AutoShape 24"/>
            <p:cNvSpPr/>
            <p:nvPr/>
          </p:nvSpPr>
          <p:spPr>
            <a:xfrm>
              <a:off x="3885840" y="4724640"/>
              <a:ext cx="228240" cy="30456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60480 h 304560"/>
                <a:gd name="textAreaBottom" fmla="*/ 1850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76" stAng="-5400000" swAng="-5400000"/>
                  <a:lnTo>
                    <a:pt x="0" y="8832"/>
                  </a:lnTo>
                  <a:arcTo wR="21600" hR="8576" stAng="10800000" swAng="-2223914"/>
                  <a:lnTo>
                    <a:pt x="11550" y="20615"/>
                  </a:lnTo>
                  <a:lnTo>
                    <a:pt x="21600" y="17280"/>
                  </a:lnTo>
                  <a:lnTo>
                    <a:pt x="11550" y="11975"/>
                  </a:lnTo>
                  <a:lnTo>
                    <a:pt x="11550" y="16167"/>
                  </a:lnTo>
                  <a:arcTo wR="21600" hR="8576" stAng="8576086" swAng="2203540"/>
                  <a:lnTo>
                    <a:pt x="2" y="8704"/>
                  </a:lnTo>
                  <a:arcTo wR="21600" hR="8576" stAng="-10779626" swAng="5379626"/>
                  <a:close/>
                </a:path>
                <a:path fill="darkenLess" w="21600" h="21600">
                  <a:moveTo>
                    <a:pt x="21600" y="0"/>
                  </a:moveTo>
                  <a:arcTo wR="21600" hR="8576" stAng="-5400000" swAng="-5400000"/>
                  <a:lnTo>
                    <a:pt x="0" y="8576"/>
                  </a:lnTo>
                  <a:arcTo wR="21600" hR="8576" stAng="10800000" swAng="-20374"/>
                  <a:lnTo>
                    <a:pt x="2" y="8704"/>
                  </a:lnTo>
                  <a:arcTo wR="21600" hR="8576" stAng="-10779626" swAng="5379626"/>
                  <a:close/>
                </a:path>
              </a:pathLst>
            </a:cu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你知道下列实验是研究什么问题的吗？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WordArt 4"/>
          <p:cNvSpPr txBox="1"/>
          <p:nvPr/>
        </p:nvSpPr>
        <p:spPr>
          <a:xfrm>
            <a:off x="228600" y="533520"/>
            <a:ext cx="18763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实验总结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grpSp>
        <p:nvGrpSpPr>
          <p:cNvPr id="622" name="Group 5"/>
          <p:cNvGrpSpPr/>
          <p:nvPr/>
        </p:nvGrpSpPr>
        <p:grpSpPr>
          <a:xfrm>
            <a:off x="2286000" y="2286000"/>
            <a:ext cx="5943600" cy="2471760"/>
            <a:chOff x="2286000" y="2286000"/>
            <a:chExt cx="5943600" cy="2471760"/>
          </a:xfrm>
        </p:grpSpPr>
        <p:grpSp>
          <p:nvGrpSpPr>
            <p:cNvPr id="623" name="Group 6"/>
            <p:cNvGrpSpPr/>
            <p:nvPr/>
          </p:nvGrpSpPr>
          <p:grpSpPr>
            <a:xfrm>
              <a:off x="4799160" y="2286000"/>
              <a:ext cx="1185840" cy="1903320"/>
              <a:chOff x="4799160" y="2286000"/>
              <a:chExt cx="1185840" cy="1903320"/>
            </a:xfrm>
          </p:grpSpPr>
          <p:grpSp>
            <p:nvGrpSpPr>
              <p:cNvPr id="624" name="Group 7"/>
              <p:cNvGrpSpPr/>
              <p:nvPr/>
            </p:nvGrpSpPr>
            <p:grpSpPr>
              <a:xfrm>
                <a:off x="5256360" y="2666520"/>
                <a:ext cx="716040" cy="380160"/>
                <a:chOff x="5256360" y="2666520"/>
                <a:chExt cx="716040" cy="380160"/>
              </a:xfrm>
            </p:grpSpPr>
            <p:sp>
              <p:nvSpPr>
                <p:cNvPr id="625" name="Freeform 8"/>
                <p:cNvSpPr/>
                <p:nvPr/>
              </p:nvSpPr>
              <p:spPr>
                <a:xfrm rot="5400000">
                  <a:off x="5841720" y="2687760"/>
                  <a:ext cx="151920" cy="1094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96" y="96"/>
                      </a:moveTo>
                      <a:cubicBezTo>
                        <a:pt x="80" y="48"/>
                        <a:pt x="64" y="0"/>
                        <a:pt x="48" y="0"/>
                      </a:cubicBezTo>
                      <a:cubicBezTo>
                        <a:pt x="32" y="0"/>
                        <a:pt x="16" y="48"/>
                        <a:pt x="0" y="9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  <p:sp>
              <p:nvSpPr>
                <p:cNvPr id="626" name="Freeform 9"/>
                <p:cNvSpPr/>
                <p:nvPr/>
              </p:nvSpPr>
              <p:spPr>
                <a:xfrm rot="5400000">
                  <a:off x="5454000" y="2620440"/>
                  <a:ext cx="228240" cy="623880"/>
                </a:xfrm>
                <a:custGeom>
                  <a:avLst/>
                  <a:gdLst/>
                  <a:ahLst/>
                  <a:rect l="l" t="t" r="r" b="b"/>
                  <a:pathLst>
                    <a:path w="144" h="544">
                      <a:moveTo>
                        <a:pt x="0" y="0"/>
                      </a:moveTo>
                      <a:cubicBezTo>
                        <a:pt x="36" y="208"/>
                        <a:pt x="72" y="416"/>
                        <a:pt x="96" y="480"/>
                      </a:cubicBezTo>
                      <a:cubicBezTo>
                        <a:pt x="120" y="544"/>
                        <a:pt x="136" y="400"/>
                        <a:pt x="144" y="38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27" name="Group 10"/>
              <p:cNvGrpSpPr/>
              <p:nvPr/>
            </p:nvGrpSpPr>
            <p:grpSpPr>
              <a:xfrm>
                <a:off x="5256360" y="2971080"/>
                <a:ext cx="716040" cy="380160"/>
                <a:chOff x="5256360" y="2971080"/>
                <a:chExt cx="716040" cy="380160"/>
              </a:xfrm>
            </p:grpSpPr>
            <p:sp>
              <p:nvSpPr>
                <p:cNvPr id="628" name="Freeform 11"/>
                <p:cNvSpPr/>
                <p:nvPr/>
              </p:nvSpPr>
              <p:spPr>
                <a:xfrm rot="5400000">
                  <a:off x="5841720" y="2992320"/>
                  <a:ext cx="151920" cy="1094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96" y="96"/>
                      </a:moveTo>
                      <a:cubicBezTo>
                        <a:pt x="80" y="48"/>
                        <a:pt x="64" y="0"/>
                        <a:pt x="48" y="0"/>
                      </a:cubicBezTo>
                      <a:cubicBezTo>
                        <a:pt x="32" y="0"/>
                        <a:pt x="16" y="48"/>
                        <a:pt x="0" y="9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  <p:sp>
              <p:nvSpPr>
                <p:cNvPr id="629" name="Freeform 12"/>
                <p:cNvSpPr/>
                <p:nvPr/>
              </p:nvSpPr>
              <p:spPr>
                <a:xfrm rot="5400000">
                  <a:off x="5454000" y="2925000"/>
                  <a:ext cx="228240" cy="623880"/>
                </a:xfrm>
                <a:custGeom>
                  <a:avLst/>
                  <a:gdLst/>
                  <a:ahLst/>
                  <a:rect l="l" t="t" r="r" b="b"/>
                  <a:pathLst>
                    <a:path w="144" h="544">
                      <a:moveTo>
                        <a:pt x="0" y="0"/>
                      </a:moveTo>
                      <a:cubicBezTo>
                        <a:pt x="36" y="208"/>
                        <a:pt x="72" y="416"/>
                        <a:pt x="96" y="480"/>
                      </a:cubicBezTo>
                      <a:cubicBezTo>
                        <a:pt x="120" y="544"/>
                        <a:pt x="136" y="400"/>
                        <a:pt x="144" y="38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0" name="Group 13"/>
              <p:cNvGrpSpPr/>
              <p:nvPr/>
            </p:nvGrpSpPr>
            <p:grpSpPr>
              <a:xfrm>
                <a:off x="5256360" y="3275640"/>
                <a:ext cx="728640" cy="380160"/>
                <a:chOff x="5256360" y="3275640"/>
                <a:chExt cx="728640" cy="380160"/>
              </a:xfrm>
            </p:grpSpPr>
            <p:sp>
              <p:nvSpPr>
                <p:cNvPr id="631" name="Freeform 14"/>
                <p:cNvSpPr/>
                <p:nvPr/>
              </p:nvSpPr>
              <p:spPr>
                <a:xfrm rot="5400000">
                  <a:off x="5854320" y="3296880"/>
                  <a:ext cx="151920" cy="1094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96" y="96"/>
                      </a:moveTo>
                      <a:cubicBezTo>
                        <a:pt x="80" y="48"/>
                        <a:pt x="64" y="0"/>
                        <a:pt x="48" y="0"/>
                      </a:cubicBezTo>
                      <a:cubicBezTo>
                        <a:pt x="32" y="0"/>
                        <a:pt x="16" y="48"/>
                        <a:pt x="0" y="9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15"/>
                <p:cNvSpPr/>
                <p:nvPr/>
              </p:nvSpPr>
              <p:spPr>
                <a:xfrm rot="5400000">
                  <a:off x="5454000" y="3229560"/>
                  <a:ext cx="228240" cy="623880"/>
                </a:xfrm>
                <a:custGeom>
                  <a:avLst/>
                  <a:gdLst/>
                  <a:ahLst/>
                  <a:rect l="l" t="t" r="r" b="b"/>
                  <a:pathLst>
                    <a:path w="144" h="544">
                      <a:moveTo>
                        <a:pt x="0" y="0"/>
                      </a:moveTo>
                      <a:cubicBezTo>
                        <a:pt x="36" y="208"/>
                        <a:pt x="72" y="416"/>
                        <a:pt x="96" y="480"/>
                      </a:cubicBezTo>
                      <a:cubicBezTo>
                        <a:pt x="120" y="544"/>
                        <a:pt x="136" y="400"/>
                        <a:pt x="144" y="38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3" name="Group 16"/>
              <p:cNvGrpSpPr/>
              <p:nvPr/>
            </p:nvGrpSpPr>
            <p:grpSpPr>
              <a:xfrm>
                <a:off x="5274000" y="3656160"/>
                <a:ext cx="698400" cy="158400"/>
                <a:chOff x="5274000" y="3656160"/>
                <a:chExt cx="698400" cy="158400"/>
              </a:xfrm>
            </p:grpSpPr>
            <p:sp>
              <p:nvSpPr>
                <p:cNvPr id="634" name="Freeform 17"/>
                <p:cNvSpPr/>
                <p:nvPr/>
              </p:nvSpPr>
              <p:spPr>
                <a:xfrm rot="5400000">
                  <a:off x="5848560" y="3690720"/>
                  <a:ext cx="158400" cy="88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96" y="96"/>
                      </a:moveTo>
                      <a:cubicBezTo>
                        <a:pt x="80" y="48"/>
                        <a:pt x="64" y="0"/>
                        <a:pt x="48" y="0"/>
                      </a:cubicBezTo>
                      <a:cubicBezTo>
                        <a:pt x="32" y="0"/>
                        <a:pt x="16" y="48"/>
                        <a:pt x="0" y="9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t">
                  <a:noAutofit/>
                </a:bodyPr>
                <a:p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18"/>
                <p:cNvSpPr/>
                <p:nvPr/>
              </p:nvSpPr>
              <p:spPr>
                <a:xfrm flipH="1">
                  <a:off x="5274000" y="3814560"/>
                  <a:ext cx="609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6" name="Rectangle 19"/>
              <p:cNvSpPr/>
              <p:nvPr/>
            </p:nvSpPr>
            <p:spPr>
              <a:xfrm rot="5400000">
                <a:off x="4678560" y="3011400"/>
                <a:ext cx="1903320" cy="452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  <p:sp>
            <p:nvSpPr>
              <p:cNvPr id="637" name="Line 20"/>
              <p:cNvSpPr/>
              <p:nvPr/>
            </p:nvSpPr>
            <p:spPr>
              <a:xfrm flipH="1">
                <a:off x="4799160" y="27489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</p:grpSp>
        <p:sp>
          <p:nvSpPr>
            <p:cNvPr id="638" name="Rectangle 21"/>
            <p:cNvSpPr/>
            <p:nvPr/>
          </p:nvSpPr>
          <p:spPr>
            <a:xfrm>
              <a:off x="3657600" y="2896560"/>
              <a:ext cx="53352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39" name="Line 22"/>
            <p:cNvSpPr/>
            <p:nvPr/>
          </p:nvSpPr>
          <p:spPr>
            <a:xfrm>
              <a:off x="3886200" y="26679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40" name="Line 23"/>
            <p:cNvSpPr/>
            <p:nvPr/>
          </p:nvSpPr>
          <p:spPr>
            <a:xfrm>
              <a:off x="3886200" y="26679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pic>
          <p:nvPicPr>
            <p:cNvPr id="641" name="Picture 24" descr=""/>
            <p:cNvPicPr/>
            <p:nvPr/>
          </p:nvPicPr>
          <p:blipFill>
            <a:blip r:embed="rId1"/>
            <a:stretch/>
          </p:blipFill>
          <p:spPr>
            <a:xfrm>
              <a:off x="4492800" y="2592000"/>
              <a:ext cx="612720" cy="24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Line 25"/>
            <p:cNvSpPr/>
            <p:nvPr/>
          </p:nvSpPr>
          <p:spPr>
            <a:xfrm>
              <a:off x="2286000" y="29725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43" name="Line 26"/>
            <p:cNvSpPr/>
            <p:nvPr/>
          </p:nvSpPr>
          <p:spPr>
            <a:xfrm>
              <a:off x="2286000" y="2972520"/>
              <a:ext cx="0" cy="83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44" name="Line 27"/>
            <p:cNvSpPr/>
            <p:nvPr/>
          </p:nvSpPr>
          <p:spPr>
            <a:xfrm>
              <a:off x="2286000" y="381024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grpSp>
          <p:nvGrpSpPr>
            <p:cNvPr id="645" name="Group 28"/>
            <p:cNvGrpSpPr/>
            <p:nvPr/>
          </p:nvGrpSpPr>
          <p:grpSpPr>
            <a:xfrm>
              <a:off x="3200400" y="3581640"/>
              <a:ext cx="76320" cy="456840"/>
              <a:chOff x="3200400" y="3581640"/>
              <a:chExt cx="76320" cy="456840"/>
            </a:xfrm>
          </p:grpSpPr>
          <p:sp>
            <p:nvSpPr>
              <p:cNvPr id="646" name="Line 29"/>
              <p:cNvSpPr/>
              <p:nvPr/>
            </p:nvSpPr>
            <p:spPr>
              <a:xfrm>
                <a:off x="3200400" y="3581640"/>
                <a:ext cx="0" cy="45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  <p:sp>
            <p:nvSpPr>
              <p:cNvPr id="647" name="Line 30"/>
              <p:cNvSpPr/>
              <p:nvPr/>
            </p:nvSpPr>
            <p:spPr>
              <a:xfrm>
                <a:off x="3276720" y="37335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</p:grpSp>
        <p:sp>
          <p:nvSpPr>
            <p:cNvPr id="648" name="Line 31"/>
            <p:cNvSpPr/>
            <p:nvPr/>
          </p:nvSpPr>
          <p:spPr>
            <a:xfrm flipH="1">
              <a:off x="3352680" y="381024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49" name="AutoShape 32"/>
            <p:cNvSpPr/>
            <p:nvPr/>
          </p:nvSpPr>
          <p:spPr>
            <a:xfrm>
              <a:off x="5257800" y="4115160"/>
              <a:ext cx="685800" cy="533160"/>
            </a:xfrm>
            <a:custGeom>
              <a:avLst/>
              <a:gdLst>
                <a:gd name="textAreaLeft" fmla="*/ 156600 w 685800"/>
                <a:gd name="textAreaRight" fmla="*/ 529200 w 685800"/>
                <a:gd name="textAreaTop" fmla="*/ 121680 h 533160"/>
                <a:gd name="textAreaBottom" fmla="*/ 411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2323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50" name="AutoShape 33"/>
            <p:cNvSpPr/>
            <p:nvPr/>
          </p:nvSpPr>
          <p:spPr>
            <a:xfrm>
              <a:off x="6019920" y="4419720"/>
              <a:ext cx="457200" cy="75600"/>
            </a:xfrm>
            <a:prstGeom prst="rightArrow">
              <a:avLst>
                <a:gd name="adj1" fmla="val 50000"/>
                <a:gd name="adj2" fmla="val 151190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51" name="Text Box 34"/>
            <p:cNvSpPr/>
            <p:nvPr/>
          </p:nvSpPr>
          <p:spPr>
            <a:xfrm>
              <a:off x="6477120" y="411516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20000"/>
                  </a:solidFill>
                  <a:latin typeface="Tahoma"/>
                </a:rPr>
                <a:t>铁屑</a:t>
              </a: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你知道下列实验是研究什么问题的吗？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WordArt 4"/>
          <p:cNvSpPr txBox="1"/>
          <p:nvPr/>
        </p:nvSpPr>
        <p:spPr>
          <a:xfrm>
            <a:off x="228600" y="533520"/>
            <a:ext cx="18763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实验总结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pic>
        <p:nvPicPr>
          <p:cNvPr id="655" name="Picture 5" descr=""/>
          <p:cNvPicPr/>
          <p:nvPr/>
        </p:nvPicPr>
        <p:blipFill>
          <a:blip r:embed="rId1"/>
          <a:stretch/>
        </p:blipFill>
        <p:spPr>
          <a:xfrm>
            <a:off x="2209680" y="1932120"/>
            <a:ext cx="381312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你知道下列实验是研究什么问题的吗？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WordArt 4"/>
          <p:cNvSpPr txBox="1"/>
          <p:nvPr/>
        </p:nvSpPr>
        <p:spPr>
          <a:xfrm>
            <a:off x="228600" y="533520"/>
            <a:ext cx="18763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实验总结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pic>
        <p:nvPicPr>
          <p:cNvPr id="659" name="Picture 5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723888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18960" y="1218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、根据小磁针静止时的指向，画出螺线管的线圈的绕法：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61" name="Group 3"/>
          <p:cNvGrpSpPr/>
          <p:nvPr/>
        </p:nvGrpSpPr>
        <p:grpSpPr>
          <a:xfrm>
            <a:off x="5257800" y="3276720"/>
            <a:ext cx="1143000" cy="715320"/>
            <a:chOff x="5257800" y="3276720"/>
            <a:chExt cx="1143000" cy="715320"/>
          </a:xfrm>
        </p:grpSpPr>
        <p:sp>
          <p:nvSpPr>
            <p:cNvPr id="662" name="Line 4"/>
            <p:cNvSpPr/>
            <p:nvPr/>
          </p:nvSpPr>
          <p:spPr>
            <a:xfrm>
              <a:off x="6400800" y="3416040"/>
              <a:ext cx="0" cy="39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>
              <a:off x="5410080" y="3368520"/>
              <a:ext cx="228600" cy="623520"/>
            </a:xfrm>
            <a:custGeom>
              <a:avLst/>
              <a:gdLst/>
              <a:ahLst/>
              <a:rect l="l" t="t" r="r" b="b"/>
              <a:pathLst>
                <a:path w="144" h="544">
                  <a:moveTo>
                    <a:pt x="0" y="0"/>
                  </a:moveTo>
                  <a:cubicBezTo>
                    <a:pt x="36" y="208"/>
                    <a:pt x="72" y="416"/>
                    <a:pt x="96" y="480"/>
                  </a:cubicBezTo>
                  <a:cubicBezTo>
                    <a:pt x="120" y="544"/>
                    <a:pt x="136" y="400"/>
                    <a:pt x="144" y="38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5257800" y="3276720"/>
              <a:ext cx="152280" cy="10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96"/>
                  </a:moveTo>
                  <a:cubicBezTo>
                    <a:pt x="80" y="48"/>
                    <a:pt x="64" y="0"/>
                    <a:pt x="48" y="0"/>
                  </a:cubicBezTo>
                  <a:cubicBezTo>
                    <a:pt x="32" y="0"/>
                    <a:pt x="16" y="48"/>
                    <a:pt x="0" y="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5715000" y="3368520"/>
              <a:ext cx="228600" cy="623520"/>
            </a:xfrm>
            <a:custGeom>
              <a:avLst/>
              <a:gdLst/>
              <a:ahLst/>
              <a:rect l="l" t="t" r="r" b="b"/>
              <a:pathLst>
                <a:path w="144" h="544">
                  <a:moveTo>
                    <a:pt x="0" y="0"/>
                  </a:moveTo>
                  <a:cubicBezTo>
                    <a:pt x="36" y="208"/>
                    <a:pt x="72" y="416"/>
                    <a:pt x="96" y="480"/>
                  </a:cubicBezTo>
                  <a:cubicBezTo>
                    <a:pt x="120" y="544"/>
                    <a:pt x="136" y="400"/>
                    <a:pt x="144" y="38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5562720" y="3276720"/>
              <a:ext cx="152280" cy="10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96"/>
                  </a:moveTo>
                  <a:cubicBezTo>
                    <a:pt x="80" y="48"/>
                    <a:pt x="64" y="0"/>
                    <a:pt x="48" y="0"/>
                  </a:cubicBezTo>
                  <a:cubicBezTo>
                    <a:pt x="32" y="0"/>
                    <a:pt x="16" y="48"/>
                    <a:pt x="0" y="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67" name="Freeform 9"/>
            <p:cNvSpPr/>
            <p:nvPr/>
          </p:nvSpPr>
          <p:spPr>
            <a:xfrm>
              <a:off x="6019920" y="3368520"/>
              <a:ext cx="228600" cy="623520"/>
            </a:xfrm>
            <a:custGeom>
              <a:avLst/>
              <a:gdLst/>
              <a:ahLst/>
              <a:rect l="l" t="t" r="r" b="b"/>
              <a:pathLst>
                <a:path w="144" h="544">
                  <a:moveTo>
                    <a:pt x="0" y="0"/>
                  </a:moveTo>
                  <a:cubicBezTo>
                    <a:pt x="36" y="208"/>
                    <a:pt x="72" y="416"/>
                    <a:pt x="96" y="480"/>
                  </a:cubicBezTo>
                  <a:cubicBezTo>
                    <a:pt x="120" y="544"/>
                    <a:pt x="136" y="400"/>
                    <a:pt x="144" y="38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68" name="Freeform 10"/>
            <p:cNvSpPr/>
            <p:nvPr/>
          </p:nvSpPr>
          <p:spPr>
            <a:xfrm>
              <a:off x="5867280" y="3276720"/>
              <a:ext cx="152640" cy="10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96"/>
                  </a:moveTo>
                  <a:cubicBezTo>
                    <a:pt x="80" y="48"/>
                    <a:pt x="64" y="0"/>
                    <a:pt x="48" y="0"/>
                  </a:cubicBezTo>
                  <a:cubicBezTo>
                    <a:pt x="32" y="0"/>
                    <a:pt x="16" y="48"/>
                    <a:pt x="0" y="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69" name="Freeform 11"/>
            <p:cNvSpPr/>
            <p:nvPr/>
          </p:nvSpPr>
          <p:spPr>
            <a:xfrm>
              <a:off x="6248520" y="3276720"/>
              <a:ext cx="152280" cy="10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96"/>
                  </a:moveTo>
                  <a:cubicBezTo>
                    <a:pt x="80" y="48"/>
                    <a:pt x="64" y="0"/>
                    <a:pt x="48" y="0"/>
                  </a:cubicBezTo>
                  <a:cubicBezTo>
                    <a:pt x="32" y="0"/>
                    <a:pt x="16" y="48"/>
                    <a:pt x="0" y="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</p:grpSp>
      <p:grpSp>
        <p:nvGrpSpPr>
          <p:cNvPr id="670" name="Group 12"/>
          <p:cNvGrpSpPr/>
          <p:nvPr/>
        </p:nvGrpSpPr>
        <p:grpSpPr>
          <a:xfrm>
            <a:off x="2590920" y="3135240"/>
            <a:ext cx="1218600" cy="903240"/>
            <a:chOff x="2590920" y="3135240"/>
            <a:chExt cx="1218600" cy="903240"/>
          </a:xfrm>
        </p:grpSpPr>
        <p:sp>
          <p:nvSpPr>
            <p:cNvPr id="671" name="Freeform 13"/>
            <p:cNvSpPr/>
            <p:nvPr/>
          </p:nvSpPr>
          <p:spPr>
            <a:xfrm>
              <a:off x="2590920" y="3203640"/>
              <a:ext cx="138600" cy="14616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0" y="56"/>
                  </a:moveTo>
                  <a:cubicBezTo>
                    <a:pt x="16" y="28"/>
                    <a:pt x="32" y="0"/>
                    <a:pt x="48" y="8"/>
                  </a:cubicBezTo>
                  <a:cubicBezTo>
                    <a:pt x="64" y="16"/>
                    <a:pt x="88" y="88"/>
                    <a:pt x="96" y="10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72" name="Freeform 14"/>
            <p:cNvSpPr/>
            <p:nvPr/>
          </p:nvSpPr>
          <p:spPr>
            <a:xfrm>
              <a:off x="2765520" y="3135240"/>
              <a:ext cx="347760" cy="903240"/>
            </a:xfrm>
            <a:custGeom>
              <a:avLst/>
              <a:gdLst/>
              <a:ahLst/>
              <a:rect l="l" t="t" r="r" b="b"/>
              <a:pathLst>
                <a:path w="192" h="432">
                  <a:moveTo>
                    <a:pt x="0" y="336"/>
                  </a:moveTo>
                  <a:cubicBezTo>
                    <a:pt x="12" y="384"/>
                    <a:pt x="24" y="432"/>
                    <a:pt x="48" y="384"/>
                  </a:cubicBezTo>
                  <a:cubicBezTo>
                    <a:pt x="72" y="336"/>
                    <a:pt x="120" y="96"/>
                    <a:pt x="144" y="48"/>
                  </a:cubicBezTo>
                  <a:cubicBezTo>
                    <a:pt x="168" y="0"/>
                    <a:pt x="184" y="88"/>
                    <a:pt x="192" y="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73" name="Freeform 15"/>
            <p:cNvSpPr/>
            <p:nvPr/>
          </p:nvSpPr>
          <p:spPr>
            <a:xfrm>
              <a:off x="3113640" y="3135240"/>
              <a:ext cx="348120" cy="903240"/>
            </a:xfrm>
            <a:custGeom>
              <a:avLst/>
              <a:gdLst/>
              <a:ahLst/>
              <a:rect l="l" t="t" r="r" b="b"/>
              <a:pathLst>
                <a:path w="192" h="432">
                  <a:moveTo>
                    <a:pt x="0" y="336"/>
                  </a:moveTo>
                  <a:cubicBezTo>
                    <a:pt x="12" y="384"/>
                    <a:pt x="24" y="432"/>
                    <a:pt x="48" y="384"/>
                  </a:cubicBezTo>
                  <a:cubicBezTo>
                    <a:pt x="72" y="336"/>
                    <a:pt x="120" y="96"/>
                    <a:pt x="144" y="48"/>
                  </a:cubicBezTo>
                  <a:cubicBezTo>
                    <a:pt x="168" y="0"/>
                    <a:pt x="184" y="88"/>
                    <a:pt x="192" y="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74" name="Freeform 16"/>
            <p:cNvSpPr/>
            <p:nvPr/>
          </p:nvSpPr>
          <p:spPr>
            <a:xfrm>
              <a:off x="3461760" y="3135240"/>
              <a:ext cx="347760" cy="903240"/>
            </a:xfrm>
            <a:custGeom>
              <a:avLst/>
              <a:gdLst/>
              <a:ahLst/>
              <a:rect l="l" t="t" r="r" b="b"/>
              <a:pathLst>
                <a:path w="192" h="432">
                  <a:moveTo>
                    <a:pt x="0" y="336"/>
                  </a:moveTo>
                  <a:cubicBezTo>
                    <a:pt x="12" y="384"/>
                    <a:pt x="24" y="432"/>
                    <a:pt x="48" y="384"/>
                  </a:cubicBezTo>
                  <a:cubicBezTo>
                    <a:pt x="72" y="336"/>
                    <a:pt x="120" y="96"/>
                    <a:pt x="144" y="48"/>
                  </a:cubicBezTo>
                  <a:cubicBezTo>
                    <a:pt x="168" y="0"/>
                    <a:pt x="184" y="88"/>
                    <a:pt x="192" y="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75" name="Line 17"/>
            <p:cNvSpPr/>
            <p:nvPr/>
          </p:nvSpPr>
          <p:spPr>
            <a:xfrm>
              <a:off x="2590920" y="3278160"/>
              <a:ext cx="0" cy="71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</p:grpSp>
      <p:grpSp>
        <p:nvGrpSpPr>
          <p:cNvPr id="676" name="Group 18"/>
          <p:cNvGrpSpPr/>
          <p:nvPr/>
        </p:nvGrpSpPr>
        <p:grpSpPr>
          <a:xfrm>
            <a:off x="2209680" y="2662560"/>
            <a:ext cx="4572000" cy="2290320"/>
            <a:chOff x="2209680" y="2662560"/>
            <a:chExt cx="4572000" cy="2290320"/>
          </a:xfrm>
        </p:grpSpPr>
        <p:sp>
          <p:nvSpPr>
            <p:cNvPr id="677" name="Line 19"/>
            <p:cNvSpPr/>
            <p:nvPr/>
          </p:nvSpPr>
          <p:spPr>
            <a:xfrm>
              <a:off x="2579400" y="4724280"/>
              <a:ext cx="153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grpSp>
          <p:nvGrpSpPr>
            <p:cNvPr id="678" name="Group 20"/>
            <p:cNvGrpSpPr/>
            <p:nvPr/>
          </p:nvGrpSpPr>
          <p:grpSpPr>
            <a:xfrm>
              <a:off x="4342680" y="2662560"/>
              <a:ext cx="317880" cy="453240"/>
              <a:chOff x="4342680" y="2662560"/>
              <a:chExt cx="317880" cy="453240"/>
            </a:xfrm>
          </p:grpSpPr>
          <p:sp>
            <p:nvSpPr>
              <p:cNvPr id="679" name="AutoShape 21"/>
              <p:cNvSpPr/>
              <p:nvPr/>
            </p:nvSpPr>
            <p:spPr>
              <a:xfrm rot="5500800">
                <a:off x="4279320" y="2736720"/>
                <a:ext cx="444600" cy="3049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  <p:sp>
            <p:nvSpPr>
              <p:cNvPr id="680" name="AutoShape 22"/>
              <p:cNvSpPr/>
              <p:nvPr/>
            </p:nvSpPr>
            <p:spPr>
              <a:xfrm rot="10802400">
                <a:off x="4345920" y="2888280"/>
                <a:ext cx="304920" cy="222120"/>
              </a:xfrm>
              <a:prstGeom prst="triangle">
                <a:avLst>
                  <a:gd name="adj" fmla="val 55269"/>
                </a:avLst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</p:grpSp>
        <p:sp>
          <p:nvSpPr>
            <p:cNvPr id="681" name="Line 23"/>
            <p:cNvSpPr/>
            <p:nvPr/>
          </p:nvSpPr>
          <p:spPr>
            <a:xfrm>
              <a:off x="2590560" y="42670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82" name="Rectangle 24"/>
            <p:cNvSpPr/>
            <p:nvPr/>
          </p:nvSpPr>
          <p:spPr>
            <a:xfrm>
              <a:off x="2209680" y="3362040"/>
              <a:ext cx="1905120" cy="452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83" name="Line 25"/>
            <p:cNvSpPr/>
            <p:nvPr/>
          </p:nvSpPr>
          <p:spPr>
            <a:xfrm>
              <a:off x="2590560" y="3759120"/>
              <a:ext cx="0" cy="66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84" name="Line 26"/>
            <p:cNvSpPr/>
            <p:nvPr/>
          </p:nvSpPr>
          <p:spPr>
            <a:xfrm>
              <a:off x="3733560" y="4190760"/>
              <a:ext cx="152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>
              <a:off x="4190760" y="4724280"/>
              <a:ext cx="22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86" name="Rectangle 28"/>
            <p:cNvSpPr/>
            <p:nvPr/>
          </p:nvSpPr>
          <p:spPr>
            <a:xfrm>
              <a:off x="4876560" y="3375000"/>
              <a:ext cx="1905120" cy="452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87" name="Line 29"/>
            <p:cNvSpPr/>
            <p:nvPr/>
          </p:nvSpPr>
          <p:spPr>
            <a:xfrm>
              <a:off x="5257800" y="38862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grpSp>
          <p:nvGrpSpPr>
            <p:cNvPr id="688" name="Group 30"/>
            <p:cNvGrpSpPr/>
            <p:nvPr/>
          </p:nvGrpSpPr>
          <p:grpSpPr>
            <a:xfrm>
              <a:off x="4114800" y="4495680"/>
              <a:ext cx="75960" cy="457200"/>
              <a:chOff x="4114800" y="4495680"/>
              <a:chExt cx="75960" cy="457200"/>
            </a:xfrm>
          </p:grpSpPr>
          <p:sp>
            <p:nvSpPr>
              <p:cNvPr id="689" name="Line 31"/>
              <p:cNvSpPr/>
              <p:nvPr/>
            </p:nvSpPr>
            <p:spPr>
              <a:xfrm>
                <a:off x="4114800" y="4495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  <p:sp>
            <p:nvSpPr>
              <p:cNvPr id="690" name="Line 32"/>
              <p:cNvSpPr/>
              <p:nvPr/>
            </p:nvSpPr>
            <p:spPr>
              <a:xfrm>
                <a:off x="4190760" y="46479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</p:grpSp>
        <p:sp>
          <p:nvSpPr>
            <p:cNvPr id="691" name="Line 33"/>
            <p:cNvSpPr/>
            <p:nvPr/>
          </p:nvSpPr>
          <p:spPr>
            <a:xfrm>
              <a:off x="3733560" y="3809880"/>
              <a:ext cx="0" cy="39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692" name="Line 34"/>
            <p:cNvSpPr/>
            <p:nvPr/>
          </p:nvSpPr>
          <p:spPr>
            <a:xfrm>
              <a:off x="6400800" y="3886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</p:grpSp>
      <p:sp>
        <p:nvSpPr>
          <p:cNvPr id="693" name="WordArt 35"/>
          <p:cNvSpPr txBox="1"/>
          <p:nvPr/>
        </p:nvSpPr>
        <p:spPr>
          <a:xfrm>
            <a:off x="76320" y="304920"/>
            <a:ext cx="1409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动动脑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sp>
        <p:nvSpPr>
          <p:cNvPr id="694" name="Text Box 36"/>
          <p:cNvSpPr/>
          <p:nvPr/>
        </p:nvSpPr>
        <p:spPr>
          <a:xfrm>
            <a:off x="3636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  <a:ea typeface="宋体"/>
              </a:rPr>
              <a:t>www.eeppt.com</a:t>
            </a:r>
            <a:endParaRPr b="1" lang="en-US" sz="1600" spc="-1" strike="noStrike">
              <a:solidFill>
                <a:srgbClr val="42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420000"/>
                </a:solidFill>
                <a:latin typeface="华文行楷"/>
                <a:ea typeface="华文行楷"/>
              </a:rPr>
              <a:t>、要使电磁铁的磁性最强，应该</a:t>
            </a:r>
            <a:br>
              <a:rPr sz="3600"/>
            </a:br>
            <a:r>
              <a:rPr b="1" lang="zh-CN" sz="3600" spc="-1" strike="noStrike">
                <a:solidFill>
                  <a:srgbClr val="420000"/>
                </a:solidFill>
                <a:latin typeface="华文行楷"/>
                <a:ea typeface="华文行楷"/>
              </a:rPr>
              <a:t>如何做？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WordArt 3"/>
          <p:cNvSpPr txBox="1"/>
          <p:nvPr/>
        </p:nvSpPr>
        <p:spPr>
          <a:xfrm>
            <a:off x="114480" y="228600"/>
            <a:ext cx="1409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动动脑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grpSp>
        <p:nvGrpSpPr>
          <p:cNvPr id="697" name="Group 4"/>
          <p:cNvGrpSpPr/>
          <p:nvPr/>
        </p:nvGrpSpPr>
        <p:grpSpPr>
          <a:xfrm>
            <a:off x="2014560" y="2895480"/>
            <a:ext cx="4690440" cy="1904760"/>
            <a:chOff x="2014560" y="2895480"/>
            <a:chExt cx="4690440" cy="1904760"/>
          </a:xfrm>
        </p:grpSpPr>
        <p:grpSp>
          <p:nvGrpSpPr>
            <p:cNvPr id="698" name="Group 5"/>
            <p:cNvGrpSpPr/>
            <p:nvPr/>
          </p:nvGrpSpPr>
          <p:grpSpPr>
            <a:xfrm>
              <a:off x="5519160" y="2895480"/>
              <a:ext cx="1185840" cy="1904760"/>
              <a:chOff x="5519160" y="2895480"/>
              <a:chExt cx="1185840" cy="1904760"/>
            </a:xfrm>
          </p:grpSpPr>
          <p:grpSp>
            <p:nvGrpSpPr>
              <p:cNvPr id="699" name="Group 6"/>
              <p:cNvGrpSpPr/>
              <p:nvPr/>
            </p:nvGrpSpPr>
            <p:grpSpPr>
              <a:xfrm>
                <a:off x="5976360" y="3276000"/>
                <a:ext cx="716040" cy="380880"/>
                <a:chOff x="5976360" y="3276000"/>
                <a:chExt cx="716040" cy="380880"/>
              </a:xfrm>
            </p:grpSpPr>
            <p:sp>
              <p:nvSpPr>
                <p:cNvPr id="700" name="Freeform 7"/>
                <p:cNvSpPr/>
                <p:nvPr/>
              </p:nvSpPr>
              <p:spPr>
                <a:xfrm rot="5400000">
                  <a:off x="6561360" y="3297240"/>
                  <a:ext cx="152280" cy="1094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96" y="96"/>
                      </a:moveTo>
                      <a:cubicBezTo>
                        <a:pt x="80" y="48"/>
                        <a:pt x="64" y="0"/>
                        <a:pt x="48" y="0"/>
                      </a:cubicBezTo>
                      <a:cubicBezTo>
                        <a:pt x="32" y="0"/>
                        <a:pt x="16" y="48"/>
                        <a:pt x="0" y="9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  <p:sp>
              <p:nvSpPr>
                <p:cNvPr id="701" name="Freeform 8"/>
                <p:cNvSpPr/>
                <p:nvPr/>
              </p:nvSpPr>
              <p:spPr>
                <a:xfrm rot="5400000">
                  <a:off x="6174000" y="3230640"/>
                  <a:ext cx="228600" cy="623880"/>
                </a:xfrm>
                <a:custGeom>
                  <a:avLst/>
                  <a:gdLst/>
                  <a:ahLst/>
                  <a:rect l="l" t="t" r="r" b="b"/>
                  <a:pathLst>
                    <a:path w="144" h="544">
                      <a:moveTo>
                        <a:pt x="0" y="0"/>
                      </a:moveTo>
                      <a:cubicBezTo>
                        <a:pt x="36" y="208"/>
                        <a:pt x="72" y="416"/>
                        <a:pt x="96" y="480"/>
                      </a:cubicBezTo>
                      <a:cubicBezTo>
                        <a:pt x="120" y="544"/>
                        <a:pt x="136" y="400"/>
                        <a:pt x="144" y="38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02" name="Group 9"/>
              <p:cNvGrpSpPr/>
              <p:nvPr/>
            </p:nvGrpSpPr>
            <p:grpSpPr>
              <a:xfrm>
                <a:off x="5976360" y="3580920"/>
                <a:ext cx="716040" cy="380160"/>
                <a:chOff x="5976360" y="3580920"/>
                <a:chExt cx="716040" cy="380160"/>
              </a:xfrm>
            </p:grpSpPr>
            <p:sp>
              <p:nvSpPr>
                <p:cNvPr id="703" name="Freeform 10"/>
                <p:cNvSpPr/>
                <p:nvPr/>
              </p:nvSpPr>
              <p:spPr>
                <a:xfrm rot="5400000">
                  <a:off x="6561720" y="3602160"/>
                  <a:ext cx="151920" cy="1094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96" y="96"/>
                      </a:moveTo>
                      <a:cubicBezTo>
                        <a:pt x="80" y="48"/>
                        <a:pt x="64" y="0"/>
                        <a:pt x="48" y="0"/>
                      </a:cubicBezTo>
                      <a:cubicBezTo>
                        <a:pt x="32" y="0"/>
                        <a:pt x="16" y="48"/>
                        <a:pt x="0" y="9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  <p:sp>
              <p:nvSpPr>
                <p:cNvPr id="704" name="Freeform 11"/>
                <p:cNvSpPr/>
                <p:nvPr/>
              </p:nvSpPr>
              <p:spPr>
                <a:xfrm rot="5400000">
                  <a:off x="6174000" y="3534840"/>
                  <a:ext cx="228240" cy="623880"/>
                </a:xfrm>
                <a:custGeom>
                  <a:avLst/>
                  <a:gdLst/>
                  <a:ahLst/>
                  <a:rect l="l" t="t" r="r" b="b"/>
                  <a:pathLst>
                    <a:path w="144" h="544">
                      <a:moveTo>
                        <a:pt x="0" y="0"/>
                      </a:moveTo>
                      <a:cubicBezTo>
                        <a:pt x="36" y="208"/>
                        <a:pt x="72" y="416"/>
                        <a:pt x="96" y="480"/>
                      </a:cubicBezTo>
                      <a:cubicBezTo>
                        <a:pt x="120" y="544"/>
                        <a:pt x="136" y="400"/>
                        <a:pt x="144" y="38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05" name="Group 12"/>
              <p:cNvGrpSpPr/>
              <p:nvPr/>
            </p:nvGrpSpPr>
            <p:grpSpPr>
              <a:xfrm>
                <a:off x="5976360" y="3885840"/>
                <a:ext cx="728640" cy="380160"/>
                <a:chOff x="5976360" y="3885840"/>
                <a:chExt cx="728640" cy="380160"/>
              </a:xfrm>
            </p:grpSpPr>
            <p:sp>
              <p:nvSpPr>
                <p:cNvPr id="706" name="Freeform 13"/>
                <p:cNvSpPr/>
                <p:nvPr/>
              </p:nvSpPr>
              <p:spPr>
                <a:xfrm rot="5400000">
                  <a:off x="6574320" y="3907080"/>
                  <a:ext cx="151920" cy="1094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96" y="96"/>
                      </a:moveTo>
                      <a:cubicBezTo>
                        <a:pt x="80" y="48"/>
                        <a:pt x="64" y="0"/>
                        <a:pt x="48" y="0"/>
                      </a:cubicBezTo>
                      <a:cubicBezTo>
                        <a:pt x="32" y="0"/>
                        <a:pt x="16" y="48"/>
                        <a:pt x="0" y="9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  <p:sp>
              <p:nvSpPr>
                <p:cNvPr id="707" name="Freeform 14"/>
                <p:cNvSpPr/>
                <p:nvPr/>
              </p:nvSpPr>
              <p:spPr>
                <a:xfrm rot="5400000">
                  <a:off x="6174000" y="3839760"/>
                  <a:ext cx="228240" cy="623880"/>
                </a:xfrm>
                <a:custGeom>
                  <a:avLst/>
                  <a:gdLst/>
                  <a:ahLst/>
                  <a:rect l="l" t="t" r="r" b="b"/>
                  <a:pathLst>
                    <a:path w="144" h="544">
                      <a:moveTo>
                        <a:pt x="0" y="0"/>
                      </a:moveTo>
                      <a:cubicBezTo>
                        <a:pt x="36" y="208"/>
                        <a:pt x="72" y="416"/>
                        <a:pt x="96" y="480"/>
                      </a:cubicBezTo>
                      <a:cubicBezTo>
                        <a:pt x="120" y="544"/>
                        <a:pt x="136" y="400"/>
                        <a:pt x="144" y="38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08" name="Group 15"/>
              <p:cNvGrpSpPr/>
              <p:nvPr/>
            </p:nvGrpSpPr>
            <p:grpSpPr>
              <a:xfrm>
                <a:off x="5994000" y="4266720"/>
                <a:ext cx="698400" cy="158400"/>
                <a:chOff x="5994000" y="4266720"/>
                <a:chExt cx="698400" cy="158400"/>
              </a:xfrm>
            </p:grpSpPr>
            <p:sp>
              <p:nvSpPr>
                <p:cNvPr id="709" name="Freeform 16"/>
                <p:cNvSpPr/>
                <p:nvPr/>
              </p:nvSpPr>
              <p:spPr>
                <a:xfrm rot="5400000">
                  <a:off x="6568560" y="4301280"/>
                  <a:ext cx="158400" cy="88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96" y="96"/>
                      </a:moveTo>
                      <a:cubicBezTo>
                        <a:pt x="80" y="48"/>
                        <a:pt x="64" y="0"/>
                        <a:pt x="48" y="0"/>
                      </a:cubicBezTo>
                      <a:cubicBezTo>
                        <a:pt x="32" y="0"/>
                        <a:pt x="16" y="48"/>
                        <a:pt x="0" y="9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t">
                  <a:noAutofit/>
                </a:bodyPr>
                <a:p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  <p:sp>
              <p:nvSpPr>
                <p:cNvPr id="710" name="Line 17"/>
                <p:cNvSpPr/>
                <p:nvPr/>
              </p:nvSpPr>
              <p:spPr>
                <a:xfrm flipH="1">
                  <a:off x="5994000" y="4425120"/>
                  <a:ext cx="609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42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11" name="Rectangle 18"/>
              <p:cNvSpPr/>
              <p:nvPr/>
            </p:nvSpPr>
            <p:spPr>
              <a:xfrm rot="5400000">
                <a:off x="5397840" y="3621600"/>
                <a:ext cx="1904760" cy="452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  <p:sp>
            <p:nvSpPr>
              <p:cNvPr id="712" name="Line 19"/>
              <p:cNvSpPr/>
              <p:nvPr/>
            </p:nvSpPr>
            <p:spPr>
              <a:xfrm flipH="1">
                <a:off x="5519160" y="3358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</p:grpSp>
        <p:sp>
          <p:nvSpPr>
            <p:cNvPr id="713" name="Line 20"/>
            <p:cNvSpPr/>
            <p:nvPr/>
          </p:nvSpPr>
          <p:spPr>
            <a:xfrm>
              <a:off x="3005640" y="40399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14" name="Line 21"/>
            <p:cNvSpPr/>
            <p:nvPr/>
          </p:nvSpPr>
          <p:spPr>
            <a:xfrm>
              <a:off x="3005640" y="44208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grpSp>
          <p:nvGrpSpPr>
            <p:cNvPr id="715" name="Group 22"/>
            <p:cNvGrpSpPr/>
            <p:nvPr/>
          </p:nvGrpSpPr>
          <p:grpSpPr>
            <a:xfrm>
              <a:off x="3920400" y="4192200"/>
              <a:ext cx="75960" cy="457200"/>
              <a:chOff x="3920400" y="4192200"/>
              <a:chExt cx="75960" cy="457200"/>
            </a:xfrm>
          </p:grpSpPr>
          <p:sp>
            <p:nvSpPr>
              <p:cNvPr id="716" name="Line 23"/>
              <p:cNvSpPr/>
              <p:nvPr/>
            </p:nvSpPr>
            <p:spPr>
              <a:xfrm>
                <a:off x="3920400" y="41922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  <p:sp>
            <p:nvSpPr>
              <p:cNvPr id="717" name="Line 24"/>
              <p:cNvSpPr/>
              <p:nvPr/>
            </p:nvSpPr>
            <p:spPr>
              <a:xfrm>
                <a:off x="3996360" y="43444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</p:grpSp>
        <p:sp>
          <p:nvSpPr>
            <p:cNvPr id="718" name="Line 25"/>
            <p:cNvSpPr/>
            <p:nvPr/>
          </p:nvSpPr>
          <p:spPr>
            <a:xfrm flipH="1">
              <a:off x="4072320" y="4420800"/>
              <a:ext cx="198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19" name="Line 26"/>
            <p:cNvSpPr/>
            <p:nvPr/>
          </p:nvSpPr>
          <p:spPr>
            <a:xfrm flipH="1">
              <a:off x="5520600" y="388764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grpSp>
          <p:nvGrpSpPr>
            <p:cNvPr id="720" name="Group 27"/>
            <p:cNvGrpSpPr/>
            <p:nvPr/>
          </p:nvGrpSpPr>
          <p:grpSpPr>
            <a:xfrm>
              <a:off x="2548080" y="3506400"/>
              <a:ext cx="2896200" cy="152280"/>
              <a:chOff x="2548080" y="3506400"/>
              <a:chExt cx="2896200" cy="152280"/>
            </a:xfrm>
          </p:grpSpPr>
          <p:sp>
            <p:nvSpPr>
              <p:cNvPr id="721" name="Rectangle 28"/>
              <p:cNvSpPr/>
              <p:nvPr/>
            </p:nvSpPr>
            <p:spPr>
              <a:xfrm>
                <a:off x="2548080" y="3506400"/>
                <a:ext cx="533520" cy="152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  <p:sp>
            <p:nvSpPr>
              <p:cNvPr id="722" name="Rectangle 29"/>
              <p:cNvSpPr/>
              <p:nvPr/>
            </p:nvSpPr>
            <p:spPr>
              <a:xfrm>
                <a:off x="3996360" y="3506400"/>
                <a:ext cx="533160" cy="152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  <p:sp>
            <p:nvSpPr>
              <p:cNvPr id="723" name="Line 30"/>
              <p:cNvSpPr/>
              <p:nvPr/>
            </p:nvSpPr>
            <p:spPr>
              <a:xfrm>
                <a:off x="3081600" y="358272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  <p:sp>
            <p:nvSpPr>
              <p:cNvPr id="724" name="Line 31"/>
              <p:cNvSpPr/>
              <p:nvPr/>
            </p:nvSpPr>
            <p:spPr>
              <a:xfrm>
                <a:off x="4529880" y="358272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</p:grpSp>
        <p:sp>
          <p:nvSpPr>
            <p:cNvPr id="725" name="Line 32"/>
            <p:cNvSpPr/>
            <p:nvPr/>
          </p:nvSpPr>
          <p:spPr>
            <a:xfrm flipH="1">
              <a:off x="2014560" y="3582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26" name="Line 33"/>
            <p:cNvSpPr/>
            <p:nvPr/>
          </p:nvSpPr>
          <p:spPr>
            <a:xfrm>
              <a:off x="2014560" y="35827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27" name="Line 34"/>
            <p:cNvSpPr/>
            <p:nvPr/>
          </p:nvSpPr>
          <p:spPr>
            <a:xfrm>
              <a:off x="2014560" y="4192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28" name="Line 35"/>
            <p:cNvSpPr/>
            <p:nvPr/>
          </p:nvSpPr>
          <p:spPr>
            <a:xfrm>
              <a:off x="3538800" y="358272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29" name="Line 36"/>
            <p:cNvSpPr/>
            <p:nvPr/>
          </p:nvSpPr>
          <p:spPr>
            <a:xfrm>
              <a:off x="3310200" y="41162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30" name="Oval 37"/>
            <p:cNvSpPr/>
            <p:nvPr/>
          </p:nvSpPr>
          <p:spPr>
            <a:xfrm>
              <a:off x="2471760" y="4116240"/>
              <a:ext cx="76320" cy="75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31" name="Oval 38"/>
            <p:cNvSpPr/>
            <p:nvPr/>
          </p:nvSpPr>
          <p:spPr>
            <a:xfrm>
              <a:off x="3234240" y="4116240"/>
              <a:ext cx="75960" cy="75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32" name="Oval 39"/>
            <p:cNvSpPr/>
            <p:nvPr/>
          </p:nvSpPr>
          <p:spPr>
            <a:xfrm>
              <a:off x="5520960" y="3811320"/>
              <a:ext cx="75960" cy="76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33" name="Oval 40"/>
            <p:cNvSpPr/>
            <p:nvPr/>
          </p:nvSpPr>
          <p:spPr>
            <a:xfrm>
              <a:off x="5444640" y="3277800"/>
              <a:ext cx="76320" cy="76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34" name="Text Box 41"/>
            <p:cNvSpPr/>
            <p:nvPr/>
          </p:nvSpPr>
          <p:spPr>
            <a:xfrm>
              <a:off x="2090880" y="4116240"/>
              <a:ext cx="320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20000"/>
                  </a:solidFill>
                  <a:latin typeface="Tahoma"/>
                </a:rPr>
                <a:t>  </a:t>
              </a:r>
              <a:r>
                <a:rPr b="0" lang="zh-CN" sz="2400" spc="-1" strike="noStrike">
                  <a:solidFill>
                    <a:srgbClr val="420000"/>
                  </a:solidFill>
                  <a:latin typeface="Tahoma"/>
                </a:rPr>
                <a:t>A </a:t>
              </a: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S</a:t>
              </a:r>
              <a:r>
                <a:rPr b="0" lang="zh-CN" sz="2400" spc="-1" strike="noStrike" baseline="-25000">
                  <a:solidFill>
                    <a:srgbClr val="ff0000"/>
                  </a:solidFill>
                  <a:latin typeface="Tahoma"/>
                </a:rPr>
                <a:t>1</a:t>
              </a:r>
              <a:r>
                <a:rPr b="0" lang="zh-CN" sz="2400" spc="-1" strike="noStrike">
                  <a:solidFill>
                    <a:srgbClr val="420000"/>
                  </a:solidFill>
                  <a:latin typeface="Tahoma"/>
                </a:rPr>
                <a:t>   B</a:t>
              </a:r>
              <a:endParaRPr b="1" lang="en-US" sz="24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35" name="Text Box 42"/>
            <p:cNvSpPr/>
            <p:nvPr/>
          </p:nvSpPr>
          <p:spPr>
            <a:xfrm>
              <a:off x="4682160" y="3111120"/>
              <a:ext cx="144828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S</a:t>
              </a:r>
              <a:r>
                <a:rPr b="0" lang="zh-CN" sz="2400" spc="-1" strike="noStrike" baseline="-25000">
                  <a:solidFill>
                    <a:srgbClr val="ff0000"/>
                  </a:solidFill>
                  <a:latin typeface="Tahoma"/>
                </a:rPr>
                <a:t>2</a:t>
              </a:r>
              <a:r>
                <a:rPr b="0" lang="zh-CN" sz="2400" spc="-1" strike="noStrike" baseline="-25000">
                  <a:solidFill>
                    <a:srgbClr val="420000"/>
                  </a:solidFill>
                  <a:latin typeface="Tahoma"/>
                </a:rPr>
                <a:t>   </a:t>
              </a:r>
              <a:r>
                <a:rPr b="0" lang="zh-CN" sz="2400" spc="-1" strike="noStrike">
                  <a:solidFill>
                    <a:srgbClr val="420000"/>
                  </a:solidFill>
                  <a:latin typeface="Tahoma"/>
                </a:rPr>
                <a:t>C</a:t>
              </a:r>
              <a:endParaRPr b="1" lang="en-US" sz="2400" spc="-1" strike="noStrike">
                <a:solidFill>
                  <a:srgbClr val="420000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20000"/>
                  </a:solidFill>
                  <a:latin typeface="Tahoma"/>
                </a:rPr>
                <a:t>     </a:t>
              </a:r>
              <a:r>
                <a:rPr b="0" lang="zh-CN" sz="2400" spc="-1" strike="noStrike">
                  <a:solidFill>
                    <a:srgbClr val="420000"/>
                  </a:solidFill>
                  <a:latin typeface="Tahoma"/>
                </a:rPr>
                <a:t>D</a:t>
              </a:r>
              <a:endParaRPr b="1" lang="en-US" sz="2400" spc="-1" strike="noStrike">
                <a:solidFill>
                  <a:srgbClr val="42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817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、小强利用电磁继电器设计了如下电路：你知道它是如何工作的吗？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WordArt 4"/>
          <p:cNvSpPr txBox="1"/>
          <p:nvPr/>
        </p:nvSpPr>
        <p:spPr>
          <a:xfrm>
            <a:off x="114480" y="228600"/>
            <a:ext cx="1409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动动脑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-74520" y="5486400"/>
            <a:ext cx="18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0000"/>
                </a:solidFill>
                <a:latin typeface="Tahoma"/>
              </a:rPr>
              <a:t>橡胶垫圈</a:t>
            </a:r>
            <a:endParaRPr b="1" lang="en-US" sz="2800" spc="-1" strike="noStrike">
              <a:solidFill>
                <a:srgbClr val="420000"/>
              </a:solidFill>
              <a:latin typeface="Tahoma"/>
            </a:endParaRPr>
          </a:p>
        </p:txBody>
      </p:sp>
      <p:grpSp>
        <p:nvGrpSpPr>
          <p:cNvPr id="740" name="Group 6"/>
          <p:cNvGrpSpPr/>
          <p:nvPr/>
        </p:nvGrpSpPr>
        <p:grpSpPr>
          <a:xfrm>
            <a:off x="457200" y="2154240"/>
            <a:ext cx="6826320" cy="4386240"/>
            <a:chOff x="457200" y="2154240"/>
            <a:chExt cx="6826320" cy="4386240"/>
          </a:xfrm>
        </p:grpSpPr>
        <p:grpSp>
          <p:nvGrpSpPr>
            <p:cNvPr id="741" name="Group 7"/>
            <p:cNvGrpSpPr/>
            <p:nvPr/>
          </p:nvGrpSpPr>
          <p:grpSpPr>
            <a:xfrm>
              <a:off x="685800" y="2154240"/>
              <a:ext cx="6597720" cy="4017960"/>
              <a:chOff x="685800" y="2154240"/>
              <a:chExt cx="6597720" cy="4017960"/>
            </a:xfrm>
          </p:grpSpPr>
          <p:pic>
            <p:nvPicPr>
              <p:cNvPr id="742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2154240"/>
                <a:ext cx="6597720" cy="401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3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6520" y="3429000"/>
                <a:ext cx="4762440" cy="2416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4" name="Text Box 10"/>
            <p:cNvSpPr/>
            <p:nvPr/>
          </p:nvSpPr>
          <p:spPr>
            <a:xfrm>
              <a:off x="1143000" y="6019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20000"/>
                  </a:solidFill>
                  <a:latin typeface="Tahoma"/>
                </a:rPr>
                <a:t>触点</a:t>
              </a:r>
              <a:endParaRPr b="1" lang="en-US" sz="28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45" name="Text Box 11"/>
            <p:cNvSpPr/>
            <p:nvPr/>
          </p:nvSpPr>
          <p:spPr>
            <a:xfrm>
              <a:off x="457200" y="41148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20000"/>
                  </a:solidFill>
                  <a:latin typeface="Tahoma"/>
                </a:rPr>
                <a:t>上踏板</a:t>
              </a:r>
              <a:endParaRPr b="1" lang="en-US" sz="2800" spc="-1" strike="noStrike">
                <a:solidFill>
                  <a:srgbClr val="42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1371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420000"/>
                </a:solidFill>
                <a:latin typeface="Tahoma"/>
                <a:ea typeface="华文行楷"/>
              </a:rPr>
              <a:t>、根据甲图，判断乙图通电导线的受力方向、丙图导线中电流方向、丁图磁极极性：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WordArt 3"/>
          <p:cNvSpPr txBox="1"/>
          <p:nvPr/>
        </p:nvSpPr>
        <p:spPr>
          <a:xfrm>
            <a:off x="190440" y="380880"/>
            <a:ext cx="1409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动动脑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609480" y="3079800"/>
            <a:ext cx="1295280" cy="3582720"/>
            <a:chOff x="609480" y="3079800"/>
            <a:chExt cx="1295280" cy="3582720"/>
          </a:xfrm>
        </p:grpSpPr>
        <p:pic>
          <p:nvPicPr>
            <p:cNvPr id="749" name="Picture 5" descr=""/>
            <p:cNvPicPr/>
            <p:nvPr/>
          </p:nvPicPr>
          <p:blipFill>
            <a:blip r:embed="rId1"/>
            <a:stretch/>
          </p:blipFill>
          <p:spPr>
            <a:xfrm>
              <a:off x="914400" y="3079800"/>
              <a:ext cx="96516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Line 6"/>
            <p:cNvSpPr/>
            <p:nvPr/>
          </p:nvSpPr>
          <p:spPr>
            <a:xfrm>
              <a:off x="76176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51" name="Text Box 7"/>
            <p:cNvSpPr/>
            <p:nvPr/>
          </p:nvSpPr>
          <p:spPr>
            <a:xfrm>
              <a:off x="609480" y="44514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420000"/>
                  </a:solidFill>
                  <a:latin typeface="Tahoma"/>
                </a:rPr>
                <a:t>F</a:t>
              </a: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52" name="Text Box 8"/>
            <p:cNvSpPr/>
            <p:nvPr/>
          </p:nvSpPr>
          <p:spPr>
            <a:xfrm>
              <a:off x="1066680" y="60199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20000"/>
                  </a:solidFill>
                  <a:latin typeface="Tahoma"/>
                </a:rPr>
                <a:t>甲</a:t>
              </a: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</p:grpSp>
      <p:grpSp>
        <p:nvGrpSpPr>
          <p:cNvPr id="753" name="Group 9"/>
          <p:cNvGrpSpPr/>
          <p:nvPr/>
        </p:nvGrpSpPr>
        <p:grpSpPr>
          <a:xfrm>
            <a:off x="2819520" y="3079800"/>
            <a:ext cx="1066680" cy="3582720"/>
            <a:chOff x="2819520" y="3079800"/>
            <a:chExt cx="1066680" cy="3582720"/>
          </a:xfrm>
        </p:grpSpPr>
        <p:pic>
          <p:nvPicPr>
            <p:cNvPr id="754" name="Picture 10" descr=""/>
            <p:cNvPicPr/>
            <p:nvPr/>
          </p:nvPicPr>
          <p:blipFill>
            <a:blip r:embed="rId2"/>
            <a:stretch/>
          </p:blipFill>
          <p:spPr>
            <a:xfrm>
              <a:off x="2819520" y="3079800"/>
              <a:ext cx="96516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Text Box 11"/>
            <p:cNvSpPr/>
            <p:nvPr/>
          </p:nvSpPr>
          <p:spPr>
            <a:xfrm>
              <a:off x="3048120" y="60199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20000"/>
                  </a:solidFill>
                  <a:latin typeface="Tahoma"/>
                </a:rPr>
                <a:t>乙</a:t>
              </a: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</p:grpSp>
      <p:grpSp>
        <p:nvGrpSpPr>
          <p:cNvPr id="756" name="Group 12"/>
          <p:cNvGrpSpPr/>
          <p:nvPr/>
        </p:nvGrpSpPr>
        <p:grpSpPr>
          <a:xfrm>
            <a:off x="4800600" y="3079800"/>
            <a:ext cx="1219320" cy="3582720"/>
            <a:chOff x="4800600" y="3079800"/>
            <a:chExt cx="1219320" cy="3582720"/>
          </a:xfrm>
        </p:grpSpPr>
        <p:grpSp>
          <p:nvGrpSpPr>
            <p:cNvPr id="757" name="Group 13"/>
            <p:cNvGrpSpPr/>
            <p:nvPr/>
          </p:nvGrpSpPr>
          <p:grpSpPr>
            <a:xfrm>
              <a:off x="4800600" y="3079800"/>
              <a:ext cx="1219320" cy="2711520"/>
              <a:chOff x="4800600" y="3079800"/>
              <a:chExt cx="1219320" cy="2711520"/>
            </a:xfrm>
          </p:grpSpPr>
          <p:pic>
            <p:nvPicPr>
              <p:cNvPr id="758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4800600" y="3079800"/>
                <a:ext cx="965160" cy="27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9" name="Line 15"/>
              <p:cNvSpPr/>
              <p:nvPr/>
            </p:nvSpPr>
            <p:spPr>
              <a:xfrm flipH="1">
                <a:off x="5562720" y="44197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  <p:sp>
            <p:nvSpPr>
              <p:cNvPr id="760" name="Text Box 16"/>
              <p:cNvSpPr/>
              <p:nvPr/>
            </p:nvSpPr>
            <p:spPr>
              <a:xfrm>
                <a:off x="5638680" y="4388040"/>
                <a:ext cx="381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420000"/>
                    </a:solidFill>
                    <a:latin typeface="Tahoma"/>
                  </a:rPr>
                  <a:t>F</a:t>
                </a:r>
                <a:endParaRPr b="1" lang="en-US" sz="3600" spc="-1" strike="noStrike">
                  <a:solidFill>
                    <a:srgbClr val="420000"/>
                  </a:solidFill>
                  <a:latin typeface="Tahoma"/>
                </a:endParaRPr>
              </a:p>
            </p:txBody>
          </p:sp>
        </p:grpSp>
        <p:sp>
          <p:nvSpPr>
            <p:cNvPr id="761" name="Text Box 17"/>
            <p:cNvSpPr/>
            <p:nvPr/>
          </p:nvSpPr>
          <p:spPr>
            <a:xfrm>
              <a:off x="5029200" y="60199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20000"/>
                  </a:solidFill>
                  <a:latin typeface="Tahoma"/>
                </a:rPr>
                <a:t>丙</a:t>
              </a: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</p:grpSp>
      <p:grpSp>
        <p:nvGrpSpPr>
          <p:cNvPr id="762" name="Group 18"/>
          <p:cNvGrpSpPr/>
          <p:nvPr/>
        </p:nvGrpSpPr>
        <p:grpSpPr>
          <a:xfrm>
            <a:off x="6807240" y="3048120"/>
            <a:ext cx="1346040" cy="3614040"/>
            <a:chOff x="6807240" y="3048120"/>
            <a:chExt cx="1346040" cy="3614040"/>
          </a:xfrm>
        </p:grpSpPr>
        <p:pic>
          <p:nvPicPr>
            <p:cNvPr id="763" name="Picture 19" descr=""/>
            <p:cNvPicPr/>
            <p:nvPr/>
          </p:nvPicPr>
          <p:blipFill>
            <a:blip r:embed="rId4"/>
            <a:stretch/>
          </p:blipFill>
          <p:spPr>
            <a:xfrm>
              <a:off x="6807240" y="3048120"/>
              <a:ext cx="965160" cy="27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Line 20"/>
            <p:cNvSpPr/>
            <p:nvPr/>
          </p:nvSpPr>
          <p:spPr>
            <a:xfrm>
              <a:off x="7543800" y="4431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65" name="Text Box 21"/>
            <p:cNvSpPr/>
            <p:nvPr/>
          </p:nvSpPr>
          <p:spPr>
            <a:xfrm>
              <a:off x="7772400" y="446364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420000"/>
                  </a:solidFill>
                  <a:latin typeface="Tahoma"/>
                </a:rPr>
                <a:t>F</a:t>
              </a: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  <p:sp>
          <p:nvSpPr>
            <p:cNvPr id="766" name="Text Box 22"/>
            <p:cNvSpPr/>
            <p:nvPr/>
          </p:nvSpPr>
          <p:spPr>
            <a:xfrm>
              <a:off x="7010280" y="601956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20000"/>
                  </a:solidFill>
                  <a:latin typeface="Tahoma"/>
                </a:rPr>
                <a:t>丁</a:t>
              </a:r>
              <a:endParaRPr b="1" lang="en-US" sz="3600" spc="-1" strike="noStrike">
                <a:solidFill>
                  <a:srgbClr val="42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幻灯片之家 http:/www.eeppt.com</cp:keywords>
  <dc:language>en-US</dc:language>
  <cp:lastModifiedBy/>
  <dcterms:modified xsi:type="dcterms:W3CDTF">2015-07-20T06:20:46Z</dcterms:modified>
  <cp:revision>0</cp:revision>
  <dc:subject/>
  <dc:title/>
</cp:coreProperties>
</file>