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716-E5D1-4432-8A15-1FF2465E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670-09BB-4F42-824A-6C67E991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2A90-93E7-4A67-A4C2-9834CA41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9F5D-3D07-44D4-84CD-C29E79FF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F875-6FC8-419C-8C70-0DA20F5E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503A-E1E7-4C2B-ACB8-4A79E799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6638-9B59-40D5-B416-B20BACA8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C97E-8C20-439A-811D-AF03292F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425B-CC63-4BB8-B641-7C7419A8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6766-12EA-4CD8-8DB3-EAAC863F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3BD1-B4F7-4935-9584-763298FE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0A1-5D57-4D77-8D04-E2898850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963A-FA85-44A2-AED9-F76368E5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8DC6-AF4A-42C0-97F2-F5FF8364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4417-DB0F-45E5-8DEA-562004EB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C39F-06C9-4DF0-9B0E-33A5D3DD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2015-DDDA-45D6-94B3-6AA52AB9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C7F8-76C6-408D-B98A-26D49359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407-919E-446C-9CE7-9E9614CC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1523-41BF-424E-8C57-797E5434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8290-BD84-49B5-8DBD-9E167777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A8F9-3479-49D5-A729-7831B1A5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8725-A030-4482-BE4E-D90A31C6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F6D-07BD-4FA5-BB29-8A21BA5E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313DFA-653C-4DAE-AB84-7D285F9B209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EAE055-9BA3-4F90-844F-22A64091738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1492920" y="6365880"/>
            <a:ext cx="13518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1ppt.com/xiaza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8"/>
          <p:cNvSpPr/>
          <p:nvPr/>
        </p:nvSpPr>
        <p:spPr>
          <a:xfrm>
            <a:off x="5887080" y="843120"/>
            <a:ext cx="6200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责任稀释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8"/>
          <p:cNvSpPr/>
          <p:nvPr/>
        </p:nvSpPr>
        <p:spPr>
          <a:xfrm>
            <a:off x="5244480" y="4312800"/>
            <a:ext cx="1666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妙手回春</a:t>
            </a:r>
            <a:r>
              <a:rPr b="0" lang="en-US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作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9"/>
          <p:cNvSpPr/>
          <p:nvPr/>
        </p:nvSpPr>
        <p:spPr>
          <a:xfrm>
            <a:off x="4939200" y="4668120"/>
            <a:ext cx="2111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2013</a:t>
            </a:r>
            <a:r>
              <a:rPr b="0" lang="zh-CN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07</a:t>
            </a:r>
            <a:r>
              <a:rPr b="0" lang="zh-CN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02</a:t>
            </a:r>
            <a:r>
              <a:rPr b="0" lang="zh-CN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0" y="0"/>
            <a:ext cx="12191760" cy="8449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0" y="5638680"/>
            <a:ext cx="12191760" cy="12189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任意多边形 19"/>
          <p:cNvSpPr/>
          <p:nvPr/>
        </p:nvSpPr>
        <p:spPr>
          <a:xfrm>
            <a:off x="5100120" y="1514880"/>
            <a:ext cx="2176200" cy="2735640"/>
          </a:xfrm>
          <a:custGeom>
            <a:avLst/>
            <a:gdLst>
              <a:gd name="textAreaLeft" fmla="*/ 0 w 2176200"/>
              <a:gd name="textAreaRight" fmla="*/ 2176560 w 2176200"/>
              <a:gd name="textAreaTop" fmla="*/ 0 h 2735640"/>
              <a:gd name="textAreaBottom" fmla="*/ 2736000 h 2735640"/>
            </a:gdLst>
            <a:ahLst/>
            <a:rect l="textAreaLeft" t="textAreaTop" r="textAreaRight" b="textAreaBottom"/>
            <a:pathLst>
              <a:path w="2034862" h="2558022">
                <a:moveTo>
                  <a:pt x="792052" y="0"/>
                </a:moveTo>
                <a:lnTo>
                  <a:pt x="1229929" y="0"/>
                </a:lnTo>
                <a:cubicBezTo>
                  <a:pt x="1290389" y="0"/>
                  <a:pt x="1339402" y="49013"/>
                  <a:pt x="1339402" y="109473"/>
                </a:cubicBezTo>
                <a:lnTo>
                  <a:pt x="1339402" y="869107"/>
                </a:lnTo>
                <a:lnTo>
                  <a:pt x="2034862" y="2558022"/>
                </a:lnTo>
                <a:lnTo>
                  <a:pt x="0" y="2558022"/>
                </a:lnTo>
                <a:lnTo>
                  <a:pt x="682579" y="900388"/>
                </a:lnTo>
                <a:lnTo>
                  <a:pt x="682579" y="109473"/>
                </a:lnTo>
                <a:cubicBezTo>
                  <a:pt x="682579" y="49013"/>
                  <a:pt x="731592" y="0"/>
                  <a:pt x="792052" y="0"/>
                </a:cubicBezTo>
                <a:close/>
              </a:path>
            </a:pathLst>
          </a:cu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任意多边形 23"/>
          <p:cNvSpPr/>
          <p:nvPr/>
        </p:nvSpPr>
        <p:spPr>
          <a:xfrm>
            <a:off x="5100120" y="2908440"/>
            <a:ext cx="2176200" cy="1367640"/>
          </a:xfrm>
          <a:custGeom>
            <a:avLst/>
            <a:gdLst>
              <a:gd name="textAreaLeft" fmla="*/ 0 w 2176200"/>
              <a:gd name="textAreaRight" fmla="*/ 2176560 w 2176200"/>
              <a:gd name="textAreaTop" fmla="*/ 0 h 1367640"/>
              <a:gd name="textAreaBottom" fmla="*/ 1368000 h 1367640"/>
            </a:gdLst>
            <a:ahLst/>
            <a:rect l="textAreaLeft" t="textAreaTop" r="textAreaRight" b="textAreaBottom"/>
            <a:pathLst>
              <a:path w="2176530" h="1368057">
                <a:moveTo>
                  <a:pt x="563337" y="0"/>
                </a:moveTo>
                <a:lnTo>
                  <a:pt x="1613193" y="0"/>
                </a:lnTo>
                <a:lnTo>
                  <a:pt x="2176530" y="1368057"/>
                </a:lnTo>
                <a:lnTo>
                  <a:pt x="0" y="1368057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椭圆 5"/>
          <p:cNvSpPr/>
          <p:nvPr/>
        </p:nvSpPr>
        <p:spPr>
          <a:xfrm>
            <a:off x="5887080" y="327996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椭圆 26"/>
          <p:cNvSpPr/>
          <p:nvPr/>
        </p:nvSpPr>
        <p:spPr>
          <a:xfrm>
            <a:off x="6215400" y="341244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椭圆 27"/>
          <p:cNvSpPr/>
          <p:nvPr/>
        </p:nvSpPr>
        <p:spPr>
          <a:xfrm>
            <a:off x="6544080" y="327204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椭圆 28"/>
          <p:cNvSpPr/>
          <p:nvPr/>
        </p:nvSpPr>
        <p:spPr>
          <a:xfrm>
            <a:off x="5719680" y="375732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椭圆 29"/>
          <p:cNvSpPr/>
          <p:nvPr/>
        </p:nvSpPr>
        <p:spPr>
          <a:xfrm>
            <a:off x="6048000" y="389952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椭圆 30"/>
          <p:cNvSpPr/>
          <p:nvPr/>
        </p:nvSpPr>
        <p:spPr>
          <a:xfrm>
            <a:off x="6431400" y="379152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椭圆 31"/>
          <p:cNvSpPr/>
          <p:nvPr/>
        </p:nvSpPr>
        <p:spPr>
          <a:xfrm>
            <a:off x="6878880" y="401292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椭圆 32"/>
          <p:cNvSpPr/>
          <p:nvPr/>
        </p:nvSpPr>
        <p:spPr>
          <a:xfrm>
            <a:off x="6255720" y="313164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椭圆 33"/>
          <p:cNvSpPr/>
          <p:nvPr/>
        </p:nvSpPr>
        <p:spPr>
          <a:xfrm>
            <a:off x="6027480" y="358452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椭圆 34"/>
          <p:cNvSpPr/>
          <p:nvPr/>
        </p:nvSpPr>
        <p:spPr>
          <a:xfrm>
            <a:off x="5561640" y="355284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椭圆 35"/>
          <p:cNvSpPr/>
          <p:nvPr/>
        </p:nvSpPr>
        <p:spPr>
          <a:xfrm>
            <a:off x="5363640" y="397764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椭圆 36"/>
          <p:cNvSpPr/>
          <p:nvPr/>
        </p:nvSpPr>
        <p:spPr>
          <a:xfrm>
            <a:off x="5689800" y="407376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椭圆 37"/>
          <p:cNvSpPr/>
          <p:nvPr/>
        </p:nvSpPr>
        <p:spPr>
          <a:xfrm>
            <a:off x="5623560" y="321084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椭圆 44"/>
          <p:cNvSpPr/>
          <p:nvPr/>
        </p:nvSpPr>
        <p:spPr>
          <a:xfrm>
            <a:off x="6292440" y="402156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椭圆 45"/>
          <p:cNvSpPr/>
          <p:nvPr/>
        </p:nvSpPr>
        <p:spPr>
          <a:xfrm>
            <a:off x="6613920" y="359244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椭圆 51"/>
          <p:cNvSpPr/>
          <p:nvPr/>
        </p:nvSpPr>
        <p:spPr>
          <a:xfrm>
            <a:off x="2558520" y="1662480"/>
            <a:ext cx="819360" cy="81936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椭圆 52"/>
          <p:cNvSpPr/>
          <p:nvPr/>
        </p:nvSpPr>
        <p:spPr>
          <a:xfrm>
            <a:off x="3283200" y="1288080"/>
            <a:ext cx="719640" cy="71964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椭圆 53"/>
          <p:cNvSpPr/>
          <p:nvPr/>
        </p:nvSpPr>
        <p:spPr>
          <a:xfrm>
            <a:off x="4028040" y="1108440"/>
            <a:ext cx="647640" cy="64764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椭圆 54"/>
          <p:cNvSpPr/>
          <p:nvPr/>
        </p:nvSpPr>
        <p:spPr>
          <a:xfrm>
            <a:off x="5355720" y="1026360"/>
            <a:ext cx="503640" cy="50364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椭圆 55"/>
          <p:cNvSpPr/>
          <p:nvPr/>
        </p:nvSpPr>
        <p:spPr>
          <a:xfrm>
            <a:off x="4715640" y="1036800"/>
            <a:ext cx="575640" cy="57564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椭圆 56"/>
          <p:cNvSpPr/>
          <p:nvPr/>
        </p:nvSpPr>
        <p:spPr>
          <a:xfrm>
            <a:off x="5871240" y="1219320"/>
            <a:ext cx="431640" cy="43164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椭圆 62"/>
          <p:cNvSpPr/>
          <p:nvPr/>
        </p:nvSpPr>
        <p:spPr>
          <a:xfrm>
            <a:off x="6016320" y="1679400"/>
            <a:ext cx="359640" cy="35964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椭圆 63"/>
          <p:cNvSpPr/>
          <p:nvPr/>
        </p:nvSpPr>
        <p:spPr>
          <a:xfrm>
            <a:off x="6081480" y="2116440"/>
            <a:ext cx="287640" cy="28764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椭圆 64"/>
          <p:cNvSpPr/>
          <p:nvPr/>
        </p:nvSpPr>
        <p:spPr>
          <a:xfrm>
            <a:off x="6146280" y="2489760"/>
            <a:ext cx="215640" cy="21564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椭圆 65"/>
          <p:cNvSpPr/>
          <p:nvPr/>
        </p:nvSpPr>
        <p:spPr>
          <a:xfrm>
            <a:off x="6196320" y="2784600"/>
            <a:ext cx="143640" cy="14364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任意多边形 39"/>
          <p:cNvSpPr/>
          <p:nvPr/>
        </p:nvSpPr>
        <p:spPr>
          <a:xfrm>
            <a:off x="491760" y="1768320"/>
            <a:ext cx="1752120" cy="1308240"/>
          </a:xfrm>
          <a:custGeom>
            <a:avLst/>
            <a:gdLst>
              <a:gd name="textAreaLeft" fmla="*/ 0 w 1752120"/>
              <a:gd name="textAreaRight" fmla="*/ 1752480 w 1752120"/>
              <a:gd name="textAreaTop" fmla="*/ 0 h 1308240"/>
              <a:gd name="textAreaBottom" fmla="*/ 1308600 h 1308240"/>
            </a:gdLst>
            <a:ahLst/>
            <a:rect l="textAreaLeft" t="textAreaTop" r="textAreaRight" b="textAreaBottom"/>
            <a:pathLst>
              <a:path w="1752600" h="1308595">
                <a:moveTo>
                  <a:pt x="876300" y="0"/>
                </a:moveTo>
                <a:cubicBezTo>
                  <a:pt x="1360267" y="0"/>
                  <a:pt x="1752600" y="392333"/>
                  <a:pt x="1752600" y="876300"/>
                </a:cubicBezTo>
                <a:cubicBezTo>
                  <a:pt x="1752600" y="997292"/>
                  <a:pt x="1728079" y="1112557"/>
                  <a:pt x="1683736" y="1217396"/>
                </a:cubicBezTo>
                <a:lnTo>
                  <a:pt x="1634235" y="1308595"/>
                </a:lnTo>
                <a:lnTo>
                  <a:pt x="118366" y="1308595"/>
                </a:lnTo>
                <a:lnTo>
                  <a:pt x="68864" y="1217396"/>
                </a:lnTo>
                <a:cubicBezTo>
                  <a:pt x="24521" y="1112557"/>
                  <a:pt x="0" y="997292"/>
                  <a:pt x="0" y="876300"/>
                </a:cubicBezTo>
                <a:cubicBezTo>
                  <a:pt x="0" y="392333"/>
                  <a:pt x="392333" y="0"/>
                  <a:pt x="876300" y="0"/>
                </a:cubicBezTo>
                <a:close/>
              </a:path>
            </a:pathLst>
          </a:cu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任意多边形 40"/>
          <p:cNvSpPr/>
          <p:nvPr/>
        </p:nvSpPr>
        <p:spPr>
          <a:xfrm>
            <a:off x="561960" y="3013200"/>
            <a:ext cx="1614960" cy="535320"/>
          </a:xfrm>
          <a:custGeom>
            <a:avLst/>
            <a:gdLst>
              <a:gd name="textAreaLeft" fmla="*/ 0 w 1614960"/>
              <a:gd name="textAreaRight" fmla="*/ 1615320 w 161496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1615252" h="535817">
                <a:moveTo>
                  <a:pt x="0" y="0"/>
                </a:moveTo>
                <a:lnTo>
                  <a:pt x="1615252" y="0"/>
                </a:lnTo>
                <a:lnTo>
                  <a:pt x="1615062" y="613"/>
                </a:lnTo>
                <a:cubicBezTo>
                  <a:pt x="1482033" y="315130"/>
                  <a:pt x="1170601" y="535817"/>
                  <a:pt x="807626" y="535817"/>
                </a:cubicBezTo>
                <a:cubicBezTo>
                  <a:pt x="444651" y="535817"/>
                  <a:pt x="133220" y="315130"/>
                  <a:pt x="190" y="613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文本框 41"/>
          <p:cNvSpPr/>
          <p:nvPr/>
        </p:nvSpPr>
        <p:spPr>
          <a:xfrm>
            <a:off x="992880" y="303228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号作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42"/>
          <p:cNvSpPr/>
          <p:nvPr/>
        </p:nvSpPr>
        <p:spPr>
          <a:xfrm>
            <a:off x="592200" y="1715040"/>
            <a:ext cx="1575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3"/>
          <p:cNvSpPr/>
          <p:nvPr/>
        </p:nvSpPr>
        <p:spPr>
          <a:xfrm>
            <a:off x="195840" y="6503400"/>
            <a:ext cx="2872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  <a:ea typeface="宋体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宋体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宋体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  <a:ea typeface="宋体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  <a:ea typeface="宋体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文本框 5"/>
          <p:cNvSpPr/>
          <p:nvPr/>
        </p:nvSpPr>
        <p:spPr>
          <a:xfrm>
            <a:off x="3401280" y="2306520"/>
            <a:ext cx="54018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哪种情况</a:t>
            </a: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这位女士更容易得救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7"/>
          <p:cNvSpPr/>
          <p:nvPr/>
        </p:nvSpPr>
        <p:spPr>
          <a:xfrm>
            <a:off x="8354520" y="2395800"/>
            <a:ext cx="897840" cy="1473840"/>
          </a:xfrm>
          <a:prstGeom prst="rect">
            <a:avLst/>
          </a:prstGeom>
          <a:solidFill>
            <a:srgbClr val="cdcdc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" name="矩形 6"/>
          <p:cNvSpPr/>
          <p:nvPr/>
        </p:nvSpPr>
        <p:spPr>
          <a:xfrm>
            <a:off x="8605800" y="239580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文本框 3"/>
          <p:cNvSpPr/>
          <p:nvPr/>
        </p:nvSpPr>
        <p:spPr>
          <a:xfrm>
            <a:off x="2588400" y="2271240"/>
            <a:ext cx="64926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请先思考再对照答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你才会有真正的收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6"/>
          <p:cNvSpPr/>
          <p:nvPr/>
        </p:nvSpPr>
        <p:spPr>
          <a:xfrm>
            <a:off x="8987400" y="2329920"/>
            <a:ext cx="897840" cy="1473840"/>
          </a:xfrm>
          <a:prstGeom prst="rect">
            <a:avLst/>
          </a:prstGeom>
          <a:solidFill>
            <a:srgbClr val="cdcdc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2" name="矩形 7"/>
          <p:cNvSpPr/>
          <p:nvPr/>
        </p:nvSpPr>
        <p:spPr>
          <a:xfrm>
            <a:off x="9238680" y="232992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文本框 3"/>
          <p:cNvSpPr/>
          <p:nvPr/>
        </p:nvSpPr>
        <p:spPr>
          <a:xfrm>
            <a:off x="3401280" y="2563560"/>
            <a:ext cx="5742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答案是</a:t>
            </a:r>
            <a:r>
              <a:rPr b="0" lang="zh-CN" sz="5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第一种情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如不明白请继续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4"/>
          <p:cNvSpPr/>
          <p:nvPr/>
        </p:nvSpPr>
        <p:spPr>
          <a:xfrm>
            <a:off x="4780440" y="4317840"/>
            <a:ext cx="4078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……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1"/>
          <p:cNvGrpSpPr/>
          <p:nvPr/>
        </p:nvGrpSpPr>
        <p:grpSpPr>
          <a:xfrm>
            <a:off x="6105240" y="808560"/>
            <a:ext cx="2274840" cy="1761840"/>
            <a:chOff x="6105240" y="808560"/>
            <a:chExt cx="2274840" cy="1761840"/>
          </a:xfrm>
        </p:grpSpPr>
        <p:sp>
          <p:nvSpPr>
            <p:cNvPr id="256" name="椭圆 5"/>
            <p:cNvSpPr/>
            <p:nvPr/>
          </p:nvSpPr>
          <p:spPr>
            <a:xfrm>
              <a:off x="6105240" y="808560"/>
              <a:ext cx="629280" cy="62928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7" name="梯形 4"/>
            <p:cNvSpPr/>
            <p:nvPr/>
          </p:nvSpPr>
          <p:spPr>
            <a:xfrm>
              <a:off x="6342840" y="1337760"/>
              <a:ext cx="452520" cy="62712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654214" h="1128180">
                  <a:moveTo>
                    <a:pt x="8328" y="1099151"/>
                  </a:moveTo>
                  <a:lnTo>
                    <a:pt x="0" y="0"/>
                  </a:lnTo>
                  <a:lnTo>
                    <a:pt x="349238" y="46496"/>
                  </a:lnTo>
                  <a:lnTo>
                    <a:pt x="654214" y="1128180"/>
                  </a:lnTo>
                  <a:lnTo>
                    <a:pt x="8328" y="1099151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8" name="圆角矩形 7"/>
            <p:cNvSpPr/>
            <p:nvPr/>
          </p:nvSpPr>
          <p:spPr>
            <a:xfrm rot="700200">
              <a:off x="6456960" y="1444680"/>
              <a:ext cx="756360" cy="230040"/>
            </a:xfrm>
            <a:prstGeom prst="roundRect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9" name="椭圆 8"/>
            <p:cNvSpPr/>
            <p:nvPr/>
          </p:nvSpPr>
          <p:spPr>
            <a:xfrm>
              <a:off x="6688440" y="1028160"/>
              <a:ext cx="411120" cy="41112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0" name="梯形 10"/>
            <p:cNvSpPr/>
            <p:nvPr/>
          </p:nvSpPr>
          <p:spPr>
            <a:xfrm rot="20093400">
              <a:off x="6756480" y="1329840"/>
              <a:ext cx="363960" cy="865440"/>
            </a:xfrm>
            <a:custGeom>
              <a:avLst/>
              <a:gdLst>
                <a:gd name="textAreaLeft" fmla="*/ 0 w 363960"/>
                <a:gd name="textAreaRight" fmla="*/ 364320 w 363960"/>
                <a:gd name="textAreaTop" fmla="*/ 0 h 865440"/>
                <a:gd name="textAreaBottom" fmla="*/ 865800 h 865440"/>
              </a:gdLst>
              <a:ahLst/>
              <a:rect l="textAreaLeft" t="textAreaTop" r="textAreaRight" b="textAreaBottom"/>
              <a:pathLst>
                <a:path w="655125" h="1557005">
                  <a:moveTo>
                    <a:pt x="0" y="1557005"/>
                  </a:moveTo>
                  <a:lnTo>
                    <a:pt x="221738" y="0"/>
                  </a:lnTo>
                  <a:lnTo>
                    <a:pt x="511319" y="33005"/>
                  </a:lnTo>
                  <a:lnTo>
                    <a:pt x="655125" y="1557005"/>
                  </a:lnTo>
                  <a:lnTo>
                    <a:pt x="0" y="1557005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1" name="圆角矩形 11"/>
            <p:cNvSpPr/>
            <p:nvPr/>
          </p:nvSpPr>
          <p:spPr>
            <a:xfrm rot="5178000">
              <a:off x="6707160" y="2079000"/>
              <a:ext cx="704880" cy="26208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268010" h="472009">
                  <a:moveTo>
                    <a:pt x="0" y="116956"/>
                  </a:moveTo>
                  <a:lnTo>
                    <a:pt x="0" y="116956"/>
                  </a:lnTo>
                  <a:cubicBezTo>
                    <a:pt x="201759" y="118551"/>
                    <a:pt x="442453" y="-1580"/>
                    <a:pt x="644212" y="15"/>
                  </a:cubicBezTo>
                  <a:lnTo>
                    <a:pt x="1268010" y="116956"/>
                  </a:lnTo>
                  <a:lnTo>
                    <a:pt x="1268010" y="116956"/>
                  </a:lnTo>
                  <a:lnTo>
                    <a:pt x="1268010" y="471654"/>
                  </a:lnTo>
                  <a:lnTo>
                    <a:pt x="1268010" y="471654"/>
                  </a:lnTo>
                  <a:cubicBezTo>
                    <a:pt x="1085492" y="481746"/>
                    <a:pt x="886049" y="273314"/>
                    <a:pt x="703531" y="283406"/>
                  </a:cubicBezTo>
                  <a:lnTo>
                    <a:pt x="0" y="471654"/>
                  </a:lnTo>
                  <a:lnTo>
                    <a:pt x="0" y="471654"/>
                  </a:lnTo>
                  <a:lnTo>
                    <a:pt x="0" y="116956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2" name="梯形 12"/>
            <p:cNvSpPr/>
            <p:nvPr/>
          </p:nvSpPr>
          <p:spPr>
            <a:xfrm flipV="1">
              <a:off x="6348600" y="1891080"/>
              <a:ext cx="408600" cy="661320"/>
            </a:xfrm>
            <a:custGeom>
              <a:avLst/>
              <a:gdLst>
                <a:gd name="textAreaLeft" fmla="*/ 0 w 408600"/>
                <a:gd name="textAreaRight" fmla="*/ 408960 w 408600"/>
                <a:gd name="textAreaTop" fmla="*/ -360 h 661320"/>
                <a:gd name="textAreaBottom" fmla="*/ 661320 h 661320"/>
              </a:gdLst>
              <a:ahLst/>
              <a:rect l="textAreaLeft" t="textAreaTop" r="textAreaRight" b="textAreaBottom"/>
              <a:pathLst>
                <a:path w="528124" h="1190172">
                  <a:moveTo>
                    <a:pt x="0" y="1190172"/>
                  </a:moveTo>
                  <a:cubicBezTo>
                    <a:pt x="10726" y="1009903"/>
                    <a:pt x="160937" y="783138"/>
                    <a:pt x="171663" y="602869"/>
                  </a:cubicBezTo>
                  <a:lnTo>
                    <a:pt x="129040" y="0"/>
                  </a:lnTo>
                  <a:lnTo>
                    <a:pt x="387119" y="0"/>
                  </a:lnTo>
                  <a:cubicBezTo>
                    <a:pt x="403124" y="206122"/>
                    <a:pt x="512119" y="427744"/>
                    <a:pt x="528124" y="633866"/>
                  </a:cubicBezTo>
                  <a:lnTo>
                    <a:pt x="516158" y="1190172"/>
                  </a:lnTo>
                  <a:lnTo>
                    <a:pt x="0" y="1190172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3" name="任意多边形 12"/>
            <p:cNvSpPr/>
            <p:nvPr/>
          </p:nvSpPr>
          <p:spPr>
            <a:xfrm flipH="1" rot="350400">
              <a:off x="7069680" y="1118880"/>
              <a:ext cx="151560" cy="452520"/>
            </a:xfrm>
            <a:custGeom>
              <a:avLst/>
              <a:gdLst>
                <a:gd name="textAreaLeft" fmla="*/ -360 w 151560"/>
                <a:gd name="textAreaRight" fmla="*/ 151560 w 15156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812800" h="2419521">
                  <a:moveTo>
                    <a:pt x="191538" y="0"/>
                  </a:moveTo>
                  <a:lnTo>
                    <a:pt x="233026" y="8207"/>
                  </a:lnTo>
                  <a:cubicBezTo>
                    <a:pt x="454593" y="97177"/>
                    <a:pt x="621263" y="481876"/>
                    <a:pt x="621263" y="942963"/>
                  </a:cubicBezTo>
                  <a:lnTo>
                    <a:pt x="621251" y="943231"/>
                  </a:lnTo>
                  <a:lnTo>
                    <a:pt x="621263" y="943231"/>
                  </a:lnTo>
                  <a:lnTo>
                    <a:pt x="621263" y="1757474"/>
                  </a:lnTo>
                  <a:lnTo>
                    <a:pt x="812800" y="1757474"/>
                  </a:lnTo>
                  <a:lnTo>
                    <a:pt x="812800" y="1915885"/>
                  </a:lnTo>
                  <a:lnTo>
                    <a:pt x="621263" y="1915885"/>
                  </a:lnTo>
                  <a:lnTo>
                    <a:pt x="621263" y="1915886"/>
                  </a:lnTo>
                  <a:lnTo>
                    <a:pt x="543081" y="1915886"/>
                  </a:lnTo>
                  <a:lnTo>
                    <a:pt x="543081" y="2373960"/>
                  </a:lnTo>
                  <a:cubicBezTo>
                    <a:pt x="543081" y="2399123"/>
                    <a:pt x="522683" y="2419521"/>
                    <a:pt x="497520" y="2419521"/>
                  </a:cubicBezTo>
                  <a:lnTo>
                    <a:pt x="315279" y="2419521"/>
                  </a:lnTo>
                  <a:cubicBezTo>
                    <a:pt x="290116" y="2419521"/>
                    <a:pt x="269718" y="2399123"/>
                    <a:pt x="269718" y="2373960"/>
                  </a:cubicBezTo>
                  <a:lnTo>
                    <a:pt x="269718" y="1915886"/>
                  </a:lnTo>
                  <a:lnTo>
                    <a:pt x="191538" y="1915886"/>
                  </a:lnTo>
                  <a:lnTo>
                    <a:pt x="191538" y="1915885"/>
                  </a:lnTo>
                  <a:lnTo>
                    <a:pt x="0" y="1915885"/>
                  </a:lnTo>
                  <a:lnTo>
                    <a:pt x="0" y="1757474"/>
                  </a:lnTo>
                  <a:lnTo>
                    <a:pt x="191538" y="1757474"/>
                  </a:lnTo>
                  <a:lnTo>
                    <a:pt x="191538" y="943231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4" name="任意多边形 13"/>
            <p:cNvSpPr/>
            <p:nvPr/>
          </p:nvSpPr>
          <p:spPr>
            <a:xfrm flipH="1" flipV="1">
              <a:off x="7603200" y="950400"/>
              <a:ext cx="776520" cy="1601280"/>
            </a:xfrm>
            <a:custGeom>
              <a:avLst/>
              <a:gdLst>
                <a:gd name="textAreaLeft" fmla="*/ -360 w 776520"/>
                <a:gd name="textAreaRight" fmla="*/ 776520 w 776520"/>
                <a:gd name="textAreaTop" fmla="*/ 360 h 1601280"/>
                <a:gd name="textAreaBottom" fmla="*/ 1602000 h 1601280"/>
              </a:gdLst>
              <a:ahLst/>
              <a:rect l="textAreaLeft" t="textAreaTop" r="textAreaRight" b="textAreaBottom"/>
              <a:pathLst>
                <a:path w="1096974" h="2261171">
                  <a:moveTo>
                    <a:pt x="405921" y="2261171"/>
                  </a:moveTo>
                  <a:cubicBezTo>
                    <a:pt x="181738" y="2261171"/>
                    <a:pt x="0" y="2079434"/>
                    <a:pt x="0" y="1855251"/>
                  </a:cubicBezTo>
                  <a:cubicBezTo>
                    <a:pt x="0" y="1715137"/>
                    <a:pt x="70992" y="1591602"/>
                    <a:pt x="178968" y="1518656"/>
                  </a:cubicBezTo>
                  <a:lnTo>
                    <a:pt x="227383" y="1492376"/>
                  </a:lnTo>
                  <a:lnTo>
                    <a:pt x="66021" y="653363"/>
                  </a:lnTo>
                  <a:lnTo>
                    <a:pt x="204202" y="666707"/>
                  </a:lnTo>
                  <a:lnTo>
                    <a:pt x="189363" y="0"/>
                  </a:lnTo>
                  <a:lnTo>
                    <a:pt x="481285" y="29055"/>
                  </a:lnTo>
                  <a:cubicBezTo>
                    <a:pt x="502472" y="149683"/>
                    <a:pt x="512038" y="258691"/>
                    <a:pt x="533227" y="379319"/>
                  </a:cubicBezTo>
                  <a:lnTo>
                    <a:pt x="666253" y="711330"/>
                  </a:lnTo>
                  <a:lnTo>
                    <a:pt x="745822" y="719015"/>
                  </a:lnTo>
                  <a:lnTo>
                    <a:pt x="708201" y="904801"/>
                  </a:lnTo>
                  <a:lnTo>
                    <a:pt x="736458" y="906544"/>
                  </a:lnTo>
                  <a:lnTo>
                    <a:pt x="628324" y="1203194"/>
                  </a:lnTo>
                  <a:lnTo>
                    <a:pt x="744565" y="1245566"/>
                  </a:lnTo>
                  <a:lnTo>
                    <a:pt x="743433" y="1247885"/>
                  </a:lnTo>
                  <a:lnTo>
                    <a:pt x="959701" y="1323986"/>
                  </a:lnTo>
                  <a:lnTo>
                    <a:pt x="1007943" y="1341571"/>
                  </a:lnTo>
                  <a:lnTo>
                    <a:pt x="1052159" y="1367929"/>
                  </a:lnTo>
                  <a:cubicBezTo>
                    <a:pt x="1091624" y="1403856"/>
                    <a:pt x="1108002" y="1461214"/>
                    <a:pt x="1089172" y="1514723"/>
                  </a:cubicBezTo>
                  <a:cubicBezTo>
                    <a:pt x="1064067" y="1586069"/>
                    <a:pt x="985879" y="1623554"/>
                    <a:pt x="914533" y="1598449"/>
                  </a:cubicBezTo>
                  <a:lnTo>
                    <a:pt x="590801" y="1484533"/>
                  </a:lnTo>
                  <a:lnTo>
                    <a:pt x="588742" y="1494701"/>
                  </a:lnTo>
                  <a:lnTo>
                    <a:pt x="632875" y="1518656"/>
                  </a:lnTo>
                  <a:cubicBezTo>
                    <a:pt x="740851" y="1591602"/>
                    <a:pt x="811841" y="1715137"/>
                    <a:pt x="811841" y="1855251"/>
                  </a:cubicBezTo>
                  <a:cubicBezTo>
                    <a:pt x="811841" y="2079434"/>
                    <a:pt x="630104" y="2261171"/>
                    <a:pt x="405921" y="2261171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65" name="矩形 2"/>
          <p:cNvSpPr/>
          <p:nvPr/>
        </p:nvSpPr>
        <p:spPr>
          <a:xfrm>
            <a:off x="5574240" y="2475360"/>
            <a:ext cx="3337200" cy="1227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椭圆 3"/>
          <p:cNvSpPr/>
          <p:nvPr/>
        </p:nvSpPr>
        <p:spPr>
          <a:xfrm>
            <a:off x="3320640" y="1284480"/>
            <a:ext cx="1131840" cy="113184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7" name="梯形 4"/>
          <p:cNvSpPr/>
          <p:nvPr/>
        </p:nvSpPr>
        <p:spPr>
          <a:xfrm>
            <a:off x="3747600" y="2236320"/>
            <a:ext cx="813960" cy="1127880"/>
          </a:xfrm>
          <a:custGeom>
            <a:avLst/>
            <a:gdLst>
              <a:gd name="textAreaLeft" fmla="*/ 0 w 813960"/>
              <a:gd name="textAreaRight" fmla="*/ 814320 w 813960"/>
              <a:gd name="textAreaTop" fmla="*/ 0 h 1127880"/>
              <a:gd name="textAreaBottom" fmla="*/ 1128240 h 1127880"/>
            </a:gdLst>
            <a:ahLst/>
            <a:rect l="textAreaLeft" t="textAreaTop" r="textAreaRight" b="textAreaBottom"/>
            <a:pathLst>
              <a:path w="654214" h="1128180">
                <a:moveTo>
                  <a:pt x="8328" y="1099151"/>
                </a:moveTo>
                <a:lnTo>
                  <a:pt x="0" y="0"/>
                </a:lnTo>
                <a:lnTo>
                  <a:pt x="349238" y="46496"/>
                </a:lnTo>
                <a:lnTo>
                  <a:pt x="654214" y="1128180"/>
                </a:lnTo>
                <a:lnTo>
                  <a:pt x="8328" y="109915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圆角矩形 5"/>
          <p:cNvSpPr/>
          <p:nvPr/>
        </p:nvSpPr>
        <p:spPr>
          <a:xfrm rot="700200">
            <a:off x="3953160" y="2428560"/>
            <a:ext cx="1360800" cy="41400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椭圆 6"/>
          <p:cNvSpPr/>
          <p:nvPr/>
        </p:nvSpPr>
        <p:spPr>
          <a:xfrm>
            <a:off x="4369320" y="1679760"/>
            <a:ext cx="739800" cy="73980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梯形 10"/>
          <p:cNvSpPr/>
          <p:nvPr/>
        </p:nvSpPr>
        <p:spPr>
          <a:xfrm rot="20093400">
            <a:off x="4491360" y="2222640"/>
            <a:ext cx="654840" cy="1556640"/>
          </a:xfrm>
          <a:custGeom>
            <a:avLst/>
            <a:gdLst>
              <a:gd name="textAreaLeft" fmla="*/ 0 w 654840"/>
              <a:gd name="textAreaRight" fmla="*/ 655200 w 654840"/>
              <a:gd name="textAreaTop" fmla="*/ 0 h 1556640"/>
              <a:gd name="textAreaBottom" fmla="*/ 1557000 h 1556640"/>
            </a:gdLst>
            <a:ahLst/>
            <a:rect l="textAreaLeft" t="textAreaTop" r="textAreaRight" b="textAreaBottom"/>
            <a:pathLst>
              <a:path w="655125" h="1557005">
                <a:moveTo>
                  <a:pt x="0" y="1557005"/>
                </a:moveTo>
                <a:lnTo>
                  <a:pt x="221738" y="0"/>
                </a:lnTo>
                <a:lnTo>
                  <a:pt x="511319" y="33005"/>
                </a:lnTo>
                <a:lnTo>
                  <a:pt x="655125" y="1557005"/>
                </a:lnTo>
                <a:lnTo>
                  <a:pt x="0" y="1557005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1" name="圆角矩形 11"/>
          <p:cNvSpPr/>
          <p:nvPr/>
        </p:nvSpPr>
        <p:spPr>
          <a:xfrm rot="5178000">
            <a:off x="4403160" y="3569400"/>
            <a:ext cx="1267560" cy="471600"/>
          </a:xfrm>
          <a:custGeom>
            <a:avLst/>
            <a:gdLst>
              <a:gd name="textAreaLeft" fmla="*/ 0 w 1267560"/>
              <a:gd name="textAreaRight" fmla="*/ 1267920 w 12675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1268010" h="472009">
                <a:moveTo>
                  <a:pt x="0" y="116956"/>
                </a:moveTo>
                <a:lnTo>
                  <a:pt x="0" y="116956"/>
                </a:lnTo>
                <a:cubicBezTo>
                  <a:pt x="201759" y="118551"/>
                  <a:pt x="442453" y="-1580"/>
                  <a:pt x="644212" y="15"/>
                </a:cubicBezTo>
                <a:lnTo>
                  <a:pt x="1268010" y="116956"/>
                </a:lnTo>
                <a:lnTo>
                  <a:pt x="1268010" y="116956"/>
                </a:lnTo>
                <a:lnTo>
                  <a:pt x="1268010" y="471654"/>
                </a:lnTo>
                <a:lnTo>
                  <a:pt x="1268010" y="471654"/>
                </a:lnTo>
                <a:cubicBezTo>
                  <a:pt x="1085492" y="481746"/>
                  <a:pt x="886049" y="273314"/>
                  <a:pt x="703531" y="283406"/>
                </a:cubicBezTo>
                <a:lnTo>
                  <a:pt x="0" y="471654"/>
                </a:lnTo>
                <a:lnTo>
                  <a:pt x="0" y="471654"/>
                </a:lnTo>
                <a:lnTo>
                  <a:pt x="0" y="116956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2" name="梯形 12"/>
          <p:cNvSpPr/>
          <p:nvPr/>
        </p:nvSpPr>
        <p:spPr>
          <a:xfrm flipV="1">
            <a:off x="3758040" y="3231720"/>
            <a:ext cx="735120" cy="1189800"/>
          </a:xfrm>
          <a:custGeom>
            <a:avLst/>
            <a:gdLst>
              <a:gd name="textAreaLeft" fmla="*/ 0 w 735120"/>
              <a:gd name="textAreaRight" fmla="*/ 735480 w 735120"/>
              <a:gd name="textAreaTop" fmla="*/ -360 h 1189800"/>
              <a:gd name="textAreaBottom" fmla="*/ 1189800 h 1189800"/>
            </a:gdLst>
            <a:ahLst/>
            <a:rect l="textAreaLeft" t="textAreaTop" r="textAreaRight" b="textAreaBottom"/>
            <a:pathLst>
              <a:path w="528124" h="1190172">
                <a:moveTo>
                  <a:pt x="0" y="1190172"/>
                </a:moveTo>
                <a:cubicBezTo>
                  <a:pt x="10726" y="1009903"/>
                  <a:pt x="160937" y="783138"/>
                  <a:pt x="171663" y="602869"/>
                </a:cubicBezTo>
                <a:lnTo>
                  <a:pt x="129040" y="0"/>
                </a:lnTo>
                <a:lnTo>
                  <a:pt x="387119" y="0"/>
                </a:lnTo>
                <a:cubicBezTo>
                  <a:pt x="403124" y="206122"/>
                  <a:pt x="512119" y="427744"/>
                  <a:pt x="528124" y="633866"/>
                </a:cubicBezTo>
                <a:lnTo>
                  <a:pt x="516158" y="1190172"/>
                </a:lnTo>
                <a:lnTo>
                  <a:pt x="0" y="1190172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3" name="任意多边形 10"/>
          <p:cNvSpPr/>
          <p:nvPr/>
        </p:nvSpPr>
        <p:spPr>
          <a:xfrm flipH="1" rot="350400">
            <a:off x="5055840" y="1842480"/>
            <a:ext cx="273240" cy="813600"/>
          </a:xfrm>
          <a:custGeom>
            <a:avLst/>
            <a:gdLst>
              <a:gd name="textAreaLeft" fmla="*/ -360 w 273240"/>
              <a:gd name="textAreaRight" fmla="*/ 273240 w 273240"/>
              <a:gd name="textAreaTop" fmla="*/ 0 h 813600"/>
              <a:gd name="textAreaBottom" fmla="*/ 813960 h 813600"/>
            </a:gdLst>
            <a:ahLst/>
            <a:rect l="textAreaLeft" t="textAreaTop" r="textAreaRight" b="textAreaBottom"/>
            <a:pathLst>
              <a:path w="812800" h="2419521">
                <a:moveTo>
                  <a:pt x="191538" y="0"/>
                </a:moveTo>
                <a:lnTo>
                  <a:pt x="233026" y="8207"/>
                </a:lnTo>
                <a:cubicBezTo>
                  <a:pt x="454593" y="97177"/>
                  <a:pt x="621263" y="481876"/>
                  <a:pt x="621263" y="942963"/>
                </a:cubicBezTo>
                <a:lnTo>
                  <a:pt x="621251" y="943231"/>
                </a:lnTo>
                <a:lnTo>
                  <a:pt x="621263" y="943231"/>
                </a:lnTo>
                <a:lnTo>
                  <a:pt x="621263" y="1757474"/>
                </a:lnTo>
                <a:lnTo>
                  <a:pt x="812800" y="1757474"/>
                </a:lnTo>
                <a:lnTo>
                  <a:pt x="812800" y="1915885"/>
                </a:lnTo>
                <a:lnTo>
                  <a:pt x="621263" y="1915885"/>
                </a:lnTo>
                <a:lnTo>
                  <a:pt x="621263" y="1915886"/>
                </a:lnTo>
                <a:lnTo>
                  <a:pt x="543081" y="1915886"/>
                </a:lnTo>
                <a:lnTo>
                  <a:pt x="543081" y="2373960"/>
                </a:lnTo>
                <a:cubicBezTo>
                  <a:pt x="543081" y="2399123"/>
                  <a:pt x="522683" y="2419521"/>
                  <a:pt x="497520" y="2419521"/>
                </a:cubicBezTo>
                <a:lnTo>
                  <a:pt x="315279" y="2419521"/>
                </a:lnTo>
                <a:cubicBezTo>
                  <a:pt x="290116" y="2419521"/>
                  <a:pt x="269718" y="2399123"/>
                  <a:pt x="269718" y="2373960"/>
                </a:cubicBezTo>
                <a:lnTo>
                  <a:pt x="269718" y="1915886"/>
                </a:lnTo>
                <a:lnTo>
                  <a:pt x="191538" y="1915886"/>
                </a:lnTo>
                <a:lnTo>
                  <a:pt x="191538" y="1915885"/>
                </a:lnTo>
                <a:lnTo>
                  <a:pt x="0" y="1915885"/>
                </a:lnTo>
                <a:lnTo>
                  <a:pt x="0" y="1757474"/>
                </a:lnTo>
                <a:lnTo>
                  <a:pt x="191538" y="1757474"/>
                </a:lnTo>
                <a:lnTo>
                  <a:pt x="191538" y="94323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4" name="矩形 11"/>
          <p:cNvSpPr/>
          <p:nvPr/>
        </p:nvSpPr>
        <p:spPr>
          <a:xfrm>
            <a:off x="977760" y="4377240"/>
            <a:ext cx="10331640" cy="1101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5" name="任意多边形 12"/>
          <p:cNvSpPr/>
          <p:nvPr/>
        </p:nvSpPr>
        <p:spPr>
          <a:xfrm flipH="1" flipV="1">
            <a:off x="10158120" y="2072520"/>
            <a:ext cx="1151280" cy="2373120"/>
          </a:xfrm>
          <a:custGeom>
            <a:avLst/>
            <a:gdLst>
              <a:gd name="textAreaLeft" fmla="*/ 360 w 1151280"/>
              <a:gd name="textAreaRight" fmla="*/ 1152000 w 1151280"/>
              <a:gd name="textAreaTop" fmla="*/ 360 h 2373120"/>
              <a:gd name="textAreaBottom" fmla="*/ 2373840 h 2373120"/>
            </a:gdLst>
            <a:ahLst/>
            <a:rect l="textAreaLeft" t="textAreaTop" r="textAreaRight" b="textAreaBottom"/>
            <a:pathLst>
              <a:path w="1096974" h="2261171">
                <a:moveTo>
                  <a:pt x="405921" y="2261171"/>
                </a:moveTo>
                <a:cubicBezTo>
                  <a:pt x="181738" y="2261171"/>
                  <a:pt x="0" y="2079434"/>
                  <a:pt x="0" y="1855251"/>
                </a:cubicBezTo>
                <a:cubicBezTo>
                  <a:pt x="0" y="1715137"/>
                  <a:pt x="70992" y="1591602"/>
                  <a:pt x="178968" y="1518656"/>
                </a:cubicBezTo>
                <a:lnTo>
                  <a:pt x="227383" y="1492376"/>
                </a:lnTo>
                <a:lnTo>
                  <a:pt x="66021" y="653363"/>
                </a:lnTo>
                <a:lnTo>
                  <a:pt x="204202" y="666707"/>
                </a:lnTo>
                <a:lnTo>
                  <a:pt x="189363" y="0"/>
                </a:lnTo>
                <a:lnTo>
                  <a:pt x="481285" y="29055"/>
                </a:lnTo>
                <a:cubicBezTo>
                  <a:pt x="502472" y="149683"/>
                  <a:pt x="512038" y="258691"/>
                  <a:pt x="533227" y="379319"/>
                </a:cubicBezTo>
                <a:lnTo>
                  <a:pt x="666253" y="711330"/>
                </a:lnTo>
                <a:lnTo>
                  <a:pt x="745822" y="719015"/>
                </a:lnTo>
                <a:lnTo>
                  <a:pt x="708201" y="904801"/>
                </a:lnTo>
                <a:lnTo>
                  <a:pt x="736458" y="906544"/>
                </a:lnTo>
                <a:lnTo>
                  <a:pt x="628324" y="1203194"/>
                </a:lnTo>
                <a:lnTo>
                  <a:pt x="744565" y="1245566"/>
                </a:lnTo>
                <a:lnTo>
                  <a:pt x="743433" y="1247885"/>
                </a:lnTo>
                <a:lnTo>
                  <a:pt x="959701" y="1323986"/>
                </a:lnTo>
                <a:lnTo>
                  <a:pt x="1007943" y="1341571"/>
                </a:lnTo>
                <a:lnTo>
                  <a:pt x="1052159" y="1367929"/>
                </a:lnTo>
                <a:cubicBezTo>
                  <a:pt x="1091624" y="1403856"/>
                  <a:pt x="1108002" y="1461214"/>
                  <a:pt x="1089172" y="1514723"/>
                </a:cubicBezTo>
                <a:cubicBezTo>
                  <a:pt x="1064067" y="1586069"/>
                  <a:pt x="985879" y="1623554"/>
                  <a:pt x="914533" y="1598449"/>
                </a:cubicBezTo>
                <a:lnTo>
                  <a:pt x="590801" y="1484533"/>
                </a:lnTo>
                <a:lnTo>
                  <a:pt x="588742" y="1494701"/>
                </a:lnTo>
                <a:lnTo>
                  <a:pt x="632875" y="1518656"/>
                </a:lnTo>
                <a:cubicBezTo>
                  <a:pt x="740851" y="1591602"/>
                  <a:pt x="811841" y="1715137"/>
                  <a:pt x="811841" y="1855251"/>
                </a:cubicBezTo>
                <a:cubicBezTo>
                  <a:pt x="811841" y="2079434"/>
                  <a:pt x="630104" y="2261171"/>
                  <a:pt x="405921" y="2261171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6" name="任意多边形 13"/>
          <p:cNvSpPr/>
          <p:nvPr/>
        </p:nvSpPr>
        <p:spPr>
          <a:xfrm flipV="1">
            <a:off x="5804640" y="2711160"/>
            <a:ext cx="4489200" cy="1741680"/>
          </a:xfrm>
          <a:custGeom>
            <a:avLst/>
            <a:gdLst>
              <a:gd name="textAreaLeft" fmla="*/ 0 w 4489200"/>
              <a:gd name="textAreaRight" fmla="*/ 4489560 w 4489200"/>
              <a:gd name="textAreaTop" fmla="*/ 360 h 1741680"/>
              <a:gd name="textAreaBottom" fmla="*/ 1742400 h 1741680"/>
            </a:gdLst>
            <a:ahLst/>
            <a:rect l="textAreaLeft" t="textAreaTop" r="textAreaRight" b="textAreaBottom"/>
            <a:pathLst>
              <a:path w="4489512" h="1741950">
                <a:moveTo>
                  <a:pt x="532371" y="870975"/>
                </a:moveTo>
                <a:cubicBezTo>
                  <a:pt x="705076" y="870975"/>
                  <a:pt x="845082" y="730970"/>
                  <a:pt x="845082" y="558264"/>
                </a:cubicBezTo>
                <a:cubicBezTo>
                  <a:pt x="845082" y="450324"/>
                  <a:pt x="790392" y="355156"/>
                  <a:pt x="707210" y="298960"/>
                </a:cubicBezTo>
                <a:lnTo>
                  <a:pt x="669912" y="278715"/>
                </a:lnTo>
                <a:lnTo>
                  <a:pt x="723516" y="0"/>
                </a:lnTo>
                <a:lnTo>
                  <a:pt x="340648" y="0"/>
                </a:lnTo>
                <a:lnTo>
                  <a:pt x="361037" y="55936"/>
                </a:lnTo>
                <a:lnTo>
                  <a:pt x="271488" y="88578"/>
                </a:lnTo>
                <a:lnTo>
                  <a:pt x="272360" y="90365"/>
                </a:lnTo>
                <a:lnTo>
                  <a:pt x="105752" y="148991"/>
                </a:lnTo>
                <a:lnTo>
                  <a:pt x="68588" y="162538"/>
                </a:lnTo>
                <a:lnTo>
                  <a:pt x="34525" y="182844"/>
                </a:lnTo>
                <a:cubicBezTo>
                  <a:pt x="4122" y="210521"/>
                  <a:pt x="-8495" y="254708"/>
                  <a:pt x="6011" y="295930"/>
                </a:cubicBezTo>
                <a:cubicBezTo>
                  <a:pt x="25351" y="350893"/>
                  <a:pt x="85585" y="379771"/>
                  <a:pt x="140548" y="360431"/>
                </a:cubicBezTo>
                <a:lnTo>
                  <a:pt x="389944" y="272673"/>
                </a:lnTo>
                <a:lnTo>
                  <a:pt x="391530" y="280506"/>
                </a:lnTo>
                <a:lnTo>
                  <a:pt x="357531" y="298960"/>
                </a:lnTo>
                <a:cubicBezTo>
                  <a:pt x="274349" y="355156"/>
                  <a:pt x="219660" y="450324"/>
                  <a:pt x="219660" y="558264"/>
                </a:cubicBezTo>
                <a:cubicBezTo>
                  <a:pt x="219660" y="730970"/>
                  <a:pt x="359665" y="870975"/>
                  <a:pt x="532371" y="870975"/>
                </a:cubicBezTo>
                <a:close/>
                <a:moveTo>
                  <a:pt x="1409813" y="986423"/>
                </a:moveTo>
                <a:cubicBezTo>
                  <a:pt x="1582518" y="986423"/>
                  <a:pt x="1722524" y="846418"/>
                  <a:pt x="1722524" y="673712"/>
                </a:cubicBezTo>
                <a:cubicBezTo>
                  <a:pt x="1722524" y="565772"/>
                  <a:pt x="1667834" y="470604"/>
                  <a:pt x="1584652" y="414408"/>
                </a:cubicBezTo>
                <a:lnTo>
                  <a:pt x="1547354" y="394163"/>
                </a:lnTo>
                <a:lnTo>
                  <a:pt x="1623161" y="0"/>
                </a:lnTo>
                <a:lnTo>
                  <a:pt x="1176007" y="0"/>
                </a:lnTo>
                <a:lnTo>
                  <a:pt x="1238479" y="171384"/>
                </a:lnTo>
                <a:lnTo>
                  <a:pt x="1148930" y="204026"/>
                </a:lnTo>
                <a:lnTo>
                  <a:pt x="1149802" y="205813"/>
                </a:lnTo>
                <a:lnTo>
                  <a:pt x="983194" y="264439"/>
                </a:lnTo>
                <a:lnTo>
                  <a:pt x="946030" y="277986"/>
                </a:lnTo>
                <a:lnTo>
                  <a:pt x="911967" y="298292"/>
                </a:lnTo>
                <a:cubicBezTo>
                  <a:pt x="881564" y="325969"/>
                  <a:pt x="868947" y="370156"/>
                  <a:pt x="883453" y="411378"/>
                </a:cubicBezTo>
                <a:cubicBezTo>
                  <a:pt x="902793" y="466341"/>
                  <a:pt x="963027" y="495219"/>
                  <a:pt x="1017990" y="475879"/>
                </a:cubicBezTo>
                <a:lnTo>
                  <a:pt x="1267386" y="388121"/>
                </a:lnTo>
                <a:lnTo>
                  <a:pt x="1268972" y="395954"/>
                </a:lnTo>
                <a:lnTo>
                  <a:pt x="1234973" y="414408"/>
                </a:lnTo>
                <a:cubicBezTo>
                  <a:pt x="1151791" y="470604"/>
                  <a:pt x="1097102" y="565772"/>
                  <a:pt x="1097102" y="673712"/>
                </a:cubicBezTo>
                <a:cubicBezTo>
                  <a:pt x="1097102" y="846418"/>
                  <a:pt x="1237107" y="986423"/>
                  <a:pt x="1409813" y="986423"/>
                </a:cubicBezTo>
                <a:close/>
                <a:moveTo>
                  <a:pt x="4176800" y="1268611"/>
                </a:moveTo>
                <a:cubicBezTo>
                  <a:pt x="4349505" y="1268611"/>
                  <a:pt x="4489512" y="1128606"/>
                  <a:pt x="4489512" y="955900"/>
                </a:cubicBezTo>
                <a:cubicBezTo>
                  <a:pt x="4489512" y="847960"/>
                  <a:pt x="4434821" y="752792"/>
                  <a:pt x="4351639" y="696596"/>
                </a:cubicBezTo>
                <a:lnTo>
                  <a:pt x="4314342" y="676351"/>
                </a:lnTo>
                <a:lnTo>
                  <a:pt x="4438651" y="29996"/>
                </a:lnTo>
                <a:lnTo>
                  <a:pt x="4332200" y="40276"/>
                </a:lnTo>
                <a:lnTo>
                  <a:pt x="4333096" y="0"/>
                </a:lnTo>
                <a:lnTo>
                  <a:pt x="4006158" y="0"/>
                </a:lnTo>
                <a:lnTo>
                  <a:pt x="3976247" y="74652"/>
                </a:lnTo>
                <a:lnTo>
                  <a:pt x="3914949" y="80573"/>
                </a:lnTo>
                <a:lnTo>
                  <a:pt x="3943931" y="223697"/>
                </a:lnTo>
                <a:lnTo>
                  <a:pt x="3922163" y="225040"/>
                </a:lnTo>
                <a:lnTo>
                  <a:pt x="4005467" y="453572"/>
                </a:lnTo>
                <a:lnTo>
                  <a:pt x="3915917" y="486214"/>
                </a:lnTo>
                <a:lnTo>
                  <a:pt x="3916789" y="488001"/>
                </a:lnTo>
                <a:lnTo>
                  <a:pt x="3750182" y="546627"/>
                </a:lnTo>
                <a:lnTo>
                  <a:pt x="3713017" y="560174"/>
                </a:lnTo>
                <a:lnTo>
                  <a:pt x="3678954" y="580480"/>
                </a:lnTo>
                <a:cubicBezTo>
                  <a:pt x="3648552" y="608157"/>
                  <a:pt x="3635934" y="652344"/>
                  <a:pt x="3650440" y="693566"/>
                </a:cubicBezTo>
                <a:cubicBezTo>
                  <a:pt x="3669781" y="748529"/>
                  <a:pt x="3730015" y="777407"/>
                  <a:pt x="3784978" y="758067"/>
                </a:cubicBezTo>
                <a:lnTo>
                  <a:pt x="4034373" y="670309"/>
                </a:lnTo>
                <a:lnTo>
                  <a:pt x="4035960" y="678142"/>
                </a:lnTo>
                <a:lnTo>
                  <a:pt x="4001961" y="696596"/>
                </a:lnTo>
                <a:cubicBezTo>
                  <a:pt x="3918778" y="752792"/>
                  <a:pt x="3864090" y="847960"/>
                  <a:pt x="3864090" y="955900"/>
                </a:cubicBezTo>
                <a:cubicBezTo>
                  <a:pt x="3864090" y="1128606"/>
                  <a:pt x="4004095" y="1268611"/>
                  <a:pt x="4176800" y="1268611"/>
                </a:cubicBezTo>
                <a:close/>
                <a:moveTo>
                  <a:pt x="2486636" y="1268611"/>
                </a:moveTo>
                <a:cubicBezTo>
                  <a:pt x="2659341" y="1268611"/>
                  <a:pt x="2799348" y="1128606"/>
                  <a:pt x="2799348" y="955900"/>
                </a:cubicBezTo>
                <a:cubicBezTo>
                  <a:pt x="2799348" y="847960"/>
                  <a:pt x="2744657" y="752792"/>
                  <a:pt x="2661475" y="696596"/>
                </a:cubicBezTo>
                <a:lnTo>
                  <a:pt x="2624178" y="676351"/>
                </a:lnTo>
                <a:lnTo>
                  <a:pt x="2748487" y="29996"/>
                </a:lnTo>
                <a:lnTo>
                  <a:pt x="2642036" y="40276"/>
                </a:lnTo>
                <a:lnTo>
                  <a:pt x="2642932" y="0"/>
                </a:lnTo>
                <a:lnTo>
                  <a:pt x="2315994" y="0"/>
                </a:lnTo>
                <a:lnTo>
                  <a:pt x="2286083" y="74652"/>
                </a:lnTo>
                <a:lnTo>
                  <a:pt x="2224785" y="80573"/>
                </a:lnTo>
                <a:lnTo>
                  <a:pt x="2253767" y="223697"/>
                </a:lnTo>
                <a:lnTo>
                  <a:pt x="2231999" y="225040"/>
                </a:lnTo>
                <a:lnTo>
                  <a:pt x="2315303" y="453572"/>
                </a:lnTo>
                <a:lnTo>
                  <a:pt x="2225754" y="486214"/>
                </a:lnTo>
                <a:lnTo>
                  <a:pt x="2226626" y="488001"/>
                </a:lnTo>
                <a:lnTo>
                  <a:pt x="2060018" y="546627"/>
                </a:lnTo>
                <a:lnTo>
                  <a:pt x="2022854" y="560174"/>
                </a:lnTo>
                <a:lnTo>
                  <a:pt x="1988791" y="580480"/>
                </a:lnTo>
                <a:cubicBezTo>
                  <a:pt x="1958388" y="608157"/>
                  <a:pt x="1945771" y="652344"/>
                  <a:pt x="1960277" y="693566"/>
                </a:cubicBezTo>
                <a:cubicBezTo>
                  <a:pt x="1979617" y="748529"/>
                  <a:pt x="2039851" y="777407"/>
                  <a:pt x="2094814" y="758067"/>
                </a:cubicBezTo>
                <a:lnTo>
                  <a:pt x="2344209" y="670309"/>
                </a:lnTo>
                <a:lnTo>
                  <a:pt x="2345796" y="678142"/>
                </a:lnTo>
                <a:lnTo>
                  <a:pt x="2311797" y="696596"/>
                </a:lnTo>
                <a:cubicBezTo>
                  <a:pt x="2228615" y="752792"/>
                  <a:pt x="2173926" y="847960"/>
                  <a:pt x="2173926" y="955900"/>
                </a:cubicBezTo>
                <a:cubicBezTo>
                  <a:pt x="2173926" y="1128606"/>
                  <a:pt x="2313931" y="1268611"/>
                  <a:pt x="2486636" y="1268611"/>
                </a:cubicBezTo>
                <a:close/>
                <a:moveTo>
                  <a:pt x="3331718" y="1741950"/>
                </a:moveTo>
                <a:cubicBezTo>
                  <a:pt x="3504423" y="1741950"/>
                  <a:pt x="3644430" y="1601945"/>
                  <a:pt x="3644430" y="1429239"/>
                </a:cubicBezTo>
                <a:cubicBezTo>
                  <a:pt x="3644430" y="1321299"/>
                  <a:pt x="3589739" y="1226131"/>
                  <a:pt x="3506557" y="1169935"/>
                </a:cubicBezTo>
                <a:lnTo>
                  <a:pt x="3469260" y="1149690"/>
                </a:lnTo>
                <a:lnTo>
                  <a:pt x="3593569" y="503335"/>
                </a:lnTo>
                <a:lnTo>
                  <a:pt x="3487118" y="513615"/>
                </a:lnTo>
                <a:lnTo>
                  <a:pt x="3498549" y="0"/>
                </a:lnTo>
                <a:lnTo>
                  <a:pt x="3273660" y="22383"/>
                </a:lnTo>
                <a:cubicBezTo>
                  <a:pt x="3257338" y="115312"/>
                  <a:pt x="3249968" y="199289"/>
                  <a:pt x="3233645" y="292218"/>
                </a:cubicBezTo>
                <a:lnTo>
                  <a:pt x="3131165" y="547991"/>
                </a:lnTo>
                <a:lnTo>
                  <a:pt x="3069867" y="553912"/>
                </a:lnTo>
                <a:lnTo>
                  <a:pt x="3098849" y="697036"/>
                </a:lnTo>
                <a:lnTo>
                  <a:pt x="3077081" y="698379"/>
                </a:lnTo>
                <a:lnTo>
                  <a:pt x="3160385" y="926911"/>
                </a:lnTo>
                <a:lnTo>
                  <a:pt x="3070835" y="959553"/>
                </a:lnTo>
                <a:lnTo>
                  <a:pt x="3071707" y="961340"/>
                </a:lnTo>
                <a:lnTo>
                  <a:pt x="2905100" y="1019966"/>
                </a:lnTo>
                <a:lnTo>
                  <a:pt x="2867935" y="1033513"/>
                </a:lnTo>
                <a:lnTo>
                  <a:pt x="2833872" y="1053819"/>
                </a:lnTo>
                <a:cubicBezTo>
                  <a:pt x="2803470" y="1081496"/>
                  <a:pt x="2790852" y="1125683"/>
                  <a:pt x="2805358" y="1166905"/>
                </a:cubicBezTo>
                <a:cubicBezTo>
                  <a:pt x="2824699" y="1221868"/>
                  <a:pt x="2884933" y="1250746"/>
                  <a:pt x="2939896" y="1231406"/>
                </a:cubicBezTo>
                <a:lnTo>
                  <a:pt x="3189291" y="1143648"/>
                </a:lnTo>
                <a:lnTo>
                  <a:pt x="3190878" y="1151481"/>
                </a:lnTo>
                <a:lnTo>
                  <a:pt x="3156879" y="1169935"/>
                </a:lnTo>
                <a:cubicBezTo>
                  <a:pt x="3073696" y="1226131"/>
                  <a:pt x="3019008" y="1321299"/>
                  <a:pt x="3019008" y="1429239"/>
                </a:cubicBezTo>
                <a:cubicBezTo>
                  <a:pt x="3019008" y="1601945"/>
                  <a:pt x="3159013" y="1741950"/>
                  <a:pt x="3331718" y="1741950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7" name="文本框 14"/>
          <p:cNvSpPr/>
          <p:nvPr/>
        </p:nvSpPr>
        <p:spPr>
          <a:xfrm>
            <a:off x="3747600" y="4627080"/>
            <a:ext cx="76755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我们把情景</a:t>
            </a:r>
            <a:r>
              <a:rPr b="0" lang="en-US" sz="4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2</a:t>
            </a:r>
            <a:r>
              <a:rPr b="0" lang="zh-CN" sz="4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也分成</a:t>
            </a:r>
            <a:r>
              <a:rPr b="0" lang="en-US" sz="4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种假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5"/>
          <p:cNvSpPr/>
          <p:nvPr/>
        </p:nvSpPr>
        <p:spPr>
          <a:xfrm>
            <a:off x="977760" y="3307680"/>
            <a:ext cx="2420280" cy="10767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9" name="文本框 16"/>
          <p:cNvSpPr/>
          <p:nvPr/>
        </p:nvSpPr>
        <p:spPr>
          <a:xfrm>
            <a:off x="841680" y="3763440"/>
            <a:ext cx="1918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情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7"/>
          <p:cNvSpPr/>
          <p:nvPr/>
        </p:nvSpPr>
        <p:spPr>
          <a:xfrm>
            <a:off x="2351880" y="2756520"/>
            <a:ext cx="11840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ffffff"/>
                </a:solidFill>
                <a:latin typeface="Britannic Bold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椭圆 3"/>
          <p:cNvSpPr/>
          <p:nvPr/>
        </p:nvSpPr>
        <p:spPr>
          <a:xfrm>
            <a:off x="3273480" y="1636200"/>
            <a:ext cx="1131840" cy="113184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2" name="梯形 4"/>
          <p:cNvSpPr/>
          <p:nvPr/>
        </p:nvSpPr>
        <p:spPr>
          <a:xfrm>
            <a:off x="3700800" y="2588040"/>
            <a:ext cx="813960" cy="1127880"/>
          </a:xfrm>
          <a:custGeom>
            <a:avLst/>
            <a:gdLst>
              <a:gd name="textAreaLeft" fmla="*/ 0 w 813960"/>
              <a:gd name="textAreaRight" fmla="*/ 814320 w 813960"/>
              <a:gd name="textAreaTop" fmla="*/ 0 h 1127880"/>
              <a:gd name="textAreaBottom" fmla="*/ 1128240 h 1127880"/>
            </a:gdLst>
            <a:ahLst/>
            <a:rect l="textAreaLeft" t="textAreaTop" r="textAreaRight" b="textAreaBottom"/>
            <a:pathLst>
              <a:path w="654214" h="1128180">
                <a:moveTo>
                  <a:pt x="8328" y="1099151"/>
                </a:moveTo>
                <a:lnTo>
                  <a:pt x="0" y="0"/>
                </a:lnTo>
                <a:lnTo>
                  <a:pt x="349238" y="46496"/>
                </a:lnTo>
                <a:lnTo>
                  <a:pt x="654214" y="1128180"/>
                </a:lnTo>
                <a:lnTo>
                  <a:pt x="8328" y="109915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3" name="圆角矩形 6"/>
          <p:cNvSpPr/>
          <p:nvPr/>
        </p:nvSpPr>
        <p:spPr>
          <a:xfrm rot="700200">
            <a:off x="3906000" y="2780280"/>
            <a:ext cx="1360800" cy="41400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4" name="椭圆 8"/>
          <p:cNvSpPr/>
          <p:nvPr/>
        </p:nvSpPr>
        <p:spPr>
          <a:xfrm>
            <a:off x="4322520" y="2031480"/>
            <a:ext cx="739800" cy="73980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5" name="梯形 10"/>
          <p:cNvSpPr/>
          <p:nvPr/>
        </p:nvSpPr>
        <p:spPr>
          <a:xfrm rot="20093400">
            <a:off x="4444560" y="2574000"/>
            <a:ext cx="654840" cy="1556640"/>
          </a:xfrm>
          <a:custGeom>
            <a:avLst/>
            <a:gdLst>
              <a:gd name="textAreaLeft" fmla="*/ 0 w 654840"/>
              <a:gd name="textAreaRight" fmla="*/ 655200 w 654840"/>
              <a:gd name="textAreaTop" fmla="*/ 0 h 1556640"/>
              <a:gd name="textAreaBottom" fmla="*/ 1557000 h 1556640"/>
            </a:gdLst>
            <a:ahLst/>
            <a:rect l="textAreaLeft" t="textAreaTop" r="textAreaRight" b="textAreaBottom"/>
            <a:pathLst>
              <a:path w="655125" h="1557005">
                <a:moveTo>
                  <a:pt x="0" y="1557005"/>
                </a:moveTo>
                <a:lnTo>
                  <a:pt x="221738" y="0"/>
                </a:lnTo>
                <a:lnTo>
                  <a:pt x="511319" y="33005"/>
                </a:lnTo>
                <a:lnTo>
                  <a:pt x="655125" y="1557005"/>
                </a:lnTo>
                <a:lnTo>
                  <a:pt x="0" y="1557005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6" name="圆角矩形 11"/>
          <p:cNvSpPr/>
          <p:nvPr/>
        </p:nvSpPr>
        <p:spPr>
          <a:xfrm rot="5178000">
            <a:off x="4356360" y="3921120"/>
            <a:ext cx="1267560" cy="471600"/>
          </a:xfrm>
          <a:custGeom>
            <a:avLst/>
            <a:gdLst>
              <a:gd name="textAreaLeft" fmla="*/ 0 w 1267560"/>
              <a:gd name="textAreaRight" fmla="*/ 1267920 w 12675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1268010" h="472009">
                <a:moveTo>
                  <a:pt x="0" y="116956"/>
                </a:moveTo>
                <a:lnTo>
                  <a:pt x="0" y="116956"/>
                </a:lnTo>
                <a:cubicBezTo>
                  <a:pt x="201759" y="118551"/>
                  <a:pt x="442453" y="-1580"/>
                  <a:pt x="644212" y="15"/>
                </a:cubicBezTo>
                <a:lnTo>
                  <a:pt x="1268010" y="116956"/>
                </a:lnTo>
                <a:lnTo>
                  <a:pt x="1268010" y="116956"/>
                </a:lnTo>
                <a:lnTo>
                  <a:pt x="1268010" y="471654"/>
                </a:lnTo>
                <a:lnTo>
                  <a:pt x="1268010" y="471654"/>
                </a:lnTo>
                <a:cubicBezTo>
                  <a:pt x="1085492" y="481746"/>
                  <a:pt x="886049" y="273314"/>
                  <a:pt x="703531" y="283406"/>
                </a:cubicBezTo>
                <a:lnTo>
                  <a:pt x="0" y="471654"/>
                </a:lnTo>
                <a:lnTo>
                  <a:pt x="0" y="471654"/>
                </a:lnTo>
                <a:lnTo>
                  <a:pt x="0" y="116956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7" name="梯形 12"/>
          <p:cNvSpPr/>
          <p:nvPr/>
        </p:nvSpPr>
        <p:spPr>
          <a:xfrm flipV="1">
            <a:off x="3710880" y="3583440"/>
            <a:ext cx="735120" cy="1189800"/>
          </a:xfrm>
          <a:custGeom>
            <a:avLst/>
            <a:gdLst>
              <a:gd name="textAreaLeft" fmla="*/ 0 w 735120"/>
              <a:gd name="textAreaRight" fmla="*/ 735480 w 735120"/>
              <a:gd name="textAreaTop" fmla="*/ -360 h 1189800"/>
              <a:gd name="textAreaBottom" fmla="*/ 1189800 h 1189800"/>
            </a:gdLst>
            <a:ahLst/>
            <a:rect l="textAreaLeft" t="textAreaTop" r="textAreaRight" b="textAreaBottom"/>
            <a:pathLst>
              <a:path w="528124" h="1190172">
                <a:moveTo>
                  <a:pt x="0" y="1190172"/>
                </a:moveTo>
                <a:cubicBezTo>
                  <a:pt x="10726" y="1009903"/>
                  <a:pt x="160937" y="783138"/>
                  <a:pt x="171663" y="602869"/>
                </a:cubicBezTo>
                <a:lnTo>
                  <a:pt x="129040" y="0"/>
                </a:lnTo>
                <a:lnTo>
                  <a:pt x="387119" y="0"/>
                </a:lnTo>
                <a:cubicBezTo>
                  <a:pt x="403124" y="206122"/>
                  <a:pt x="512119" y="427744"/>
                  <a:pt x="528124" y="633866"/>
                </a:cubicBezTo>
                <a:lnTo>
                  <a:pt x="516158" y="1190172"/>
                </a:lnTo>
                <a:lnTo>
                  <a:pt x="0" y="1190172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任意多边形 21"/>
          <p:cNvSpPr/>
          <p:nvPr/>
        </p:nvSpPr>
        <p:spPr>
          <a:xfrm flipH="1" rot="350400">
            <a:off x="5009040" y="2194200"/>
            <a:ext cx="273240" cy="813600"/>
          </a:xfrm>
          <a:custGeom>
            <a:avLst/>
            <a:gdLst>
              <a:gd name="textAreaLeft" fmla="*/ -360 w 273240"/>
              <a:gd name="textAreaRight" fmla="*/ 273240 w 273240"/>
              <a:gd name="textAreaTop" fmla="*/ 0 h 813600"/>
              <a:gd name="textAreaBottom" fmla="*/ 813960 h 813600"/>
            </a:gdLst>
            <a:ahLst/>
            <a:rect l="textAreaLeft" t="textAreaTop" r="textAreaRight" b="textAreaBottom"/>
            <a:pathLst>
              <a:path w="812800" h="2419521">
                <a:moveTo>
                  <a:pt x="191538" y="0"/>
                </a:moveTo>
                <a:lnTo>
                  <a:pt x="233026" y="8207"/>
                </a:lnTo>
                <a:cubicBezTo>
                  <a:pt x="454593" y="97177"/>
                  <a:pt x="621263" y="481876"/>
                  <a:pt x="621263" y="942963"/>
                </a:cubicBezTo>
                <a:lnTo>
                  <a:pt x="621251" y="943231"/>
                </a:lnTo>
                <a:lnTo>
                  <a:pt x="621263" y="943231"/>
                </a:lnTo>
                <a:lnTo>
                  <a:pt x="621263" y="1757474"/>
                </a:lnTo>
                <a:lnTo>
                  <a:pt x="812800" y="1757474"/>
                </a:lnTo>
                <a:lnTo>
                  <a:pt x="812800" y="1915885"/>
                </a:lnTo>
                <a:lnTo>
                  <a:pt x="621263" y="1915885"/>
                </a:lnTo>
                <a:lnTo>
                  <a:pt x="621263" y="1915886"/>
                </a:lnTo>
                <a:lnTo>
                  <a:pt x="543081" y="1915886"/>
                </a:lnTo>
                <a:lnTo>
                  <a:pt x="543081" y="2373960"/>
                </a:lnTo>
                <a:cubicBezTo>
                  <a:pt x="543081" y="2399123"/>
                  <a:pt x="522683" y="2419521"/>
                  <a:pt x="497520" y="2419521"/>
                </a:cubicBezTo>
                <a:lnTo>
                  <a:pt x="315279" y="2419521"/>
                </a:lnTo>
                <a:cubicBezTo>
                  <a:pt x="290116" y="2419521"/>
                  <a:pt x="269718" y="2399123"/>
                  <a:pt x="269718" y="2373960"/>
                </a:cubicBezTo>
                <a:lnTo>
                  <a:pt x="269718" y="1915886"/>
                </a:lnTo>
                <a:lnTo>
                  <a:pt x="191538" y="1915886"/>
                </a:lnTo>
                <a:lnTo>
                  <a:pt x="191538" y="1915885"/>
                </a:lnTo>
                <a:lnTo>
                  <a:pt x="0" y="1915885"/>
                </a:lnTo>
                <a:lnTo>
                  <a:pt x="0" y="1757474"/>
                </a:lnTo>
                <a:lnTo>
                  <a:pt x="191538" y="1757474"/>
                </a:lnTo>
                <a:lnTo>
                  <a:pt x="191538" y="94323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9" name="文本框 89"/>
          <p:cNvSpPr/>
          <p:nvPr/>
        </p:nvSpPr>
        <p:spPr>
          <a:xfrm>
            <a:off x="3862440" y="4930920"/>
            <a:ext cx="7400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这位女士对着人群大喊“救命啊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90"/>
          <p:cNvSpPr/>
          <p:nvPr/>
        </p:nvSpPr>
        <p:spPr>
          <a:xfrm>
            <a:off x="930960" y="4728960"/>
            <a:ext cx="10331640" cy="1101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1" name="任意多边形 96"/>
          <p:cNvSpPr/>
          <p:nvPr/>
        </p:nvSpPr>
        <p:spPr>
          <a:xfrm flipH="1" flipV="1">
            <a:off x="10111320" y="2424240"/>
            <a:ext cx="1151280" cy="2373120"/>
          </a:xfrm>
          <a:custGeom>
            <a:avLst/>
            <a:gdLst>
              <a:gd name="textAreaLeft" fmla="*/ 360 w 1151280"/>
              <a:gd name="textAreaRight" fmla="*/ 1152000 w 1151280"/>
              <a:gd name="textAreaTop" fmla="*/ 360 h 2373120"/>
              <a:gd name="textAreaBottom" fmla="*/ 2373840 h 2373120"/>
            </a:gdLst>
            <a:ahLst/>
            <a:rect l="textAreaLeft" t="textAreaTop" r="textAreaRight" b="textAreaBottom"/>
            <a:pathLst>
              <a:path w="1096974" h="2261171">
                <a:moveTo>
                  <a:pt x="405921" y="2261171"/>
                </a:moveTo>
                <a:cubicBezTo>
                  <a:pt x="181738" y="2261171"/>
                  <a:pt x="0" y="2079434"/>
                  <a:pt x="0" y="1855251"/>
                </a:cubicBezTo>
                <a:cubicBezTo>
                  <a:pt x="0" y="1715137"/>
                  <a:pt x="70992" y="1591602"/>
                  <a:pt x="178968" y="1518656"/>
                </a:cubicBezTo>
                <a:lnTo>
                  <a:pt x="227383" y="1492376"/>
                </a:lnTo>
                <a:lnTo>
                  <a:pt x="66021" y="653363"/>
                </a:lnTo>
                <a:lnTo>
                  <a:pt x="204202" y="666707"/>
                </a:lnTo>
                <a:lnTo>
                  <a:pt x="189363" y="0"/>
                </a:lnTo>
                <a:lnTo>
                  <a:pt x="481285" y="29055"/>
                </a:lnTo>
                <a:cubicBezTo>
                  <a:pt x="502472" y="149683"/>
                  <a:pt x="512038" y="258691"/>
                  <a:pt x="533227" y="379319"/>
                </a:cubicBezTo>
                <a:lnTo>
                  <a:pt x="666253" y="711330"/>
                </a:lnTo>
                <a:lnTo>
                  <a:pt x="745822" y="719015"/>
                </a:lnTo>
                <a:lnTo>
                  <a:pt x="708201" y="904801"/>
                </a:lnTo>
                <a:lnTo>
                  <a:pt x="736458" y="906544"/>
                </a:lnTo>
                <a:lnTo>
                  <a:pt x="628324" y="1203194"/>
                </a:lnTo>
                <a:lnTo>
                  <a:pt x="744565" y="1245566"/>
                </a:lnTo>
                <a:lnTo>
                  <a:pt x="743433" y="1247885"/>
                </a:lnTo>
                <a:lnTo>
                  <a:pt x="959701" y="1323986"/>
                </a:lnTo>
                <a:lnTo>
                  <a:pt x="1007943" y="1341571"/>
                </a:lnTo>
                <a:lnTo>
                  <a:pt x="1052159" y="1367929"/>
                </a:lnTo>
                <a:cubicBezTo>
                  <a:pt x="1091624" y="1403856"/>
                  <a:pt x="1108002" y="1461214"/>
                  <a:pt x="1089172" y="1514723"/>
                </a:cubicBezTo>
                <a:cubicBezTo>
                  <a:pt x="1064067" y="1586069"/>
                  <a:pt x="985879" y="1623554"/>
                  <a:pt x="914533" y="1598449"/>
                </a:cubicBezTo>
                <a:lnTo>
                  <a:pt x="590801" y="1484533"/>
                </a:lnTo>
                <a:lnTo>
                  <a:pt x="588742" y="1494701"/>
                </a:lnTo>
                <a:lnTo>
                  <a:pt x="632875" y="1518656"/>
                </a:lnTo>
                <a:cubicBezTo>
                  <a:pt x="740851" y="1591602"/>
                  <a:pt x="811841" y="1715137"/>
                  <a:pt x="811841" y="1855251"/>
                </a:cubicBezTo>
                <a:cubicBezTo>
                  <a:pt x="811841" y="2079434"/>
                  <a:pt x="630104" y="2261171"/>
                  <a:pt x="405921" y="2261171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2" name="任意多边形 27"/>
          <p:cNvSpPr/>
          <p:nvPr/>
        </p:nvSpPr>
        <p:spPr>
          <a:xfrm flipV="1">
            <a:off x="5757840" y="3063240"/>
            <a:ext cx="4489200" cy="1741680"/>
          </a:xfrm>
          <a:custGeom>
            <a:avLst/>
            <a:gdLst>
              <a:gd name="textAreaLeft" fmla="*/ 0 w 4489200"/>
              <a:gd name="textAreaRight" fmla="*/ 4489560 w 4489200"/>
              <a:gd name="textAreaTop" fmla="*/ 360 h 1741680"/>
              <a:gd name="textAreaBottom" fmla="*/ 1742400 h 1741680"/>
            </a:gdLst>
            <a:ahLst/>
            <a:rect l="textAreaLeft" t="textAreaTop" r="textAreaRight" b="textAreaBottom"/>
            <a:pathLst>
              <a:path w="4489512" h="1741950">
                <a:moveTo>
                  <a:pt x="532371" y="870975"/>
                </a:moveTo>
                <a:cubicBezTo>
                  <a:pt x="705076" y="870975"/>
                  <a:pt x="845082" y="730970"/>
                  <a:pt x="845082" y="558264"/>
                </a:cubicBezTo>
                <a:cubicBezTo>
                  <a:pt x="845082" y="450324"/>
                  <a:pt x="790392" y="355156"/>
                  <a:pt x="707210" y="298960"/>
                </a:cubicBezTo>
                <a:lnTo>
                  <a:pt x="669912" y="278715"/>
                </a:lnTo>
                <a:lnTo>
                  <a:pt x="723516" y="0"/>
                </a:lnTo>
                <a:lnTo>
                  <a:pt x="340648" y="0"/>
                </a:lnTo>
                <a:lnTo>
                  <a:pt x="361037" y="55936"/>
                </a:lnTo>
                <a:lnTo>
                  <a:pt x="271488" y="88578"/>
                </a:lnTo>
                <a:lnTo>
                  <a:pt x="272360" y="90365"/>
                </a:lnTo>
                <a:lnTo>
                  <a:pt x="105752" y="148991"/>
                </a:lnTo>
                <a:lnTo>
                  <a:pt x="68588" y="162538"/>
                </a:lnTo>
                <a:lnTo>
                  <a:pt x="34525" y="182844"/>
                </a:lnTo>
                <a:cubicBezTo>
                  <a:pt x="4122" y="210521"/>
                  <a:pt x="-8495" y="254708"/>
                  <a:pt x="6011" y="295930"/>
                </a:cubicBezTo>
                <a:cubicBezTo>
                  <a:pt x="25351" y="350893"/>
                  <a:pt x="85585" y="379771"/>
                  <a:pt x="140548" y="360431"/>
                </a:cubicBezTo>
                <a:lnTo>
                  <a:pt x="389944" y="272673"/>
                </a:lnTo>
                <a:lnTo>
                  <a:pt x="391530" y="280506"/>
                </a:lnTo>
                <a:lnTo>
                  <a:pt x="357531" y="298960"/>
                </a:lnTo>
                <a:cubicBezTo>
                  <a:pt x="274349" y="355156"/>
                  <a:pt x="219660" y="450324"/>
                  <a:pt x="219660" y="558264"/>
                </a:cubicBezTo>
                <a:cubicBezTo>
                  <a:pt x="219660" y="730970"/>
                  <a:pt x="359665" y="870975"/>
                  <a:pt x="532371" y="870975"/>
                </a:cubicBezTo>
                <a:close/>
                <a:moveTo>
                  <a:pt x="1409813" y="986423"/>
                </a:moveTo>
                <a:cubicBezTo>
                  <a:pt x="1582518" y="986423"/>
                  <a:pt x="1722524" y="846418"/>
                  <a:pt x="1722524" y="673712"/>
                </a:cubicBezTo>
                <a:cubicBezTo>
                  <a:pt x="1722524" y="565772"/>
                  <a:pt x="1667834" y="470604"/>
                  <a:pt x="1584652" y="414408"/>
                </a:cubicBezTo>
                <a:lnTo>
                  <a:pt x="1547354" y="394163"/>
                </a:lnTo>
                <a:lnTo>
                  <a:pt x="1623161" y="0"/>
                </a:lnTo>
                <a:lnTo>
                  <a:pt x="1176007" y="0"/>
                </a:lnTo>
                <a:lnTo>
                  <a:pt x="1238479" y="171384"/>
                </a:lnTo>
                <a:lnTo>
                  <a:pt x="1148930" y="204026"/>
                </a:lnTo>
                <a:lnTo>
                  <a:pt x="1149802" y="205813"/>
                </a:lnTo>
                <a:lnTo>
                  <a:pt x="983194" y="264439"/>
                </a:lnTo>
                <a:lnTo>
                  <a:pt x="946030" y="277986"/>
                </a:lnTo>
                <a:lnTo>
                  <a:pt x="911967" y="298292"/>
                </a:lnTo>
                <a:cubicBezTo>
                  <a:pt x="881564" y="325969"/>
                  <a:pt x="868947" y="370156"/>
                  <a:pt x="883453" y="411378"/>
                </a:cubicBezTo>
                <a:cubicBezTo>
                  <a:pt x="902793" y="466341"/>
                  <a:pt x="963027" y="495219"/>
                  <a:pt x="1017990" y="475879"/>
                </a:cubicBezTo>
                <a:lnTo>
                  <a:pt x="1267386" y="388121"/>
                </a:lnTo>
                <a:lnTo>
                  <a:pt x="1268972" y="395954"/>
                </a:lnTo>
                <a:lnTo>
                  <a:pt x="1234973" y="414408"/>
                </a:lnTo>
                <a:cubicBezTo>
                  <a:pt x="1151791" y="470604"/>
                  <a:pt x="1097102" y="565772"/>
                  <a:pt x="1097102" y="673712"/>
                </a:cubicBezTo>
                <a:cubicBezTo>
                  <a:pt x="1097102" y="846418"/>
                  <a:pt x="1237107" y="986423"/>
                  <a:pt x="1409813" y="986423"/>
                </a:cubicBezTo>
                <a:close/>
                <a:moveTo>
                  <a:pt x="4176800" y="1268611"/>
                </a:moveTo>
                <a:cubicBezTo>
                  <a:pt x="4349505" y="1268611"/>
                  <a:pt x="4489512" y="1128606"/>
                  <a:pt x="4489512" y="955900"/>
                </a:cubicBezTo>
                <a:cubicBezTo>
                  <a:pt x="4489512" y="847960"/>
                  <a:pt x="4434821" y="752792"/>
                  <a:pt x="4351639" y="696596"/>
                </a:cubicBezTo>
                <a:lnTo>
                  <a:pt x="4314342" y="676351"/>
                </a:lnTo>
                <a:lnTo>
                  <a:pt x="4438651" y="29996"/>
                </a:lnTo>
                <a:lnTo>
                  <a:pt x="4332200" y="40276"/>
                </a:lnTo>
                <a:lnTo>
                  <a:pt x="4333096" y="0"/>
                </a:lnTo>
                <a:lnTo>
                  <a:pt x="4006158" y="0"/>
                </a:lnTo>
                <a:lnTo>
                  <a:pt x="3976247" y="74652"/>
                </a:lnTo>
                <a:lnTo>
                  <a:pt x="3914949" y="80573"/>
                </a:lnTo>
                <a:lnTo>
                  <a:pt x="3943931" y="223697"/>
                </a:lnTo>
                <a:lnTo>
                  <a:pt x="3922163" y="225040"/>
                </a:lnTo>
                <a:lnTo>
                  <a:pt x="4005467" y="453572"/>
                </a:lnTo>
                <a:lnTo>
                  <a:pt x="3915917" y="486214"/>
                </a:lnTo>
                <a:lnTo>
                  <a:pt x="3916789" y="488001"/>
                </a:lnTo>
                <a:lnTo>
                  <a:pt x="3750182" y="546627"/>
                </a:lnTo>
                <a:lnTo>
                  <a:pt x="3713017" y="560174"/>
                </a:lnTo>
                <a:lnTo>
                  <a:pt x="3678954" y="580480"/>
                </a:lnTo>
                <a:cubicBezTo>
                  <a:pt x="3648552" y="608157"/>
                  <a:pt x="3635934" y="652344"/>
                  <a:pt x="3650440" y="693566"/>
                </a:cubicBezTo>
                <a:cubicBezTo>
                  <a:pt x="3669781" y="748529"/>
                  <a:pt x="3730015" y="777407"/>
                  <a:pt x="3784978" y="758067"/>
                </a:cubicBezTo>
                <a:lnTo>
                  <a:pt x="4034373" y="670309"/>
                </a:lnTo>
                <a:lnTo>
                  <a:pt x="4035960" y="678142"/>
                </a:lnTo>
                <a:lnTo>
                  <a:pt x="4001961" y="696596"/>
                </a:lnTo>
                <a:cubicBezTo>
                  <a:pt x="3918778" y="752792"/>
                  <a:pt x="3864090" y="847960"/>
                  <a:pt x="3864090" y="955900"/>
                </a:cubicBezTo>
                <a:cubicBezTo>
                  <a:pt x="3864090" y="1128606"/>
                  <a:pt x="4004095" y="1268611"/>
                  <a:pt x="4176800" y="1268611"/>
                </a:cubicBezTo>
                <a:close/>
                <a:moveTo>
                  <a:pt x="2486636" y="1268611"/>
                </a:moveTo>
                <a:cubicBezTo>
                  <a:pt x="2659341" y="1268611"/>
                  <a:pt x="2799348" y="1128606"/>
                  <a:pt x="2799348" y="955900"/>
                </a:cubicBezTo>
                <a:cubicBezTo>
                  <a:pt x="2799348" y="847960"/>
                  <a:pt x="2744657" y="752792"/>
                  <a:pt x="2661475" y="696596"/>
                </a:cubicBezTo>
                <a:lnTo>
                  <a:pt x="2624178" y="676351"/>
                </a:lnTo>
                <a:lnTo>
                  <a:pt x="2748487" y="29996"/>
                </a:lnTo>
                <a:lnTo>
                  <a:pt x="2642036" y="40276"/>
                </a:lnTo>
                <a:lnTo>
                  <a:pt x="2642932" y="0"/>
                </a:lnTo>
                <a:lnTo>
                  <a:pt x="2315994" y="0"/>
                </a:lnTo>
                <a:lnTo>
                  <a:pt x="2286083" y="74652"/>
                </a:lnTo>
                <a:lnTo>
                  <a:pt x="2224785" y="80573"/>
                </a:lnTo>
                <a:lnTo>
                  <a:pt x="2253767" y="223697"/>
                </a:lnTo>
                <a:lnTo>
                  <a:pt x="2231999" y="225040"/>
                </a:lnTo>
                <a:lnTo>
                  <a:pt x="2315303" y="453572"/>
                </a:lnTo>
                <a:lnTo>
                  <a:pt x="2225754" y="486214"/>
                </a:lnTo>
                <a:lnTo>
                  <a:pt x="2226626" y="488001"/>
                </a:lnTo>
                <a:lnTo>
                  <a:pt x="2060018" y="546627"/>
                </a:lnTo>
                <a:lnTo>
                  <a:pt x="2022854" y="560174"/>
                </a:lnTo>
                <a:lnTo>
                  <a:pt x="1988791" y="580480"/>
                </a:lnTo>
                <a:cubicBezTo>
                  <a:pt x="1958388" y="608157"/>
                  <a:pt x="1945771" y="652344"/>
                  <a:pt x="1960277" y="693566"/>
                </a:cubicBezTo>
                <a:cubicBezTo>
                  <a:pt x="1979617" y="748529"/>
                  <a:pt x="2039851" y="777407"/>
                  <a:pt x="2094814" y="758067"/>
                </a:cubicBezTo>
                <a:lnTo>
                  <a:pt x="2344209" y="670309"/>
                </a:lnTo>
                <a:lnTo>
                  <a:pt x="2345796" y="678142"/>
                </a:lnTo>
                <a:lnTo>
                  <a:pt x="2311797" y="696596"/>
                </a:lnTo>
                <a:cubicBezTo>
                  <a:pt x="2228615" y="752792"/>
                  <a:pt x="2173926" y="847960"/>
                  <a:pt x="2173926" y="955900"/>
                </a:cubicBezTo>
                <a:cubicBezTo>
                  <a:pt x="2173926" y="1128606"/>
                  <a:pt x="2313931" y="1268611"/>
                  <a:pt x="2486636" y="1268611"/>
                </a:cubicBezTo>
                <a:close/>
                <a:moveTo>
                  <a:pt x="3331718" y="1741950"/>
                </a:moveTo>
                <a:cubicBezTo>
                  <a:pt x="3504423" y="1741950"/>
                  <a:pt x="3644430" y="1601945"/>
                  <a:pt x="3644430" y="1429239"/>
                </a:cubicBezTo>
                <a:cubicBezTo>
                  <a:pt x="3644430" y="1321299"/>
                  <a:pt x="3589739" y="1226131"/>
                  <a:pt x="3506557" y="1169935"/>
                </a:cubicBezTo>
                <a:lnTo>
                  <a:pt x="3469260" y="1149690"/>
                </a:lnTo>
                <a:lnTo>
                  <a:pt x="3593569" y="503335"/>
                </a:lnTo>
                <a:lnTo>
                  <a:pt x="3487118" y="513615"/>
                </a:lnTo>
                <a:lnTo>
                  <a:pt x="3498549" y="0"/>
                </a:lnTo>
                <a:lnTo>
                  <a:pt x="3273660" y="22383"/>
                </a:lnTo>
                <a:cubicBezTo>
                  <a:pt x="3257338" y="115312"/>
                  <a:pt x="3249968" y="199289"/>
                  <a:pt x="3233645" y="292218"/>
                </a:cubicBezTo>
                <a:lnTo>
                  <a:pt x="3131165" y="547991"/>
                </a:lnTo>
                <a:lnTo>
                  <a:pt x="3069867" y="553912"/>
                </a:lnTo>
                <a:lnTo>
                  <a:pt x="3098849" y="697036"/>
                </a:lnTo>
                <a:lnTo>
                  <a:pt x="3077081" y="698379"/>
                </a:lnTo>
                <a:lnTo>
                  <a:pt x="3160385" y="926911"/>
                </a:lnTo>
                <a:lnTo>
                  <a:pt x="3070835" y="959553"/>
                </a:lnTo>
                <a:lnTo>
                  <a:pt x="3071707" y="961340"/>
                </a:lnTo>
                <a:lnTo>
                  <a:pt x="2905100" y="1019966"/>
                </a:lnTo>
                <a:lnTo>
                  <a:pt x="2867935" y="1033513"/>
                </a:lnTo>
                <a:lnTo>
                  <a:pt x="2833872" y="1053819"/>
                </a:lnTo>
                <a:cubicBezTo>
                  <a:pt x="2803470" y="1081496"/>
                  <a:pt x="2790852" y="1125683"/>
                  <a:pt x="2805358" y="1166905"/>
                </a:cubicBezTo>
                <a:cubicBezTo>
                  <a:pt x="2824699" y="1221868"/>
                  <a:pt x="2884933" y="1250746"/>
                  <a:pt x="2939896" y="1231406"/>
                </a:cubicBezTo>
                <a:lnTo>
                  <a:pt x="3189291" y="1143648"/>
                </a:lnTo>
                <a:lnTo>
                  <a:pt x="3190878" y="1151481"/>
                </a:lnTo>
                <a:lnTo>
                  <a:pt x="3156879" y="1169935"/>
                </a:lnTo>
                <a:cubicBezTo>
                  <a:pt x="3073696" y="1226131"/>
                  <a:pt x="3019008" y="1321299"/>
                  <a:pt x="3019008" y="1429239"/>
                </a:cubicBezTo>
                <a:cubicBezTo>
                  <a:pt x="3019008" y="1601945"/>
                  <a:pt x="3159013" y="1741950"/>
                  <a:pt x="3331718" y="1741950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3" name="文本框 16"/>
          <p:cNvSpPr/>
          <p:nvPr/>
        </p:nvSpPr>
        <p:spPr>
          <a:xfrm>
            <a:off x="5897880" y="1310400"/>
            <a:ext cx="2115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救命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等腰三角形 2"/>
          <p:cNvSpPr/>
          <p:nvPr/>
        </p:nvSpPr>
        <p:spPr>
          <a:xfrm rot="13047600">
            <a:off x="5182560" y="125028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5" name="等腰三角形 18"/>
          <p:cNvSpPr/>
          <p:nvPr/>
        </p:nvSpPr>
        <p:spPr>
          <a:xfrm rot="14626200">
            <a:off x="5339160" y="141300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6" name="等腰三角形 19"/>
          <p:cNvSpPr/>
          <p:nvPr/>
        </p:nvSpPr>
        <p:spPr>
          <a:xfrm rot="15665400">
            <a:off x="5413680" y="161028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7" name="等腰三角形 20"/>
          <p:cNvSpPr/>
          <p:nvPr/>
        </p:nvSpPr>
        <p:spPr>
          <a:xfrm rot="16722600">
            <a:off x="5464800" y="181080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8" name="矩形 28"/>
          <p:cNvSpPr/>
          <p:nvPr/>
        </p:nvSpPr>
        <p:spPr>
          <a:xfrm>
            <a:off x="930960" y="3659400"/>
            <a:ext cx="2420280" cy="10767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9" name="文本框 29"/>
          <p:cNvSpPr/>
          <p:nvPr/>
        </p:nvSpPr>
        <p:spPr>
          <a:xfrm>
            <a:off x="794880" y="4114800"/>
            <a:ext cx="1918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假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30"/>
          <p:cNvSpPr/>
          <p:nvPr/>
        </p:nvSpPr>
        <p:spPr>
          <a:xfrm>
            <a:off x="2199600" y="3108240"/>
            <a:ext cx="11840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ffffff"/>
                </a:solidFill>
                <a:latin typeface="Britannic Bold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任意多边形 31"/>
          <p:cNvSpPr/>
          <p:nvPr/>
        </p:nvSpPr>
        <p:spPr>
          <a:xfrm flipV="1">
            <a:off x="5663880" y="2969640"/>
            <a:ext cx="4489200" cy="1741680"/>
          </a:xfrm>
          <a:custGeom>
            <a:avLst/>
            <a:gdLst>
              <a:gd name="textAreaLeft" fmla="*/ 0 w 4489200"/>
              <a:gd name="textAreaRight" fmla="*/ 4489560 w 4489200"/>
              <a:gd name="textAreaTop" fmla="*/ 360 h 1741680"/>
              <a:gd name="textAreaBottom" fmla="*/ 1742400 h 1741680"/>
            </a:gdLst>
            <a:ahLst/>
            <a:rect l="textAreaLeft" t="textAreaTop" r="textAreaRight" b="textAreaBottom"/>
            <a:pathLst>
              <a:path w="4489512" h="1741950">
                <a:moveTo>
                  <a:pt x="532371" y="870975"/>
                </a:moveTo>
                <a:cubicBezTo>
                  <a:pt x="705076" y="870975"/>
                  <a:pt x="845082" y="730970"/>
                  <a:pt x="845082" y="558264"/>
                </a:cubicBezTo>
                <a:cubicBezTo>
                  <a:pt x="845082" y="450324"/>
                  <a:pt x="790392" y="355156"/>
                  <a:pt x="707210" y="298960"/>
                </a:cubicBezTo>
                <a:lnTo>
                  <a:pt x="669912" y="278715"/>
                </a:lnTo>
                <a:lnTo>
                  <a:pt x="723516" y="0"/>
                </a:lnTo>
                <a:lnTo>
                  <a:pt x="340648" y="0"/>
                </a:lnTo>
                <a:lnTo>
                  <a:pt x="361037" y="55936"/>
                </a:lnTo>
                <a:lnTo>
                  <a:pt x="271488" y="88578"/>
                </a:lnTo>
                <a:lnTo>
                  <a:pt x="272360" y="90365"/>
                </a:lnTo>
                <a:lnTo>
                  <a:pt x="105752" y="148991"/>
                </a:lnTo>
                <a:lnTo>
                  <a:pt x="68588" y="162538"/>
                </a:lnTo>
                <a:lnTo>
                  <a:pt x="34525" y="182844"/>
                </a:lnTo>
                <a:cubicBezTo>
                  <a:pt x="4122" y="210521"/>
                  <a:pt x="-8495" y="254708"/>
                  <a:pt x="6011" y="295930"/>
                </a:cubicBezTo>
                <a:cubicBezTo>
                  <a:pt x="25351" y="350893"/>
                  <a:pt x="85585" y="379771"/>
                  <a:pt x="140548" y="360431"/>
                </a:cubicBezTo>
                <a:lnTo>
                  <a:pt x="389944" y="272673"/>
                </a:lnTo>
                <a:lnTo>
                  <a:pt x="391530" y="280506"/>
                </a:lnTo>
                <a:lnTo>
                  <a:pt x="357531" y="298960"/>
                </a:lnTo>
                <a:cubicBezTo>
                  <a:pt x="274349" y="355156"/>
                  <a:pt x="219660" y="450324"/>
                  <a:pt x="219660" y="558264"/>
                </a:cubicBezTo>
                <a:cubicBezTo>
                  <a:pt x="219660" y="730970"/>
                  <a:pt x="359665" y="870975"/>
                  <a:pt x="532371" y="870975"/>
                </a:cubicBezTo>
                <a:close/>
                <a:moveTo>
                  <a:pt x="1409813" y="986423"/>
                </a:moveTo>
                <a:cubicBezTo>
                  <a:pt x="1582518" y="986423"/>
                  <a:pt x="1722524" y="846418"/>
                  <a:pt x="1722524" y="673712"/>
                </a:cubicBezTo>
                <a:cubicBezTo>
                  <a:pt x="1722524" y="565772"/>
                  <a:pt x="1667834" y="470604"/>
                  <a:pt x="1584652" y="414408"/>
                </a:cubicBezTo>
                <a:lnTo>
                  <a:pt x="1547354" y="394163"/>
                </a:lnTo>
                <a:lnTo>
                  <a:pt x="1623161" y="0"/>
                </a:lnTo>
                <a:lnTo>
                  <a:pt x="1176007" y="0"/>
                </a:lnTo>
                <a:lnTo>
                  <a:pt x="1238479" y="171384"/>
                </a:lnTo>
                <a:lnTo>
                  <a:pt x="1148930" y="204026"/>
                </a:lnTo>
                <a:lnTo>
                  <a:pt x="1149802" y="205813"/>
                </a:lnTo>
                <a:lnTo>
                  <a:pt x="983194" y="264439"/>
                </a:lnTo>
                <a:lnTo>
                  <a:pt x="946030" y="277986"/>
                </a:lnTo>
                <a:lnTo>
                  <a:pt x="911967" y="298292"/>
                </a:lnTo>
                <a:cubicBezTo>
                  <a:pt x="881564" y="325969"/>
                  <a:pt x="868947" y="370156"/>
                  <a:pt x="883453" y="411378"/>
                </a:cubicBezTo>
                <a:cubicBezTo>
                  <a:pt x="902793" y="466341"/>
                  <a:pt x="963027" y="495219"/>
                  <a:pt x="1017990" y="475879"/>
                </a:cubicBezTo>
                <a:lnTo>
                  <a:pt x="1267386" y="388121"/>
                </a:lnTo>
                <a:lnTo>
                  <a:pt x="1268972" y="395954"/>
                </a:lnTo>
                <a:lnTo>
                  <a:pt x="1234973" y="414408"/>
                </a:lnTo>
                <a:cubicBezTo>
                  <a:pt x="1151791" y="470604"/>
                  <a:pt x="1097102" y="565772"/>
                  <a:pt x="1097102" y="673712"/>
                </a:cubicBezTo>
                <a:cubicBezTo>
                  <a:pt x="1097102" y="846418"/>
                  <a:pt x="1237107" y="986423"/>
                  <a:pt x="1409813" y="986423"/>
                </a:cubicBezTo>
                <a:close/>
                <a:moveTo>
                  <a:pt x="4176800" y="1268611"/>
                </a:moveTo>
                <a:cubicBezTo>
                  <a:pt x="4349505" y="1268611"/>
                  <a:pt x="4489512" y="1128606"/>
                  <a:pt x="4489512" y="955900"/>
                </a:cubicBezTo>
                <a:cubicBezTo>
                  <a:pt x="4489512" y="847960"/>
                  <a:pt x="4434821" y="752792"/>
                  <a:pt x="4351639" y="696596"/>
                </a:cubicBezTo>
                <a:lnTo>
                  <a:pt x="4314342" y="676351"/>
                </a:lnTo>
                <a:lnTo>
                  <a:pt x="4438651" y="29996"/>
                </a:lnTo>
                <a:lnTo>
                  <a:pt x="4332200" y="40276"/>
                </a:lnTo>
                <a:lnTo>
                  <a:pt x="4333096" y="0"/>
                </a:lnTo>
                <a:lnTo>
                  <a:pt x="4006158" y="0"/>
                </a:lnTo>
                <a:lnTo>
                  <a:pt x="3976247" y="74652"/>
                </a:lnTo>
                <a:lnTo>
                  <a:pt x="3914949" y="80573"/>
                </a:lnTo>
                <a:lnTo>
                  <a:pt x="3943931" y="223697"/>
                </a:lnTo>
                <a:lnTo>
                  <a:pt x="3922163" y="225040"/>
                </a:lnTo>
                <a:lnTo>
                  <a:pt x="4005467" y="453572"/>
                </a:lnTo>
                <a:lnTo>
                  <a:pt x="3915917" y="486214"/>
                </a:lnTo>
                <a:lnTo>
                  <a:pt x="3916789" y="488001"/>
                </a:lnTo>
                <a:lnTo>
                  <a:pt x="3750182" y="546627"/>
                </a:lnTo>
                <a:lnTo>
                  <a:pt x="3713017" y="560174"/>
                </a:lnTo>
                <a:lnTo>
                  <a:pt x="3678954" y="580480"/>
                </a:lnTo>
                <a:cubicBezTo>
                  <a:pt x="3648552" y="608157"/>
                  <a:pt x="3635934" y="652344"/>
                  <a:pt x="3650440" y="693566"/>
                </a:cubicBezTo>
                <a:cubicBezTo>
                  <a:pt x="3669781" y="748529"/>
                  <a:pt x="3730015" y="777407"/>
                  <a:pt x="3784978" y="758067"/>
                </a:cubicBezTo>
                <a:lnTo>
                  <a:pt x="4034373" y="670309"/>
                </a:lnTo>
                <a:lnTo>
                  <a:pt x="4035960" y="678142"/>
                </a:lnTo>
                <a:lnTo>
                  <a:pt x="4001961" y="696596"/>
                </a:lnTo>
                <a:cubicBezTo>
                  <a:pt x="3918778" y="752792"/>
                  <a:pt x="3864090" y="847960"/>
                  <a:pt x="3864090" y="955900"/>
                </a:cubicBezTo>
                <a:cubicBezTo>
                  <a:pt x="3864090" y="1128606"/>
                  <a:pt x="4004095" y="1268611"/>
                  <a:pt x="4176800" y="1268611"/>
                </a:cubicBezTo>
                <a:close/>
                <a:moveTo>
                  <a:pt x="2486636" y="1268611"/>
                </a:moveTo>
                <a:cubicBezTo>
                  <a:pt x="2659341" y="1268611"/>
                  <a:pt x="2799348" y="1128606"/>
                  <a:pt x="2799348" y="955900"/>
                </a:cubicBezTo>
                <a:cubicBezTo>
                  <a:pt x="2799348" y="847960"/>
                  <a:pt x="2744657" y="752792"/>
                  <a:pt x="2661475" y="696596"/>
                </a:cubicBezTo>
                <a:lnTo>
                  <a:pt x="2624178" y="676351"/>
                </a:lnTo>
                <a:lnTo>
                  <a:pt x="2748487" y="29996"/>
                </a:lnTo>
                <a:lnTo>
                  <a:pt x="2642036" y="40276"/>
                </a:lnTo>
                <a:lnTo>
                  <a:pt x="2642932" y="0"/>
                </a:lnTo>
                <a:lnTo>
                  <a:pt x="2315994" y="0"/>
                </a:lnTo>
                <a:lnTo>
                  <a:pt x="2286083" y="74652"/>
                </a:lnTo>
                <a:lnTo>
                  <a:pt x="2224785" y="80573"/>
                </a:lnTo>
                <a:lnTo>
                  <a:pt x="2253767" y="223697"/>
                </a:lnTo>
                <a:lnTo>
                  <a:pt x="2231999" y="225040"/>
                </a:lnTo>
                <a:lnTo>
                  <a:pt x="2315303" y="453572"/>
                </a:lnTo>
                <a:lnTo>
                  <a:pt x="2225754" y="486214"/>
                </a:lnTo>
                <a:lnTo>
                  <a:pt x="2226626" y="488001"/>
                </a:lnTo>
                <a:lnTo>
                  <a:pt x="2060018" y="546627"/>
                </a:lnTo>
                <a:lnTo>
                  <a:pt x="2022854" y="560174"/>
                </a:lnTo>
                <a:lnTo>
                  <a:pt x="1988791" y="580480"/>
                </a:lnTo>
                <a:cubicBezTo>
                  <a:pt x="1958388" y="608157"/>
                  <a:pt x="1945771" y="652344"/>
                  <a:pt x="1960277" y="693566"/>
                </a:cubicBezTo>
                <a:cubicBezTo>
                  <a:pt x="1979617" y="748529"/>
                  <a:pt x="2039851" y="777407"/>
                  <a:pt x="2094814" y="758067"/>
                </a:cubicBezTo>
                <a:lnTo>
                  <a:pt x="2344209" y="670309"/>
                </a:lnTo>
                <a:lnTo>
                  <a:pt x="2345796" y="678142"/>
                </a:lnTo>
                <a:lnTo>
                  <a:pt x="2311797" y="696596"/>
                </a:lnTo>
                <a:cubicBezTo>
                  <a:pt x="2228615" y="752792"/>
                  <a:pt x="2173926" y="847960"/>
                  <a:pt x="2173926" y="955900"/>
                </a:cubicBezTo>
                <a:cubicBezTo>
                  <a:pt x="2173926" y="1128606"/>
                  <a:pt x="2313931" y="1268611"/>
                  <a:pt x="2486636" y="1268611"/>
                </a:cubicBezTo>
                <a:close/>
                <a:moveTo>
                  <a:pt x="3331718" y="1741950"/>
                </a:moveTo>
                <a:cubicBezTo>
                  <a:pt x="3504423" y="1741950"/>
                  <a:pt x="3644430" y="1601945"/>
                  <a:pt x="3644430" y="1429239"/>
                </a:cubicBezTo>
                <a:cubicBezTo>
                  <a:pt x="3644430" y="1321299"/>
                  <a:pt x="3589739" y="1226131"/>
                  <a:pt x="3506557" y="1169935"/>
                </a:cubicBezTo>
                <a:lnTo>
                  <a:pt x="3469260" y="1149690"/>
                </a:lnTo>
                <a:lnTo>
                  <a:pt x="3593569" y="503335"/>
                </a:lnTo>
                <a:lnTo>
                  <a:pt x="3487118" y="513615"/>
                </a:lnTo>
                <a:lnTo>
                  <a:pt x="3498549" y="0"/>
                </a:lnTo>
                <a:lnTo>
                  <a:pt x="3273660" y="22383"/>
                </a:lnTo>
                <a:cubicBezTo>
                  <a:pt x="3257338" y="115312"/>
                  <a:pt x="3249968" y="199289"/>
                  <a:pt x="3233645" y="292218"/>
                </a:cubicBezTo>
                <a:lnTo>
                  <a:pt x="3131165" y="547991"/>
                </a:lnTo>
                <a:lnTo>
                  <a:pt x="3069867" y="553912"/>
                </a:lnTo>
                <a:lnTo>
                  <a:pt x="3098849" y="697036"/>
                </a:lnTo>
                <a:lnTo>
                  <a:pt x="3077081" y="698379"/>
                </a:lnTo>
                <a:lnTo>
                  <a:pt x="3160385" y="926911"/>
                </a:lnTo>
                <a:lnTo>
                  <a:pt x="3070835" y="959553"/>
                </a:lnTo>
                <a:lnTo>
                  <a:pt x="3071707" y="961340"/>
                </a:lnTo>
                <a:lnTo>
                  <a:pt x="2905100" y="1019966"/>
                </a:lnTo>
                <a:lnTo>
                  <a:pt x="2867935" y="1033513"/>
                </a:lnTo>
                <a:lnTo>
                  <a:pt x="2833872" y="1053819"/>
                </a:lnTo>
                <a:cubicBezTo>
                  <a:pt x="2803470" y="1081496"/>
                  <a:pt x="2790852" y="1125683"/>
                  <a:pt x="2805358" y="1166905"/>
                </a:cubicBezTo>
                <a:cubicBezTo>
                  <a:pt x="2824699" y="1221868"/>
                  <a:pt x="2884933" y="1250746"/>
                  <a:pt x="2939896" y="1231406"/>
                </a:cubicBezTo>
                <a:lnTo>
                  <a:pt x="3189291" y="1143648"/>
                </a:lnTo>
                <a:lnTo>
                  <a:pt x="3190878" y="1151481"/>
                </a:lnTo>
                <a:lnTo>
                  <a:pt x="3156879" y="1169935"/>
                </a:lnTo>
                <a:cubicBezTo>
                  <a:pt x="3073696" y="1226131"/>
                  <a:pt x="3019008" y="1321299"/>
                  <a:pt x="3019008" y="1429239"/>
                </a:cubicBezTo>
                <a:cubicBezTo>
                  <a:pt x="3019008" y="1601945"/>
                  <a:pt x="3159013" y="1741950"/>
                  <a:pt x="3331718" y="1741950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2" name="椭圆 3"/>
          <p:cNvSpPr/>
          <p:nvPr/>
        </p:nvSpPr>
        <p:spPr>
          <a:xfrm>
            <a:off x="3179880" y="1542240"/>
            <a:ext cx="1131840" cy="113184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3" name="梯形 4"/>
          <p:cNvSpPr/>
          <p:nvPr/>
        </p:nvSpPr>
        <p:spPr>
          <a:xfrm>
            <a:off x="3606840" y="2494080"/>
            <a:ext cx="813960" cy="1127880"/>
          </a:xfrm>
          <a:custGeom>
            <a:avLst/>
            <a:gdLst>
              <a:gd name="textAreaLeft" fmla="*/ 0 w 813960"/>
              <a:gd name="textAreaRight" fmla="*/ 814320 w 813960"/>
              <a:gd name="textAreaTop" fmla="*/ 0 h 1127880"/>
              <a:gd name="textAreaBottom" fmla="*/ 1128240 h 1127880"/>
            </a:gdLst>
            <a:ahLst/>
            <a:rect l="textAreaLeft" t="textAreaTop" r="textAreaRight" b="textAreaBottom"/>
            <a:pathLst>
              <a:path w="654214" h="1128180">
                <a:moveTo>
                  <a:pt x="8328" y="1099151"/>
                </a:moveTo>
                <a:lnTo>
                  <a:pt x="0" y="0"/>
                </a:lnTo>
                <a:lnTo>
                  <a:pt x="349238" y="46496"/>
                </a:lnTo>
                <a:lnTo>
                  <a:pt x="654214" y="1128180"/>
                </a:lnTo>
                <a:lnTo>
                  <a:pt x="8328" y="109915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4" name="圆角矩形 6"/>
          <p:cNvSpPr/>
          <p:nvPr/>
        </p:nvSpPr>
        <p:spPr>
          <a:xfrm rot="700200">
            <a:off x="3812400" y="2686680"/>
            <a:ext cx="1360800" cy="41400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5" name="椭圆 8"/>
          <p:cNvSpPr/>
          <p:nvPr/>
        </p:nvSpPr>
        <p:spPr>
          <a:xfrm>
            <a:off x="4228920" y="1937520"/>
            <a:ext cx="739800" cy="73980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6" name="梯形 10"/>
          <p:cNvSpPr/>
          <p:nvPr/>
        </p:nvSpPr>
        <p:spPr>
          <a:xfrm rot="20093400">
            <a:off x="4350960" y="2480400"/>
            <a:ext cx="654840" cy="1556640"/>
          </a:xfrm>
          <a:custGeom>
            <a:avLst/>
            <a:gdLst>
              <a:gd name="textAreaLeft" fmla="*/ 0 w 654840"/>
              <a:gd name="textAreaRight" fmla="*/ 655200 w 654840"/>
              <a:gd name="textAreaTop" fmla="*/ 0 h 1556640"/>
              <a:gd name="textAreaBottom" fmla="*/ 1557000 h 1556640"/>
            </a:gdLst>
            <a:ahLst/>
            <a:rect l="textAreaLeft" t="textAreaTop" r="textAreaRight" b="textAreaBottom"/>
            <a:pathLst>
              <a:path w="655125" h="1557005">
                <a:moveTo>
                  <a:pt x="0" y="1557005"/>
                </a:moveTo>
                <a:lnTo>
                  <a:pt x="221738" y="0"/>
                </a:lnTo>
                <a:lnTo>
                  <a:pt x="511319" y="33005"/>
                </a:lnTo>
                <a:lnTo>
                  <a:pt x="655125" y="1557005"/>
                </a:lnTo>
                <a:lnTo>
                  <a:pt x="0" y="1557005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7" name="圆角矩形 11"/>
          <p:cNvSpPr/>
          <p:nvPr/>
        </p:nvSpPr>
        <p:spPr>
          <a:xfrm rot="5178000">
            <a:off x="4262400" y="3827520"/>
            <a:ext cx="1267560" cy="471600"/>
          </a:xfrm>
          <a:custGeom>
            <a:avLst/>
            <a:gdLst>
              <a:gd name="textAreaLeft" fmla="*/ 0 w 1267560"/>
              <a:gd name="textAreaRight" fmla="*/ 1267920 w 12675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1268010" h="472009">
                <a:moveTo>
                  <a:pt x="0" y="116956"/>
                </a:moveTo>
                <a:lnTo>
                  <a:pt x="0" y="116956"/>
                </a:lnTo>
                <a:cubicBezTo>
                  <a:pt x="201759" y="118551"/>
                  <a:pt x="442453" y="-1580"/>
                  <a:pt x="644212" y="15"/>
                </a:cubicBezTo>
                <a:lnTo>
                  <a:pt x="1268010" y="116956"/>
                </a:lnTo>
                <a:lnTo>
                  <a:pt x="1268010" y="116956"/>
                </a:lnTo>
                <a:lnTo>
                  <a:pt x="1268010" y="471654"/>
                </a:lnTo>
                <a:lnTo>
                  <a:pt x="1268010" y="471654"/>
                </a:lnTo>
                <a:cubicBezTo>
                  <a:pt x="1085492" y="481746"/>
                  <a:pt x="886049" y="273314"/>
                  <a:pt x="703531" y="283406"/>
                </a:cubicBezTo>
                <a:lnTo>
                  <a:pt x="0" y="471654"/>
                </a:lnTo>
                <a:lnTo>
                  <a:pt x="0" y="471654"/>
                </a:lnTo>
                <a:lnTo>
                  <a:pt x="0" y="116956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8" name="梯形 12"/>
          <p:cNvSpPr/>
          <p:nvPr/>
        </p:nvSpPr>
        <p:spPr>
          <a:xfrm flipV="1">
            <a:off x="3617280" y="3489480"/>
            <a:ext cx="735120" cy="1189800"/>
          </a:xfrm>
          <a:custGeom>
            <a:avLst/>
            <a:gdLst>
              <a:gd name="textAreaLeft" fmla="*/ 0 w 735120"/>
              <a:gd name="textAreaRight" fmla="*/ 735480 w 735120"/>
              <a:gd name="textAreaTop" fmla="*/ -360 h 1189800"/>
              <a:gd name="textAreaBottom" fmla="*/ 1189800 h 1189800"/>
            </a:gdLst>
            <a:ahLst/>
            <a:rect l="textAreaLeft" t="textAreaTop" r="textAreaRight" b="textAreaBottom"/>
            <a:pathLst>
              <a:path w="528124" h="1190172">
                <a:moveTo>
                  <a:pt x="0" y="1190172"/>
                </a:moveTo>
                <a:cubicBezTo>
                  <a:pt x="10726" y="1009903"/>
                  <a:pt x="160937" y="783138"/>
                  <a:pt x="171663" y="602869"/>
                </a:cubicBezTo>
                <a:lnTo>
                  <a:pt x="129040" y="0"/>
                </a:lnTo>
                <a:lnTo>
                  <a:pt x="387119" y="0"/>
                </a:lnTo>
                <a:cubicBezTo>
                  <a:pt x="403124" y="206122"/>
                  <a:pt x="512119" y="427744"/>
                  <a:pt x="528124" y="633866"/>
                </a:cubicBezTo>
                <a:lnTo>
                  <a:pt x="516158" y="1190172"/>
                </a:lnTo>
                <a:lnTo>
                  <a:pt x="0" y="1190172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9" name="任意多边形 21"/>
          <p:cNvSpPr/>
          <p:nvPr/>
        </p:nvSpPr>
        <p:spPr>
          <a:xfrm flipH="1" rot="350400">
            <a:off x="4915440" y="2100240"/>
            <a:ext cx="273240" cy="813600"/>
          </a:xfrm>
          <a:custGeom>
            <a:avLst/>
            <a:gdLst>
              <a:gd name="textAreaLeft" fmla="*/ -360 w 273240"/>
              <a:gd name="textAreaRight" fmla="*/ 273240 w 273240"/>
              <a:gd name="textAreaTop" fmla="*/ 0 h 813600"/>
              <a:gd name="textAreaBottom" fmla="*/ 813960 h 813600"/>
            </a:gdLst>
            <a:ahLst/>
            <a:rect l="textAreaLeft" t="textAreaTop" r="textAreaRight" b="textAreaBottom"/>
            <a:pathLst>
              <a:path w="812800" h="2419521">
                <a:moveTo>
                  <a:pt x="191538" y="0"/>
                </a:moveTo>
                <a:lnTo>
                  <a:pt x="233026" y="8207"/>
                </a:lnTo>
                <a:cubicBezTo>
                  <a:pt x="454593" y="97177"/>
                  <a:pt x="621263" y="481876"/>
                  <a:pt x="621263" y="942963"/>
                </a:cubicBezTo>
                <a:lnTo>
                  <a:pt x="621251" y="943231"/>
                </a:lnTo>
                <a:lnTo>
                  <a:pt x="621263" y="943231"/>
                </a:lnTo>
                <a:lnTo>
                  <a:pt x="621263" y="1757474"/>
                </a:lnTo>
                <a:lnTo>
                  <a:pt x="812800" y="1757474"/>
                </a:lnTo>
                <a:lnTo>
                  <a:pt x="812800" y="1915885"/>
                </a:lnTo>
                <a:lnTo>
                  <a:pt x="621263" y="1915885"/>
                </a:lnTo>
                <a:lnTo>
                  <a:pt x="621263" y="1915886"/>
                </a:lnTo>
                <a:lnTo>
                  <a:pt x="543081" y="1915886"/>
                </a:lnTo>
                <a:lnTo>
                  <a:pt x="543081" y="2373960"/>
                </a:lnTo>
                <a:cubicBezTo>
                  <a:pt x="543081" y="2399123"/>
                  <a:pt x="522683" y="2419521"/>
                  <a:pt x="497520" y="2419521"/>
                </a:cubicBezTo>
                <a:lnTo>
                  <a:pt x="315279" y="2419521"/>
                </a:lnTo>
                <a:cubicBezTo>
                  <a:pt x="290116" y="2419521"/>
                  <a:pt x="269718" y="2399123"/>
                  <a:pt x="269718" y="2373960"/>
                </a:cubicBezTo>
                <a:lnTo>
                  <a:pt x="269718" y="1915886"/>
                </a:lnTo>
                <a:lnTo>
                  <a:pt x="191538" y="1915886"/>
                </a:lnTo>
                <a:lnTo>
                  <a:pt x="191538" y="1915885"/>
                </a:lnTo>
                <a:lnTo>
                  <a:pt x="0" y="1915885"/>
                </a:lnTo>
                <a:lnTo>
                  <a:pt x="0" y="1757474"/>
                </a:lnTo>
                <a:lnTo>
                  <a:pt x="191538" y="1757474"/>
                </a:lnTo>
                <a:lnTo>
                  <a:pt x="191538" y="94323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0" name="任意多边形 96"/>
          <p:cNvSpPr/>
          <p:nvPr/>
        </p:nvSpPr>
        <p:spPr>
          <a:xfrm flipH="1" flipV="1">
            <a:off x="10017360" y="2330280"/>
            <a:ext cx="1151280" cy="2373120"/>
          </a:xfrm>
          <a:custGeom>
            <a:avLst/>
            <a:gdLst>
              <a:gd name="textAreaLeft" fmla="*/ 360 w 1151280"/>
              <a:gd name="textAreaRight" fmla="*/ 1152000 w 1151280"/>
              <a:gd name="textAreaTop" fmla="*/ 360 h 2373120"/>
              <a:gd name="textAreaBottom" fmla="*/ 2373840 h 2373120"/>
            </a:gdLst>
            <a:ahLst/>
            <a:rect l="textAreaLeft" t="textAreaTop" r="textAreaRight" b="textAreaBottom"/>
            <a:pathLst>
              <a:path w="1096974" h="2261171">
                <a:moveTo>
                  <a:pt x="405921" y="2261171"/>
                </a:moveTo>
                <a:cubicBezTo>
                  <a:pt x="181738" y="2261171"/>
                  <a:pt x="0" y="2079434"/>
                  <a:pt x="0" y="1855251"/>
                </a:cubicBezTo>
                <a:cubicBezTo>
                  <a:pt x="0" y="1715137"/>
                  <a:pt x="70992" y="1591602"/>
                  <a:pt x="178968" y="1518656"/>
                </a:cubicBezTo>
                <a:lnTo>
                  <a:pt x="227383" y="1492376"/>
                </a:lnTo>
                <a:lnTo>
                  <a:pt x="66021" y="653363"/>
                </a:lnTo>
                <a:lnTo>
                  <a:pt x="204202" y="666707"/>
                </a:lnTo>
                <a:lnTo>
                  <a:pt x="189363" y="0"/>
                </a:lnTo>
                <a:lnTo>
                  <a:pt x="481285" y="29055"/>
                </a:lnTo>
                <a:cubicBezTo>
                  <a:pt x="502472" y="149683"/>
                  <a:pt x="512038" y="258691"/>
                  <a:pt x="533227" y="379319"/>
                </a:cubicBezTo>
                <a:lnTo>
                  <a:pt x="666253" y="711330"/>
                </a:lnTo>
                <a:lnTo>
                  <a:pt x="745822" y="719015"/>
                </a:lnTo>
                <a:lnTo>
                  <a:pt x="708201" y="904801"/>
                </a:lnTo>
                <a:lnTo>
                  <a:pt x="736458" y="906544"/>
                </a:lnTo>
                <a:lnTo>
                  <a:pt x="628324" y="1203194"/>
                </a:lnTo>
                <a:lnTo>
                  <a:pt x="744565" y="1245566"/>
                </a:lnTo>
                <a:lnTo>
                  <a:pt x="743433" y="1247885"/>
                </a:lnTo>
                <a:lnTo>
                  <a:pt x="959701" y="1323986"/>
                </a:lnTo>
                <a:lnTo>
                  <a:pt x="1007943" y="1341571"/>
                </a:lnTo>
                <a:lnTo>
                  <a:pt x="1052159" y="1367929"/>
                </a:lnTo>
                <a:cubicBezTo>
                  <a:pt x="1091624" y="1403856"/>
                  <a:pt x="1108002" y="1461214"/>
                  <a:pt x="1089172" y="1514723"/>
                </a:cubicBezTo>
                <a:cubicBezTo>
                  <a:pt x="1064067" y="1586069"/>
                  <a:pt x="985879" y="1623554"/>
                  <a:pt x="914533" y="1598449"/>
                </a:cubicBezTo>
                <a:lnTo>
                  <a:pt x="590801" y="1484533"/>
                </a:lnTo>
                <a:lnTo>
                  <a:pt x="588742" y="1494701"/>
                </a:lnTo>
                <a:lnTo>
                  <a:pt x="632875" y="1518656"/>
                </a:lnTo>
                <a:cubicBezTo>
                  <a:pt x="740851" y="1591602"/>
                  <a:pt x="811841" y="1715137"/>
                  <a:pt x="811841" y="1855251"/>
                </a:cubicBezTo>
                <a:cubicBezTo>
                  <a:pt x="811841" y="2079434"/>
                  <a:pt x="630104" y="2261171"/>
                  <a:pt x="405921" y="2261171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1" name="圆角矩形 1"/>
          <p:cNvSpPr/>
          <p:nvPr/>
        </p:nvSpPr>
        <p:spPr>
          <a:xfrm rot="1613400">
            <a:off x="4511160" y="3080160"/>
            <a:ext cx="1029960" cy="32616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2" name="任意多边形 24"/>
          <p:cNvSpPr/>
          <p:nvPr/>
        </p:nvSpPr>
        <p:spPr>
          <a:xfrm rot="20952000">
            <a:off x="5221440" y="3274920"/>
            <a:ext cx="564840" cy="525960"/>
          </a:xfrm>
          <a:custGeom>
            <a:avLst/>
            <a:gdLst>
              <a:gd name="textAreaLeft" fmla="*/ 0 w 564840"/>
              <a:gd name="textAreaRight" fmla="*/ 565200 w 564840"/>
              <a:gd name="textAreaTop" fmla="*/ 0 h 525960"/>
              <a:gd name="textAreaBottom" fmla="*/ 526320 h 525960"/>
            </a:gdLst>
            <a:ahLst/>
            <a:rect l="textAreaLeft" t="textAreaTop" r="textAreaRight" b="textAreaBottom"/>
            <a:pathLst>
              <a:path w="799631" h="744545">
                <a:moveTo>
                  <a:pt x="635280" y="46186"/>
                </a:moveTo>
                <a:cubicBezTo>
                  <a:pt x="682488" y="66154"/>
                  <a:pt x="715613" y="112899"/>
                  <a:pt x="715613" y="167381"/>
                </a:cubicBezTo>
                <a:lnTo>
                  <a:pt x="715612" y="167381"/>
                </a:lnTo>
                <a:cubicBezTo>
                  <a:pt x="715612" y="221863"/>
                  <a:pt x="682488" y="268608"/>
                  <a:pt x="635279" y="288576"/>
                </a:cubicBezTo>
                <a:lnTo>
                  <a:pt x="604903" y="294708"/>
                </a:lnTo>
                <a:lnTo>
                  <a:pt x="665664" y="363815"/>
                </a:lnTo>
                <a:cubicBezTo>
                  <a:pt x="696086" y="398415"/>
                  <a:pt x="692698" y="451126"/>
                  <a:pt x="658098" y="481547"/>
                </a:cubicBezTo>
                <a:lnTo>
                  <a:pt x="658098" y="481546"/>
                </a:lnTo>
                <a:lnTo>
                  <a:pt x="652953" y="484506"/>
                </a:lnTo>
                <a:lnTo>
                  <a:pt x="782776" y="632160"/>
                </a:lnTo>
                <a:cubicBezTo>
                  <a:pt x="807460" y="660236"/>
                  <a:pt x="804712" y="703005"/>
                  <a:pt x="776637" y="727690"/>
                </a:cubicBezTo>
                <a:cubicBezTo>
                  <a:pt x="748561" y="752375"/>
                  <a:pt x="705792" y="749626"/>
                  <a:pt x="681107" y="721551"/>
                </a:cubicBezTo>
                <a:lnTo>
                  <a:pt x="551587" y="574241"/>
                </a:lnTo>
                <a:lnTo>
                  <a:pt x="545505" y="597445"/>
                </a:lnTo>
                <a:cubicBezTo>
                  <a:pt x="540797" y="607205"/>
                  <a:pt x="534098" y="616204"/>
                  <a:pt x="525448" y="623809"/>
                </a:cubicBezTo>
                <a:lnTo>
                  <a:pt x="525447" y="623809"/>
                </a:lnTo>
                <a:cubicBezTo>
                  <a:pt x="490847" y="654230"/>
                  <a:pt x="438136" y="650843"/>
                  <a:pt x="407715" y="616243"/>
                </a:cubicBezTo>
                <a:lnTo>
                  <a:pt x="407413" y="615899"/>
                </a:lnTo>
                <a:lnTo>
                  <a:pt x="403284" y="631651"/>
                </a:lnTo>
                <a:cubicBezTo>
                  <a:pt x="399364" y="639778"/>
                  <a:pt x="393786" y="647270"/>
                  <a:pt x="386585" y="653602"/>
                </a:cubicBezTo>
                <a:cubicBezTo>
                  <a:pt x="357777" y="678931"/>
                  <a:pt x="313890" y="676110"/>
                  <a:pt x="288561" y="647303"/>
                </a:cubicBezTo>
                <a:lnTo>
                  <a:pt x="207299" y="554879"/>
                </a:lnTo>
                <a:lnTo>
                  <a:pt x="194003" y="551975"/>
                </a:lnTo>
                <a:cubicBezTo>
                  <a:pt x="148218" y="534824"/>
                  <a:pt x="106888" y="504286"/>
                  <a:pt x="76418" y="461444"/>
                </a:cubicBezTo>
                <a:lnTo>
                  <a:pt x="47001" y="420082"/>
                </a:lnTo>
                <a:cubicBezTo>
                  <a:pt x="-34252" y="305836"/>
                  <a:pt x="-7505" y="147355"/>
                  <a:pt x="106741" y="66102"/>
                </a:cubicBezTo>
                <a:lnTo>
                  <a:pt x="133598" y="47001"/>
                </a:lnTo>
                <a:cubicBezTo>
                  <a:pt x="219282" y="-13938"/>
                  <a:pt x="329850" y="-14128"/>
                  <a:pt x="414056" y="37783"/>
                </a:cubicBezTo>
                <a:lnTo>
                  <a:pt x="418740" y="41356"/>
                </a:lnTo>
                <a:lnTo>
                  <a:pt x="455156" y="35850"/>
                </a:lnTo>
                <a:lnTo>
                  <a:pt x="584082" y="35850"/>
                </a:lnTo>
                <a:cubicBezTo>
                  <a:pt x="602243" y="35850"/>
                  <a:pt x="619544" y="39531"/>
                  <a:pt x="635280" y="46186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3" name="任意多边形 26"/>
          <p:cNvSpPr/>
          <p:nvPr/>
        </p:nvSpPr>
        <p:spPr>
          <a:xfrm flipH="1" flipV="1">
            <a:off x="5643360" y="3824280"/>
            <a:ext cx="862560" cy="866160"/>
          </a:xfrm>
          <a:custGeom>
            <a:avLst/>
            <a:gdLst>
              <a:gd name="textAreaLeft" fmla="*/ 360 w 862560"/>
              <a:gd name="textAreaRight" fmla="*/ 863280 w 862560"/>
              <a:gd name="textAreaTop" fmla="*/ 360 h 866160"/>
              <a:gd name="textAreaBottom" fmla="*/ 866880 h 866160"/>
            </a:gdLst>
            <a:ahLst/>
            <a:rect l="textAreaLeft" t="textAreaTop" r="textAreaRight" b="textAreaBottom"/>
            <a:pathLst>
              <a:path w="1151519" h="1156393">
                <a:moveTo>
                  <a:pt x="426105" y="1156393"/>
                </a:moveTo>
                <a:cubicBezTo>
                  <a:pt x="190775" y="1156393"/>
                  <a:pt x="0" y="965620"/>
                  <a:pt x="0" y="730290"/>
                </a:cubicBezTo>
                <a:cubicBezTo>
                  <a:pt x="0" y="583209"/>
                  <a:pt x="74522" y="453531"/>
                  <a:pt x="187867" y="376958"/>
                </a:cubicBezTo>
                <a:lnTo>
                  <a:pt x="238689" y="349372"/>
                </a:lnTo>
                <a:lnTo>
                  <a:pt x="171497" y="0"/>
                </a:lnTo>
                <a:lnTo>
                  <a:pt x="676265" y="0"/>
                </a:lnTo>
                <a:lnTo>
                  <a:pt x="659566" y="45811"/>
                </a:lnTo>
                <a:lnTo>
                  <a:pt x="781587" y="90290"/>
                </a:lnTo>
                <a:lnTo>
                  <a:pt x="780399" y="92724"/>
                </a:lnTo>
                <a:lnTo>
                  <a:pt x="1007421" y="172609"/>
                </a:lnTo>
                <a:lnTo>
                  <a:pt x="1058061" y="191068"/>
                </a:lnTo>
                <a:lnTo>
                  <a:pt x="1104476" y="218737"/>
                </a:lnTo>
                <a:cubicBezTo>
                  <a:pt x="1145903" y="256450"/>
                  <a:pt x="1163096" y="316660"/>
                  <a:pt x="1143329" y="372830"/>
                </a:cubicBezTo>
                <a:cubicBezTo>
                  <a:pt x="1116976" y="447723"/>
                  <a:pt x="1034900" y="487072"/>
                  <a:pt x="960007" y="460719"/>
                </a:cubicBezTo>
                <a:lnTo>
                  <a:pt x="620178" y="341139"/>
                </a:lnTo>
                <a:lnTo>
                  <a:pt x="618016" y="351812"/>
                </a:lnTo>
                <a:lnTo>
                  <a:pt x="664344" y="376958"/>
                </a:lnTo>
                <a:cubicBezTo>
                  <a:pt x="777689" y="453531"/>
                  <a:pt x="852209" y="583209"/>
                  <a:pt x="852209" y="730290"/>
                </a:cubicBezTo>
                <a:cubicBezTo>
                  <a:pt x="852209" y="965620"/>
                  <a:pt x="661435" y="1156393"/>
                  <a:pt x="426105" y="1156393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4" name="等腰三角形 27"/>
          <p:cNvSpPr/>
          <p:nvPr/>
        </p:nvSpPr>
        <p:spPr>
          <a:xfrm rot="18532200">
            <a:off x="5464440" y="266400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5" name="等腰三角形 28"/>
          <p:cNvSpPr/>
          <p:nvPr/>
        </p:nvSpPr>
        <p:spPr>
          <a:xfrm rot="17885400">
            <a:off x="5443200" y="2643120"/>
            <a:ext cx="81360" cy="49860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6" name="等腰三角形 29"/>
          <p:cNvSpPr/>
          <p:nvPr/>
        </p:nvSpPr>
        <p:spPr>
          <a:xfrm rot="17281800">
            <a:off x="5556600" y="250848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7" name="文本框 30"/>
          <p:cNvSpPr/>
          <p:nvPr/>
        </p:nvSpPr>
        <p:spPr>
          <a:xfrm>
            <a:off x="5824440" y="2840040"/>
            <a:ext cx="2798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你来救我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90"/>
          <p:cNvSpPr/>
          <p:nvPr/>
        </p:nvSpPr>
        <p:spPr>
          <a:xfrm>
            <a:off x="837000" y="4635360"/>
            <a:ext cx="10331640" cy="1101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9" name="矩形 32"/>
          <p:cNvSpPr/>
          <p:nvPr/>
        </p:nvSpPr>
        <p:spPr>
          <a:xfrm>
            <a:off x="837000" y="3565440"/>
            <a:ext cx="2420280" cy="10767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0" name="文本框 33"/>
          <p:cNvSpPr/>
          <p:nvPr/>
        </p:nvSpPr>
        <p:spPr>
          <a:xfrm>
            <a:off x="700920" y="4021200"/>
            <a:ext cx="1918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假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34"/>
          <p:cNvSpPr/>
          <p:nvPr/>
        </p:nvSpPr>
        <p:spPr>
          <a:xfrm>
            <a:off x="2106360" y="3014280"/>
            <a:ext cx="11840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ffffff"/>
                </a:solidFill>
                <a:latin typeface="Britannic Bold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35"/>
          <p:cNvSpPr/>
          <p:nvPr/>
        </p:nvSpPr>
        <p:spPr>
          <a:xfrm>
            <a:off x="3306240" y="4860360"/>
            <a:ext cx="8158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这位女士对着一个人大喊“你来救我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文本框 3"/>
          <p:cNvSpPr/>
          <p:nvPr/>
        </p:nvSpPr>
        <p:spPr>
          <a:xfrm>
            <a:off x="3401280" y="2306520"/>
            <a:ext cx="54018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哪种情况</a:t>
            </a: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这位女士更容易得救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4"/>
          <p:cNvSpPr/>
          <p:nvPr/>
        </p:nvSpPr>
        <p:spPr>
          <a:xfrm>
            <a:off x="8354520" y="2395800"/>
            <a:ext cx="897840" cy="1473840"/>
          </a:xfrm>
          <a:prstGeom prst="rect">
            <a:avLst/>
          </a:prstGeom>
          <a:solidFill>
            <a:srgbClr val="cdcdc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5" name="矩形 5"/>
          <p:cNvSpPr/>
          <p:nvPr/>
        </p:nvSpPr>
        <p:spPr>
          <a:xfrm>
            <a:off x="8605800" y="239580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文本框 3"/>
          <p:cNvSpPr/>
          <p:nvPr/>
        </p:nvSpPr>
        <p:spPr>
          <a:xfrm>
            <a:off x="2588400" y="2271240"/>
            <a:ext cx="64926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请先思考再对照答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你才会有真正的收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6"/>
          <p:cNvSpPr/>
          <p:nvPr/>
        </p:nvSpPr>
        <p:spPr>
          <a:xfrm>
            <a:off x="8987400" y="2329920"/>
            <a:ext cx="897840" cy="1473840"/>
          </a:xfrm>
          <a:prstGeom prst="rect">
            <a:avLst/>
          </a:prstGeom>
          <a:solidFill>
            <a:srgbClr val="cdcdc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8" name="矩形 7"/>
          <p:cNvSpPr/>
          <p:nvPr/>
        </p:nvSpPr>
        <p:spPr>
          <a:xfrm>
            <a:off x="9238680" y="232992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文本框 3"/>
          <p:cNvSpPr/>
          <p:nvPr/>
        </p:nvSpPr>
        <p:spPr>
          <a:xfrm>
            <a:off x="3382560" y="2225520"/>
            <a:ext cx="5742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答案是</a:t>
            </a:r>
            <a:r>
              <a:rPr b="0" lang="zh-CN" sz="5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第二种情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其中的道理就在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4"/>
          <p:cNvSpPr/>
          <p:nvPr/>
        </p:nvSpPr>
        <p:spPr>
          <a:xfrm>
            <a:off x="3412440" y="3894120"/>
            <a:ext cx="5742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责任稀释定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1"/>
          <p:cNvGrpSpPr/>
          <p:nvPr/>
        </p:nvGrpSpPr>
        <p:grpSpPr>
          <a:xfrm>
            <a:off x="5416560" y="793800"/>
            <a:ext cx="3525120" cy="1397880"/>
            <a:chOff x="5416560" y="793800"/>
            <a:chExt cx="3525120" cy="1397880"/>
          </a:xfrm>
        </p:grpSpPr>
        <p:sp>
          <p:nvSpPr>
            <p:cNvPr id="332" name="任意多边形 5"/>
            <p:cNvSpPr/>
            <p:nvPr/>
          </p:nvSpPr>
          <p:spPr>
            <a:xfrm flipV="1">
              <a:off x="6512760" y="1423080"/>
              <a:ext cx="1980720" cy="768240"/>
            </a:xfrm>
            <a:custGeom>
              <a:avLst/>
              <a:gdLst>
                <a:gd name="textAreaLeft" fmla="*/ 0 w 1980720"/>
                <a:gd name="textAreaRight" fmla="*/ 1981080 w 1980720"/>
                <a:gd name="textAreaTop" fmla="*/ 360 h 768240"/>
                <a:gd name="textAreaBottom" fmla="*/ 768960 h 768240"/>
              </a:gdLst>
              <a:ahLst/>
              <a:rect l="textAreaLeft" t="textAreaTop" r="textAreaRight" b="textAreaBottom"/>
              <a:pathLst>
                <a:path w="4489512" h="1741950">
                  <a:moveTo>
                    <a:pt x="532371" y="870975"/>
                  </a:moveTo>
                  <a:cubicBezTo>
                    <a:pt x="705076" y="870975"/>
                    <a:pt x="845082" y="730970"/>
                    <a:pt x="845082" y="558264"/>
                  </a:cubicBezTo>
                  <a:cubicBezTo>
                    <a:pt x="845082" y="450324"/>
                    <a:pt x="790392" y="355156"/>
                    <a:pt x="707210" y="298960"/>
                  </a:cubicBezTo>
                  <a:lnTo>
                    <a:pt x="669912" y="278715"/>
                  </a:lnTo>
                  <a:lnTo>
                    <a:pt x="723516" y="0"/>
                  </a:lnTo>
                  <a:lnTo>
                    <a:pt x="340648" y="0"/>
                  </a:lnTo>
                  <a:lnTo>
                    <a:pt x="361037" y="55936"/>
                  </a:lnTo>
                  <a:lnTo>
                    <a:pt x="271488" y="88578"/>
                  </a:lnTo>
                  <a:lnTo>
                    <a:pt x="272360" y="90365"/>
                  </a:lnTo>
                  <a:lnTo>
                    <a:pt x="105752" y="148991"/>
                  </a:lnTo>
                  <a:lnTo>
                    <a:pt x="68588" y="162538"/>
                  </a:lnTo>
                  <a:lnTo>
                    <a:pt x="34525" y="182844"/>
                  </a:lnTo>
                  <a:cubicBezTo>
                    <a:pt x="4122" y="210521"/>
                    <a:pt x="-8495" y="254708"/>
                    <a:pt x="6011" y="295930"/>
                  </a:cubicBezTo>
                  <a:cubicBezTo>
                    <a:pt x="25351" y="350893"/>
                    <a:pt x="85585" y="379771"/>
                    <a:pt x="140548" y="360431"/>
                  </a:cubicBezTo>
                  <a:lnTo>
                    <a:pt x="389944" y="272673"/>
                  </a:lnTo>
                  <a:lnTo>
                    <a:pt x="391530" y="280506"/>
                  </a:lnTo>
                  <a:lnTo>
                    <a:pt x="357531" y="298960"/>
                  </a:lnTo>
                  <a:cubicBezTo>
                    <a:pt x="274349" y="355156"/>
                    <a:pt x="219660" y="450324"/>
                    <a:pt x="219660" y="558264"/>
                  </a:cubicBezTo>
                  <a:cubicBezTo>
                    <a:pt x="219660" y="730970"/>
                    <a:pt x="359665" y="870975"/>
                    <a:pt x="532371" y="870975"/>
                  </a:cubicBezTo>
                  <a:close/>
                  <a:moveTo>
                    <a:pt x="1409813" y="986423"/>
                  </a:moveTo>
                  <a:cubicBezTo>
                    <a:pt x="1582518" y="986423"/>
                    <a:pt x="1722524" y="846418"/>
                    <a:pt x="1722524" y="673712"/>
                  </a:cubicBezTo>
                  <a:cubicBezTo>
                    <a:pt x="1722524" y="565772"/>
                    <a:pt x="1667834" y="470604"/>
                    <a:pt x="1584652" y="414408"/>
                  </a:cubicBezTo>
                  <a:lnTo>
                    <a:pt x="1547354" y="394163"/>
                  </a:lnTo>
                  <a:lnTo>
                    <a:pt x="1623161" y="0"/>
                  </a:lnTo>
                  <a:lnTo>
                    <a:pt x="1176007" y="0"/>
                  </a:lnTo>
                  <a:lnTo>
                    <a:pt x="1238479" y="171384"/>
                  </a:lnTo>
                  <a:lnTo>
                    <a:pt x="1148930" y="204026"/>
                  </a:lnTo>
                  <a:lnTo>
                    <a:pt x="1149802" y="205813"/>
                  </a:lnTo>
                  <a:lnTo>
                    <a:pt x="983194" y="264439"/>
                  </a:lnTo>
                  <a:lnTo>
                    <a:pt x="946030" y="277986"/>
                  </a:lnTo>
                  <a:lnTo>
                    <a:pt x="911967" y="298292"/>
                  </a:lnTo>
                  <a:cubicBezTo>
                    <a:pt x="881564" y="325969"/>
                    <a:pt x="868947" y="370156"/>
                    <a:pt x="883453" y="411378"/>
                  </a:cubicBezTo>
                  <a:cubicBezTo>
                    <a:pt x="902793" y="466341"/>
                    <a:pt x="963027" y="495219"/>
                    <a:pt x="1017990" y="475879"/>
                  </a:cubicBezTo>
                  <a:lnTo>
                    <a:pt x="1267386" y="388121"/>
                  </a:lnTo>
                  <a:lnTo>
                    <a:pt x="1268972" y="395954"/>
                  </a:lnTo>
                  <a:lnTo>
                    <a:pt x="1234973" y="414408"/>
                  </a:lnTo>
                  <a:cubicBezTo>
                    <a:pt x="1151791" y="470604"/>
                    <a:pt x="1097102" y="565772"/>
                    <a:pt x="1097102" y="673712"/>
                  </a:cubicBezTo>
                  <a:cubicBezTo>
                    <a:pt x="1097102" y="846418"/>
                    <a:pt x="1237107" y="986423"/>
                    <a:pt x="1409813" y="986423"/>
                  </a:cubicBezTo>
                  <a:close/>
                  <a:moveTo>
                    <a:pt x="4176800" y="1268611"/>
                  </a:moveTo>
                  <a:cubicBezTo>
                    <a:pt x="4349505" y="1268611"/>
                    <a:pt x="4489512" y="1128606"/>
                    <a:pt x="4489512" y="955900"/>
                  </a:cubicBezTo>
                  <a:cubicBezTo>
                    <a:pt x="4489512" y="847960"/>
                    <a:pt x="4434821" y="752792"/>
                    <a:pt x="4351639" y="696596"/>
                  </a:cubicBezTo>
                  <a:lnTo>
                    <a:pt x="4314342" y="676351"/>
                  </a:lnTo>
                  <a:lnTo>
                    <a:pt x="4438651" y="29996"/>
                  </a:lnTo>
                  <a:lnTo>
                    <a:pt x="4332200" y="40276"/>
                  </a:lnTo>
                  <a:lnTo>
                    <a:pt x="4333096" y="0"/>
                  </a:lnTo>
                  <a:lnTo>
                    <a:pt x="4006158" y="0"/>
                  </a:lnTo>
                  <a:lnTo>
                    <a:pt x="3976247" y="74652"/>
                  </a:lnTo>
                  <a:lnTo>
                    <a:pt x="3914949" y="80573"/>
                  </a:lnTo>
                  <a:lnTo>
                    <a:pt x="3943931" y="223697"/>
                  </a:lnTo>
                  <a:lnTo>
                    <a:pt x="3922163" y="225040"/>
                  </a:lnTo>
                  <a:lnTo>
                    <a:pt x="4005467" y="453572"/>
                  </a:lnTo>
                  <a:lnTo>
                    <a:pt x="3915917" y="486214"/>
                  </a:lnTo>
                  <a:lnTo>
                    <a:pt x="3916789" y="488001"/>
                  </a:lnTo>
                  <a:lnTo>
                    <a:pt x="3750182" y="546627"/>
                  </a:lnTo>
                  <a:lnTo>
                    <a:pt x="3713017" y="560174"/>
                  </a:lnTo>
                  <a:lnTo>
                    <a:pt x="3678954" y="580480"/>
                  </a:lnTo>
                  <a:cubicBezTo>
                    <a:pt x="3648552" y="608157"/>
                    <a:pt x="3635934" y="652344"/>
                    <a:pt x="3650440" y="693566"/>
                  </a:cubicBezTo>
                  <a:cubicBezTo>
                    <a:pt x="3669781" y="748529"/>
                    <a:pt x="3730015" y="777407"/>
                    <a:pt x="3784978" y="758067"/>
                  </a:cubicBezTo>
                  <a:lnTo>
                    <a:pt x="4034373" y="670309"/>
                  </a:lnTo>
                  <a:lnTo>
                    <a:pt x="4035960" y="678142"/>
                  </a:lnTo>
                  <a:lnTo>
                    <a:pt x="4001961" y="696596"/>
                  </a:lnTo>
                  <a:cubicBezTo>
                    <a:pt x="3918778" y="752792"/>
                    <a:pt x="3864090" y="847960"/>
                    <a:pt x="3864090" y="955900"/>
                  </a:cubicBezTo>
                  <a:cubicBezTo>
                    <a:pt x="3864090" y="1128606"/>
                    <a:pt x="4004095" y="1268611"/>
                    <a:pt x="4176800" y="1268611"/>
                  </a:cubicBezTo>
                  <a:close/>
                  <a:moveTo>
                    <a:pt x="2486636" y="1268611"/>
                  </a:moveTo>
                  <a:cubicBezTo>
                    <a:pt x="2659341" y="1268611"/>
                    <a:pt x="2799348" y="1128606"/>
                    <a:pt x="2799348" y="955900"/>
                  </a:cubicBezTo>
                  <a:cubicBezTo>
                    <a:pt x="2799348" y="847960"/>
                    <a:pt x="2744657" y="752792"/>
                    <a:pt x="2661475" y="696596"/>
                  </a:cubicBezTo>
                  <a:lnTo>
                    <a:pt x="2624178" y="676351"/>
                  </a:lnTo>
                  <a:lnTo>
                    <a:pt x="2748487" y="29996"/>
                  </a:lnTo>
                  <a:lnTo>
                    <a:pt x="2642036" y="40276"/>
                  </a:lnTo>
                  <a:lnTo>
                    <a:pt x="2642932" y="0"/>
                  </a:lnTo>
                  <a:lnTo>
                    <a:pt x="2315994" y="0"/>
                  </a:lnTo>
                  <a:lnTo>
                    <a:pt x="2286083" y="74652"/>
                  </a:lnTo>
                  <a:lnTo>
                    <a:pt x="2224785" y="80573"/>
                  </a:lnTo>
                  <a:lnTo>
                    <a:pt x="2253767" y="223697"/>
                  </a:lnTo>
                  <a:lnTo>
                    <a:pt x="2231999" y="225040"/>
                  </a:lnTo>
                  <a:lnTo>
                    <a:pt x="2315303" y="453572"/>
                  </a:lnTo>
                  <a:lnTo>
                    <a:pt x="2225754" y="486214"/>
                  </a:lnTo>
                  <a:lnTo>
                    <a:pt x="2226626" y="488001"/>
                  </a:lnTo>
                  <a:lnTo>
                    <a:pt x="2060018" y="546627"/>
                  </a:lnTo>
                  <a:lnTo>
                    <a:pt x="2022854" y="560174"/>
                  </a:lnTo>
                  <a:lnTo>
                    <a:pt x="1988791" y="580480"/>
                  </a:lnTo>
                  <a:cubicBezTo>
                    <a:pt x="1958388" y="608157"/>
                    <a:pt x="1945771" y="652344"/>
                    <a:pt x="1960277" y="693566"/>
                  </a:cubicBezTo>
                  <a:cubicBezTo>
                    <a:pt x="1979617" y="748529"/>
                    <a:pt x="2039851" y="777407"/>
                    <a:pt x="2094814" y="758067"/>
                  </a:cubicBezTo>
                  <a:lnTo>
                    <a:pt x="2344209" y="670309"/>
                  </a:lnTo>
                  <a:lnTo>
                    <a:pt x="2345796" y="678142"/>
                  </a:lnTo>
                  <a:lnTo>
                    <a:pt x="2311797" y="696596"/>
                  </a:lnTo>
                  <a:cubicBezTo>
                    <a:pt x="2228615" y="752792"/>
                    <a:pt x="2173926" y="847960"/>
                    <a:pt x="2173926" y="955900"/>
                  </a:cubicBezTo>
                  <a:cubicBezTo>
                    <a:pt x="2173926" y="1128606"/>
                    <a:pt x="2313931" y="1268611"/>
                    <a:pt x="2486636" y="1268611"/>
                  </a:cubicBezTo>
                  <a:close/>
                  <a:moveTo>
                    <a:pt x="3331718" y="1741950"/>
                  </a:moveTo>
                  <a:cubicBezTo>
                    <a:pt x="3504423" y="1741950"/>
                    <a:pt x="3644430" y="1601945"/>
                    <a:pt x="3644430" y="1429239"/>
                  </a:cubicBezTo>
                  <a:cubicBezTo>
                    <a:pt x="3644430" y="1321299"/>
                    <a:pt x="3589739" y="1226131"/>
                    <a:pt x="3506557" y="1169935"/>
                  </a:cubicBezTo>
                  <a:lnTo>
                    <a:pt x="3469260" y="1149690"/>
                  </a:lnTo>
                  <a:lnTo>
                    <a:pt x="3593569" y="503335"/>
                  </a:lnTo>
                  <a:lnTo>
                    <a:pt x="3487118" y="513615"/>
                  </a:lnTo>
                  <a:lnTo>
                    <a:pt x="3498549" y="0"/>
                  </a:lnTo>
                  <a:lnTo>
                    <a:pt x="3273660" y="22383"/>
                  </a:lnTo>
                  <a:cubicBezTo>
                    <a:pt x="3257338" y="115312"/>
                    <a:pt x="3249968" y="199289"/>
                    <a:pt x="3233645" y="292218"/>
                  </a:cubicBezTo>
                  <a:lnTo>
                    <a:pt x="3131165" y="547991"/>
                  </a:lnTo>
                  <a:lnTo>
                    <a:pt x="3069867" y="553912"/>
                  </a:lnTo>
                  <a:lnTo>
                    <a:pt x="3098849" y="697036"/>
                  </a:lnTo>
                  <a:lnTo>
                    <a:pt x="3077081" y="698379"/>
                  </a:lnTo>
                  <a:lnTo>
                    <a:pt x="3160385" y="926911"/>
                  </a:lnTo>
                  <a:lnTo>
                    <a:pt x="3070835" y="959553"/>
                  </a:lnTo>
                  <a:lnTo>
                    <a:pt x="3071707" y="961340"/>
                  </a:lnTo>
                  <a:lnTo>
                    <a:pt x="2905100" y="1019966"/>
                  </a:lnTo>
                  <a:lnTo>
                    <a:pt x="2867935" y="1033513"/>
                  </a:lnTo>
                  <a:lnTo>
                    <a:pt x="2833872" y="1053819"/>
                  </a:lnTo>
                  <a:cubicBezTo>
                    <a:pt x="2803470" y="1081496"/>
                    <a:pt x="2790852" y="1125683"/>
                    <a:pt x="2805358" y="1166905"/>
                  </a:cubicBezTo>
                  <a:cubicBezTo>
                    <a:pt x="2824699" y="1221868"/>
                    <a:pt x="2884933" y="1250746"/>
                    <a:pt x="2939896" y="1231406"/>
                  </a:cubicBezTo>
                  <a:lnTo>
                    <a:pt x="3189291" y="1143648"/>
                  </a:lnTo>
                  <a:lnTo>
                    <a:pt x="3190878" y="1151481"/>
                  </a:lnTo>
                  <a:lnTo>
                    <a:pt x="3156879" y="1169935"/>
                  </a:lnTo>
                  <a:cubicBezTo>
                    <a:pt x="3073696" y="1226131"/>
                    <a:pt x="3019008" y="1321299"/>
                    <a:pt x="3019008" y="1429239"/>
                  </a:cubicBezTo>
                  <a:cubicBezTo>
                    <a:pt x="3019008" y="1601945"/>
                    <a:pt x="3159013" y="1741950"/>
                    <a:pt x="3331718" y="1741950"/>
                  </a:cubicBezTo>
                  <a:close/>
                </a:path>
              </a:pathLst>
            </a:cu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3" name="椭圆 6"/>
            <p:cNvSpPr/>
            <p:nvPr/>
          </p:nvSpPr>
          <p:spPr>
            <a:xfrm>
              <a:off x="5416560" y="793800"/>
              <a:ext cx="499320" cy="499320"/>
            </a:xfrm>
            <a:prstGeom prst="ellipse">
              <a:avLst/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4" name="梯形 4"/>
            <p:cNvSpPr/>
            <p:nvPr/>
          </p:nvSpPr>
          <p:spPr>
            <a:xfrm>
              <a:off x="5604840" y="1213920"/>
              <a:ext cx="358920" cy="497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497520"/>
                <a:gd name="textAreaBottom" fmla="*/ 497880 h 497520"/>
              </a:gdLst>
              <a:ahLst/>
              <a:rect l="textAreaLeft" t="textAreaTop" r="textAreaRight" b="textAreaBottom"/>
              <a:pathLst>
                <a:path w="654214" h="1128180">
                  <a:moveTo>
                    <a:pt x="8328" y="1099151"/>
                  </a:moveTo>
                  <a:lnTo>
                    <a:pt x="0" y="0"/>
                  </a:lnTo>
                  <a:lnTo>
                    <a:pt x="349238" y="46496"/>
                  </a:lnTo>
                  <a:lnTo>
                    <a:pt x="654214" y="1128180"/>
                  </a:lnTo>
                  <a:lnTo>
                    <a:pt x="8328" y="1099151"/>
                  </a:lnTo>
                  <a:close/>
                </a:path>
              </a:pathLst>
            </a:cu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5" name="圆角矩形 8"/>
            <p:cNvSpPr/>
            <p:nvPr/>
          </p:nvSpPr>
          <p:spPr>
            <a:xfrm rot="700200">
              <a:off x="5695560" y="1298520"/>
              <a:ext cx="600120" cy="182520"/>
            </a:xfrm>
            <a:prstGeom prst="roundRect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6" name="椭圆 9"/>
            <p:cNvSpPr/>
            <p:nvPr/>
          </p:nvSpPr>
          <p:spPr>
            <a:xfrm>
              <a:off x="5879520" y="968040"/>
              <a:ext cx="326160" cy="326160"/>
            </a:xfrm>
            <a:prstGeom prst="ellipse">
              <a:avLst/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7" name="梯形 10"/>
            <p:cNvSpPr/>
            <p:nvPr/>
          </p:nvSpPr>
          <p:spPr>
            <a:xfrm rot="20093400">
              <a:off x="5933160" y="1207440"/>
              <a:ext cx="288720" cy="6868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686880"/>
                <a:gd name="textAreaBottom" fmla="*/ 687240 h 686880"/>
              </a:gdLst>
              <a:ahLst/>
              <a:rect l="textAreaLeft" t="textAreaTop" r="textAreaRight" b="textAreaBottom"/>
              <a:pathLst>
                <a:path w="655125" h="1557005">
                  <a:moveTo>
                    <a:pt x="0" y="1557005"/>
                  </a:moveTo>
                  <a:lnTo>
                    <a:pt x="221738" y="0"/>
                  </a:lnTo>
                  <a:lnTo>
                    <a:pt x="511319" y="33005"/>
                  </a:lnTo>
                  <a:lnTo>
                    <a:pt x="655125" y="1557005"/>
                  </a:lnTo>
                  <a:lnTo>
                    <a:pt x="0" y="1557005"/>
                  </a:lnTo>
                  <a:close/>
                </a:path>
              </a:pathLst>
            </a:cu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8" name="圆角矩形 11"/>
            <p:cNvSpPr/>
            <p:nvPr/>
          </p:nvSpPr>
          <p:spPr>
            <a:xfrm rot="5178000">
              <a:off x="5894280" y="1801800"/>
              <a:ext cx="559080" cy="20808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268010" h="472009">
                  <a:moveTo>
                    <a:pt x="0" y="116956"/>
                  </a:moveTo>
                  <a:lnTo>
                    <a:pt x="0" y="116956"/>
                  </a:lnTo>
                  <a:cubicBezTo>
                    <a:pt x="201759" y="118551"/>
                    <a:pt x="442453" y="-1580"/>
                    <a:pt x="644212" y="15"/>
                  </a:cubicBezTo>
                  <a:lnTo>
                    <a:pt x="1268010" y="116956"/>
                  </a:lnTo>
                  <a:lnTo>
                    <a:pt x="1268010" y="116956"/>
                  </a:lnTo>
                  <a:lnTo>
                    <a:pt x="1268010" y="471654"/>
                  </a:lnTo>
                  <a:lnTo>
                    <a:pt x="1268010" y="471654"/>
                  </a:lnTo>
                  <a:cubicBezTo>
                    <a:pt x="1085492" y="481746"/>
                    <a:pt x="886049" y="273314"/>
                    <a:pt x="703531" y="283406"/>
                  </a:cubicBezTo>
                  <a:lnTo>
                    <a:pt x="0" y="471654"/>
                  </a:lnTo>
                  <a:lnTo>
                    <a:pt x="0" y="471654"/>
                  </a:lnTo>
                  <a:lnTo>
                    <a:pt x="0" y="116956"/>
                  </a:lnTo>
                  <a:close/>
                </a:path>
              </a:pathLst>
            </a:cu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9" name="梯形 12"/>
            <p:cNvSpPr/>
            <p:nvPr/>
          </p:nvSpPr>
          <p:spPr>
            <a:xfrm flipV="1">
              <a:off x="5609520" y="1653480"/>
              <a:ext cx="324360" cy="52488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360 h 524880"/>
                <a:gd name="textAreaBottom" fmla="*/ 525600 h 524880"/>
              </a:gdLst>
              <a:ahLst/>
              <a:rect l="textAreaLeft" t="textAreaTop" r="textAreaRight" b="textAreaBottom"/>
              <a:pathLst>
                <a:path w="528124" h="1190172">
                  <a:moveTo>
                    <a:pt x="0" y="1190172"/>
                  </a:moveTo>
                  <a:cubicBezTo>
                    <a:pt x="10726" y="1009903"/>
                    <a:pt x="160937" y="783138"/>
                    <a:pt x="171663" y="602869"/>
                  </a:cubicBezTo>
                  <a:lnTo>
                    <a:pt x="129040" y="0"/>
                  </a:lnTo>
                  <a:lnTo>
                    <a:pt x="387119" y="0"/>
                  </a:lnTo>
                  <a:cubicBezTo>
                    <a:pt x="403124" y="206122"/>
                    <a:pt x="512119" y="427744"/>
                    <a:pt x="528124" y="633866"/>
                  </a:cubicBezTo>
                  <a:lnTo>
                    <a:pt x="516158" y="1190172"/>
                  </a:lnTo>
                  <a:lnTo>
                    <a:pt x="0" y="1190172"/>
                  </a:lnTo>
                  <a:close/>
                </a:path>
              </a:pathLst>
            </a:cu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0" name="任意多边形 13"/>
            <p:cNvSpPr/>
            <p:nvPr/>
          </p:nvSpPr>
          <p:spPr>
            <a:xfrm flipH="1" rot="350400">
              <a:off x="6182280" y="1040040"/>
              <a:ext cx="120240" cy="358920"/>
            </a:xfrm>
            <a:custGeom>
              <a:avLst/>
              <a:gdLst>
                <a:gd name="textAreaLeft" fmla="*/ 360 w 120240"/>
                <a:gd name="textAreaRight" fmla="*/ 120960 w 12024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812800" h="2419521">
                  <a:moveTo>
                    <a:pt x="191538" y="0"/>
                  </a:moveTo>
                  <a:lnTo>
                    <a:pt x="233026" y="8207"/>
                  </a:lnTo>
                  <a:cubicBezTo>
                    <a:pt x="454593" y="97177"/>
                    <a:pt x="621263" y="481876"/>
                    <a:pt x="621263" y="942963"/>
                  </a:cubicBezTo>
                  <a:lnTo>
                    <a:pt x="621251" y="943231"/>
                  </a:lnTo>
                  <a:lnTo>
                    <a:pt x="621263" y="943231"/>
                  </a:lnTo>
                  <a:lnTo>
                    <a:pt x="621263" y="1757474"/>
                  </a:lnTo>
                  <a:lnTo>
                    <a:pt x="812800" y="1757474"/>
                  </a:lnTo>
                  <a:lnTo>
                    <a:pt x="812800" y="1915885"/>
                  </a:lnTo>
                  <a:lnTo>
                    <a:pt x="621263" y="1915885"/>
                  </a:lnTo>
                  <a:lnTo>
                    <a:pt x="621263" y="1915886"/>
                  </a:lnTo>
                  <a:lnTo>
                    <a:pt x="543081" y="1915886"/>
                  </a:lnTo>
                  <a:lnTo>
                    <a:pt x="543081" y="2373960"/>
                  </a:lnTo>
                  <a:cubicBezTo>
                    <a:pt x="543081" y="2399123"/>
                    <a:pt x="522683" y="2419521"/>
                    <a:pt x="497520" y="2419521"/>
                  </a:cubicBezTo>
                  <a:lnTo>
                    <a:pt x="315279" y="2419521"/>
                  </a:lnTo>
                  <a:cubicBezTo>
                    <a:pt x="290116" y="2419521"/>
                    <a:pt x="269718" y="2399123"/>
                    <a:pt x="269718" y="2373960"/>
                  </a:cubicBezTo>
                  <a:lnTo>
                    <a:pt x="269718" y="1915886"/>
                  </a:lnTo>
                  <a:lnTo>
                    <a:pt x="191538" y="1915886"/>
                  </a:lnTo>
                  <a:lnTo>
                    <a:pt x="191538" y="1915885"/>
                  </a:lnTo>
                  <a:lnTo>
                    <a:pt x="0" y="1915885"/>
                  </a:lnTo>
                  <a:lnTo>
                    <a:pt x="0" y="1757474"/>
                  </a:lnTo>
                  <a:lnTo>
                    <a:pt x="191538" y="1757474"/>
                  </a:lnTo>
                  <a:lnTo>
                    <a:pt x="191538" y="943231"/>
                  </a:lnTo>
                  <a:close/>
                </a:path>
              </a:pathLst>
            </a:cu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1" name="任意多边形 14"/>
            <p:cNvSpPr/>
            <p:nvPr/>
          </p:nvSpPr>
          <p:spPr>
            <a:xfrm flipH="1" flipV="1">
              <a:off x="8433360" y="1140840"/>
              <a:ext cx="507960" cy="1047240"/>
            </a:xfrm>
            <a:custGeom>
              <a:avLst/>
              <a:gdLst>
                <a:gd name="textAreaLeft" fmla="*/ -360 w 507960"/>
                <a:gd name="textAreaRight" fmla="*/ 507960 w 507960"/>
                <a:gd name="textAreaTop" fmla="*/ -360 h 1047240"/>
                <a:gd name="textAreaBottom" fmla="*/ 1047240 h 1047240"/>
              </a:gdLst>
              <a:ahLst/>
              <a:rect l="textAreaLeft" t="textAreaTop" r="textAreaRight" b="textAreaBottom"/>
              <a:pathLst>
                <a:path w="1096974" h="2261171">
                  <a:moveTo>
                    <a:pt x="405921" y="2261171"/>
                  </a:moveTo>
                  <a:cubicBezTo>
                    <a:pt x="181738" y="2261171"/>
                    <a:pt x="0" y="2079434"/>
                    <a:pt x="0" y="1855251"/>
                  </a:cubicBezTo>
                  <a:cubicBezTo>
                    <a:pt x="0" y="1715137"/>
                    <a:pt x="70992" y="1591602"/>
                    <a:pt x="178968" y="1518656"/>
                  </a:cubicBezTo>
                  <a:lnTo>
                    <a:pt x="227383" y="1492376"/>
                  </a:lnTo>
                  <a:lnTo>
                    <a:pt x="66021" y="653363"/>
                  </a:lnTo>
                  <a:lnTo>
                    <a:pt x="204202" y="666707"/>
                  </a:lnTo>
                  <a:lnTo>
                    <a:pt x="189363" y="0"/>
                  </a:lnTo>
                  <a:lnTo>
                    <a:pt x="481285" y="29055"/>
                  </a:lnTo>
                  <a:cubicBezTo>
                    <a:pt x="502472" y="149683"/>
                    <a:pt x="512038" y="258691"/>
                    <a:pt x="533227" y="379319"/>
                  </a:cubicBezTo>
                  <a:lnTo>
                    <a:pt x="666253" y="711330"/>
                  </a:lnTo>
                  <a:lnTo>
                    <a:pt x="745822" y="719015"/>
                  </a:lnTo>
                  <a:lnTo>
                    <a:pt x="708201" y="904801"/>
                  </a:lnTo>
                  <a:lnTo>
                    <a:pt x="736458" y="906544"/>
                  </a:lnTo>
                  <a:lnTo>
                    <a:pt x="628324" y="1203194"/>
                  </a:lnTo>
                  <a:lnTo>
                    <a:pt x="744565" y="1245566"/>
                  </a:lnTo>
                  <a:lnTo>
                    <a:pt x="743433" y="1247885"/>
                  </a:lnTo>
                  <a:lnTo>
                    <a:pt x="959701" y="1323986"/>
                  </a:lnTo>
                  <a:lnTo>
                    <a:pt x="1007943" y="1341571"/>
                  </a:lnTo>
                  <a:lnTo>
                    <a:pt x="1052159" y="1367929"/>
                  </a:lnTo>
                  <a:cubicBezTo>
                    <a:pt x="1091624" y="1403856"/>
                    <a:pt x="1108002" y="1461214"/>
                    <a:pt x="1089172" y="1514723"/>
                  </a:cubicBezTo>
                  <a:cubicBezTo>
                    <a:pt x="1064067" y="1586069"/>
                    <a:pt x="985879" y="1623554"/>
                    <a:pt x="914533" y="1598449"/>
                  </a:cubicBezTo>
                  <a:lnTo>
                    <a:pt x="590801" y="1484533"/>
                  </a:lnTo>
                  <a:lnTo>
                    <a:pt x="588742" y="1494701"/>
                  </a:lnTo>
                  <a:lnTo>
                    <a:pt x="632875" y="1518656"/>
                  </a:lnTo>
                  <a:cubicBezTo>
                    <a:pt x="740851" y="1591602"/>
                    <a:pt x="811841" y="1715137"/>
                    <a:pt x="811841" y="1855251"/>
                  </a:cubicBezTo>
                  <a:cubicBezTo>
                    <a:pt x="811841" y="2079434"/>
                    <a:pt x="630104" y="2261171"/>
                    <a:pt x="405921" y="2261171"/>
                  </a:cubicBezTo>
                  <a:close/>
                </a:path>
              </a:pathLst>
            </a:cu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2" name="圆角矩形 15"/>
            <p:cNvSpPr/>
            <p:nvPr/>
          </p:nvSpPr>
          <p:spPr>
            <a:xfrm rot="1613400">
              <a:off x="6004080" y="1472040"/>
              <a:ext cx="454320" cy="143640"/>
            </a:xfrm>
            <a:prstGeom prst="roundRect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3" name="任意多边形 16"/>
            <p:cNvSpPr/>
            <p:nvPr/>
          </p:nvSpPr>
          <p:spPr>
            <a:xfrm rot="20952000">
              <a:off x="6317640" y="1558080"/>
              <a:ext cx="249120" cy="2318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799631" h="744545">
                  <a:moveTo>
                    <a:pt x="635280" y="46186"/>
                  </a:moveTo>
                  <a:cubicBezTo>
                    <a:pt x="682488" y="66154"/>
                    <a:pt x="715613" y="112899"/>
                    <a:pt x="715613" y="167381"/>
                  </a:cubicBezTo>
                  <a:lnTo>
                    <a:pt x="715612" y="167381"/>
                  </a:lnTo>
                  <a:cubicBezTo>
                    <a:pt x="715612" y="221863"/>
                    <a:pt x="682488" y="268608"/>
                    <a:pt x="635279" y="288576"/>
                  </a:cubicBezTo>
                  <a:lnTo>
                    <a:pt x="604903" y="294708"/>
                  </a:lnTo>
                  <a:lnTo>
                    <a:pt x="665664" y="363815"/>
                  </a:lnTo>
                  <a:cubicBezTo>
                    <a:pt x="696086" y="398415"/>
                    <a:pt x="692698" y="451126"/>
                    <a:pt x="658098" y="481547"/>
                  </a:cubicBezTo>
                  <a:lnTo>
                    <a:pt x="658098" y="481546"/>
                  </a:lnTo>
                  <a:lnTo>
                    <a:pt x="652953" y="484506"/>
                  </a:lnTo>
                  <a:lnTo>
                    <a:pt x="782776" y="632160"/>
                  </a:lnTo>
                  <a:cubicBezTo>
                    <a:pt x="807460" y="660236"/>
                    <a:pt x="804712" y="703005"/>
                    <a:pt x="776637" y="727690"/>
                  </a:cubicBezTo>
                  <a:cubicBezTo>
                    <a:pt x="748561" y="752375"/>
                    <a:pt x="705792" y="749626"/>
                    <a:pt x="681107" y="721551"/>
                  </a:cubicBezTo>
                  <a:lnTo>
                    <a:pt x="551587" y="574241"/>
                  </a:lnTo>
                  <a:lnTo>
                    <a:pt x="545505" y="597445"/>
                  </a:lnTo>
                  <a:cubicBezTo>
                    <a:pt x="540797" y="607205"/>
                    <a:pt x="534098" y="616204"/>
                    <a:pt x="525448" y="623809"/>
                  </a:cubicBezTo>
                  <a:lnTo>
                    <a:pt x="525447" y="623809"/>
                  </a:lnTo>
                  <a:cubicBezTo>
                    <a:pt x="490847" y="654230"/>
                    <a:pt x="438136" y="650843"/>
                    <a:pt x="407715" y="616243"/>
                  </a:cubicBezTo>
                  <a:lnTo>
                    <a:pt x="407413" y="615899"/>
                  </a:lnTo>
                  <a:lnTo>
                    <a:pt x="403284" y="631651"/>
                  </a:lnTo>
                  <a:cubicBezTo>
                    <a:pt x="399364" y="639778"/>
                    <a:pt x="393786" y="647270"/>
                    <a:pt x="386585" y="653602"/>
                  </a:cubicBezTo>
                  <a:cubicBezTo>
                    <a:pt x="357777" y="678931"/>
                    <a:pt x="313890" y="676110"/>
                    <a:pt x="288561" y="647303"/>
                  </a:cubicBezTo>
                  <a:lnTo>
                    <a:pt x="207299" y="554879"/>
                  </a:lnTo>
                  <a:lnTo>
                    <a:pt x="194003" y="551975"/>
                  </a:lnTo>
                  <a:cubicBezTo>
                    <a:pt x="148218" y="534824"/>
                    <a:pt x="106888" y="504286"/>
                    <a:pt x="76418" y="461444"/>
                  </a:cubicBezTo>
                  <a:lnTo>
                    <a:pt x="47001" y="420082"/>
                  </a:lnTo>
                  <a:cubicBezTo>
                    <a:pt x="-34252" y="305836"/>
                    <a:pt x="-7505" y="147355"/>
                    <a:pt x="106741" y="66102"/>
                  </a:cubicBezTo>
                  <a:lnTo>
                    <a:pt x="133598" y="47001"/>
                  </a:lnTo>
                  <a:cubicBezTo>
                    <a:pt x="219282" y="-13938"/>
                    <a:pt x="329850" y="-14128"/>
                    <a:pt x="414056" y="37783"/>
                  </a:cubicBezTo>
                  <a:lnTo>
                    <a:pt x="418740" y="41356"/>
                  </a:lnTo>
                  <a:lnTo>
                    <a:pt x="455156" y="35850"/>
                  </a:lnTo>
                  <a:lnTo>
                    <a:pt x="584082" y="35850"/>
                  </a:lnTo>
                  <a:cubicBezTo>
                    <a:pt x="602243" y="35850"/>
                    <a:pt x="619544" y="39531"/>
                    <a:pt x="635280" y="46186"/>
                  </a:cubicBezTo>
                  <a:close/>
                </a:path>
              </a:pathLst>
            </a:cu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4" name="任意多边形 17"/>
            <p:cNvSpPr/>
            <p:nvPr/>
          </p:nvSpPr>
          <p:spPr>
            <a:xfrm flipH="1" flipV="1">
              <a:off x="6503040" y="1800000"/>
              <a:ext cx="380520" cy="381960"/>
            </a:xfrm>
            <a:custGeom>
              <a:avLst/>
              <a:gdLst>
                <a:gd name="textAreaLeft" fmla="*/ -360 w 380520"/>
                <a:gd name="textAreaRight" fmla="*/ 380520 w 380520"/>
                <a:gd name="textAreaTop" fmla="*/ -360 h 381960"/>
                <a:gd name="textAreaBottom" fmla="*/ 381960 h 381960"/>
              </a:gdLst>
              <a:ahLst/>
              <a:rect l="textAreaLeft" t="textAreaTop" r="textAreaRight" b="textAreaBottom"/>
              <a:pathLst>
                <a:path w="1151519" h="1156393">
                  <a:moveTo>
                    <a:pt x="426105" y="1156393"/>
                  </a:moveTo>
                  <a:cubicBezTo>
                    <a:pt x="190775" y="1156393"/>
                    <a:pt x="0" y="965620"/>
                    <a:pt x="0" y="730290"/>
                  </a:cubicBezTo>
                  <a:cubicBezTo>
                    <a:pt x="0" y="583209"/>
                    <a:pt x="74522" y="453531"/>
                    <a:pt x="187867" y="376958"/>
                  </a:cubicBezTo>
                  <a:lnTo>
                    <a:pt x="238689" y="349372"/>
                  </a:lnTo>
                  <a:lnTo>
                    <a:pt x="171497" y="0"/>
                  </a:lnTo>
                  <a:lnTo>
                    <a:pt x="676265" y="0"/>
                  </a:lnTo>
                  <a:lnTo>
                    <a:pt x="659566" y="45811"/>
                  </a:lnTo>
                  <a:lnTo>
                    <a:pt x="781587" y="90290"/>
                  </a:lnTo>
                  <a:lnTo>
                    <a:pt x="780399" y="92724"/>
                  </a:lnTo>
                  <a:lnTo>
                    <a:pt x="1007421" y="172609"/>
                  </a:lnTo>
                  <a:lnTo>
                    <a:pt x="1058061" y="191068"/>
                  </a:lnTo>
                  <a:lnTo>
                    <a:pt x="1104476" y="218737"/>
                  </a:lnTo>
                  <a:cubicBezTo>
                    <a:pt x="1145903" y="256450"/>
                    <a:pt x="1163096" y="316660"/>
                    <a:pt x="1143329" y="372830"/>
                  </a:cubicBezTo>
                  <a:cubicBezTo>
                    <a:pt x="1116976" y="447723"/>
                    <a:pt x="1034900" y="487072"/>
                    <a:pt x="960007" y="460719"/>
                  </a:cubicBezTo>
                  <a:lnTo>
                    <a:pt x="620178" y="341139"/>
                  </a:lnTo>
                  <a:lnTo>
                    <a:pt x="618016" y="351812"/>
                  </a:lnTo>
                  <a:lnTo>
                    <a:pt x="664344" y="376958"/>
                  </a:lnTo>
                  <a:cubicBezTo>
                    <a:pt x="777689" y="453531"/>
                    <a:pt x="852209" y="583209"/>
                    <a:pt x="852209" y="730290"/>
                  </a:cubicBezTo>
                  <a:cubicBezTo>
                    <a:pt x="852209" y="965620"/>
                    <a:pt x="661435" y="1156393"/>
                    <a:pt x="426105" y="1156393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5" name="等腰三角形 18"/>
            <p:cNvSpPr/>
            <p:nvPr/>
          </p:nvSpPr>
          <p:spPr>
            <a:xfrm rot="18532200">
              <a:off x="6424560" y="1288800"/>
              <a:ext cx="35640" cy="315360"/>
            </a:xfrm>
            <a:prstGeom prst="triangle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6" name="等腰三角形 19"/>
            <p:cNvSpPr/>
            <p:nvPr/>
          </p:nvSpPr>
          <p:spPr>
            <a:xfrm rot="17885400">
              <a:off x="6414840" y="1279440"/>
              <a:ext cx="35640" cy="219600"/>
            </a:xfrm>
            <a:prstGeom prst="triangle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7" name="等腰三角形 20"/>
            <p:cNvSpPr/>
            <p:nvPr/>
          </p:nvSpPr>
          <p:spPr>
            <a:xfrm rot="17281800">
              <a:off x="6465240" y="1220040"/>
              <a:ext cx="35640" cy="315360"/>
            </a:xfrm>
            <a:prstGeom prst="triangle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48" name="矩形 2"/>
          <p:cNvSpPr/>
          <p:nvPr/>
        </p:nvSpPr>
        <p:spPr>
          <a:xfrm>
            <a:off x="5616360" y="2158920"/>
            <a:ext cx="3336840" cy="121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云形标注 115"/>
          <p:cNvSpPr/>
          <p:nvPr/>
        </p:nvSpPr>
        <p:spPr>
          <a:xfrm>
            <a:off x="6087600" y="316440"/>
            <a:ext cx="1478520" cy="509400"/>
          </a:xfrm>
          <a:prstGeom prst="cloudCallout">
            <a:avLst>
              <a:gd name="adj1" fmla="val -8588"/>
              <a:gd name="adj2" fmla="val 15137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梯形 93"/>
          <p:cNvSpPr/>
          <p:nvPr/>
        </p:nvSpPr>
        <p:spPr>
          <a:xfrm>
            <a:off x="7132320" y="0"/>
            <a:ext cx="2340360" cy="6857640"/>
          </a:xfrm>
          <a:prstGeom prst="trapezoid">
            <a:avLst>
              <a:gd name="adj" fmla="val 25000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矩形 96"/>
          <p:cNvSpPr/>
          <p:nvPr/>
        </p:nvSpPr>
        <p:spPr>
          <a:xfrm>
            <a:off x="7754040" y="4334760"/>
            <a:ext cx="368280" cy="5389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矩形 97"/>
          <p:cNvSpPr/>
          <p:nvPr/>
        </p:nvSpPr>
        <p:spPr>
          <a:xfrm>
            <a:off x="8467200" y="4334760"/>
            <a:ext cx="368280" cy="5389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矩形 98"/>
          <p:cNvSpPr/>
          <p:nvPr/>
        </p:nvSpPr>
        <p:spPr>
          <a:xfrm>
            <a:off x="7827120" y="3608640"/>
            <a:ext cx="323640" cy="46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矩形 99"/>
          <p:cNvSpPr/>
          <p:nvPr/>
        </p:nvSpPr>
        <p:spPr>
          <a:xfrm>
            <a:off x="8394120" y="3608640"/>
            <a:ext cx="323640" cy="46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矩形 100"/>
          <p:cNvSpPr/>
          <p:nvPr/>
        </p:nvSpPr>
        <p:spPr>
          <a:xfrm>
            <a:off x="7900560" y="2954880"/>
            <a:ext cx="251640" cy="39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矩形 101"/>
          <p:cNvSpPr/>
          <p:nvPr/>
        </p:nvSpPr>
        <p:spPr>
          <a:xfrm>
            <a:off x="8321040" y="2954880"/>
            <a:ext cx="251640" cy="39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矩形 102"/>
          <p:cNvSpPr/>
          <p:nvPr/>
        </p:nvSpPr>
        <p:spPr>
          <a:xfrm>
            <a:off x="7987320" y="2337120"/>
            <a:ext cx="215640" cy="35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矩形 103"/>
          <p:cNvSpPr/>
          <p:nvPr/>
        </p:nvSpPr>
        <p:spPr>
          <a:xfrm>
            <a:off x="8407800" y="2337120"/>
            <a:ext cx="215640" cy="35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矩形 104"/>
          <p:cNvSpPr/>
          <p:nvPr/>
        </p:nvSpPr>
        <p:spPr>
          <a:xfrm>
            <a:off x="8042040" y="1755360"/>
            <a:ext cx="179640" cy="323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矩形 105"/>
          <p:cNvSpPr/>
          <p:nvPr/>
        </p:nvSpPr>
        <p:spPr>
          <a:xfrm>
            <a:off x="8407800" y="1755360"/>
            <a:ext cx="179640" cy="323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矩形 106"/>
          <p:cNvSpPr/>
          <p:nvPr/>
        </p:nvSpPr>
        <p:spPr>
          <a:xfrm>
            <a:off x="8045640" y="1209600"/>
            <a:ext cx="143640" cy="28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矩形 107"/>
          <p:cNvSpPr/>
          <p:nvPr/>
        </p:nvSpPr>
        <p:spPr>
          <a:xfrm>
            <a:off x="8411400" y="1209600"/>
            <a:ext cx="143640" cy="28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矩形 108"/>
          <p:cNvSpPr/>
          <p:nvPr/>
        </p:nvSpPr>
        <p:spPr>
          <a:xfrm>
            <a:off x="8064000" y="699840"/>
            <a:ext cx="107640" cy="25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矩形 109"/>
          <p:cNvSpPr/>
          <p:nvPr/>
        </p:nvSpPr>
        <p:spPr>
          <a:xfrm>
            <a:off x="8374680" y="699840"/>
            <a:ext cx="107640" cy="25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矩形 110"/>
          <p:cNvSpPr/>
          <p:nvPr/>
        </p:nvSpPr>
        <p:spPr>
          <a:xfrm>
            <a:off x="8118720" y="226080"/>
            <a:ext cx="71640" cy="21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矩形 111"/>
          <p:cNvSpPr/>
          <p:nvPr/>
        </p:nvSpPr>
        <p:spPr>
          <a:xfrm>
            <a:off x="8393040" y="226080"/>
            <a:ext cx="71640" cy="21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矩形 36"/>
          <p:cNvSpPr/>
          <p:nvPr/>
        </p:nvSpPr>
        <p:spPr>
          <a:xfrm>
            <a:off x="8176680" y="5832360"/>
            <a:ext cx="577080" cy="10429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任意多边形 89"/>
          <p:cNvSpPr/>
          <p:nvPr/>
        </p:nvSpPr>
        <p:spPr>
          <a:xfrm rot="13002600">
            <a:off x="5981760" y="5482080"/>
            <a:ext cx="2685600" cy="1303560"/>
          </a:xfrm>
          <a:custGeom>
            <a:avLst/>
            <a:gdLst>
              <a:gd name="textAreaLeft" fmla="*/ 0 w 2685600"/>
              <a:gd name="textAreaRight" fmla="*/ 2685960 w 2685600"/>
              <a:gd name="textAreaTop" fmla="*/ 0 h 1303560"/>
              <a:gd name="textAreaBottom" fmla="*/ 1303920 h 1303560"/>
            </a:gdLst>
            <a:ahLst/>
            <a:rect l="textAreaLeft" t="textAreaTop" r="textAreaRight" b="textAreaBottom"/>
            <a:pathLst>
              <a:path w="6961798" h="2304645">
                <a:moveTo>
                  <a:pt x="6168845" y="1917545"/>
                </a:moveTo>
                <a:cubicBezTo>
                  <a:pt x="5974383" y="2037472"/>
                  <a:pt x="5693481" y="2052882"/>
                  <a:pt x="5475711" y="1955619"/>
                </a:cubicBezTo>
                <a:cubicBezTo>
                  <a:pt x="5405283" y="2122684"/>
                  <a:pt x="5216698" y="2250396"/>
                  <a:pt x="4980383" y="2291083"/>
                </a:cubicBezTo>
                <a:cubicBezTo>
                  <a:pt x="4701914" y="2339021"/>
                  <a:pt x="4411284" y="2257328"/>
                  <a:pt x="4252086" y="2086317"/>
                </a:cubicBezTo>
                <a:cubicBezTo>
                  <a:pt x="3876335" y="2248636"/>
                  <a:pt x="3388303" y="2157398"/>
                  <a:pt x="3170229" y="1884004"/>
                </a:cubicBezTo>
                <a:cubicBezTo>
                  <a:pt x="2956006" y="1901975"/>
                  <a:pt x="2754855" y="1806791"/>
                  <a:pt x="2694561" y="1658869"/>
                </a:cubicBezTo>
                <a:lnTo>
                  <a:pt x="2681539" y="1598627"/>
                </a:lnTo>
                <a:lnTo>
                  <a:pt x="2628612" y="1557240"/>
                </a:lnTo>
                <a:cubicBezTo>
                  <a:pt x="2424785" y="1645291"/>
                  <a:pt x="2167664" y="1612992"/>
                  <a:pt x="2015999" y="1489996"/>
                </a:cubicBezTo>
                <a:lnTo>
                  <a:pt x="1999092" y="1473060"/>
                </a:lnTo>
                <a:lnTo>
                  <a:pt x="1968633" y="1523255"/>
                </a:lnTo>
                <a:cubicBezTo>
                  <a:pt x="1929009" y="1570775"/>
                  <a:pt x="1865499" y="1605643"/>
                  <a:pt x="1790653" y="1619031"/>
                </a:cubicBezTo>
                <a:cubicBezTo>
                  <a:pt x="1673053" y="1640065"/>
                  <a:pt x="1550318" y="1604221"/>
                  <a:pt x="1483088" y="1529188"/>
                </a:cubicBezTo>
                <a:cubicBezTo>
                  <a:pt x="1324408" y="1600407"/>
                  <a:pt x="1118310" y="1560376"/>
                  <a:pt x="1026216" y="1440421"/>
                </a:cubicBezTo>
                <a:lnTo>
                  <a:pt x="964133" y="1437616"/>
                </a:lnTo>
                <a:lnTo>
                  <a:pt x="943512" y="1456422"/>
                </a:lnTo>
                <a:cubicBezTo>
                  <a:pt x="926719" y="1468238"/>
                  <a:pt x="905854" y="1476830"/>
                  <a:pt x="882644" y="1480981"/>
                </a:cubicBezTo>
                <a:cubicBezTo>
                  <a:pt x="827946" y="1490765"/>
                  <a:pt x="770857" y="1474092"/>
                  <a:pt x="739587" y="1439192"/>
                </a:cubicBezTo>
                <a:cubicBezTo>
                  <a:pt x="665779" y="1472319"/>
                  <a:pt x="569915" y="1453699"/>
                  <a:pt x="527079" y="1397903"/>
                </a:cubicBezTo>
                <a:cubicBezTo>
                  <a:pt x="506041" y="1399737"/>
                  <a:pt x="485642" y="1395797"/>
                  <a:pt x="469024" y="1387626"/>
                </a:cubicBezTo>
                <a:lnTo>
                  <a:pt x="458309" y="1376824"/>
                </a:lnTo>
                <a:lnTo>
                  <a:pt x="438822" y="1383609"/>
                </a:lnTo>
                <a:cubicBezTo>
                  <a:pt x="438671" y="1398136"/>
                  <a:pt x="430080" y="1411913"/>
                  <a:pt x="415276" y="1421396"/>
                </a:cubicBezTo>
                <a:cubicBezTo>
                  <a:pt x="392785" y="1435808"/>
                  <a:pt x="360295" y="1437660"/>
                  <a:pt x="335108" y="1425972"/>
                </a:cubicBezTo>
                <a:cubicBezTo>
                  <a:pt x="326963" y="1446048"/>
                  <a:pt x="305151" y="1461394"/>
                  <a:pt x="277818" y="1466284"/>
                </a:cubicBezTo>
                <a:cubicBezTo>
                  <a:pt x="245609" y="1472044"/>
                  <a:pt x="211995" y="1462227"/>
                  <a:pt x="193582" y="1441677"/>
                </a:cubicBezTo>
                <a:cubicBezTo>
                  <a:pt x="150122" y="1461183"/>
                  <a:pt x="93676" y="1450219"/>
                  <a:pt x="68453" y="1417366"/>
                </a:cubicBezTo>
                <a:cubicBezTo>
                  <a:pt x="43677" y="1419525"/>
                  <a:pt x="20411" y="1408087"/>
                  <a:pt x="13437" y="1390311"/>
                </a:cubicBezTo>
                <a:cubicBezTo>
                  <a:pt x="8385" y="1377451"/>
                  <a:pt x="12851" y="1363571"/>
                  <a:pt x="25192" y="1353793"/>
                </a:cubicBezTo>
                <a:cubicBezTo>
                  <a:pt x="7682" y="1346123"/>
                  <a:pt x="-2069" y="1331404"/>
                  <a:pt x="370" y="1316326"/>
                </a:cubicBezTo>
                <a:cubicBezTo>
                  <a:pt x="3228" y="1298672"/>
                  <a:pt x="22052" y="1284844"/>
                  <a:pt x="45703" y="1283024"/>
                </a:cubicBezTo>
                <a:lnTo>
                  <a:pt x="46138" y="1282146"/>
                </a:lnTo>
                <a:cubicBezTo>
                  <a:pt x="42961" y="1264762"/>
                  <a:pt x="50368" y="1247230"/>
                  <a:pt x="66332" y="1234324"/>
                </a:cubicBezTo>
                <a:cubicBezTo>
                  <a:pt x="91554" y="1213941"/>
                  <a:pt x="132447" y="1209398"/>
                  <a:pt x="164573" y="1223399"/>
                </a:cubicBezTo>
                <a:lnTo>
                  <a:pt x="164595" y="1223381"/>
                </a:lnTo>
                <a:lnTo>
                  <a:pt x="184134" y="1206948"/>
                </a:lnTo>
                <a:cubicBezTo>
                  <a:pt x="207765" y="1194769"/>
                  <a:pt x="241279" y="1195669"/>
                  <a:pt x="263625" y="1212057"/>
                </a:cubicBezTo>
                <a:lnTo>
                  <a:pt x="263977" y="1211748"/>
                </a:lnTo>
                <a:lnTo>
                  <a:pt x="279495" y="1198157"/>
                </a:lnTo>
                <a:cubicBezTo>
                  <a:pt x="286122" y="1194600"/>
                  <a:pt x="293892" y="1192225"/>
                  <a:pt x="302220" y="1191347"/>
                </a:cubicBezTo>
                <a:cubicBezTo>
                  <a:pt x="311385" y="1190379"/>
                  <a:pt x="320545" y="1191292"/>
                  <a:pt x="328817" y="1193818"/>
                </a:cubicBezTo>
                <a:lnTo>
                  <a:pt x="349471" y="1205611"/>
                </a:lnTo>
                <a:lnTo>
                  <a:pt x="350087" y="1205963"/>
                </a:lnTo>
                <a:cubicBezTo>
                  <a:pt x="366284" y="1191776"/>
                  <a:pt x="393077" y="1187117"/>
                  <a:pt x="416073" y="1194486"/>
                </a:cubicBezTo>
                <a:lnTo>
                  <a:pt x="425267" y="1199714"/>
                </a:lnTo>
                <a:lnTo>
                  <a:pt x="436705" y="1187945"/>
                </a:lnTo>
                <a:cubicBezTo>
                  <a:pt x="450325" y="1177940"/>
                  <a:pt x="468360" y="1171296"/>
                  <a:pt x="488443" y="1169750"/>
                </a:cubicBezTo>
                <a:lnTo>
                  <a:pt x="489180" y="1168259"/>
                </a:lnTo>
                <a:cubicBezTo>
                  <a:pt x="483786" y="1138735"/>
                  <a:pt x="496366" y="1108960"/>
                  <a:pt x="523476" y="1087043"/>
                </a:cubicBezTo>
                <a:cubicBezTo>
                  <a:pt x="566312" y="1052425"/>
                  <a:pt x="635761" y="1044710"/>
                  <a:pt x="690321" y="1068488"/>
                </a:cubicBezTo>
                <a:lnTo>
                  <a:pt x="690359" y="1068457"/>
                </a:lnTo>
                <a:lnTo>
                  <a:pt x="723539" y="1040550"/>
                </a:lnTo>
                <a:cubicBezTo>
                  <a:pt x="743607" y="1030208"/>
                  <a:pt x="767870" y="1025419"/>
                  <a:pt x="791859" y="1026694"/>
                </a:cubicBezTo>
                <a:lnTo>
                  <a:pt x="795127" y="1027798"/>
                </a:lnTo>
                <a:lnTo>
                  <a:pt x="795749" y="1026245"/>
                </a:lnTo>
                <a:cubicBezTo>
                  <a:pt x="823531" y="984540"/>
                  <a:pt x="878382" y="954893"/>
                  <a:pt x="943152" y="949910"/>
                </a:cubicBezTo>
                <a:lnTo>
                  <a:pt x="944736" y="946705"/>
                </a:lnTo>
                <a:cubicBezTo>
                  <a:pt x="933138" y="883229"/>
                  <a:pt x="960184" y="819216"/>
                  <a:pt x="1018470" y="772095"/>
                </a:cubicBezTo>
                <a:cubicBezTo>
                  <a:pt x="1110563" y="697670"/>
                  <a:pt x="1259873" y="681082"/>
                  <a:pt x="1377172" y="732204"/>
                </a:cubicBezTo>
                <a:lnTo>
                  <a:pt x="1377242" y="732130"/>
                </a:lnTo>
                <a:lnTo>
                  <a:pt x="1408807" y="698315"/>
                </a:lnTo>
                <a:cubicBezTo>
                  <a:pt x="1492954" y="628145"/>
                  <a:pt x="1643642" y="620982"/>
                  <a:pt x="1738828" y="690792"/>
                </a:cubicBezTo>
                <a:lnTo>
                  <a:pt x="1740116" y="689663"/>
                </a:lnTo>
                <a:lnTo>
                  <a:pt x="1796771" y="640042"/>
                </a:lnTo>
                <a:cubicBezTo>
                  <a:pt x="1808872" y="633548"/>
                  <a:pt x="1822015" y="628132"/>
                  <a:pt x="1835934" y="623939"/>
                </a:cubicBezTo>
                <a:lnTo>
                  <a:pt x="1848654" y="621395"/>
                </a:lnTo>
                <a:lnTo>
                  <a:pt x="1853956" y="602200"/>
                </a:lnTo>
                <a:cubicBezTo>
                  <a:pt x="1872449" y="560055"/>
                  <a:pt x="1903766" y="520798"/>
                  <a:pt x="1946548" y="487509"/>
                </a:cubicBezTo>
                <a:cubicBezTo>
                  <a:pt x="2081742" y="382351"/>
                  <a:pt x="2300930" y="358912"/>
                  <a:pt x="2473126" y="431144"/>
                </a:cubicBezTo>
                <a:lnTo>
                  <a:pt x="2473227" y="431040"/>
                </a:lnTo>
                <a:lnTo>
                  <a:pt x="2519566" y="383260"/>
                </a:lnTo>
                <a:cubicBezTo>
                  <a:pt x="2643096" y="284114"/>
                  <a:pt x="2864307" y="273994"/>
                  <a:pt x="3004040" y="372631"/>
                </a:cubicBezTo>
                <a:lnTo>
                  <a:pt x="3006408" y="370067"/>
                </a:lnTo>
                <a:lnTo>
                  <a:pt x="3040798" y="332818"/>
                </a:lnTo>
                <a:cubicBezTo>
                  <a:pt x="3083722" y="296761"/>
                  <a:pt x="3143962" y="272581"/>
                  <a:pt x="3210913" y="265787"/>
                </a:cubicBezTo>
                <a:lnTo>
                  <a:pt x="3312571" y="270057"/>
                </a:lnTo>
                <a:lnTo>
                  <a:pt x="3337545" y="258643"/>
                </a:lnTo>
                <a:cubicBezTo>
                  <a:pt x="3542003" y="181910"/>
                  <a:pt x="3792960" y="182490"/>
                  <a:pt x="4001281" y="269876"/>
                </a:cubicBezTo>
                <a:lnTo>
                  <a:pt x="4001444" y="269708"/>
                </a:lnTo>
                <a:lnTo>
                  <a:pt x="4076188" y="192636"/>
                </a:lnTo>
                <a:cubicBezTo>
                  <a:pt x="4275447" y="32709"/>
                  <a:pt x="4632271" y="16385"/>
                  <a:pt x="4857666" y="175491"/>
                </a:cubicBezTo>
                <a:lnTo>
                  <a:pt x="4861486" y="171354"/>
                </a:lnTo>
                <a:lnTo>
                  <a:pt x="4916960" y="111271"/>
                </a:lnTo>
                <a:cubicBezTo>
                  <a:pt x="4986197" y="53109"/>
                  <a:pt x="5083365" y="14105"/>
                  <a:pt x="5191364" y="3147"/>
                </a:cubicBezTo>
                <a:cubicBezTo>
                  <a:pt x="5310230" y="-8931"/>
                  <a:pt x="5428983" y="14205"/>
                  <a:pt x="5521885" y="65019"/>
                </a:cubicBezTo>
                <a:lnTo>
                  <a:pt x="5600366" y="121301"/>
                </a:lnTo>
                <a:lnTo>
                  <a:pt x="5605217" y="124780"/>
                </a:lnTo>
                <a:cubicBezTo>
                  <a:pt x="5692746" y="50992"/>
                  <a:pt x="5816059" y="8179"/>
                  <a:pt x="5944774" y="1416"/>
                </a:cubicBezTo>
                <a:cubicBezTo>
                  <a:pt x="6022004" y="-2641"/>
                  <a:pt x="6101179" y="6280"/>
                  <a:pt x="6175736" y="29276"/>
                </a:cubicBezTo>
                <a:cubicBezTo>
                  <a:pt x="6327232" y="75988"/>
                  <a:pt x="6435864" y="173785"/>
                  <a:pt x="6465049" y="289819"/>
                </a:cubicBezTo>
                <a:lnTo>
                  <a:pt x="6466623" y="290284"/>
                </a:lnTo>
                <a:lnTo>
                  <a:pt x="6588956" y="326374"/>
                </a:lnTo>
                <a:cubicBezTo>
                  <a:pt x="6704707" y="373311"/>
                  <a:pt x="6793781" y="449899"/>
                  <a:pt x="6836342" y="542683"/>
                </a:cubicBezTo>
                <a:cubicBezTo>
                  <a:pt x="6877585" y="632481"/>
                  <a:pt x="6871708" y="730012"/>
                  <a:pt x="6819723" y="816877"/>
                </a:cubicBezTo>
                <a:cubicBezTo>
                  <a:pt x="6947507" y="936004"/>
                  <a:pt x="6992196" y="1090431"/>
                  <a:pt x="6941123" y="1236113"/>
                </a:cubicBezTo>
                <a:cubicBezTo>
                  <a:pt x="6873228" y="1429787"/>
                  <a:pt x="6648465" y="1574830"/>
                  <a:pt x="6372428" y="1603092"/>
                </a:cubicBezTo>
                <a:cubicBezTo>
                  <a:pt x="6371111" y="1723978"/>
                  <a:pt x="6296832" y="1838625"/>
                  <a:pt x="6168845" y="1917545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任意多边形 114"/>
          <p:cNvSpPr/>
          <p:nvPr/>
        </p:nvSpPr>
        <p:spPr>
          <a:xfrm>
            <a:off x="9601200" y="4971240"/>
            <a:ext cx="658800" cy="1903680"/>
          </a:xfrm>
          <a:custGeom>
            <a:avLst/>
            <a:gdLst>
              <a:gd name="textAreaLeft" fmla="*/ 0 w 658800"/>
              <a:gd name="textAreaRight" fmla="*/ 659160 w 65880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1098717" h="3173425">
                <a:moveTo>
                  <a:pt x="863257" y="1234"/>
                </a:moveTo>
                <a:cubicBezTo>
                  <a:pt x="876257" y="3485"/>
                  <a:pt x="889231" y="9983"/>
                  <a:pt x="901689" y="20959"/>
                </a:cubicBezTo>
                <a:cubicBezTo>
                  <a:pt x="939662" y="54403"/>
                  <a:pt x="966891" y="124421"/>
                  <a:pt x="974206" y="207496"/>
                </a:cubicBezTo>
                <a:lnTo>
                  <a:pt x="974601" y="207829"/>
                </a:lnTo>
                <a:lnTo>
                  <a:pt x="1005264" y="233668"/>
                </a:lnTo>
                <a:cubicBezTo>
                  <a:pt x="1034277" y="267273"/>
                  <a:pt x="1056604" y="322106"/>
                  <a:pt x="1067272" y="388536"/>
                </a:cubicBezTo>
                <a:cubicBezTo>
                  <a:pt x="1077610" y="452827"/>
                  <a:pt x="1076136" y="522655"/>
                  <a:pt x="1063106" y="584846"/>
                </a:cubicBezTo>
                <a:cubicBezTo>
                  <a:pt x="1095136" y="670136"/>
                  <a:pt x="1106337" y="780699"/>
                  <a:pt x="1093535" y="885001"/>
                </a:cubicBezTo>
                <a:cubicBezTo>
                  <a:pt x="1076517" y="1023663"/>
                  <a:pt x="1020180" y="1127507"/>
                  <a:pt x="950991" y="1147742"/>
                </a:cubicBezTo>
                <a:cubicBezTo>
                  <a:pt x="950660" y="1234291"/>
                  <a:pt x="932042" y="1316373"/>
                  <a:pt x="899962" y="1372877"/>
                </a:cubicBezTo>
                <a:cubicBezTo>
                  <a:pt x="851219" y="1458739"/>
                  <a:pt x="780811" y="1469773"/>
                  <a:pt x="726226" y="1400136"/>
                </a:cubicBezTo>
                <a:cubicBezTo>
                  <a:pt x="717399" y="1459942"/>
                  <a:pt x="701169" y="1512704"/>
                  <a:pt x="679741" y="1554155"/>
                </a:cubicBezTo>
                <a:lnTo>
                  <a:pt x="650634" y="1597420"/>
                </a:lnTo>
                <a:lnTo>
                  <a:pt x="652124" y="1604798"/>
                </a:lnTo>
                <a:cubicBezTo>
                  <a:pt x="652124" y="1630049"/>
                  <a:pt x="641889" y="1652909"/>
                  <a:pt x="625342" y="1669456"/>
                </a:cubicBezTo>
                <a:lnTo>
                  <a:pt x="624110" y="1670287"/>
                </a:lnTo>
                <a:lnTo>
                  <a:pt x="677585" y="3173425"/>
                </a:lnTo>
                <a:lnTo>
                  <a:pt x="421553" y="3173425"/>
                </a:lnTo>
                <a:lnTo>
                  <a:pt x="476142" y="1638967"/>
                </a:lnTo>
                <a:lnTo>
                  <a:pt x="469244" y="1604798"/>
                </a:lnTo>
                <a:lnTo>
                  <a:pt x="471675" y="1592759"/>
                </a:lnTo>
                <a:lnTo>
                  <a:pt x="455063" y="1573096"/>
                </a:lnTo>
                <a:cubicBezTo>
                  <a:pt x="441532" y="1550932"/>
                  <a:pt x="429497" y="1524319"/>
                  <a:pt x="419521" y="1493710"/>
                </a:cubicBezTo>
                <a:cubicBezTo>
                  <a:pt x="325338" y="1609924"/>
                  <a:pt x="203011" y="1544601"/>
                  <a:pt x="148351" y="1348863"/>
                </a:cubicBezTo>
                <a:cubicBezTo>
                  <a:pt x="94655" y="1361729"/>
                  <a:pt x="44236" y="1293581"/>
                  <a:pt x="29123" y="1187676"/>
                </a:cubicBezTo>
                <a:cubicBezTo>
                  <a:pt x="18176" y="1111053"/>
                  <a:pt x="27853" y="1028359"/>
                  <a:pt x="54599" y="970100"/>
                </a:cubicBezTo>
                <a:cubicBezTo>
                  <a:pt x="16652" y="924401"/>
                  <a:pt x="-4481" y="836706"/>
                  <a:pt x="802" y="746874"/>
                </a:cubicBezTo>
                <a:cubicBezTo>
                  <a:pt x="7000" y="641693"/>
                  <a:pt x="47792" y="559306"/>
                  <a:pt x="99049" y="548463"/>
                </a:cubicBezTo>
                <a:lnTo>
                  <a:pt x="99989" y="543233"/>
                </a:lnTo>
                <a:cubicBezTo>
                  <a:pt x="93106" y="439656"/>
                  <a:pt x="109158" y="335201"/>
                  <a:pt x="143753" y="258311"/>
                </a:cubicBezTo>
                <a:cubicBezTo>
                  <a:pt x="198414" y="136867"/>
                  <a:pt x="287035" y="109799"/>
                  <a:pt x="356656" y="193217"/>
                </a:cubicBezTo>
                <a:lnTo>
                  <a:pt x="356697" y="193097"/>
                </a:lnTo>
                <a:lnTo>
                  <a:pt x="375432" y="137918"/>
                </a:lnTo>
                <a:cubicBezTo>
                  <a:pt x="425377" y="23417"/>
                  <a:pt x="514815" y="11729"/>
                  <a:pt x="571311" y="125643"/>
                </a:cubicBezTo>
                <a:lnTo>
                  <a:pt x="572076" y="123801"/>
                </a:lnTo>
                <a:lnTo>
                  <a:pt x="605703" y="42830"/>
                </a:lnTo>
                <a:cubicBezTo>
                  <a:pt x="620067" y="21636"/>
                  <a:pt x="636907" y="7482"/>
                  <a:pt x="654954" y="2252"/>
                </a:cubicBezTo>
                <a:cubicBezTo>
                  <a:pt x="684748" y="-6396"/>
                  <a:pt x="714513" y="10169"/>
                  <a:pt x="737800" y="46549"/>
                </a:cubicBezTo>
                <a:lnTo>
                  <a:pt x="757471" y="86845"/>
                </a:lnTo>
                <a:lnTo>
                  <a:pt x="758687" y="89335"/>
                </a:lnTo>
                <a:cubicBezTo>
                  <a:pt x="785014" y="25941"/>
                  <a:pt x="824257" y="-5520"/>
                  <a:pt x="863257" y="1234"/>
                </a:cubicBezTo>
                <a:close/>
              </a:path>
            </a:pathLst>
          </a:cu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云形标注 116"/>
          <p:cNvSpPr/>
          <p:nvPr/>
        </p:nvSpPr>
        <p:spPr>
          <a:xfrm>
            <a:off x="9055080" y="187560"/>
            <a:ext cx="1113120" cy="383400"/>
          </a:xfrm>
          <a:prstGeom prst="cloudCallout">
            <a:avLst>
              <a:gd name="adj1" fmla="val -8588"/>
              <a:gd name="adj2" fmla="val 15137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矩形 117"/>
          <p:cNvSpPr/>
          <p:nvPr/>
        </p:nvSpPr>
        <p:spPr>
          <a:xfrm>
            <a:off x="8154000" y="24120"/>
            <a:ext cx="35640" cy="7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矩形 118"/>
          <p:cNvSpPr/>
          <p:nvPr/>
        </p:nvSpPr>
        <p:spPr>
          <a:xfrm>
            <a:off x="8428320" y="24120"/>
            <a:ext cx="35640" cy="7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矩形 127"/>
          <p:cNvSpPr/>
          <p:nvPr/>
        </p:nvSpPr>
        <p:spPr>
          <a:xfrm>
            <a:off x="822960" y="3072600"/>
            <a:ext cx="635832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9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心理学家曾经做过一个研究，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他们让一座建筑物的</a:t>
            </a:r>
            <a:r>
              <a:rPr b="0" lang="zh-CN" sz="36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门底冒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圆角矩形 2"/>
          <p:cNvSpPr/>
          <p:nvPr/>
        </p:nvSpPr>
        <p:spPr>
          <a:xfrm>
            <a:off x="901440" y="1017360"/>
            <a:ext cx="10560240" cy="4533120"/>
          </a:xfrm>
          <a:prstGeom prst="roundRect">
            <a:avLst>
              <a:gd name="adj" fmla="val 16667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0" name="矩形 5"/>
          <p:cNvSpPr/>
          <p:nvPr/>
        </p:nvSpPr>
        <p:spPr>
          <a:xfrm>
            <a:off x="1275120" y="1378080"/>
            <a:ext cx="9839160" cy="37861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1" name="矩形 1"/>
          <p:cNvSpPr/>
          <p:nvPr/>
        </p:nvSpPr>
        <p:spPr>
          <a:xfrm>
            <a:off x="1734480" y="1625040"/>
            <a:ext cx="91609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责任稀释定律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责任在人多的环境中，就会像化学溶剂一样被稀释，人越多，个人责任感就会越淡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梯形 6"/>
          <p:cNvSpPr/>
          <p:nvPr/>
        </p:nvSpPr>
        <p:spPr>
          <a:xfrm>
            <a:off x="3464280" y="5512320"/>
            <a:ext cx="5292720" cy="398880"/>
          </a:xfrm>
          <a:prstGeom prst="trapezoid">
            <a:avLst>
              <a:gd name="adj" fmla="val 119118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椭圆 3"/>
          <p:cNvSpPr/>
          <p:nvPr/>
        </p:nvSpPr>
        <p:spPr>
          <a:xfrm>
            <a:off x="3208320" y="1051200"/>
            <a:ext cx="1131840" cy="113184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4" name="梯形 4"/>
          <p:cNvSpPr/>
          <p:nvPr/>
        </p:nvSpPr>
        <p:spPr>
          <a:xfrm>
            <a:off x="3635280" y="2003040"/>
            <a:ext cx="813960" cy="1127880"/>
          </a:xfrm>
          <a:custGeom>
            <a:avLst/>
            <a:gdLst>
              <a:gd name="textAreaLeft" fmla="*/ 0 w 813960"/>
              <a:gd name="textAreaRight" fmla="*/ 814320 w 813960"/>
              <a:gd name="textAreaTop" fmla="*/ 0 h 1127880"/>
              <a:gd name="textAreaBottom" fmla="*/ 1128240 h 1127880"/>
            </a:gdLst>
            <a:ahLst/>
            <a:rect l="textAreaLeft" t="textAreaTop" r="textAreaRight" b="textAreaBottom"/>
            <a:pathLst>
              <a:path w="654214" h="1128180">
                <a:moveTo>
                  <a:pt x="8328" y="1099151"/>
                </a:moveTo>
                <a:lnTo>
                  <a:pt x="0" y="0"/>
                </a:lnTo>
                <a:lnTo>
                  <a:pt x="349238" y="46496"/>
                </a:lnTo>
                <a:lnTo>
                  <a:pt x="654214" y="1128180"/>
                </a:lnTo>
                <a:lnTo>
                  <a:pt x="8328" y="109915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5" name="圆角矩形 5"/>
          <p:cNvSpPr/>
          <p:nvPr/>
        </p:nvSpPr>
        <p:spPr>
          <a:xfrm rot="700200">
            <a:off x="3840840" y="2195640"/>
            <a:ext cx="1360800" cy="41400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6" name="椭圆 6"/>
          <p:cNvSpPr/>
          <p:nvPr/>
        </p:nvSpPr>
        <p:spPr>
          <a:xfrm>
            <a:off x="4257000" y="1446480"/>
            <a:ext cx="739800" cy="73980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7" name="梯形 10"/>
          <p:cNvSpPr/>
          <p:nvPr/>
        </p:nvSpPr>
        <p:spPr>
          <a:xfrm rot="20093400">
            <a:off x="4379400" y="1989360"/>
            <a:ext cx="654840" cy="1556640"/>
          </a:xfrm>
          <a:custGeom>
            <a:avLst/>
            <a:gdLst>
              <a:gd name="textAreaLeft" fmla="*/ 0 w 654840"/>
              <a:gd name="textAreaRight" fmla="*/ 655200 w 654840"/>
              <a:gd name="textAreaTop" fmla="*/ 0 h 1556640"/>
              <a:gd name="textAreaBottom" fmla="*/ 1557000 h 1556640"/>
            </a:gdLst>
            <a:ahLst/>
            <a:rect l="textAreaLeft" t="textAreaTop" r="textAreaRight" b="textAreaBottom"/>
            <a:pathLst>
              <a:path w="655125" h="1557005">
                <a:moveTo>
                  <a:pt x="0" y="1557005"/>
                </a:moveTo>
                <a:lnTo>
                  <a:pt x="221738" y="0"/>
                </a:lnTo>
                <a:lnTo>
                  <a:pt x="511319" y="33005"/>
                </a:lnTo>
                <a:lnTo>
                  <a:pt x="655125" y="1557005"/>
                </a:lnTo>
                <a:lnTo>
                  <a:pt x="0" y="1557005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8" name="圆角矩形 11"/>
          <p:cNvSpPr/>
          <p:nvPr/>
        </p:nvSpPr>
        <p:spPr>
          <a:xfrm rot="5178000">
            <a:off x="4290840" y="3336480"/>
            <a:ext cx="1267560" cy="471600"/>
          </a:xfrm>
          <a:custGeom>
            <a:avLst/>
            <a:gdLst>
              <a:gd name="textAreaLeft" fmla="*/ 0 w 1267560"/>
              <a:gd name="textAreaRight" fmla="*/ 1267920 w 12675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1268010" h="472009">
                <a:moveTo>
                  <a:pt x="0" y="116956"/>
                </a:moveTo>
                <a:lnTo>
                  <a:pt x="0" y="116956"/>
                </a:lnTo>
                <a:cubicBezTo>
                  <a:pt x="201759" y="118551"/>
                  <a:pt x="442453" y="-1580"/>
                  <a:pt x="644212" y="15"/>
                </a:cubicBezTo>
                <a:lnTo>
                  <a:pt x="1268010" y="116956"/>
                </a:lnTo>
                <a:lnTo>
                  <a:pt x="1268010" y="116956"/>
                </a:lnTo>
                <a:lnTo>
                  <a:pt x="1268010" y="471654"/>
                </a:lnTo>
                <a:lnTo>
                  <a:pt x="1268010" y="471654"/>
                </a:lnTo>
                <a:cubicBezTo>
                  <a:pt x="1085492" y="481746"/>
                  <a:pt x="886049" y="273314"/>
                  <a:pt x="703531" y="283406"/>
                </a:cubicBezTo>
                <a:lnTo>
                  <a:pt x="0" y="471654"/>
                </a:lnTo>
                <a:lnTo>
                  <a:pt x="0" y="471654"/>
                </a:lnTo>
                <a:lnTo>
                  <a:pt x="0" y="116956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9" name="梯形 12"/>
          <p:cNvSpPr/>
          <p:nvPr/>
        </p:nvSpPr>
        <p:spPr>
          <a:xfrm flipV="1">
            <a:off x="3645720" y="2998440"/>
            <a:ext cx="735120" cy="1189800"/>
          </a:xfrm>
          <a:custGeom>
            <a:avLst/>
            <a:gdLst>
              <a:gd name="textAreaLeft" fmla="*/ 0 w 735120"/>
              <a:gd name="textAreaRight" fmla="*/ 735480 w 735120"/>
              <a:gd name="textAreaTop" fmla="*/ -360 h 1189800"/>
              <a:gd name="textAreaBottom" fmla="*/ 1189800 h 1189800"/>
            </a:gdLst>
            <a:ahLst/>
            <a:rect l="textAreaLeft" t="textAreaTop" r="textAreaRight" b="textAreaBottom"/>
            <a:pathLst>
              <a:path w="528124" h="1190172">
                <a:moveTo>
                  <a:pt x="0" y="1190172"/>
                </a:moveTo>
                <a:cubicBezTo>
                  <a:pt x="10726" y="1009903"/>
                  <a:pt x="160937" y="783138"/>
                  <a:pt x="171663" y="602869"/>
                </a:cubicBezTo>
                <a:lnTo>
                  <a:pt x="129040" y="0"/>
                </a:lnTo>
                <a:lnTo>
                  <a:pt x="387119" y="0"/>
                </a:lnTo>
                <a:cubicBezTo>
                  <a:pt x="403124" y="206122"/>
                  <a:pt x="512119" y="427744"/>
                  <a:pt x="528124" y="633866"/>
                </a:cubicBezTo>
                <a:lnTo>
                  <a:pt x="516158" y="1190172"/>
                </a:lnTo>
                <a:lnTo>
                  <a:pt x="0" y="1190172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0" name="任意多边形 10"/>
          <p:cNvSpPr/>
          <p:nvPr/>
        </p:nvSpPr>
        <p:spPr>
          <a:xfrm flipH="1" rot="350400">
            <a:off x="4943520" y="1609200"/>
            <a:ext cx="273240" cy="813600"/>
          </a:xfrm>
          <a:custGeom>
            <a:avLst/>
            <a:gdLst>
              <a:gd name="textAreaLeft" fmla="*/ -360 w 273240"/>
              <a:gd name="textAreaRight" fmla="*/ 273240 w 273240"/>
              <a:gd name="textAreaTop" fmla="*/ 0 h 813600"/>
              <a:gd name="textAreaBottom" fmla="*/ 813960 h 813600"/>
            </a:gdLst>
            <a:ahLst/>
            <a:rect l="textAreaLeft" t="textAreaTop" r="textAreaRight" b="textAreaBottom"/>
            <a:pathLst>
              <a:path w="812800" h="2419521">
                <a:moveTo>
                  <a:pt x="191538" y="0"/>
                </a:moveTo>
                <a:lnTo>
                  <a:pt x="233026" y="8207"/>
                </a:lnTo>
                <a:cubicBezTo>
                  <a:pt x="454593" y="97177"/>
                  <a:pt x="621263" y="481876"/>
                  <a:pt x="621263" y="942963"/>
                </a:cubicBezTo>
                <a:lnTo>
                  <a:pt x="621251" y="943231"/>
                </a:lnTo>
                <a:lnTo>
                  <a:pt x="621263" y="943231"/>
                </a:lnTo>
                <a:lnTo>
                  <a:pt x="621263" y="1757474"/>
                </a:lnTo>
                <a:lnTo>
                  <a:pt x="812800" y="1757474"/>
                </a:lnTo>
                <a:lnTo>
                  <a:pt x="812800" y="1915885"/>
                </a:lnTo>
                <a:lnTo>
                  <a:pt x="621263" y="1915885"/>
                </a:lnTo>
                <a:lnTo>
                  <a:pt x="621263" y="1915886"/>
                </a:lnTo>
                <a:lnTo>
                  <a:pt x="543081" y="1915886"/>
                </a:lnTo>
                <a:lnTo>
                  <a:pt x="543081" y="2373960"/>
                </a:lnTo>
                <a:cubicBezTo>
                  <a:pt x="543081" y="2399123"/>
                  <a:pt x="522683" y="2419521"/>
                  <a:pt x="497520" y="2419521"/>
                </a:cubicBezTo>
                <a:lnTo>
                  <a:pt x="315279" y="2419521"/>
                </a:lnTo>
                <a:cubicBezTo>
                  <a:pt x="290116" y="2419521"/>
                  <a:pt x="269718" y="2399123"/>
                  <a:pt x="269718" y="2373960"/>
                </a:cubicBezTo>
                <a:lnTo>
                  <a:pt x="269718" y="1915886"/>
                </a:lnTo>
                <a:lnTo>
                  <a:pt x="191538" y="1915886"/>
                </a:lnTo>
                <a:lnTo>
                  <a:pt x="191538" y="1915885"/>
                </a:lnTo>
                <a:lnTo>
                  <a:pt x="0" y="1915885"/>
                </a:lnTo>
                <a:lnTo>
                  <a:pt x="0" y="1757474"/>
                </a:lnTo>
                <a:lnTo>
                  <a:pt x="191538" y="1757474"/>
                </a:lnTo>
                <a:lnTo>
                  <a:pt x="191538" y="94323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1" name="文本框 11"/>
          <p:cNvSpPr/>
          <p:nvPr/>
        </p:nvSpPr>
        <p:spPr>
          <a:xfrm>
            <a:off x="3796920" y="4345920"/>
            <a:ext cx="7400160" cy="20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这位女士对着人群大喊“救命”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责任是分散的，大家都以为别人会去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或者别人会去报警，所以大家都不行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这也告诉我们：这样喊救命是错误的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12"/>
          <p:cNvSpPr/>
          <p:nvPr/>
        </p:nvSpPr>
        <p:spPr>
          <a:xfrm>
            <a:off x="865440" y="4144320"/>
            <a:ext cx="10331640" cy="1101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3" name="任意多边形 13"/>
          <p:cNvSpPr/>
          <p:nvPr/>
        </p:nvSpPr>
        <p:spPr>
          <a:xfrm flipH="1" flipV="1">
            <a:off x="10045800" y="1839240"/>
            <a:ext cx="1151280" cy="2373120"/>
          </a:xfrm>
          <a:custGeom>
            <a:avLst/>
            <a:gdLst>
              <a:gd name="textAreaLeft" fmla="*/ 360 w 1151280"/>
              <a:gd name="textAreaRight" fmla="*/ 1152000 w 1151280"/>
              <a:gd name="textAreaTop" fmla="*/ 360 h 2373120"/>
              <a:gd name="textAreaBottom" fmla="*/ 2373840 h 2373120"/>
            </a:gdLst>
            <a:ahLst/>
            <a:rect l="textAreaLeft" t="textAreaTop" r="textAreaRight" b="textAreaBottom"/>
            <a:pathLst>
              <a:path w="1096974" h="2261171">
                <a:moveTo>
                  <a:pt x="405921" y="2261171"/>
                </a:moveTo>
                <a:cubicBezTo>
                  <a:pt x="181738" y="2261171"/>
                  <a:pt x="0" y="2079434"/>
                  <a:pt x="0" y="1855251"/>
                </a:cubicBezTo>
                <a:cubicBezTo>
                  <a:pt x="0" y="1715137"/>
                  <a:pt x="70992" y="1591602"/>
                  <a:pt x="178968" y="1518656"/>
                </a:cubicBezTo>
                <a:lnTo>
                  <a:pt x="227383" y="1492376"/>
                </a:lnTo>
                <a:lnTo>
                  <a:pt x="66021" y="653363"/>
                </a:lnTo>
                <a:lnTo>
                  <a:pt x="204202" y="666707"/>
                </a:lnTo>
                <a:lnTo>
                  <a:pt x="189363" y="0"/>
                </a:lnTo>
                <a:lnTo>
                  <a:pt x="481285" y="29055"/>
                </a:lnTo>
                <a:cubicBezTo>
                  <a:pt x="502472" y="149683"/>
                  <a:pt x="512038" y="258691"/>
                  <a:pt x="533227" y="379319"/>
                </a:cubicBezTo>
                <a:lnTo>
                  <a:pt x="666253" y="711330"/>
                </a:lnTo>
                <a:lnTo>
                  <a:pt x="745822" y="719015"/>
                </a:lnTo>
                <a:lnTo>
                  <a:pt x="708201" y="904801"/>
                </a:lnTo>
                <a:lnTo>
                  <a:pt x="736458" y="906544"/>
                </a:lnTo>
                <a:lnTo>
                  <a:pt x="628324" y="1203194"/>
                </a:lnTo>
                <a:lnTo>
                  <a:pt x="744565" y="1245566"/>
                </a:lnTo>
                <a:lnTo>
                  <a:pt x="743433" y="1247885"/>
                </a:lnTo>
                <a:lnTo>
                  <a:pt x="959701" y="1323986"/>
                </a:lnTo>
                <a:lnTo>
                  <a:pt x="1007943" y="1341571"/>
                </a:lnTo>
                <a:lnTo>
                  <a:pt x="1052159" y="1367929"/>
                </a:lnTo>
                <a:cubicBezTo>
                  <a:pt x="1091624" y="1403856"/>
                  <a:pt x="1108002" y="1461214"/>
                  <a:pt x="1089172" y="1514723"/>
                </a:cubicBezTo>
                <a:cubicBezTo>
                  <a:pt x="1064067" y="1586069"/>
                  <a:pt x="985879" y="1623554"/>
                  <a:pt x="914533" y="1598449"/>
                </a:cubicBezTo>
                <a:lnTo>
                  <a:pt x="590801" y="1484533"/>
                </a:lnTo>
                <a:lnTo>
                  <a:pt x="588742" y="1494701"/>
                </a:lnTo>
                <a:lnTo>
                  <a:pt x="632875" y="1518656"/>
                </a:lnTo>
                <a:cubicBezTo>
                  <a:pt x="740851" y="1591602"/>
                  <a:pt x="811841" y="1715137"/>
                  <a:pt x="811841" y="1855251"/>
                </a:cubicBezTo>
                <a:cubicBezTo>
                  <a:pt x="811841" y="2079434"/>
                  <a:pt x="630104" y="2261171"/>
                  <a:pt x="405921" y="2261171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4" name="任意多边形 14"/>
          <p:cNvSpPr/>
          <p:nvPr/>
        </p:nvSpPr>
        <p:spPr>
          <a:xfrm flipV="1">
            <a:off x="5692320" y="2478240"/>
            <a:ext cx="4489200" cy="1741680"/>
          </a:xfrm>
          <a:custGeom>
            <a:avLst/>
            <a:gdLst>
              <a:gd name="textAreaLeft" fmla="*/ 0 w 4489200"/>
              <a:gd name="textAreaRight" fmla="*/ 4489560 w 4489200"/>
              <a:gd name="textAreaTop" fmla="*/ 360 h 1741680"/>
              <a:gd name="textAreaBottom" fmla="*/ 1742400 h 1741680"/>
            </a:gdLst>
            <a:ahLst/>
            <a:rect l="textAreaLeft" t="textAreaTop" r="textAreaRight" b="textAreaBottom"/>
            <a:pathLst>
              <a:path w="4489512" h="1741950">
                <a:moveTo>
                  <a:pt x="532371" y="870975"/>
                </a:moveTo>
                <a:cubicBezTo>
                  <a:pt x="705076" y="870975"/>
                  <a:pt x="845082" y="730970"/>
                  <a:pt x="845082" y="558264"/>
                </a:cubicBezTo>
                <a:cubicBezTo>
                  <a:pt x="845082" y="450324"/>
                  <a:pt x="790392" y="355156"/>
                  <a:pt x="707210" y="298960"/>
                </a:cubicBezTo>
                <a:lnTo>
                  <a:pt x="669912" y="278715"/>
                </a:lnTo>
                <a:lnTo>
                  <a:pt x="723516" y="0"/>
                </a:lnTo>
                <a:lnTo>
                  <a:pt x="340648" y="0"/>
                </a:lnTo>
                <a:lnTo>
                  <a:pt x="361037" y="55936"/>
                </a:lnTo>
                <a:lnTo>
                  <a:pt x="271488" y="88578"/>
                </a:lnTo>
                <a:lnTo>
                  <a:pt x="272360" y="90365"/>
                </a:lnTo>
                <a:lnTo>
                  <a:pt x="105752" y="148991"/>
                </a:lnTo>
                <a:lnTo>
                  <a:pt x="68588" y="162538"/>
                </a:lnTo>
                <a:lnTo>
                  <a:pt x="34525" y="182844"/>
                </a:lnTo>
                <a:cubicBezTo>
                  <a:pt x="4122" y="210521"/>
                  <a:pt x="-8495" y="254708"/>
                  <a:pt x="6011" y="295930"/>
                </a:cubicBezTo>
                <a:cubicBezTo>
                  <a:pt x="25351" y="350893"/>
                  <a:pt x="85585" y="379771"/>
                  <a:pt x="140548" y="360431"/>
                </a:cubicBezTo>
                <a:lnTo>
                  <a:pt x="389944" y="272673"/>
                </a:lnTo>
                <a:lnTo>
                  <a:pt x="391530" y="280506"/>
                </a:lnTo>
                <a:lnTo>
                  <a:pt x="357531" y="298960"/>
                </a:lnTo>
                <a:cubicBezTo>
                  <a:pt x="274349" y="355156"/>
                  <a:pt x="219660" y="450324"/>
                  <a:pt x="219660" y="558264"/>
                </a:cubicBezTo>
                <a:cubicBezTo>
                  <a:pt x="219660" y="730970"/>
                  <a:pt x="359665" y="870975"/>
                  <a:pt x="532371" y="870975"/>
                </a:cubicBezTo>
                <a:close/>
                <a:moveTo>
                  <a:pt x="1409813" y="986423"/>
                </a:moveTo>
                <a:cubicBezTo>
                  <a:pt x="1582518" y="986423"/>
                  <a:pt x="1722524" y="846418"/>
                  <a:pt x="1722524" y="673712"/>
                </a:cubicBezTo>
                <a:cubicBezTo>
                  <a:pt x="1722524" y="565772"/>
                  <a:pt x="1667834" y="470604"/>
                  <a:pt x="1584652" y="414408"/>
                </a:cubicBezTo>
                <a:lnTo>
                  <a:pt x="1547354" y="394163"/>
                </a:lnTo>
                <a:lnTo>
                  <a:pt x="1623161" y="0"/>
                </a:lnTo>
                <a:lnTo>
                  <a:pt x="1176007" y="0"/>
                </a:lnTo>
                <a:lnTo>
                  <a:pt x="1238479" y="171384"/>
                </a:lnTo>
                <a:lnTo>
                  <a:pt x="1148930" y="204026"/>
                </a:lnTo>
                <a:lnTo>
                  <a:pt x="1149802" y="205813"/>
                </a:lnTo>
                <a:lnTo>
                  <a:pt x="983194" y="264439"/>
                </a:lnTo>
                <a:lnTo>
                  <a:pt x="946030" y="277986"/>
                </a:lnTo>
                <a:lnTo>
                  <a:pt x="911967" y="298292"/>
                </a:lnTo>
                <a:cubicBezTo>
                  <a:pt x="881564" y="325969"/>
                  <a:pt x="868947" y="370156"/>
                  <a:pt x="883453" y="411378"/>
                </a:cubicBezTo>
                <a:cubicBezTo>
                  <a:pt x="902793" y="466341"/>
                  <a:pt x="963027" y="495219"/>
                  <a:pt x="1017990" y="475879"/>
                </a:cubicBezTo>
                <a:lnTo>
                  <a:pt x="1267386" y="388121"/>
                </a:lnTo>
                <a:lnTo>
                  <a:pt x="1268972" y="395954"/>
                </a:lnTo>
                <a:lnTo>
                  <a:pt x="1234973" y="414408"/>
                </a:lnTo>
                <a:cubicBezTo>
                  <a:pt x="1151791" y="470604"/>
                  <a:pt x="1097102" y="565772"/>
                  <a:pt x="1097102" y="673712"/>
                </a:cubicBezTo>
                <a:cubicBezTo>
                  <a:pt x="1097102" y="846418"/>
                  <a:pt x="1237107" y="986423"/>
                  <a:pt x="1409813" y="986423"/>
                </a:cubicBezTo>
                <a:close/>
                <a:moveTo>
                  <a:pt x="4176800" y="1268611"/>
                </a:moveTo>
                <a:cubicBezTo>
                  <a:pt x="4349505" y="1268611"/>
                  <a:pt x="4489512" y="1128606"/>
                  <a:pt x="4489512" y="955900"/>
                </a:cubicBezTo>
                <a:cubicBezTo>
                  <a:pt x="4489512" y="847960"/>
                  <a:pt x="4434821" y="752792"/>
                  <a:pt x="4351639" y="696596"/>
                </a:cubicBezTo>
                <a:lnTo>
                  <a:pt x="4314342" y="676351"/>
                </a:lnTo>
                <a:lnTo>
                  <a:pt x="4438651" y="29996"/>
                </a:lnTo>
                <a:lnTo>
                  <a:pt x="4332200" y="40276"/>
                </a:lnTo>
                <a:lnTo>
                  <a:pt x="4333096" y="0"/>
                </a:lnTo>
                <a:lnTo>
                  <a:pt x="4006158" y="0"/>
                </a:lnTo>
                <a:lnTo>
                  <a:pt x="3976247" y="74652"/>
                </a:lnTo>
                <a:lnTo>
                  <a:pt x="3914949" y="80573"/>
                </a:lnTo>
                <a:lnTo>
                  <a:pt x="3943931" y="223697"/>
                </a:lnTo>
                <a:lnTo>
                  <a:pt x="3922163" y="225040"/>
                </a:lnTo>
                <a:lnTo>
                  <a:pt x="4005467" y="453572"/>
                </a:lnTo>
                <a:lnTo>
                  <a:pt x="3915917" y="486214"/>
                </a:lnTo>
                <a:lnTo>
                  <a:pt x="3916789" y="488001"/>
                </a:lnTo>
                <a:lnTo>
                  <a:pt x="3750182" y="546627"/>
                </a:lnTo>
                <a:lnTo>
                  <a:pt x="3713017" y="560174"/>
                </a:lnTo>
                <a:lnTo>
                  <a:pt x="3678954" y="580480"/>
                </a:lnTo>
                <a:cubicBezTo>
                  <a:pt x="3648552" y="608157"/>
                  <a:pt x="3635934" y="652344"/>
                  <a:pt x="3650440" y="693566"/>
                </a:cubicBezTo>
                <a:cubicBezTo>
                  <a:pt x="3669781" y="748529"/>
                  <a:pt x="3730015" y="777407"/>
                  <a:pt x="3784978" y="758067"/>
                </a:cubicBezTo>
                <a:lnTo>
                  <a:pt x="4034373" y="670309"/>
                </a:lnTo>
                <a:lnTo>
                  <a:pt x="4035960" y="678142"/>
                </a:lnTo>
                <a:lnTo>
                  <a:pt x="4001961" y="696596"/>
                </a:lnTo>
                <a:cubicBezTo>
                  <a:pt x="3918778" y="752792"/>
                  <a:pt x="3864090" y="847960"/>
                  <a:pt x="3864090" y="955900"/>
                </a:cubicBezTo>
                <a:cubicBezTo>
                  <a:pt x="3864090" y="1128606"/>
                  <a:pt x="4004095" y="1268611"/>
                  <a:pt x="4176800" y="1268611"/>
                </a:cubicBezTo>
                <a:close/>
                <a:moveTo>
                  <a:pt x="2486636" y="1268611"/>
                </a:moveTo>
                <a:cubicBezTo>
                  <a:pt x="2659341" y="1268611"/>
                  <a:pt x="2799348" y="1128606"/>
                  <a:pt x="2799348" y="955900"/>
                </a:cubicBezTo>
                <a:cubicBezTo>
                  <a:pt x="2799348" y="847960"/>
                  <a:pt x="2744657" y="752792"/>
                  <a:pt x="2661475" y="696596"/>
                </a:cubicBezTo>
                <a:lnTo>
                  <a:pt x="2624178" y="676351"/>
                </a:lnTo>
                <a:lnTo>
                  <a:pt x="2748487" y="29996"/>
                </a:lnTo>
                <a:lnTo>
                  <a:pt x="2642036" y="40276"/>
                </a:lnTo>
                <a:lnTo>
                  <a:pt x="2642932" y="0"/>
                </a:lnTo>
                <a:lnTo>
                  <a:pt x="2315994" y="0"/>
                </a:lnTo>
                <a:lnTo>
                  <a:pt x="2286083" y="74652"/>
                </a:lnTo>
                <a:lnTo>
                  <a:pt x="2224785" y="80573"/>
                </a:lnTo>
                <a:lnTo>
                  <a:pt x="2253767" y="223697"/>
                </a:lnTo>
                <a:lnTo>
                  <a:pt x="2231999" y="225040"/>
                </a:lnTo>
                <a:lnTo>
                  <a:pt x="2315303" y="453572"/>
                </a:lnTo>
                <a:lnTo>
                  <a:pt x="2225754" y="486214"/>
                </a:lnTo>
                <a:lnTo>
                  <a:pt x="2226626" y="488001"/>
                </a:lnTo>
                <a:lnTo>
                  <a:pt x="2060018" y="546627"/>
                </a:lnTo>
                <a:lnTo>
                  <a:pt x="2022854" y="560174"/>
                </a:lnTo>
                <a:lnTo>
                  <a:pt x="1988791" y="580480"/>
                </a:lnTo>
                <a:cubicBezTo>
                  <a:pt x="1958388" y="608157"/>
                  <a:pt x="1945771" y="652344"/>
                  <a:pt x="1960277" y="693566"/>
                </a:cubicBezTo>
                <a:cubicBezTo>
                  <a:pt x="1979617" y="748529"/>
                  <a:pt x="2039851" y="777407"/>
                  <a:pt x="2094814" y="758067"/>
                </a:cubicBezTo>
                <a:lnTo>
                  <a:pt x="2344209" y="670309"/>
                </a:lnTo>
                <a:lnTo>
                  <a:pt x="2345796" y="678142"/>
                </a:lnTo>
                <a:lnTo>
                  <a:pt x="2311797" y="696596"/>
                </a:lnTo>
                <a:cubicBezTo>
                  <a:pt x="2228615" y="752792"/>
                  <a:pt x="2173926" y="847960"/>
                  <a:pt x="2173926" y="955900"/>
                </a:cubicBezTo>
                <a:cubicBezTo>
                  <a:pt x="2173926" y="1128606"/>
                  <a:pt x="2313931" y="1268611"/>
                  <a:pt x="2486636" y="1268611"/>
                </a:cubicBezTo>
                <a:close/>
                <a:moveTo>
                  <a:pt x="3331718" y="1741950"/>
                </a:moveTo>
                <a:cubicBezTo>
                  <a:pt x="3504423" y="1741950"/>
                  <a:pt x="3644430" y="1601945"/>
                  <a:pt x="3644430" y="1429239"/>
                </a:cubicBezTo>
                <a:cubicBezTo>
                  <a:pt x="3644430" y="1321299"/>
                  <a:pt x="3589739" y="1226131"/>
                  <a:pt x="3506557" y="1169935"/>
                </a:cubicBezTo>
                <a:lnTo>
                  <a:pt x="3469260" y="1149690"/>
                </a:lnTo>
                <a:lnTo>
                  <a:pt x="3593569" y="503335"/>
                </a:lnTo>
                <a:lnTo>
                  <a:pt x="3487118" y="513615"/>
                </a:lnTo>
                <a:lnTo>
                  <a:pt x="3498549" y="0"/>
                </a:lnTo>
                <a:lnTo>
                  <a:pt x="3273660" y="22383"/>
                </a:lnTo>
                <a:cubicBezTo>
                  <a:pt x="3257338" y="115312"/>
                  <a:pt x="3249968" y="199289"/>
                  <a:pt x="3233645" y="292218"/>
                </a:cubicBezTo>
                <a:lnTo>
                  <a:pt x="3131165" y="547991"/>
                </a:lnTo>
                <a:lnTo>
                  <a:pt x="3069867" y="553912"/>
                </a:lnTo>
                <a:lnTo>
                  <a:pt x="3098849" y="697036"/>
                </a:lnTo>
                <a:lnTo>
                  <a:pt x="3077081" y="698379"/>
                </a:lnTo>
                <a:lnTo>
                  <a:pt x="3160385" y="926911"/>
                </a:lnTo>
                <a:lnTo>
                  <a:pt x="3070835" y="959553"/>
                </a:lnTo>
                <a:lnTo>
                  <a:pt x="3071707" y="961340"/>
                </a:lnTo>
                <a:lnTo>
                  <a:pt x="2905100" y="1019966"/>
                </a:lnTo>
                <a:lnTo>
                  <a:pt x="2867935" y="1033513"/>
                </a:lnTo>
                <a:lnTo>
                  <a:pt x="2833872" y="1053819"/>
                </a:lnTo>
                <a:cubicBezTo>
                  <a:pt x="2803470" y="1081496"/>
                  <a:pt x="2790852" y="1125683"/>
                  <a:pt x="2805358" y="1166905"/>
                </a:cubicBezTo>
                <a:cubicBezTo>
                  <a:pt x="2824699" y="1221868"/>
                  <a:pt x="2884933" y="1250746"/>
                  <a:pt x="2939896" y="1231406"/>
                </a:cubicBezTo>
                <a:lnTo>
                  <a:pt x="3189291" y="1143648"/>
                </a:lnTo>
                <a:lnTo>
                  <a:pt x="3190878" y="1151481"/>
                </a:lnTo>
                <a:lnTo>
                  <a:pt x="3156879" y="1169935"/>
                </a:lnTo>
                <a:cubicBezTo>
                  <a:pt x="3073696" y="1226131"/>
                  <a:pt x="3019008" y="1321299"/>
                  <a:pt x="3019008" y="1429239"/>
                </a:cubicBezTo>
                <a:cubicBezTo>
                  <a:pt x="3019008" y="1601945"/>
                  <a:pt x="3159013" y="1741950"/>
                  <a:pt x="3331718" y="1741950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5" name="文本框 15"/>
          <p:cNvSpPr/>
          <p:nvPr/>
        </p:nvSpPr>
        <p:spPr>
          <a:xfrm>
            <a:off x="5832360" y="725400"/>
            <a:ext cx="2115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救命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等腰三角形 16"/>
          <p:cNvSpPr/>
          <p:nvPr/>
        </p:nvSpPr>
        <p:spPr>
          <a:xfrm rot="13047600">
            <a:off x="5117040" y="66564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7" name="等腰三角形 17"/>
          <p:cNvSpPr/>
          <p:nvPr/>
        </p:nvSpPr>
        <p:spPr>
          <a:xfrm rot="14626200">
            <a:off x="5273640" y="82836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8" name="等腰三角形 18"/>
          <p:cNvSpPr/>
          <p:nvPr/>
        </p:nvSpPr>
        <p:spPr>
          <a:xfrm rot="15665400">
            <a:off x="5348160" y="102528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9" name="等腰三角形 19"/>
          <p:cNvSpPr/>
          <p:nvPr/>
        </p:nvSpPr>
        <p:spPr>
          <a:xfrm rot="16722600">
            <a:off x="5399280" y="122616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0" name="椭圆 1"/>
          <p:cNvSpPr/>
          <p:nvPr/>
        </p:nvSpPr>
        <p:spPr>
          <a:xfrm>
            <a:off x="419040" y="2703240"/>
            <a:ext cx="2943360" cy="294336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1" name="文本框 21"/>
          <p:cNvSpPr/>
          <p:nvPr/>
        </p:nvSpPr>
        <p:spPr>
          <a:xfrm>
            <a:off x="813960" y="3267000"/>
            <a:ext cx="24782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责任被稀释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任意多边形 31"/>
          <p:cNvSpPr/>
          <p:nvPr/>
        </p:nvSpPr>
        <p:spPr>
          <a:xfrm flipV="1">
            <a:off x="5615280" y="2310840"/>
            <a:ext cx="4489200" cy="1741680"/>
          </a:xfrm>
          <a:custGeom>
            <a:avLst/>
            <a:gdLst>
              <a:gd name="textAreaLeft" fmla="*/ 0 w 4489200"/>
              <a:gd name="textAreaRight" fmla="*/ 4489560 w 4489200"/>
              <a:gd name="textAreaTop" fmla="*/ 360 h 1741680"/>
              <a:gd name="textAreaBottom" fmla="*/ 1742400 h 1741680"/>
            </a:gdLst>
            <a:ahLst/>
            <a:rect l="textAreaLeft" t="textAreaTop" r="textAreaRight" b="textAreaBottom"/>
            <a:pathLst>
              <a:path w="4489512" h="1741950">
                <a:moveTo>
                  <a:pt x="532371" y="870975"/>
                </a:moveTo>
                <a:cubicBezTo>
                  <a:pt x="705076" y="870975"/>
                  <a:pt x="845082" y="730970"/>
                  <a:pt x="845082" y="558264"/>
                </a:cubicBezTo>
                <a:cubicBezTo>
                  <a:pt x="845082" y="450324"/>
                  <a:pt x="790392" y="355156"/>
                  <a:pt x="707210" y="298960"/>
                </a:cubicBezTo>
                <a:lnTo>
                  <a:pt x="669912" y="278715"/>
                </a:lnTo>
                <a:lnTo>
                  <a:pt x="723516" y="0"/>
                </a:lnTo>
                <a:lnTo>
                  <a:pt x="340648" y="0"/>
                </a:lnTo>
                <a:lnTo>
                  <a:pt x="361037" y="55936"/>
                </a:lnTo>
                <a:lnTo>
                  <a:pt x="271488" y="88578"/>
                </a:lnTo>
                <a:lnTo>
                  <a:pt x="272360" y="90365"/>
                </a:lnTo>
                <a:lnTo>
                  <a:pt x="105752" y="148991"/>
                </a:lnTo>
                <a:lnTo>
                  <a:pt x="68588" y="162538"/>
                </a:lnTo>
                <a:lnTo>
                  <a:pt x="34525" y="182844"/>
                </a:lnTo>
                <a:cubicBezTo>
                  <a:pt x="4122" y="210521"/>
                  <a:pt x="-8495" y="254708"/>
                  <a:pt x="6011" y="295930"/>
                </a:cubicBezTo>
                <a:cubicBezTo>
                  <a:pt x="25351" y="350893"/>
                  <a:pt x="85585" y="379771"/>
                  <a:pt x="140548" y="360431"/>
                </a:cubicBezTo>
                <a:lnTo>
                  <a:pt x="389944" y="272673"/>
                </a:lnTo>
                <a:lnTo>
                  <a:pt x="391530" y="280506"/>
                </a:lnTo>
                <a:lnTo>
                  <a:pt x="357531" y="298960"/>
                </a:lnTo>
                <a:cubicBezTo>
                  <a:pt x="274349" y="355156"/>
                  <a:pt x="219660" y="450324"/>
                  <a:pt x="219660" y="558264"/>
                </a:cubicBezTo>
                <a:cubicBezTo>
                  <a:pt x="219660" y="730970"/>
                  <a:pt x="359665" y="870975"/>
                  <a:pt x="532371" y="870975"/>
                </a:cubicBezTo>
                <a:close/>
                <a:moveTo>
                  <a:pt x="1409813" y="986423"/>
                </a:moveTo>
                <a:cubicBezTo>
                  <a:pt x="1582518" y="986423"/>
                  <a:pt x="1722524" y="846418"/>
                  <a:pt x="1722524" y="673712"/>
                </a:cubicBezTo>
                <a:cubicBezTo>
                  <a:pt x="1722524" y="565772"/>
                  <a:pt x="1667834" y="470604"/>
                  <a:pt x="1584652" y="414408"/>
                </a:cubicBezTo>
                <a:lnTo>
                  <a:pt x="1547354" y="394163"/>
                </a:lnTo>
                <a:lnTo>
                  <a:pt x="1623161" y="0"/>
                </a:lnTo>
                <a:lnTo>
                  <a:pt x="1176007" y="0"/>
                </a:lnTo>
                <a:lnTo>
                  <a:pt x="1238479" y="171384"/>
                </a:lnTo>
                <a:lnTo>
                  <a:pt x="1148930" y="204026"/>
                </a:lnTo>
                <a:lnTo>
                  <a:pt x="1149802" y="205813"/>
                </a:lnTo>
                <a:lnTo>
                  <a:pt x="983194" y="264439"/>
                </a:lnTo>
                <a:lnTo>
                  <a:pt x="946030" y="277986"/>
                </a:lnTo>
                <a:lnTo>
                  <a:pt x="911967" y="298292"/>
                </a:lnTo>
                <a:cubicBezTo>
                  <a:pt x="881564" y="325969"/>
                  <a:pt x="868947" y="370156"/>
                  <a:pt x="883453" y="411378"/>
                </a:cubicBezTo>
                <a:cubicBezTo>
                  <a:pt x="902793" y="466341"/>
                  <a:pt x="963027" y="495219"/>
                  <a:pt x="1017990" y="475879"/>
                </a:cubicBezTo>
                <a:lnTo>
                  <a:pt x="1267386" y="388121"/>
                </a:lnTo>
                <a:lnTo>
                  <a:pt x="1268972" y="395954"/>
                </a:lnTo>
                <a:lnTo>
                  <a:pt x="1234973" y="414408"/>
                </a:lnTo>
                <a:cubicBezTo>
                  <a:pt x="1151791" y="470604"/>
                  <a:pt x="1097102" y="565772"/>
                  <a:pt x="1097102" y="673712"/>
                </a:cubicBezTo>
                <a:cubicBezTo>
                  <a:pt x="1097102" y="846418"/>
                  <a:pt x="1237107" y="986423"/>
                  <a:pt x="1409813" y="986423"/>
                </a:cubicBezTo>
                <a:close/>
                <a:moveTo>
                  <a:pt x="4176800" y="1268611"/>
                </a:moveTo>
                <a:cubicBezTo>
                  <a:pt x="4349505" y="1268611"/>
                  <a:pt x="4489512" y="1128606"/>
                  <a:pt x="4489512" y="955900"/>
                </a:cubicBezTo>
                <a:cubicBezTo>
                  <a:pt x="4489512" y="847960"/>
                  <a:pt x="4434821" y="752792"/>
                  <a:pt x="4351639" y="696596"/>
                </a:cubicBezTo>
                <a:lnTo>
                  <a:pt x="4314342" y="676351"/>
                </a:lnTo>
                <a:lnTo>
                  <a:pt x="4438651" y="29996"/>
                </a:lnTo>
                <a:lnTo>
                  <a:pt x="4332200" y="40276"/>
                </a:lnTo>
                <a:lnTo>
                  <a:pt x="4333096" y="0"/>
                </a:lnTo>
                <a:lnTo>
                  <a:pt x="4006158" y="0"/>
                </a:lnTo>
                <a:lnTo>
                  <a:pt x="3976247" y="74652"/>
                </a:lnTo>
                <a:lnTo>
                  <a:pt x="3914949" y="80573"/>
                </a:lnTo>
                <a:lnTo>
                  <a:pt x="3943931" y="223697"/>
                </a:lnTo>
                <a:lnTo>
                  <a:pt x="3922163" y="225040"/>
                </a:lnTo>
                <a:lnTo>
                  <a:pt x="4005467" y="453572"/>
                </a:lnTo>
                <a:lnTo>
                  <a:pt x="3915917" y="486214"/>
                </a:lnTo>
                <a:lnTo>
                  <a:pt x="3916789" y="488001"/>
                </a:lnTo>
                <a:lnTo>
                  <a:pt x="3750182" y="546627"/>
                </a:lnTo>
                <a:lnTo>
                  <a:pt x="3713017" y="560174"/>
                </a:lnTo>
                <a:lnTo>
                  <a:pt x="3678954" y="580480"/>
                </a:lnTo>
                <a:cubicBezTo>
                  <a:pt x="3648552" y="608157"/>
                  <a:pt x="3635934" y="652344"/>
                  <a:pt x="3650440" y="693566"/>
                </a:cubicBezTo>
                <a:cubicBezTo>
                  <a:pt x="3669781" y="748529"/>
                  <a:pt x="3730015" y="777407"/>
                  <a:pt x="3784978" y="758067"/>
                </a:cubicBezTo>
                <a:lnTo>
                  <a:pt x="4034373" y="670309"/>
                </a:lnTo>
                <a:lnTo>
                  <a:pt x="4035960" y="678142"/>
                </a:lnTo>
                <a:lnTo>
                  <a:pt x="4001961" y="696596"/>
                </a:lnTo>
                <a:cubicBezTo>
                  <a:pt x="3918778" y="752792"/>
                  <a:pt x="3864090" y="847960"/>
                  <a:pt x="3864090" y="955900"/>
                </a:cubicBezTo>
                <a:cubicBezTo>
                  <a:pt x="3864090" y="1128606"/>
                  <a:pt x="4004095" y="1268611"/>
                  <a:pt x="4176800" y="1268611"/>
                </a:cubicBezTo>
                <a:close/>
                <a:moveTo>
                  <a:pt x="2486636" y="1268611"/>
                </a:moveTo>
                <a:cubicBezTo>
                  <a:pt x="2659341" y="1268611"/>
                  <a:pt x="2799348" y="1128606"/>
                  <a:pt x="2799348" y="955900"/>
                </a:cubicBezTo>
                <a:cubicBezTo>
                  <a:pt x="2799348" y="847960"/>
                  <a:pt x="2744657" y="752792"/>
                  <a:pt x="2661475" y="696596"/>
                </a:cubicBezTo>
                <a:lnTo>
                  <a:pt x="2624178" y="676351"/>
                </a:lnTo>
                <a:lnTo>
                  <a:pt x="2748487" y="29996"/>
                </a:lnTo>
                <a:lnTo>
                  <a:pt x="2642036" y="40276"/>
                </a:lnTo>
                <a:lnTo>
                  <a:pt x="2642932" y="0"/>
                </a:lnTo>
                <a:lnTo>
                  <a:pt x="2315994" y="0"/>
                </a:lnTo>
                <a:lnTo>
                  <a:pt x="2286083" y="74652"/>
                </a:lnTo>
                <a:lnTo>
                  <a:pt x="2224785" y="80573"/>
                </a:lnTo>
                <a:lnTo>
                  <a:pt x="2253767" y="223697"/>
                </a:lnTo>
                <a:lnTo>
                  <a:pt x="2231999" y="225040"/>
                </a:lnTo>
                <a:lnTo>
                  <a:pt x="2315303" y="453572"/>
                </a:lnTo>
                <a:lnTo>
                  <a:pt x="2225754" y="486214"/>
                </a:lnTo>
                <a:lnTo>
                  <a:pt x="2226626" y="488001"/>
                </a:lnTo>
                <a:lnTo>
                  <a:pt x="2060018" y="546627"/>
                </a:lnTo>
                <a:lnTo>
                  <a:pt x="2022854" y="560174"/>
                </a:lnTo>
                <a:lnTo>
                  <a:pt x="1988791" y="580480"/>
                </a:lnTo>
                <a:cubicBezTo>
                  <a:pt x="1958388" y="608157"/>
                  <a:pt x="1945771" y="652344"/>
                  <a:pt x="1960277" y="693566"/>
                </a:cubicBezTo>
                <a:cubicBezTo>
                  <a:pt x="1979617" y="748529"/>
                  <a:pt x="2039851" y="777407"/>
                  <a:pt x="2094814" y="758067"/>
                </a:cubicBezTo>
                <a:lnTo>
                  <a:pt x="2344209" y="670309"/>
                </a:lnTo>
                <a:lnTo>
                  <a:pt x="2345796" y="678142"/>
                </a:lnTo>
                <a:lnTo>
                  <a:pt x="2311797" y="696596"/>
                </a:lnTo>
                <a:cubicBezTo>
                  <a:pt x="2228615" y="752792"/>
                  <a:pt x="2173926" y="847960"/>
                  <a:pt x="2173926" y="955900"/>
                </a:cubicBezTo>
                <a:cubicBezTo>
                  <a:pt x="2173926" y="1128606"/>
                  <a:pt x="2313931" y="1268611"/>
                  <a:pt x="2486636" y="1268611"/>
                </a:cubicBezTo>
                <a:close/>
                <a:moveTo>
                  <a:pt x="3331718" y="1741950"/>
                </a:moveTo>
                <a:cubicBezTo>
                  <a:pt x="3504423" y="1741950"/>
                  <a:pt x="3644430" y="1601945"/>
                  <a:pt x="3644430" y="1429239"/>
                </a:cubicBezTo>
                <a:cubicBezTo>
                  <a:pt x="3644430" y="1321299"/>
                  <a:pt x="3589739" y="1226131"/>
                  <a:pt x="3506557" y="1169935"/>
                </a:cubicBezTo>
                <a:lnTo>
                  <a:pt x="3469260" y="1149690"/>
                </a:lnTo>
                <a:lnTo>
                  <a:pt x="3593569" y="503335"/>
                </a:lnTo>
                <a:lnTo>
                  <a:pt x="3487118" y="513615"/>
                </a:lnTo>
                <a:lnTo>
                  <a:pt x="3498549" y="0"/>
                </a:lnTo>
                <a:lnTo>
                  <a:pt x="3273660" y="22383"/>
                </a:lnTo>
                <a:cubicBezTo>
                  <a:pt x="3257338" y="115312"/>
                  <a:pt x="3249968" y="199289"/>
                  <a:pt x="3233645" y="292218"/>
                </a:cubicBezTo>
                <a:lnTo>
                  <a:pt x="3131165" y="547991"/>
                </a:lnTo>
                <a:lnTo>
                  <a:pt x="3069867" y="553912"/>
                </a:lnTo>
                <a:lnTo>
                  <a:pt x="3098849" y="697036"/>
                </a:lnTo>
                <a:lnTo>
                  <a:pt x="3077081" y="698379"/>
                </a:lnTo>
                <a:lnTo>
                  <a:pt x="3160385" y="926911"/>
                </a:lnTo>
                <a:lnTo>
                  <a:pt x="3070835" y="959553"/>
                </a:lnTo>
                <a:lnTo>
                  <a:pt x="3071707" y="961340"/>
                </a:lnTo>
                <a:lnTo>
                  <a:pt x="2905100" y="1019966"/>
                </a:lnTo>
                <a:lnTo>
                  <a:pt x="2867935" y="1033513"/>
                </a:lnTo>
                <a:lnTo>
                  <a:pt x="2833872" y="1053819"/>
                </a:lnTo>
                <a:cubicBezTo>
                  <a:pt x="2803470" y="1081496"/>
                  <a:pt x="2790852" y="1125683"/>
                  <a:pt x="2805358" y="1166905"/>
                </a:cubicBezTo>
                <a:cubicBezTo>
                  <a:pt x="2824699" y="1221868"/>
                  <a:pt x="2884933" y="1250746"/>
                  <a:pt x="2939896" y="1231406"/>
                </a:cubicBezTo>
                <a:lnTo>
                  <a:pt x="3189291" y="1143648"/>
                </a:lnTo>
                <a:lnTo>
                  <a:pt x="3190878" y="1151481"/>
                </a:lnTo>
                <a:lnTo>
                  <a:pt x="3156879" y="1169935"/>
                </a:lnTo>
                <a:cubicBezTo>
                  <a:pt x="3073696" y="1226131"/>
                  <a:pt x="3019008" y="1321299"/>
                  <a:pt x="3019008" y="1429239"/>
                </a:cubicBezTo>
                <a:cubicBezTo>
                  <a:pt x="3019008" y="1601945"/>
                  <a:pt x="3159013" y="1741950"/>
                  <a:pt x="3331718" y="1741950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3" name="椭圆 3"/>
          <p:cNvSpPr/>
          <p:nvPr/>
        </p:nvSpPr>
        <p:spPr>
          <a:xfrm>
            <a:off x="3130920" y="883800"/>
            <a:ext cx="1131840" cy="113184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4" name="梯形 4"/>
          <p:cNvSpPr/>
          <p:nvPr/>
        </p:nvSpPr>
        <p:spPr>
          <a:xfrm>
            <a:off x="3557880" y="1835640"/>
            <a:ext cx="813960" cy="1127880"/>
          </a:xfrm>
          <a:custGeom>
            <a:avLst/>
            <a:gdLst>
              <a:gd name="textAreaLeft" fmla="*/ 0 w 813960"/>
              <a:gd name="textAreaRight" fmla="*/ 814320 w 813960"/>
              <a:gd name="textAreaTop" fmla="*/ 0 h 1127880"/>
              <a:gd name="textAreaBottom" fmla="*/ 1128240 h 1127880"/>
            </a:gdLst>
            <a:ahLst/>
            <a:rect l="textAreaLeft" t="textAreaTop" r="textAreaRight" b="textAreaBottom"/>
            <a:pathLst>
              <a:path w="654214" h="1128180">
                <a:moveTo>
                  <a:pt x="8328" y="1099151"/>
                </a:moveTo>
                <a:lnTo>
                  <a:pt x="0" y="0"/>
                </a:lnTo>
                <a:lnTo>
                  <a:pt x="349238" y="46496"/>
                </a:lnTo>
                <a:lnTo>
                  <a:pt x="654214" y="1128180"/>
                </a:lnTo>
                <a:lnTo>
                  <a:pt x="8328" y="109915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5" name="圆角矩形 6"/>
          <p:cNvSpPr/>
          <p:nvPr/>
        </p:nvSpPr>
        <p:spPr>
          <a:xfrm rot="700200">
            <a:off x="3763440" y="2028240"/>
            <a:ext cx="1360800" cy="41400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6" name="椭圆 8"/>
          <p:cNvSpPr/>
          <p:nvPr/>
        </p:nvSpPr>
        <p:spPr>
          <a:xfrm>
            <a:off x="4179960" y="1279080"/>
            <a:ext cx="739800" cy="73980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7" name="梯形 10"/>
          <p:cNvSpPr/>
          <p:nvPr/>
        </p:nvSpPr>
        <p:spPr>
          <a:xfrm rot="20093400">
            <a:off x="4302000" y="1821960"/>
            <a:ext cx="654840" cy="1556640"/>
          </a:xfrm>
          <a:custGeom>
            <a:avLst/>
            <a:gdLst>
              <a:gd name="textAreaLeft" fmla="*/ 0 w 654840"/>
              <a:gd name="textAreaRight" fmla="*/ 655200 w 654840"/>
              <a:gd name="textAreaTop" fmla="*/ 0 h 1556640"/>
              <a:gd name="textAreaBottom" fmla="*/ 1557000 h 1556640"/>
            </a:gdLst>
            <a:ahLst/>
            <a:rect l="textAreaLeft" t="textAreaTop" r="textAreaRight" b="textAreaBottom"/>
            <a:pathLst>
              <a:path w="655125" h="1557005">
                <a:moveTo>
                  <a:pt x="0" y="1557005"/>
                </a:moveTo>
                <a:lnTo>
                  <a:pt x="221738" y="0"/>
                </a:lnTo>
                <a:lnTo>
                  <a:pt x="511319" y="33005"/>
                </a:lnTo>
                <a:lnTo>
                  <a:pt x="655125" y="1557005"/>
                </a:lnTo>
                <a:lnTo>
                  <a:pt x="0" y="1557005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8" name="圆角矩形 11"/>
          <p:cNvSpPr/>
          <p:nvPr/>
        </p:nvSpPr>
        <p:spPr>
          <a:xfrm rot="5178000">
            <a:off x="4213800" y="3169080"/>
            <a:ext cx="1267560" cy="471600"/>
          </a:xfrm>
          <a:custGeom>
            <a:avLst/>
            <a:gdLst>
              <a:gd name="textAreaLeft" fmla="*/ 0 w 1267560"/>
              <a:gd name="textAreaRight" fmla="*/ 1267920 w 12675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1268010" h="472009">
                <a:moveTo>
                  <a:pt x="0" y="116956"/>
                </a:moveTo>
                <a:lnTo>
                  <a:pt x="0" y="116956"/>
                </a:lnTo>
                <a:cubicBezTo>
                  <a:pt x="201759" y="118551"/>
                  <a:pt x="442453" y="-1580"/>
                  <a:pt x="644212" y="15"/>
                </a:cubicBezTo>
                <a:lnTo>
                  <a:pt x="1268010" y="116956"/>
                </a:lnTo>
                <a:lnTo>
                  <a:pt x="1268010" y="116956"/>
                </a:lnTo>
                <a:lnTo>
                  <a:pt x="1268010" y="471654"/>
                </a:lnTo>
                <a:lnTo>
                  <a:pt x="1268010" y="471654"/>
                </a:lnTo>
                <a:cubicBezTo>
                  <a:pt x="1085492" y="481746"/>
                  <a:pt x="886049" y="273314"/>
                  <a:pt x="703531" y="283406"/>
                </a:cubicBezTo>
                <a:lnTo>
                  <a:pt x="0" y="471654"/>
                </a:lnTo>
                <a:lnTo>
                  <a:pt x="0" y="471654"/>
                </a:lnTo>
                <a:lnTo>
                  <a:pt x="0" y="116956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9" name="梯形 12"/>
          <p:cNvSpPr/>
          <p:nvPr/>
        </p:nvSpPr>
        <p:spPr>
          <a:xfrm flipV="1">
            <a:off x="3568320" y="2831040"/>
            <a:ext cx="735120" cy="1189800"/>
          </a:xfrm>
          <a:custGeom>
            <a:avLst/>
            <a:gdLst>
              <a:gd name="textAreaLeft" fmla="*/ 0 w 735120"/>
              <a:gd name="textAreaRight" fmla="*/ 735480 w 735120"/>
              <a:gd name="textAreaTop" fmla="*/ -360 h 1189800"/>
              <a:gd name="textAreaBottom" fmla="*/ 1189800 h 1189800"/>
            </a:gdLst>
            <a:ahLst/>
            <a:rect l="textAreaLeft" t="textAreaTop" r="textAreaRight" b="textAreaBottom"/>
            <a:pathLst>
              <a:path w="528124" h="1190172">
                <a:moveTo>
                  <a:pt x="0" y="1190172"/>
                </a:moveTo>
                <a:cubicBezTo>
                  <a:pt x="10726" y="1009903"/>
                  <a:pt x="160937" y="783138"/>
                  <a:pt x="171663" y="602869"/>
                </a:cubicBezTo>
                <a:lnTo>
                  <a:pt x="129040" y="0"/>
                </a:lnTo>
                <a:lnTo>
                  <a:pt x="387119" y="0"/>
                </a:lnTo>
                <a:cubicBezTo>
                  <a:pt x="403124" y="206122"/>
                  <a:pt x="512119" y="427744"/>
                  <a:pt x="528124" y="633866"/>
                </a:cubicBezTo>
                <a:lnTo>
                  <a:pt x="516158" y="1190172"/>
                </a:lnTo>
                <a:lnTo>
                  <a:pt x="0" y="1190172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0" name="任意多边形 21"/>
          <p:cNvSpPr/>
          <p:nvPr/>
        </p:nvSpPr>
        <p:spPr>
          <a:xfrm flipH="1" rot="350400">
            <a:off x="4866480" y="1441800"/>
            <a:ext cx="273240" cy="813600"/>
          </a:xfrm>
          <a:custGeom>
            <a:avLst/>
            <a:gdLst>
              <a:gd name="textAreaLeft" fmla="*/ -360 w 273240"/>
              <a:gd name="textAreaRight" fmla="*/ 273240 w 273240"/>
              <a:gd name="textAreaTop" fmla="*/ 0 h 813600"/>
              <a:gd name="textAreaBottom" fmla="*/ 813960 h 813600"/>
            </a:gdLst>
            <a:ahLst/>
            <a:rect l="textAreaLeft" t="textAreaTop" r="textAreaRight" b="textAreaBottom"/>
            <a:pathLst>
              <a:path w="812800" h="2419521">
                <a:moveTo>
                  <a:pt x="191538" y="0"/>
                </a:moveTo>
                <a:lnTo>
                  <a:pt x="233026" y="8207"/>
                </a:lnTo>
                <a:cubicBezTo>
                  <a:pt x="454593" y="97177"/>
                  <a:pt x="621263" y="481876"/>
                  <a:pt x="621263" y="942963"/>
                </a:cubicBezTo>
                <a:lnTo>
                  <a:pt x="621251" y="943231"/>
                </a:lnTo>
                <a:lnTo>
                  <a:pt x="621263" y="943231"/>
                </a:lnTo>
                <a:lnTo>
                  <a:pt x="621263" y="1757474"/>
                </a:lnTo>
                <a:lnTo>
                  <a:pt x="812800" y="1757474"/>
                </a:lnTo>
                <a:lnTo>
                  <a:pt x="812800" y="1915885"/>
                </a:lnTo>
                <a:lnTo>
                  <a:pt x="621263" y="1915885"/>
                </a:lnTo>
                <a:lnTo>
                  <a:pt x="621263" y="1915886"/>
                </a:lnTo>
                <a:lnTo>
                  <a:pt x="543081" y="1915886"/>
                </a:lnTo>
                <a:lnTo>
                  <a:pt x="543081" y="2373960"/>
                </a:lnTo>
                <a:cubicBezTo>
                  <a:pt x="543081" y="2399123"/>
                  <a:pt x="522683" y="2419521"/>
                  <a:pt x="497520" y="2419521"/>
                </a:cubicBezTo>
                <a:lnTo>
                  <a:pt x="315279" y="2419521"/>
                </a:lnTo>
                <a:cubicBezTo>
                  <a:pt x="290116" y="2419521"/>
                  <a:pt x="269718" y="2399123"/>
                  <a:pt x="269718" y="2373960"/>
                </a:cubicBezTo>
                <a:lnTo>
                  <a:pt x="269718" y="1915886"/>
                </a:lnTo>
                <a:lnTo>
                  <a:pt x="191538" y="1915886"/>
                </a:lnTo>
                <a:lnTo>
                  <a:pt x="191538" y="1915885"/>
                </a:lnTo>
                <a:lnTo>
                  <a:pt x="0" y="1915885"/>
                </a:lnTo>
                <a:lnTo>
                  <a:pt x="0" y="1757474"/>
                </a:lnTo>
                <a:lnTo>
                  <a:pt x="191538" y="1757474"/>
                </a:lnTo>
                <a:lnTo>
                  <a:pt x="191538" y="94323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1" name="任意多边形 96"/>
          <p:cNvSpPr/>
          <p:nvPr/>
        </p:nvSpPr>
        <p:spPr>
          <a:xfrm flipH="1" flipV="1">
            <a:off x="9968760" y="1671840"/>
            <a:ext cx="1151280" cy="2373120"/>
          </a:xfrm>
          <a:custGeom>
            <a:avLst/>
            <a:gdLst>
              <a:gd name="textAreaLeft" fmla="*/ 360 w 1151280"/>
              <a:gd name="textAreaRight" fmla="*/ 1152000 w 1151280"/>
              <a:gd name="textAreaTop" fmla="*/ 360 h 2373120"/>
              <a:gd name="textAreaBottom" fmla="*/ 2373840 h 2373120"/>
            </a:gdLst>
            <a:ahLst/>
            <a:rect l="textAreaLeft" t="textAreaTop" r="textAreaRight" b="textAreaBottom"/>
            <a:pathLst>
              <a:path w="1096974" h="2261171">
                <a:moveTo>
                  <a:pt x="405921" y="2261171"/>
                </a:moveTo>
                <a:cubicBezTo>
                  <a:pt x="181738" y="2261171"/>
                  <a:pt x="0" y="2079434"/>
                  <a:pt x="0" y="1855251"/>
                </a:cubicBezTo>
                <a:cubicBezTo>
                  <a:pt x="0" y="1715137"/>
                  <a:pt x="70992" y="1591602"/>
                  <a:pt x="178968" y="1518656"/>
                </a:cubicBezTo>
                <a:lnTo>
                  <a:pt x="227383" y="1492376"/>
                </a:lnTo>
                <a:lnTo>
                  <a:pt x="66021" y="653363"/>
                </a:lnTo>
                <a:lnTo>
                  <a:pt x="204202" y="666707"/>
                </a:lnTo>
                <a:lnTo>
                  <a:pt x="189363" y="0"/>
                </a:lnTo>
                <a:lnTo>
                  <a:pt x="481285" y="29055"/>
                </a:lnTo>
                <a:cubicBezTo>
                  <a:pt x="502472" y="149683"/>
                  <a:pt x="512038" y="258691"/>
                  <a:pt x="533227" y="379319"/>
                </a:cubicBezTo>
                <a:lnTo>
                  <a:pt x="666253" y="711330"/>
                </a:lnTo>
                <a:lnTo>
                  <a:pt x="745822" y="719015"/>
                </a:lnTo>
                <a:lnTo>
                  <a:pt x="708201" y="904801"/>
                </a:lnTo>
                <a:lnTo>
                  <a:pt x="736458" y="906544"/>
                </a:lnTo>
                <a:lnTo>
                  <a:pt x="628324" y="1203194"/>
                </a:lnTo>
                <a:lnTo>
                  <a:pt x="744565" y="1245566"/>
                </a:lnTo>
                <a:lnTo>
                  <a:pt x="743433" y="1247885"/>
                </a:lnTo>
                <a:lnTo>
                  <a:pt x="959701" y="1323986"/>
                </a:lnTo>
                <a:lnTo>
                  <a:pt x="1007943" y="1341571"/>
                </a:lnTo>
                <a:lnTo>
                  <a:pt x="1052159" y="1367929"/>
                </a:lnTo>
                <a:cubicBezTo>
                  <a:pt x="1091624" y="1403856"/>
                  <a:pt x="1108002" y="1461214"/>
                  <a:pt x="1089172" y="1514723"/>
                </a:cubicBezTo>
                <a:cubicBezTo>
                  <a:pt x="1064067" y="1586069"/>
                  <a:pt x="985879" y="1623554"/>
                  <a:pt x="914533" y="1598449"/>
                </a:cubicBezTo>
                <a:lnTo>
                  <a:pt x="590801" y="1484533"/>
                </a:lnTo>
                <a:lnTo>
                  <a:pt x="588742" y="1494701"/>
                </a:lnTo>
                <a:lnTo>
                  <a:pt x="632875" y="1518656"/>
                </a:lnTo>
                <a:cubicBezTo>
                  <a:pt x="740851" y="1591602"/>
                  <a:pt x="811841" y="1715137"/>
                  <a:pt x="811841" y="1855251"/>
                </a:cubicBezTo>
                <a:cubicBezTo>
                  <a:pt x="811841" y="2079434"/>
                  <a:pt x="630104" y="2261171"/>
                  <a:pt x="405921" y="2261171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2" name="圆角矩形 1"/>
          <p:cNvSpPr/>
          <p:nvPr/>
        </p:nvSpPr>
        <p:spPr>
          <a:xfrm rot="1613400">
            <a:off x="4462200" y="2421720"/>
            <a:ext cx="1029960" cy="32616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3" name="任意多边形 24"/>
          <p:cNvSpPr/>
          <p:nvPr/>
        </p:nvSpPr>
        <p:spPr>
          <a:xfrm rot="20952000">
            <a:off x="5172480" y="2616480"/>
            <a:ext cx="564840" cy="525960"/>
          </a:xfrm>
          <a:custGeom>
            <a:avLst/>
            <a:gdLst>
              <a:gd name="textAreaLeft" fmla="*/ 0 w 564840"/>
              <a:gd name="textAreaRight" fmla="*/ 565200 w 564840"/>
              <a:gd name="textAreaTop" fmla="*/ 0 h 525960"/>
              <a:gd name="textAreaBottom" fmla="*/ 526320 h 525960"/>
            </a:gdLst>
            <a:ahLst/>
            <a:rect l="textAreaLeft" t="textAreaTop" r="textAreaRight" b="textAreaBottom"/>
            <a:pathLst>
              <a:path w="799631" h="744545">
                <a:moveTo>
                  <a:pt x="635280" y="46186"/>
                </a:moveTo>
                <a:cubicBezTo>
                  <a:pt x="682488" y="66154"/>
                  <a:pt x="715613" y="112899"/>
                  <a:pt x="715613" y="167381"/>
                </a:cubicBezTo>
                <a:lnTo>
                  <a:pt x="715612" y="167381"/>
                </a:lnTo>
                <a:cubicBezTo>
                  <a:pt x="715612" y="221863"/>
                  <a:pt x="682488" y="268608"/>
                  <a:pt x="635279" y="288576"/>
                </a:cubicBezTo>
                <a:lnTo>
                  <a:pt x="604903" y="294708"/>
                </a:lnTo>
                <a:lnTo>
                  <a:pt x="665664" y="363815"/>
                </a:lnTo>
                <a:cubicBezTo>
                  <a:pt x="696086" y="398415"/>
                  <a:pt x="692698" y="451126"/>
                  <a:pt x="658098" y="481547"/>
                </a:cubicBezTo>
                <a:lnTo>
                  <a:pt x="658098" y="481546"/>
                </a:lnTo>
                <a:lnTo>
                  <a:pt x="652953" y="484506"/>
                </a:lnTo>
                <a:lnTo>
                  <a:pt x="782776" y="632160"/>
                </a:lnTo>
                <a:cubicBezTo>
                  <a:pt x="807460" y="660236"/>
                  <a:pt x="804712" y="703005"/>
                  <a:pt x="776637" y="727690"/>
                </a:cubicBezTo>
                <a:cubicBezTo>
                  <a:pt x="748561" y="752375"/>
                  <a:pt x="705792" y="749626"/>
                  <a:pt x="681107" y="721551"/>
                </a:cubicBezTo>
                <a:lnTo>
                  <a:pt x="551587" y="574241"/>
                </a:lnTo>
                <a:lnTo>
                  <a:pt x="545505" y="597445"/>
                </a:lnTo>
                <a:cubicBezTo>
                  <a:pt x="540797" y="607205"/>
                  <a:pt x="534098" y="616204"/>
                  <a:pt x="525448" y="623809"/>
                </a:cubicBezTo>
                <a:lnTo>
                  <a:pt x="525447" y="623809"/>
                </a:lnTo>
                <a:cubicBezTo>
                  <a:pt x="490847" y="654230"/>
                  <a:pt x="438136" y="650843"/>
                  <a:pt x="407715" y="616243"/>
                </a:cubicBezTo>
                <a:lnTo>
                  <a:pt x="407413" y="615899"/>
                </a:lnTo>
                <a:lnTo>
                  <a:pt x="403284" y="631651"/>
                </a:lnTo>
                <a:cubicBezTo>
                  <a:pt x="399364" y="639778"/>
                  <a:pt x="393786" y="647270"/>
                  <a:pt x="386585" y="653602"/>
                </a:cubicBezTo>
                <a:cubicBezTo>
                  <a:pt x="357777" y="678931"/>
                  <a:pt x="313890" y="676110"/>
                  <a:pt x="288561" y="647303"/>
                </a:cubicBezTo>
                <a:lnTo>
                  <a:pt x="207299" y="554879"/>
                </a:lnTo>
                <a:lnTo>
                  <a:pt x="194003" y="551975"/>
                </a:lnTo>
                <a:cubicBezTo>
                  <a:pt x="148218" y="534824"/>
                  <a:pt x="106888" y="504286"/>
                  <a:pt x="76418" y="461444"/>
                </a:cubicBezTo>
                <a:lnTo>
                  <a:pt x="47001" y="420082"/>
                </a:lnTo>
                <a:cubicBezTo>
                  <a:pt x="-34252" y="305836"/>
                  <a:pt x="-7505" y="147355"/>
                  <a:pt x="106741" y="66102"/>
                </a:cubicBezTo>
                <a:lnTo>
                  <a:pt x="133598" y="47001"/>
                </a:lnTo>
                <a:cubicBezTo>
                  <a:pt x="219282" y="-13938"/>
                  <a:pt x="329850" y="-14128"/>
                  <a:pt x="414056" y="37783"/>
                </a:cubicBezTo>
                <a:lnTo>
                  <a:pt x="418740" y="41356"/>
                </a:lnTo>
                <a:lnTo>
                  <a:pt x="455156" y="35850"/>
                </a:lnTo>
                <a:lnTo>
                  <a:pt x="584082" y="35850"/>
                </a:lnTo>
                <a:cubicBezTo>
                  <a:pt x="602243" y="35850"/>
                  <a:pt x="619544" y="39531"/>
                  <a:pt x="635280" y="46186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4" name="任意多边形 26"/>
          <p:cNvSpPr/>
          <p:nvPr/>
        </p:nvSpPr>
        <p:spPr>
          <a:xfrm flipH="1" flipV="1">
            <a:off x="5594400" y="3165840"/>
            <a:ext cx="862560" cy="866160"/>
          </a:xfrm>
          <a:custGeom>
            <a:avLst/>
            <a:gdLst>
              <a:gd name="textAreaLeft" fmla="*/ 360 w 862560"/>
              <a:gd name="textAreaRight" fmla="*/ 863280 w 862560"/>
              <a:gd name="textAreaTop" fmla="*/ 360 h 866160"/>
              <a:gd name="textAreaBottom" fmla="*/ 866880 h 866160"/>
            </a:gdLst>
            <a:ahLst/>
            <a:rect l="textAreaLeft" t="textAreaTop" r="textAreaRight" b="textAreaBottom"/>
            <a:pathLst>
              <a:path w="1151519" h="1156393">
                <a:moveTo>
                  <a:pt x="426105" y="1156393"/>
                </a:moveTo>
                <a:cubicBezTo>
                  <a:pt x="190775" y="1156393"/>
                  <a:pt x="0" y="965620"/>
                  <a:pt x="0" y="730290"/>
                </a:cubicBezTo>
                <a:cubicBezTo>
                  <a:pt x="0" y="583209"/>
                  <a:pt x="74522" y="453531"/>
                  <a:pt x="187867" y="376958"/>
                </a:cubicBezTo>
                <a:lnTo>
                  <a:pt x="238689" y="349372"/>
                </a:lnTo>
                <a:lnTo>
                  <a:pt x="171497" y="0"/>
                </a:lnTo>
                <a:lnTo>
                  <a:pt x="676265" y="0"/>
                </a:lnTo>
                <a:lnTo>
                  <a:pt x="659566" y="45811"/>
                </a:lnTo>
                <a:lnTo>
                  <a:pt x="781587" y="90290"/>
                </a:lnTo>
                <a:lnTo>
                  <a:pt x="780399" y="92724"/>
                </a:lnTo>
                <a:lnTo>
                  <a:pt x="1007421" y="172609"/>
                </a:lnTo>
                <a:lnTo>
                  <a:pt x="1058061" y="191068"/>
                </a:lnTo>
                <a:lnTo>
                  <a:pt x="1104476" y="218737"/>
                </a:lnTo>
                <a:cubicBezTo>
                  <a:pt x="1145903" y="256450"/>
                  <a:pt x="1163096" y="316660"/>
                  <a:pt x="1143329" y="372830"/>
                </a:cubicBezTo>
                <a:cubicBezTo>
                  <a:pt x="1116976" y="447723"/>
                  <a:pt x="1034900" y="487072"/>
                  <a:pt x="960007" y="460719"/>
                </a:cubicBezTo>
                <a:lnTo>
                  <a:pt x="620178" y="341139"/>
                </a:lnTo>
                <a:lnTo>
                  <a:pt x="618016" y="351812"/>
                </a:lnTo>
                <a:lnTo>
                  <a:pt x="664344" y="376958"/>
                </a:lnTo>
                <a:cubicBezTo>
                  <a:pt x="777689" y="453531"/>
                  <a:pt x="852209" y="583209"/>
                  <a:pt x="852209" y="730290"/>
                </a:cubicBezTo>
                <a:cubicBezTo>
                  <a:pt x="852209" y="965620"/>
                  <a:pt x="661435" y="1156393"/>
                  <a:pt x="426105" y="1156393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等腰三角形 27"/>
          <p:cNvSpPr/>
          <p:nvPr/>
        </p:nvSpPr>
        <p:spPr>
          <a:xfrm rot="18532200">
            <a:off x="5415840" y="200556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6" name="等腰三角形 28"/>
          <p:cNvSpPr/>
          <p:nvPr/>
        </p:nvSpPr>
        <p:spPr>
          <a:xfrm rot="17885400">
            <a:off x="5394240" y="1984680"/>
            <a:ext cx="81360" cy="49860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7" name="等腰三角形 29"/>
          <p:cNvSpPr/>
          <p:nvPr/>
        </p:nvSpPr>
        <p:spPr>
          <a:xfrm rot="17281800">
            <a:off x="5507640" y="185004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8" name="文本框 30"/>
          <p:cNvSpPr/>
          <p:nvPr/>
        </p:nvSpPr>
        <p:spPr>
          <a:xfrm>
            <a:off x="5775840" y="2181600"/>
            <a:ext cx="2798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你来救我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90"/>
          <p:cNvSpPr/>
          <p:nvPr/>
        </p:nvSpPr>
        <p:spPr>
          <a:xfrm>
            <a:off x="788040" y="3976920"/>
            <a:ext cx="10331640" cy="1101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0" name="文本框 35"/>
          <p:cNvSpPr/>
          <p:nvPr/>
        </p:nvSpPr>
        <p:spPr>
          <a:xfrm>
            <a:off x="3719520" y="4178520"/>
            <a:ext cx="78710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这位女士对着一个人大喊“你来救我”的时候，责任是一对一的，你没有选择。</a:t>
            </a:r>
            <a:r>
              <a:rPr b="0" lang="zh-CN" sz="3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所以说对准一个人喊救命，你更有可能得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 23"/>
          <p:cNvSpPr/>
          <p:nvPr/>
        </p:nvSpPr>
        <p:spPr>
          <a:xfrm>
            <a:off x="419040" y="2515680"/>
            <a:ext cx="2943360" cy="294336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2" name="文本框 32"/>
          <p:cNvSpPr/>
          <p:nvPr/>
        </p:nvSpPr>
        <p:spPr>
          <a:xfrm>
            <a:off x="583560" y="3239280"/>
            <a:ext cx="2749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责任集中到一个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矩形 3"/>
          <p:cNvSpPr/>
          <p:nvPr/>
        </p:nvSpPr>
        <p:spPr>
          <a:xfrm>
            <a:off x="2707920" y="4255560"/>
            <a:ext cx="75798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如果她指的是</a:t>
            </a:r>
            <a:r>
              <a:rPr b="1" lang="zh-CN" sz="4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你</a:t>
            </a:r>
            <a:r>
              <a:rPr b="0" lang="zh-CN" sz="4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，你不去救她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结果会是什么？一辈子的内疚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任意多边形 4"/>
          <p:cNvSpPr/>
          <p:nvPr/>
        </p:nvSpPr>
        <p:spPr>
          <a:xfrm flipV="1">
            <a:off x="4754520" y="2287080"/>
            <a:ext cx="4489200" cy="1741680"/>
          </a:xfrm>
          <a:custGeom>
            <a:avLst/>
            <a:gdLst>
              <a:gd name="textAreaLeft" fmla="*/ 0 w 4489200"/>
              <a:gd name="textAreaRight" fmla="*/ 4489560 w 4489200"/>
              <a:gd name="textAreaTop" fmla="*/ 360 h 1741680"/>
              <a:gd name="textAreaBottom" fmla="*/ 1742400 h 1741680"/>
            </a:gdLst>
            <a:ahLst/>
            <a:rect l="textAreaLeft" t="textAreaTop" r="textAreaRight" b="textAreaBottom"/>
            <a:pathLst>
              <a:path w="4489512" h="1741950">
                <a:moveTo>
                  <a:pt x="532371" y="870975"/>
                </a:moveTo>
                <a:cubicBezTo>
                  <a:pt x="705076" y="870975"/>
                  <a:pt x="845082" y="730970"/>
                  <a:pt x="845082" y="558264"/>
                </a:cubicBezTo>
                <a:cubicBezTo>
                  <a:pt x="845082" y="450324"/>
                  <a:pt x="790392" y="355156"/>
                  <a:pt x="707210" y="298960"/>
                </a:cubicBezTo>
                <a:lnTo>
                  <a:pt x="669912" y="278715"/>
                </a:lnTo>
                <a:lnTo>
                  <a:pt x="723516" y="0"/>
                </a:lnTo>
                <a:lnTo>
                  <a:pt x="340648" y="0"/>
                </a:lnTo>
                <a:lnTo>
                  <a:pt x="361037" y="55936"/>
                </a:lnTo>
                <a:lnTo>
                  <a:pt x="271488" y="88578"/>
                </a:lnTo>
                <a:lnTo>
                  <a:pt x="272360" y="90365"/>
                </a:lnTo>
                <a:lnTo>
                  <a:pt x="105752" y="148991"/>
                </a:lnTo>
                <a:lnTo>
                  <a:pt x="68588" y="162538"/>
                </a:lnTo>
                <a:lnTo>
                  <a:pt x="34525" y="182844"/>
                </a:lnTo>
                <a:cubicBezTo>
                  <a:pt x="4122" y="210521"/>
                  <a:pt x="-8495" y="254708"/>
                  <a:pt x="6011" y="295930"/>
                </a:cubicBezTo>
                <a:cubicBezTo>
                  <a:pt x="25351" y="350893"/>
                  <a:pt x="85585" y="379771"/>
                  <a:pt x="140548" y="360431"/>
                </a:cubicBezTo>
                <a:lnTo>
                  <a:pt x="389944" y="272673"/>
                </a:lnTo>
                <a:lnTo>
                  <a:pt x="391530" y="280506"/>
                </a:lnTo>
                <a:lnTo>
                  <a:pt x="357531" y="298960"/>
                </a:lnTo>
                <a:cubicBezTo>
                  <a:pt x="274349" y="355156"/>
                  <a:pt x="219660" y="450324"/>
                  <a:pt x="219660" y="558264"/>
                </a:cubicBezTo>
                <a:cubicBezTo>
                  <a:pt x="219660" y="730970"/>
                  <a:pt x="359665" y="870975"/>
                  <a:pt x="532371" y="870975"/>
                </a:cubicBezTo>
                <a:close/>
                <a:moveTo>
                  <a:pt x="1409813" y="986423"/>
                </a:moveTo>
                <a:cubicBezTo>
                  <a:pt x="1582518" y="986423"/>
                  <a:pt x="1722524" y="846418"/>
                  <a:pt x="1722524" y="673712"/>
                </a:cubicBezTo>
                <a:cubicBezTo>
                  <a:pt x="1722524" y="565772"/>
                  <a:pt x="1667834" y="470604"/>
                  <a:pt x="1584652" y="414408"/>
                </a:cubicBezTo>
                <a:lnTo>
                  <a:pt x="1547354" y="394163"/>
                </a:lnTo>
                <a:lnTo>
                  <a:pt x="1623161" y="0"/>
                </a:lnTo>
                <a:lnTo>
                  <a:pt x="1176007" y="0"/>
                </a:lnTo>
                <a:lnTo>
                  <a:pt x="1238479" y="171384"/>
                </a:lnTo>
                <a:lnTo>
                  <a:pt x="1148930" y="204026"/>
                </a:lnTo>
                <a:lnTo>
                  <a:pt x="1149802" y="205813"/>
                </a:lnTo>
                <a:lnTo>
                  <a:pt x="983194" y="264439"/>
                </a:lnTo>
                <a:lnTo>
                  <a:pt x="946030" y="277986"/>
                </a:lnTo>
                <a:lnTo>
                  <a:pt x="911967" y="298292"/>
                </a:lnTo>
                <a:cubicBezTo>
                  <a:pt x="881564" y="325969"/>
                  <a:pt x="868947" y="370156"/>
                  <a:pt x="883453" y="411378"/>
                </a:cubicBezTo>
                <a:cubicBezTo>
                  <a:pt x="902793" y="466341"/>
                  <a:pt x="963027" y="495219"/>
                  <a:pt x="1017990" y="475879"/>
                </a:cubicBezTo>
                <a:lnTo>
                  <a:pt x="1267386" y="388121"/>
                </a:lnTo>
                <a:lnTo>
                  <a:pt x="1268972" y="395954"/>
                </a:lnTo>
                <a:lnTo>
                  <a:pt x="1234973" y="414408"/>
                </a:lnTo>
                <a:cubicBezTo>
                  <a:pt x="1151791" y="470604"/>
                  <a:pt x="1097102" y="565772"/>
                  <a:pt x="1097102" y="673712"/>
                </a:cubicBezTo>
                <a:cubicBezTo>
                  <a:pt x="1097102" y="846418"/>
                  <a:pt x="1237107" y="986423"/>
                  <a:pt x="1409813" y="986423"/>
                </a:cubicBezTo>
                <a:close/>
                <a:moveTo>
                  <a:pt x="4176800" y="1268611"/>
                </a:moveTo>
                <a:cubicBezTo>
                  <a:pt x="4349505" y="1268611"/>
                  <a:pt x="4489512" y="1128606"/>
                  <a:pt x="4489512" y="955900"/>
                </a:cubicBezTo>
                <a:cubicBezTo>
                  <a:pt x="4489512" y="847960"/>
                  <a:pt x="4434821" y="752792"/>
                  <a:pt x="4351639" y="696596"/>
                </a:cubicBezTo>
                <a:lnTo>
                  <a:pt x="4314342" y="676351"/>
                </a:lnTo>
                <a:lnTo>
                  <a:pt x="4438651" y="29996"/>
                </a:lnTo>
                <a:lnTo>
                  <a:pt x="4332200" y="40276"/>
                </a:lnTo>
                <a:lnTo>
                  <a:pt x="4333096" y="0"/>
                </a:lnTo>
                <a:lnTo>
                  <a:pt x="4006158" y="0"/>
                </a:lnTo>
                <a:lnTo>
                  <a:pt x="3976247" y="74652"/>
                </a:lnTo>
                <a:lnTo>
                  <a:pt x="3914949" y="80573"/>
                </a:lnTo>
                <a:lnTo>
                  <a:pt x="3943931" y="223697"/>
                </a:lnTo>
                <a:lnTo>
                  <a:pt x="3922163" y="225040"/>
                </a:lnTo>
                <a:lnTo>
                  <a:pt x="4005467" y="453572"/>
                </a:lnTo>
                <a:lnTo>
                  <a:pt x="3915917" y="486214"/>
                </a:lnTo>
                <a:lnTo>
                  <a:pt x="3916789" y="488001"/>
                </a:lnTo>
                <a:lnTo>
                  <a:pt x="3750182" y="546627"/>
                </a:lnTo>
                <a:lnTo>
                  <a:pt x="3713017" y="560174"/>
                </a:lnTo>
                <a:lnTo>
                  <a:pt x="3678954" y="580480"/>
                </a:lnTo>
                <a:cubicBezTo>
                  <a:pt x="3648552" y="608157"/>
                  <a:pt x="3635934" y="652344"/>
                  <a:pt x="3650440" y="693566"/>
                </a:cubicBezTo>
                <a:cubicBezTo>
                  <a:pt x="3669781" y="748529"/>
                  <a:pt x="3730015" y="777407"/>
                  <a:pt x="3784978" y="758067"/>
                </a:cubicBezTo>
                <a:lnTo>
                  <a:pt x="4034373" y="670309"/>
                </a:lnTo>
                <a:lnTo>
                  <a:pt x="4035960" y="678142"/>
                </a:lnTo>
                <a:lnTo>
                  <a:pt x="4001961" y="696596"/>
                </a:lnTo>
                <a:cubicBezTo>
                  <a:pt x="3918778" y="752792"/>
                  <a:pt x="3864090" y="847960"/>
                  <a:pt x="3864090" y="955900"/>
                </a:cubicBezTo>
                <a:cubicBezTo>
                  <a:pt x="3864090" y="1128606"/>
                  <a:pt x="4004095" y="1268611"/>
                  <a:pt x="4176800" y="1268611"/>
                </a:cubicBezTo>
                <a:close/>
                <a:moveTo>
                  <a:pt x="2486636" y="1268611"/>
                </a:moveTo>
                <a:cubicBezTo>
                  <a:pt x="2659341" y="1268611"/>
                  <a:pt x="2799348" y="1128606"/>
                  <a:pt x="2799348" y="955900"/>
                </a:cubicBezTo>
                <a:cubicBezTo>
                  <a:pt x="2799348" y="847960"/>
                  <a:pt x="2744657" y="752792"/>
                  <a:pt x="2661475" y="696596"/>
                </a:cubicBezTo>
                <a:lnTo>
                  <a:pt x="2624178" y="676351"/>
                </a:lnTo>
                <a:lnTo>
                  <a:pt x="2748487" y="29996"/>
                </a:lnTo>
                <a:lnTo>
                  <a:pt x="2642036" y="40276"/>
                </a:lnTo>
                <a:lnTo>
                  <a:pt x="2642932" y="0"/>
                </a:lnTo>
                <a:lnTo>
                  <a:pt x="2315994" y="0"/>
                </a:lnTo>
                <a:lnTo>
                  <a:pt x="2286083" y="74652"/>
                </a:lnTo>
                <a:lnTo>
                  <a:pt x="2224785" y="80573"/>
                </a:lnTo>
                <a:lnTo>
                  <a:pt x="2253767" y="223697"/>
                </a:lnTo>
                <a:lnTo>
                  <a:pt x="2231999" y="225040"/>
                </a:lnTo>
                <a:lnTo>
                  <a:pt x="2315303" y="453572"/>
                </a:lnTo>
                <a:lnTo>
                  <a:pt x="2225754" y="486214"/>
                </a:lnTo>
                <a:lnTo>
                  <a:pt x="2226626" y="488001"/>
                </a:lnTo>
                <a:lnTo>
                  <a:pt x="2060018" y="546627"/>
                </a:lnTo>
                <a:lnTo>
                  <a:pt x="2022854" y="560174"/>
                </a:lnTo>
                <a:lnTo>
                  <a:pt x="1988791" y="580480"/>
                </a:lnTo>
                <a:cubicBezTo>
                  <a:pt x="1958388" y="608157"/>
                  <a:pt x="1945771" y="652344"/>
                  <a:pt x="1960277" y="693566"/>
                </a:cubicBezTo>
                <a:cubicBezTo>
                  <a:pt x="1979617" y="748529"/>
                  <a:pt x="2039851" y="777407"/>
                  <a:pt x="2094814" y="758067"/>
                </a:cubicBezTo>
                <a:lnTo>
                  <a:pt x="2344209" y="670309"/>
                </a:lnTo>
                <a:lnTo>
                  <a:pt x="2345796" y="678142"/>
                </a:lnTo>
                <a:lnTo>
                  <a:pt x="2311797" y="696596"/>
                </a:lnTo>
                <a:cubicBezTo>
                  <a:pt x="2228615" y="752792"/>
                  <a:pt x="2173926" y="847960"/>
                  <a:pt x="2173926" y="955900"/>
                </a:cubicBezTo>
                <a:cubicBezTo>
                  <a:pt x="2173926" y="1128606"/>
                  <a:pt x="2313931" y="1268611"/>
                  <a:pt x="2486636" y="1268611"/>
                </a:cubicBezTo>
                <a:close/>
                <a:moveTo>
                  <a:pt x="3331718" y="1741950"/>
                </a:moveTo>
                <a:cubicBezTo>
                  <a:pt x="3504423" y="1741950"/>
                  <a:pt x="3644430" y="1601945"/>
                  <a:pt x="3644430" y="1429239"/>
                </a:cubicBezTo>
                <a:cubicBezTo>
                  <a:pt x="3644430" y="1321299"/>
                  <a:pt x="3589739" y="1226131"/>
                  <a:pt x="3506557" y="1169935"/>
                </a:cubicBezTo>
                <a:lnTo>
                  <a:pt x="3469260" y="1149690"/>
                </a:lnTo>
                <a:lnTo>
                  <a:pt x="3593569" y="503335"/>
                </a:lnTo>
                <a:lnTo>
                  <a:pt x="3487118" y="513615"/>
                </a:lnTo>
                <a:lnTo>
                  <a:pt x="3498549" y="0"/>
                </a:lnTo>
                <a:lnTo>
                  <a:pt x="3273660" y="22383"/>
                </a:lnTo>
                <a:cubicBezTo>
                  <a:pt x="3257338" y="115312"/>
                  <a:pt x="3249968" y="199289"/>
                  <a:pt x="3233645" y="292218"/>
                </a:cubicBezTo>
                <a:lnTo>
                  <a:pt x="3131165" y="547991"/>
                </a:lnTo>
                <a:lnTo>
                  <a:pt x="3069867" y="553912"/>
                </a:lnTo>
                <a:lnTo>
                  <a:pt x="3098849" y="697036"/>
                </a:lnTo>
                <a:lnTo>
                  <a:pt x="3077081" y="698379"/>
                </a:lnTo>
                <a:lnTo>
                  <a:pt x="3160385" y="926911"/>
                </a:lnTo>
                <a:lnTo>
                  <a:pt x="3070835" y="959553"/>
                </a:lnTo>
                <a:lnTo>
                  <a:pt x="3071707" y="961340"/>
                </a:lnTo>
                <a:lnTo>
                  <a:pt x="2905100" y="1019966"/>
                </a:lnTo>
                <a:lnTo>
                  <a:pt x="2867935" y="1033513"/>
                </a:lnTo>
                <a:lnTo>
                  <a:pt x="2833872" y="1053819"/>
                </a:lnTo>
                <a:cubicBezTo>
                  <a:pt x="2803470" y="1081496"/>
                  <a:pt x="2790852" y="1125683"/>
                  <a:pt x="2805358" y="1166905"/>
                </a:cubicBezTo>
                <a:cubicBezTo>
                  <a:pt x="2824699" y="1221868"/>
                  <a:pt x="2884933" y="1250746"/>
                  <a:pt x="2939896" y="1231406"/>
                </a:cubicBezTo>
                <a:lnTo>
                  <a:pt x="3189291" y="1143648"/>
                </a:lnTo>
                <a:lnTo>
                  <a:pt x="3190878" y="1151481"/>
                </a:lnTo>
                <a:lnTo>
                  <a:pt x="3156879" y="1169935"/>
                </a:lnTo>
                <a:cubicBezTo>
                  <a:pt x="3073696" y="1226131"/>
                  <a:pt x="3019008" y="1321299"/>
                  <a:pt x="3019008" y="1429239"/>
                </a:cubicBezTo>
                <a:cubicBezTo>
                  <a:pt x="3019008" y="1601945"/>
                  <a:pt x="3159013" y="1741950"/>
                  <a:pt x="3331718" y="1741950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5" name="椭圆 5"/>
          <p:cNvSpPr/>
          <p:nvPr/>
        </p:nvSpPr>
        <p:spPr>
          <a:xfrm>
            <a:off x="2270520" y="860400"/>
            <a:ext cx="1131840" cy="113184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6" name="梯形 4"/>
          <p:cNvSpPr/>
          <p:nvPr/>
        </p:nvSpPr>
        <p:spPr>
          <a:xfrm>
            <a:off x="2697480" y="1812240"/>
            <a:ext cx="813960" cy="1127880"/>
          </a:xfrm>
          <a:custGeom>
            <a:avLst/>
            <a:gdLst>
              <a:gd name="textAreaLeft" fmla="*/ 0 w 813960"/>
              <a:gd name="textAreaRight" fmla="*/ 814320 w 813960"/>
              <a:gd name="textAreaTop" fmla="*/ 0 h 1127880"/>
              <a:gd name="textAreaBottom" fmla="*/ 1128240 h 1127880"/>
            </a:gdLst>
            <a:ahLst/>
            <a:rect l="textAreaLeft" t="textAreaTop" r="textAreaRight" b="textAreaBottom"/>
            <a:pathLst>
              <a:path w="654214" h="1128180">
                <a:moveTo>
                  <a:pt x="8328" y="1099151"/>
                </a:moveTo>
                <a:lnTo>
                  <a:pt x="0" y="0"/>
                </a:lnTo>
                <a:lnTo>
                  <a:pt x="349238" y="46496"/>
                </a:lnTo>
                <a:lnTo>
                  <a:pt x="654214" y="1128180"/>
                </a:lnTo>
                <a:lnTo>
                  <a:pt x="8328" y="109915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7" name="圆角矩形 7"/>
          <p:cNvSpPr/>
          <p:nvPr/>
        </p:nvSpPr>
        <p:spPr>
          <a:xfrm rot="700200">
            <a:off x="2903040" y="2004840"/>
            <a:ext cx="1360800" cy="41400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8" name="椭圆 8"/>
          <p:cNvSpPr/>
          <p:nvPr/>
        </p:nvSpPr>
        <p:spPr>
          <a:xfrm>
            <a:off x="3319200" y="1255680"/>
            <a:ext cx="739800" cy="73980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9" name="梯形 10"/>
          <p:cNvSpPr/>
          <p:nvPr/>
        </p:nvSpPr>
        <p:spPr>
          <a:xfrm rot="20093400">
            <a:off x="3441240" y="1798560"/>
            <a:ext cx="654840" cy="1556640"/>
          </a:xfrm>
          <a:custGeom>
            <a:avLst/>
            <a:gdLst>
              <a:gd name="textAreaLeft" fmla="*/ 0 w 654840"/>
              <a:gd name="textAreaRight" fmla="*/ 655200 w 654840"/>
              <a:gd name="textAreaTop" fmla="*/ 0 h 1556640"/>
              <a:gd name="textAreaBottom" fmla="*/ 1557000 h 1556640"/>
            </a:gdLst>
            <a:ahLst/>
            <a:rect l="textAreaLeft" t="textAreaTop" r="textAreaRight" b="textAreaBottom"/>
            <a:pathLst>
              <a:path w="655125" h="1557005">
                <a:moveTo>
                  <a:pt x="0" y="1557005"/>
                </a:moveTo>
                <a:lnTo>
                  <a:pt x="221738" y="0"/>
                </a:lnTo>
                <a:lnTo>
                  <a:pt x="511319" y="33005"/>
                </a:lnTo>
                <a:lnTo>
                  <a:pt x="655125" y="1557005"/>
                </a:lnTo>
                <a:lnTo>
                  <a:pt x="0" y="1557005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0" name="圆角矩形 11"/>
          <p:cNvSpPr/>
          <p:nvPr/>
        </p:nvSpPr>
        <p:spPr>
          <a:xfrm rot="5178000">
            <a:off x="3353040" y="3145680"/>
            <a:ext cx="1267560" cy="471600"/>
          </a:xfrm>
          <a:custGeom>
            <a:avLst/>
            <a:gdLst>
              <a:gd name="textAreaLeft" fmla="*/ 0 w 1267560"/>
              <a:gd name="textAreaRight" fmla="*/ 1267920 w 12675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1268010" h="472009">
                <a:moveTo>
                  <a:pt x="0" y="116956"/>
                </a:moveTo>
                <a:lnTo>
                  <a:pt x="0" y="116956"/>
                </a:lnTo>
                <a:cubicBezTo>
                  <a:pt x="201759" y="118551"/>
                  <a:pt x="442453" y="-1580"/>
                  <a:pt x="644212" y="15"/>
                </a:cubicBezTo>
                <a:lnTo>
                  <a:pt x="1268010" y="116956"/>
                </a:lnTo>
                <a:lnTo>
                  <a:pt x="1268010" y="116956"/>
                </a:lnTo>
                <a:lnTo>
                  <a:pt x="1268010" y="471654"/>
                </a:lnTo>
                <a:lnTo>
                  <a:pt x="1268010" y="471654"/>
                </a:lnTo>
                <a:cubicBezTo>
                  <a:pt x="1085492" y="481746"/>
                  <a:pt x="886049" y="273314"/>
                  <a:pt x="703531" y="283406"/>
                </a:cubicBezTo>
                <a:lnTo>
                  <a:pt x="0" y="471654"/>
                </a:lnTo>
                <a:lnTo>
                  <a:pt x="0" y="471654"/>
                </a:lnTo>
                <a:lnTo>
                  <a:pt x="0" y="116956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1" name="梯形 12"/>
          <p:cNvSpPr/>
          <p:nvPr/>
        </p:nvSpPr>
        <p:spPr>
          <a:xfrm flipV="1">
            <a:off x="2707920" y="2807640"/>
            <a:ext cx="735120" cy="1189800"/>
          </a:xfrm>
          <a:custGeom>
            <a:avLst/>
            <a:gdLst>
              <a:gd name="textAreaLeft" fmla="*/ 0 w 735120"/>
              <a:gd name="textAreaRight" fmla="*/ 735480 w 735120"/>
              <a:gd name="textAreaTop" fmla="*/ -360 h 1189800"/>
              <a:gd name="textAreaBottom" fmla="*/ 1189800 h 1189800"/>
            </a:gdLst>
            <a:ahLst/>
            <a:rect l="textAreaLeft" t="textAreaTop" r="textAreaRight" b="textAreaBottom"/>
            <a:pathLst>
              <a:path w="528124" h="1190172">
                <a:moveTo>
                  <a:pt x="0" y="1190172"/>
                </a:moveTo>
                <a:cubicBezTo>
                  <a:pt x="10726" y="1009903"/>
                  <a:pt x="160937" y="783138"/>
                  <a:pt x="171663" y="602869"/>
                </a:cubicBezTo>
                <a:lnTo>
                  <a:pt x="129040" y="0"/>
                </a:lnTo>
                <a:lnTo>
                  <a:pt x="387119" y="0"/>
                </a:lnTo>
                <a:cubicBezTo>
                  <a:pt x="403124" y="206122"/>
                  <a:pt x="512119" y="427744"/>
                  <a:pt x="528124" y="633866"/>
                </a:cubicBezTo>
                <a:lnTo>
                  <a:pt x="516158" y="1190172"/>
                </a:lnTo>
                <a:lnTo>
                  <a:pt x="0" y="1190172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2" name="任意多边形 12"/>
          <p:cNvSpPr/>
          <p:nvPr/>
        </p:nvSpPr>
        <p:spPr>
          <a:xfrm flipH="1" rot="350400">
            <a:off x="4005720" y="1418400"/>
            <a:ext cx="273240" cy="813600"/>
          </a:xfrm>
          <a:custGeom>
            <a:avLst/>
            <a:gdLst>
              <a:gd name="textAreaLeft" fmla="*/ -360 w 273240"/>
              <a:gd name="textAreaRight" fmla="*/ 273240 w 273240"/>
              <a:gd name="textAreaTop" fmla="*/ 0 h 813600"/>
              <a:gd name="textAreaBottom" fmla="*/ 813960 h 813600"/>
            </a:gdLst>
            <a:ahLst/>
            <a:rect l="textAreaLeft" t="textAreaTop" r="textAreaRight" b="textAreaBottom"/>
            <a:pathLst>
              <a:path w="812800" h="2419521">
                <a:moveTo>
                  <a:pt x="191538" y="0"/>
                </a:moveTo>
                <a:lnTo>
                  <a:pt x="233026" y="8207"/>
                </a:lnTo>
                <a:cubicBezTo>
                  <a:pt x="454593" y="97177"/>
                  <a:pt x="621263" y="481876"/>
                  <a:pt x="621263" y="942963"/>
                </a:cubicBezTo>
                <a:lnTo>
                  <a:pt x="621251" y="943231"/>
                </a:lnTo>
                <a:lnTo>
                  <a:pt x="621263" y="943231"/>
                </a:lnTo>
                <a:lnTo>
                  <a:pt x="621263" y="1757474"/>
                </a:lnTo>
                <a:lnTo>
                  <a:pt x="812800" y="1757474"/>
                </a:lnTo>
                <a:lnTo>
                  <a:pt x="812800" y="1915885"/>
                </a:lnTo>
                <a:lnTo>
                  <a:pt x="621263" y="1915885"/>
                </a:lnTo>
                <a:lnTo>
                  <a:pt x="621263" y="1915886"/>
                </a:lnTo>
                <a:lnTo>
                  <a:pt x="543081" y="1915886"/>
                </a:lnTo>
                <a:lnTo>
                  <a:pt x="543081" y="2373960"/>
                </a:lnTo>
                <a:cubicBezTo>
                  <a:pt x="543081" y="2399123"/>
                  <a:pt x="522683" y="2419521"/>
                  <a:pt x="497520" y="2419521"/>
                </a:cubicBezTo>
                <a:lnTo>
                  <a:pt x="315279" y="2419521"/>
                </a:lnTo>
                <a:cubicBezTo>
                  <a:pt x="290116" y="2419521"/>
                  <a:pt x="269718" y="2399123"/>
                  <a:pt x="269718" y="2373960"/>
                </a:cubicBezTo>
                <a:lnTo>
                  <a:pt x="269718" y="1915886"/>
                </a:lnTo>
                <a:lnTo>
                  <a:pt x="191538" y="1915886"/>
                </a:lnTo>
                <a:lnTo>
                  <a:pt x="191538" y="1915885"/>
                </a:lnTo>
                <a:lnTo>
                  <a:pt x="0" y="1915885"/>
                </a:lnTo>
                <a:lnTo>
                  <a:pt x="0" y="1757474"/>
                </a:lnTo>
                <a:lnTo>
                  <a:pt x="191538" y="1757474"/>
                </a:lnTo>
                <a:lnTo>
                  <a:pt x="191538" y="94323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3" name="任意多边形 13"/>
          <p:cNvSpPr/>
          <p:nvPr/>
        </p:nvSpPr>
        <p:spPr>
          <a:xfrm flipH="1" flipV="1">
            <a:off x="9108000" y="1648440"/>
            <a:ext cx="1151280" cy="2373120"/>
          </a:xfrm>
          <a:custGeom>
            <a:avLst/>
            <a:gdLst>
              <a:gd name="textAreaLeft" fmla="*/ 360 w 1151280"/>
              <a:gd name="textAreaRight" fmla="*/ 1152000 w 1151280"/>
              <a:gd name="textAreaTop" fmla="*/ 360 h 2373120"/>
              <a:gd name="textAreaBottom" fmla="*/ 2373840 h 2373120"/>
            </a:gdLst>
            <a:ahLst/>
            <a:rect l="textAreaLeft" t="textAreaTop" r="textAreaRight" b="textAreaBottom"/>
            <a:pathLst>
              <a:path w="1096974" h="2261171">
                <a:moveTo>
                  <a:pt x="405921" y="2261171"/>
                </a:moveTo>
                <a:cubicBezTo>
                  <a:pt x="181738" y="2261171"/>
                  <a:pt x="0" y="2079434"/>
                  <a:pt x="0" y="1855251"/>
                </a:cubicBezTo>
                <a:cubicBezTo>
                  <a:pt x="0" y="1715137"/>
                  <a:pt x="70992" y="1591602"/>
                  <a:pt x="178968" y="1518656"/>
                </a:cubicBezTo>
                <a:lnTo>
                  <a:pt x="227383" y="1492376"/>
                </a:lnTo>
                <a:lnTo>
                  <a:pt x="66021" y="653363"/>
                </a:lnTo>
                <a:lnTo>
                  <a:pt x="204202" y="666707"/>
                </a:lnTo>
                <a:lnTo>
                  <a:pt x="189363" y="0"/>
                </a:lnTo>
                <a:lnTo>
                  <a:pt x="481285" y="29055"/>
                </a:lnTo>
                <a:cubicBezTo>
                  <a:pt x="502472" y="149683"/>
                  <a:pt x="512038" y="258691"/>
                  <a:pt x="533227" y="379319"/>
                </a:cubicBezTo>
                <a:lnTo>
                  <a:pt x="666253" y="711330"/>
                </a:lnTo>
                <a:lnTo>
                  <a:pt x="745822" y="719015"/>
                </a:lnTo>
                <a:lnTo>
                  <a:pt x="708201" y="904801"/>
                </a:lnTo>
                <a:lnTo>
                  <a:pt x="736458" y="906544"/>
                </a:lnTo>
                <a:lnTo>
                  <a:pt x="628324" y="1203194"/>
                </a:lnTo>
                <a:lnTo>
                  <a:pt x="744565" y="1245566"/>
                </a:lnTo>
                <a:lnTo>
                  <a:pt x="743433" y="1247885"/>
                </a:lnTo>
                <a:lnTo>
                  <a:pt x="959701" y="1323986"/>
                </a:lnTo>
                <a:lnTo>
                  <a:pt x="1007943" y="1341571"/>
                </a:lnTo>
                <a:lnTo>
                  <a:pt x="1052159" y="1367929"/>
                </a:lnTo>
                <a:cubicBezTo>
                  <a:pt x="1091624" y="1403856"/>
                  <a:pt x="1108002" y="1461214"/>
                  <a:pt x="1089172" y="1514723"/>
                </a:cubicBezTo>
                <a:cubicBezTo>
                  <a:pt x="1064067" y="1586069"/>
                  <a:pt x="985879" y="1623554"/>
                  <a:pt x="914533" y="1598449"/>
                </a:cubicBezTo>
                <a:lnTo>
                  <a:pt x="590801" y="1484533"/>
                </a:lnTo>
                <a:lnTo>
                  <a:pt x="588742" y="1494701"/>
                </a:lnTo>
                <a:lnTo>
                  <a:pt x="632875" y="1518656"/>
                </a:lnTo>
                <a:cubicBezTo>
                  <a:pt x="740851" y="1591602"/>
                  <a:pt x="811841" y="1715137"/>
                  <a:pt x="811841" y="1855251"/>
                </a:cubicBezTo>
                <a:cubicBezTo>
                  <a:pt x="811841" y="2079434"/>
                  <a:pt x="630104" y="2261171"/>
                  <a:pt x="405921" y="2261171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4" name="圆角矩形 14"/>
          <p:cNvSpPr/>
          <p:nvPr/>
        </p:nvSpPr>
        <p:spPr>
          <a:xfrm rot="1613400">
            <a:off x="3601800" y="2398320"/>
            <a:ext cx="1029960" cy="32616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5" name="任意多边形 15"/>
          <p:cNvSpPr/>
          <p:nvPr/>
        </p:nvSpPr>
        <p:spPr>
          <a:xfrm rot="20952000">
            <a:off x="4312080" y="2592720"/>
            <a:ext cx="564840" cy="525960"/>
          </a:xfrm>
          <a:custGeom>
            <a:avLst/>
            <a:gdLst>
              <a:gd name="textAreaLeft" fmla="*/ 0 w 564840"/>
              <a:gd name="textAreaRight" fmla="*/ 565200 w 564840"/>
              <a:gd name="textAreaTop" fmla="*/ 0 h 525960"/>
              <a:gd name="textAreaBottom" fmla="*/ 526320 h 525960"/>
            </a:gdLst>
            <a:ahLst/>
            <a:rect l="textAreaLeft" t="textAreaTop" r="textAreaRight" b="textAreaBottom"/>
            <a:pathLst>
              <a:path w="799631" h="744545">
                <a:moveTo>
                  <a:pt x="635280" y="46186"/>
                </a:moveTo>
                <a:cubicBezTo>
                  <a:pt x="682488" y="66154"/>
                  <a:pt x="715613" y="112899"/>
                  <a:pt x="715613" y="167381"/>
                </a:cubicBezTo>
                <a:lnTo>
                  <a:pt x="715612" y="167381"/>
                </a:lnTo>
                <a:cubicBezTo>
                  <a:pt x="715612" y="221863"/>
                  <a:pt x="682488" y="268608"/>
                  <a:pt x="635279" y="288576"/>
                </a:cubicBezTo>
                <a:lnTo>
                  <a:pt x="604903" y="294708"/>
                </a:lnTo>
                <a:lnTo>
                  <a:pt x="665664" y="363815"/>
                </a:lnTo>
                <a:cubicBezTo>
                  <a:pt x="696086" y="398415"/>
                  <a:pt x="692698" y="451126"/>
                  <a:pt x="658098" y="481547"/>
                </a:cubicBezTo>
                <a:lnTo>
                  <a:pt x="658098" y="481546"/>
                </a:lnTo>
                <a:lnTo>
                  <a:pt x="652953" y="484506"/>
                </a:lnTo>
                <a:lnTo>
                  <a:pt x="782776" y="632160"/>
                </a:lnTo>
                <a:cubicBezTo>
                  <a:pt x="807460" y="660236"/>
                  <a:pt x="804712" y="703005"/>
                  <a:pt x="776637" y="727690"/>
                </a:cubicBezTo>
                <a:cubicBezTo>
                  <a:pt x="748561" y="752375"/>
                  <a:pt x="705792" y="749626"/>
                  <a:pt x="681107" y="721551"/>
                </a:cubicBezTo>
                <a:lnTo>
                  <a:pt x="551587" y="574241"/>
                </a:lnTo>
                <a:lnTo>
                  <a:pt x="545505" y="597445"/>
                </a:lnTo>
                <a:cubicBezTo>
                  <a:pt x="540797" y="607205"/>
                  <a:pt x="534098" y="616204"/>
                  <a:pt x="525448" y="623809"/>
                </a:cubicBezTo>
                <a:lnTo>
                  <a:pt x="525447" y="623809"/>
                </a:lnTo>
                <a:cubicBezTo>
                  <a:pt x="490847" y="654230"/>
                  <a:pt x="438136" y="650843"/>
                  <a:pt x="407715" y="616243"/>
                </a:cubicBezTo>
                <a:lnTo>
                  <a:pt x="407413" y="615899"/>
                </a:lnTo>
                <a:lnTo>
                  <a:pt x="403284" y="631651"/>
                </a:lnTo>
                <a:cubicBezTo>
                  <a:pt x="399364" y="639778"/>
                  <a:pt x="393786" y="647270"/>
                  <a:pt x="386585" y="653602"/>
                </a:cubicBezTo>
                <a:cubicBezTo>
                  <a:pt x="357777" y="678931"/>
                  <a:pt x="313890" y="676110"/>
                  <a:pt x="288561" y="647303"/>
                </a:cubicBezTo>
                <a:lnTo>
                  <a:pt x="207299" y="554879"/>
                </a:lnTo>
                <a:lnTo>
                  <a:pt x="194003" y="551975"/>
                </a:lnTo>
                <a:cubicBezTo>
                  <a:pt x="148218" y="534824"/>
                  <a:pt x="106888" y="504286"/>
                  <a:pt x="76418" y="461444"/>
                </a:cubicBezTo>
                <a:lnTo>
                  <a:pt x="47001" y="420082"/>
                </a:lnTo>
                <a:cubicBezTo>
                  <a:pt x="-34252" y="305836"/>
                  <a:pt x="-7505" y="147355"/>
                  <a:pt x="106741" y="66102"/>
                </a:cubicBezTo>
                <a:lnTo>
                  <a:pt x="133598" y="47001"/>
                </a:lnTo>
                <a:cubicBezTo>
                  <a:pt x="219282" y="-13938"/>
                  <a:pt x="329850" y="-14128"/>
                  <a:pt x="414056" y="37783"/>
                </a:cubicBezTo>
                <a:lnTo>
                  <a:pt x="418740" y="41356"/>
                </a:lnTo>
                <a:lnTo>
                  <a:pt x="455156" y="35850"/>
                </a:lnTo>
                <a:lnTo>
                  <a:pt x="584082" y="35850"/>
                </a:lnTo>
                <a:cubicBezTo>
                  <a:pt x="602243" y="35850"/>
                  <a:pt x="619544" y="39531"/>
                  <a:pt x="635280" y="46186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6" name="任意多边形 16"/>
          <p:cNvSpPr/>
          <p:nvPr/>
        </p:nvSpPr>
        <p:spPr>
          <a:xfrm flipH="1" flipV="1">
            <a:off x="4734000" y="3142440"/>
            <a:ext cx="862560" cy="866160"/>
          </a:xfrm>
          <a:custGeom>
            <a:avLst/>
            <a:gdLst>
              <a:gd name="textAreaLeft" fmla="*/ 360 w 862560"/>
              <a:gd name="textAreaRight" fmla="*/ 863280 w 862560"/>
              <a:gd name="textAreaTop" fmla="*/ 360 h 866160"/>
              <a:gd name="textAreaBottom" fmla="*/ 866880 h 866160"/>
            </a:gdLst>
            <a:ahLst/>
            <a:rect l="textAreaLeft" t="textAreaTop" r="textAreaRight" b="textAreaBottom"/>
            <a:pathLst>
              <a:path w="1151519" h="1156393">
                <a:moveTo>
                  <a:pt x="426105" y="1156393"/>
                </a:moveTo>
                <a:cubicBezTo>
                  <a:pt x="190775" y="1156393"/>
                  <a:pt x="0" y="965620"/>
                  <a:pt x="0" y="730290"/>
                </a:cubicBezTo>
                <a:cubicBezTo>
                  <a:pt x="0" y="583209"/>
                  <a:pt x="74522" y="453531"/>
                  <a:pt x="187867" y="376958"/>
                </a:cubicBezTo>
                <a:lnTo>
                  <a:pt x="238689" y="349372"/>
                </a:lnTo>
                <a:lnTo>
                  <a:pt x="171497" y="0"/>
                </a:lnTo>
                <a:lnTo>
                  <a:pt x="676265" y="0"/>
                </a:lnTo>
                <a:lnTo>
                  <a:pt x="659566" y="45811"/>
                </a:lnTo>
                <a:lnTo>
                  <a:pt x="781587" y="90290"/>
                </a:lnTo>
                <a:lnTo>
                  <a:pt x="780399" y="92724"/>
                </a:lnTo>
                <a:lnTo>
                  <a:pt x="1007421" y="172609"/>
                </a:lnTo>
                <a:lnTo>
                  <a:pt x="1058061" y="191068"/>
                </a:lnTo>
                <a:lnTo>
                  <a:pt x="1104476" y="218737"/>
                </a:lnTo>
                <a:cubicBezTo>
                  <a:pt x="1145903" y="256450"/>
                  <a:pt x="1163096" y="316660"/>
                  <a:pt x="1143329" y="372830"/>
                </a:cubicBezTo>
                <a:cubicBezTo>
                  <a:pt x="1116976" y="447723"/>
                  <a:pt x="1034900" y="487072"/>
                  <a:pt x="960007" y="460719"/>
                </a:cubicBezTo>
                <a:lnTo>
                  <a:pt x="620178" y="341139"/>
                </a:lnTo>
                <a:lnTo>
                  <a:pt x="618016" y="351812"/>
                </a:lnTo>
                <a:lnTo>
                  <a:pt x="664344" y="376958"/>
                </a:lnTo>
                <a:cubicBezTo>
                  <a:pt x="777689" y="453531"/>
                  <a:pt x="852209" y="583209"/>
                  <a:pt x="852209" y="730290"/>
                </a:cubicBezTo>
                <a:cubicBezTo>
                  <a:pt x="852209" y="965620"/>
                  <a:pt x="661435" y="1156393"/>
                  <a:pt x="426105" y="1156393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7" name="等腰三角形 17"/>
          <p:cNvSpPr/>
          <p:nvPr/>
        </p:nvSpPr>
        <p:spPr>
          <a:xfrm rot="18532200">
            <a:off x="4555080" y="198216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8" name="等腰三角形 18"/>
          <p:cNvSpPr/>
          <p:nvPr/>
        </p:nvSpPr>
        <p:spPr>
          <a:xfrm rot="17885400">
            <a:off x="4533840" y="1961280"/>
            <a:ext cx="81360" cy="49860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9" name="等腰三角形 19"/>
          <p:cNvSpPr/>
          <p:nvPr/>
        </p:nvSpPr>
        <p:spPr>
          <a:xfrm rot="17281800">
            <a:off x="4647240" y="182664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0" name="文本框 20"/>
          <p:cNvSpPr/>
          <p:nvPr/>
        </p:nvSpPr>
        <p:spPr>
          <a:xfrm>
            <a:off x="4915080" y="2158200"/>
            <a:ext cx="2798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你来救我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1"/>
          <p:cNvSpPr/>
          <p:nvPr/>
        </p:nvSpPr>
        <p:spPr>
          <a:xfrm>
            <a:off x="2707920" y="3967560"/>
            <a:ext cx="7551360" cy="15372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文本框 3"/>
          <p:cNvSpPr/>
          <p:nvPr/>
        </p:nvSpPr>
        <p:spPr>
          <a:xfrm>
            <a:off x="5208480" y="2271240"/>
            <a:ext cx="231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受到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发了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4"/>
          <p:cNvSpPr/>
          <p:nvPr/>
        </p:nvSpPr>
        <p:spPr>
          <a:xfrm>
            <a:off x="7522200" y="2363400"/>
            <a:ext cx="897840" cy="1473840"/>
          </a:xfrm>
          <a:prstGeom prst="rect">
            <a:avLst/>
          </a:prstGeom>
          <a:solidFill>
            <a:srgbClr val="cdcdc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4" name="矩形 5"/>
          <p:cNvSpPr/>
          <p:nvPr/>
        </p:nvSpPr>
        <p:spPr>
          <a:xfrm>
            <a:off x="7794000" y="230976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6"/>
          <p:cNvSpPr/>
          <p:nvPr/>
        </p:nvSpPr>
        <p:spPr>
          <a:xfrm>
            <a:off x="3587400" y="2328120"/>
            <a:ext cx="1679760" cy="1473840"/>
          </a:xfrm>
          <a:prstGeom prst="rect">
            <a:avLst/>
          </a:prstGeom>
          <a:solidFill>
            <a:srgbClr val="cdcdc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6" name="矩形 7"/>
          <p:cNvSpPr/>
          <p:nvPr/>
        </p:nvSpPr>
        <p:spPr>
          <a:xfrm>
            <a:off x="3888360" y="2220480"/>
            <a:ext cx="105732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5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您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椭圆 4"/>
          <p:cNvSpPr/>
          <p:nvPr/>
        </p:nvSpPr>
        <p:spPr>
          <a:xfrm>
            <a:off x="1976760" y="380160"/>
            <a:ext cx="3239640" cy="323964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云形标注 115"/>
          <p:cNvSpPr/>
          <p:nvPr/>
        </p:nvSpPr>
        <p:spPr>
          <a:xfrm>
            <a:off x="6087600" y="316440"/>
            <a:ext cx="1478520" cy="509400"/>
          </a:xfrm>
          <a:prstGeom prst="cloudCallout">
            <a:avLst>
              <a:gd name="adj1" fmla="val -8588"/>
              <a:gd name="adj2" fmla="val 15137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梯形 93"/>
          <p:cNvSpPr/>
          <p:nvPr/>
        </p:nvSpPr>
        <p:spPr>
          <a:xfrm>
            <a:off x="7132320" y="0"/>
            <a:ext cx="2340360" cy="6857640"/>
          </a:xfrm>
          <a:prstGeom prst="trapezoid">
            <a:avLst>
              <a:gd name="adj" fmla="val 25000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矩形 96"/>
          <p:cNvSpPr/>
          <p:nvPr/>
        </p:nvSpPr>
        <p:spPr>
          <a:xfrm>
            <a:off x="7754040" y="4334760"/>
            <a:ext cx="368280" cy="5389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矩形 97"/>
          <p:cNvSpPr/>
          <p:nvPr/>
        </p:nvSpPr>
        <p:spPr>
          <a:xfrm>
            <a:off x="8467200" y="4334760"/>
            <a:ext cx="368280" cy="5389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矩形 98"/>
          <p:cNvSpPr/>
          <p:nvPr/>
        </p:nvSpPr>
        <p:spPr>
          <a:xfrm>
            <a:off x="7827120" y="3608640"/>
            <a:ext cx="323640" cy="46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矩形 99"/>
          <p:cNvSpPr/>
          <p:nvPr/>
        </p:nvSpPr>
        <p:spPr>
          <a:xfrm>
            <a:off x="8394120" y="3608640"/>
            <a:ext cx="323640" cy="46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矩形 100"/>
          <p:cNvSpPr/>
          <p:nvPr/>
        </p:nvSpPr>
        <p:spPr>
          <a:xfrm>
            <a:off x="7900560" y="2954880"/>
            <a:ext cx="251640" cy="39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矩形 101"/>
          <p:cNvSpPr/>
          <p:nvPr/>
        </p:nvSpPr>
        <p:spPr>
          <a:xfrm>
            <a:off x="8321040" y="2954880"/>
            <a:ext cx="251640" cy="39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矩形 102"/>
          <p:cNvSpPr/>
          <p:nvPr/>
        </p:nvSpPr>
        <p:spPr>
          <a:xfrm>
            <a:off x="7987320" y="2337120"/>
            <a:ext cx="215640" cy="35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矩形 103"/>
          <p:cNvSpPr/>
          <p:nvPr/>
        </p:nvSpPr>
        <p:spPr>
          <a:xfrm>
            <a:off x="8407800" y="2337120"/>
            <a:ext cx="215640" cy="35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矩形 104"/>
          <p:cNvSpPr/>
          <p:nvPr/>
        </p:nvSpPr>
        <p:spPr>
          <a:xfrm>
            <a:off x="8042040" y="1755360"/>
            <a:ext cx="179640" cy="323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矩形 105"/>
          <p:cNvSpPr/>
          <p:nvPr/>
        </p:nvSpPr>
        <p:spPr>
          <a:xfrm>
            <a:off x="8407800" y="1755360"/>
            <a:ext cx="179640" cy="323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矩形 106"/>
          <p:cNvSpPr/>
          <p:nvPr/>
        </p:nvSpPr>
        <p:spPr>
          <a:xfrm>
            <a:off x="8045640" y="1209600"/>
            <a:ext cx="143640" cy="28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矩形 107"/>
          <p:cNvSpPr/>
          <p:nvPr/>
        </p:nvSpPr>
        <p:spPr>
          <a:xfrm>
            <a:off x="8411400" y="1209600"/>
            <a:ext cx="143640" cy="28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矩形 108"/>
          <p:cNvSpPr/>
          <p:nvPr/>
        </p:nvSpPr>
        <p:spPr>
          <a:xfrm>
            <a:off x="8064000" y="699840"/>
            <a:ext cx="107640" cy="25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矩形 109"/>
          <p:cNvSpPr/>
          <p:nvPr/>
        </p:nvSpPr>
        <p:spPr>
          <a:xfrm>
            <a:off x="8374680" y="699840"/>
            <a:ext cx="107640" cy="25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矩形 110"/>
          <p:cNvSpPr/>
          <p:nvPr/>
        </p:nvSpPr>
        <p:spPr>
          <a:xfrm>
            <a:off x="8118720" y="226080"/>
            <a:ext cx="71640" cy="21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矩形 111"/>
          <p:cNvSpPr/>
          <p:nvPr/>
        </p:nvSpPr>
        <p:spPr>
          <a:xfrm>
            <a:off x="8393040" y="226080"/>
            <a:ext cx="71640" cy="21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矩形 36"/>
          <p:cNvSpPr/>
          <p:nvPr/>
        </p:nvSpPr>
        <p:spPr>
          <a:xfrm>
            <a:off x="8176680" y="5832360"/>
            <a:ext cx="577080" cy="10429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任意多边形 89"/>
          <p:cNvSpPr/>
          <p:nvPr/>
        </p:nvSpPr>
        <p:spPr>
          <a:xfrm rot="13002600">
            <a:off x="5981760" y="5482080"/>
            <a:ext cx="2685600" cy="1303560"/>
          </a:xfrm>
          <a:custGeom>
            <a:avLst/>
            <a:gdLst>
              <a:gd name="textAreaLeft" fmla="*/ 0 w 2685600"/>
              <a:gd name="textAreaRight" fmla="*/ 2685960 w 2685600"/>
              <a:gd name="textAreaTop" fmla="*/ 0 h 1303560"/>
              <a:gd name="textAreaBottom" fmla="*/ 1303920 h 1303560"/>
            </a:gdLst>
            <a:ahLst/>
            <a:rect l="textAreaLeft" t="textAreaTop" r="textAreaRight" b="textAreaBottom"/>
            <a:pathLst>
              <a:path w="6961798" h="2304645">
                <a:moveTo>
                  <a:pt x="6168845" y="1917545"/>
                </a:moveTo>
                <a:cubicBezTo>
                  <a:pt x="5974383" y="2037472"/>
                  <a:pt x="5693481" y="2052882"/>
                  <a:pt x="5475711" y="1955619"/>
                </a:cubicBezTo>
                <a:cubicBezTo>
                  <a:pt x="5405283" y="2122684"/>
                  <a:pt x="5216698" y="2250396"/>
                  <a:pt x="4980383" y="2291083"/>
                </a:cubicBezTo>
                <a:cubicBezTo>
                  <a:pt x="4701914" y="2339021"/>
                  <a:pt x="4411284" y="2257328"/>
                  <a:pt x="4252086" y="2086317"/>
                </a:cubicBezTo>
                <a:cubicBezTo>
                  <a:pt x="3876335" y="2248636"/>
                  <a:pt x="3388303" y="2157398"/>
                  <a:pt x="3170229" y="1884004"/>
                </a:cubicBezTo>
                <a:cubicBezTo>
                  <a:pt x="2956006" y="1901975"/>
                  <a:pt x="2754855" y="1806791"/>
                  <a:pt x="2694561" y="1658869"/>
                </a:cubicBezTo>
                <a:lnTo>
                  <a:pt x="2681539" y="1598627"/>
                </a:lnTo>
                <a:lnTo>
                  <a:pt x="2628612" y="1557240"/>
                </a:lnTo>
                <a:cubicBezTo>
                  <a:pt x="2424785" y="1645291"/>
                  <a:pt x="2167664" y="1612992"/>
                  <a:pt x="2015999" y="1489996"/>
                </a:cubicBezTo>
                <a:lnTo>
                  <a:pt x="1999092" y="1473060"/>
                </a:lnTo>
                <a:lnTo>
                  <a:pt x="1968633" y="1523255"/>
                </a:lnTo>
                <a:cubicBezTo>
                  <a:pt x="1929009" y="1570775"/>
                  <a:pt x="1865499" y="1605643"/>
                  <a:pt x="1790653" y="1619031"/>
                </a:cubicBezTo>
                <a:cubicBezTo>
                  <a:pt x="1673053" y="1640065"/>
                  <a:pt x="1550318" y="1604221"/>
                  <a:pt x="1483088" y="1529188"/>
                </a:cubicBezTo>
                <a:cubicBezTo>
                  <a:pt x="1324408" y="1600407"/>
                  <a:pt x="1118310" y="1560376"/>
                  <a:pt x="1026216" y="1440421"/>
                </a:cubicBezTo>
                <a:lnTo>
                  <a:pt x="964133" y="1437616"/>
                </a:lnTo>
                <a:lnTo>
                  <a:pt x="943512" y="1456422"/>
                </a:lnTo>
                <a:cubicBezTo>
                  <a:pt x="926719" y="1468238"/>
                  <a:pt x="905854" y="1476830"/>
                  <a:pt x="882644" y="1480981"/>
                </a:cubicBezTo>
                <a:cubicBezTo>
                  <a:pt x="827946" y="1490765"/>
                  <a:pt x="770857" y="1474092"/>
                  <a:pt x="739587" y="1439192"/>
                </a:cubicBezTo>
                <a:cubicBezTo>
                  <a:pt x="665779" y="1472319"/>
                  <a:pt x="569915" y="1453699"/>
                  <a:pt x="527079" y="1397903"/>
                </a:cubicBezTo>
                <a:cubicBezTo>
                  <a:pt x="506041" y="1399737"/>
                  <a:pt x="485642" y="1395797"/>
                  <a:pt x="469024" y="1387626"/>
                </a:cubicBezTo>
                <a:lnTo>
                  <a:pt x="458309" y="1376824"/>
                </a:lnTo>
                <a:lnTo>
                  <a:pt x="438822" y="1383609"/>
                </a:lnTo>
                <a:cubicBezTo>
                  <a:pt x="438671" y="1398136"/>
                  <a:pt x="430080" y="1411913"/>
                  <a:pt x="415276" y="1421396"/>
                </a:cubicBezTo>
                <a:cubicBezTo>
                  <a:pt x="392785" y="1435808"/>
                  <a:pt x="360295" y="1437660"/>
                  <a:pt x="335108" y="1425972"/>
                </a:cubicBezTo>
                <a:cubicBezTo>
                  <a:pt x="326963" y="1446048"/>
                  <a:pt x="305151" y="1461394"/>
                  <a:pt x="277818" y="1466284"/>
                </a:cubicBezTo>
                <a:cubicBezTo>
                  <a:pt x="245609" y="1472044"/>
                  <a:pt x="211995" y="1462227"/>
                  <a:pt x="193582" y="1441677"/>
                </a:cubicBezTo>
                <a:cubicBezTo>
                  <a:pt x="150122" y="1461183"/>
                  <a:pt x="93676" y="1450219"/>
                  <a:pt x="68453" y="1417366"/>
                </a:cubicBezTo>
                <a:cubicBezTo>
                  <a:pt x="43677" y="1419525"/>
                  <a:pt x="20411" y="1408087"/>
                  <a:pt x="13437" y="1390311"/>
                </a:cubicBezTo>
                <a:cubicBezTo>
                  <a:pt x="8385" y="1377451"/>
                  <a:pt x="12851" y="1363571"/>
                  <a:pt x="25192" y="1353793"/>
                </a:cubicBezTo>
                <a:cubicBezTo>
                  <a:pt x="7682" y="1346123"/>
                  <a:pt x="-2069" y="1331404"/>
                  <a:pt x="370" y="1316326"/>
                </a:cubicBezTo>
                <a:cubicBezTo>
                  <a:pt x="3228" y="1298672"/>
                  <a:pt x="22052" y="1284844"/>
                  <a:pt x="45703" y="1283024"/>
                </a:cubicBezTo>
                <a:lnTo>
                  <a:pt x="46138" y="1282146"/>
                </a:lnTo>
                <a:cubicBezTo>
                  <a:pt x="42961" y="1264762"/>
                  <a:pt x="50368" y="1247230"/>
                  <a:pt x="66332" y="1234324"/>
                </a:cubicBezTo>
                <a:cubicBezTo>
                  <a:pt x="91554" y="1213941"/>
                  <a:pt x="132447" y="1209398"/>
                  <a:pt x="164573" y="1223399"/>
                </a:cubicBezTo>
                <a:lnTo>
                  <a:pt x="164595" y="1223381"/>
                </a:lnTo>
                <a:lnTo>
                  <a:pt x="184134" y="1206948"/>
                </a:lnTo>
                <a:cubicBezTo>
                  <a:pt x="207765" y="1194769"/>
                  <a:pt x="241279" y="1195669"/>
                  <a:pt x="263625" y="1212057"/>
                </a:cubicBezTo>
                <a:lnTo>
                  <a:pt x="263977" y="1211748"/>
                </a:lnTo>
                <a:lnTo>
                  <a:pt x="279495" y="1198157"/>
                </a:lnTo>
                <a:cubicBezTo>
                  <a:pt x="286122" y="1194600"/>
                  <a:pt x="293892" y="1192225"/>
                  <a:pt x="302220" y="1191347"/>
                </a:cubicBezTo>
                <a:cubicBezTo>
                  <a:pt x="311385" y="1190379"/>
                  <a:pt x="320545" y="1191292"/>
                  <a:pt x="328817" y="1193818"/>
                </a:cubicBezTo>
                <a:lnTo>
                  <a:pt x="349471" y="1205611"/>
                </a:lnTo>
                <a:lnTo>
                  <a:pt x="350087" y="1205963"/>
                </a:lnTo>
                <a:cubicBezTo>
                  <a:pt x="366284" y="1191776"/>
                  <a:pt x="393077" y="1187117"/>
                  <a:pt x="416073" y="1194486"/>
                </a:cubicBezTo>
                <a:lnTo>
                  <a:pt x="425267" y="1199714"/>
                </a:lnTo>
                <a:lnTo>
                  <a:pt x="436705" y="1187945"/>
                </a:lnTo>
                <a:cubicBezTo>
                  <a:pt x="450325" y="1177940"/>
                  <a:pt x="468360" y="1171296"/>
                  <a:pt x="488443" y="1169750"/>
                </a:cubicBezTo>
                <a:lnTo>
                  <a:pt x="489180" y="1168259"/>
                </a:lnTo>
                <a:cubicBezTo>
                  <a:pt x="483786" y="1138735"/>
                  <a:pt x="496366" y="1108960"/>
                  <a:pt x="523476" y="1087043"/>
                </a:cubicBezTo>
                <a:cubicBezTo>
                  <a:pt x="566312" y="1052425"/>
                  <a:pt x="635761" y="1044710"/>
                  <a:pt x="690321" y="1068488"/>
                </a:cubicBezTo>
                <a:lnTo>
                  <a:pt x="690359" y="1068457"/>
                </a:lnTo>
                <a:lnTo>
                  <a:pt x="723539" y="1040550"/>
                </a:lnTo>
                <a:cubicBezTo>
                  <a:pt x="743607" y="1030208"/>
                  <a:pt x="767870" y="1025419"/>
                  <a:pt x="791859" y="1026694"/>
                </a:cubicBezTo>
                <a:lnTo>
                  <a:pt x="795127" y="1027798"/>
                </a:lnTo>
                <a:lnTo>
                  <a:pt x="795749" y="1026245"/>
                </a:lnTo>
                <a:cubicBezTo>
                  <a:pt x="823531" y="984540"/>
                  <a:pt x="878382" y="954893"/>
                  <a:pt x="943152" y="949910"/>
                </a:cubicBezTo>
                <a:lnTo>
                  <a:pt x="944736" y="946705"/>
                </a:lnTo>
                <a:cubicBezTo>
                  <a:pt x="933138" y="883229"/>
                  <a:pt x="960184" y="819216"/>
                  <a:pt x="1018470" y="772095"/>
                </a:cubicBezTo>
                <a:cubicBezTo>
                  <a:pt x="1110563" y="697670"/>
                  <a:pt x="1259873" y="681082"/>
                  <a:pt x="1377172" y="732204"/>
                </a:cubicBezTo>
                <a:lnTo>
                  <a:pt x="1377242" y="732130"/>
                </a:lnTo>
                <a:lnTo>
                  <a:pt x="1408807" y="698315"/>
                </a:lnTo>
                <a:cubicBezTo>
                  <a:pt x="1492954" y="628145"/>
                  <a:pt x="1643642" y="620982"/>
                  <a:pt x="1738828" y="690792"/>
                </a:cubicBezTo>
                <a:lnTo>
                  <a:pt x="1740116" y="689663"/>
                </a:lnTo>
                <a:lnTo>
                  <a:pt x="1796771" y="640042"/>
                </a:lnTo>
                <a:cubicBezTo>
                  <a:pt x="1808872" y="633548"/>
                  <a:pt x="1822015" y="628132"/>
                  <a:pt x="1835934" y="623939"/>
                </a:cubicBezTo>
                <a:lnTo>
                  <a:pt x="1848654" y="621395"/>
                </a:lnTo>
                <a:lnTo>
                  <a:pt x="1853956" y="602200"/>
                </a:lnTo>
                <a:cubicBezTo>
                  <a:pt x="1872449" y="560055"/>
                  <a:pt x="1903766" y="520798"/>
                  <a:pt x="1946548" y="487509"/>
                </a:cubicBezTo>
                <a:cubicBezTo>
                  <a:pt x="2081742" y="382351"/>
                  <a:pt x="2300930" y="358912"/>
                  <a:pt x="2473126" y="431144"/>
                </a:cubicBezTo>
                <a:lnTo>
                  <a:pt x="2473227" y="431040"/>
                </a:lnTo>
                <a:lnTo>
                  <a:pt x="2519566" y="383260"/>
                </a:lnTo>
                <a:cubicBezTo>
                  <a:pt x="2643096" y="284114"/>
                  <a:pt x="2864307" y="273994"/>
                  <a:pt x="3004040" y="372631"/>
                </a:cubicBezTo>
                <a:lnTo>
                  <a:pt x="3006408" y="370067"/>
                </a:lnTo>
                <a:lnTo>
                  <a:pt x="3040798" y="332818"/>
                </a:lnTo>
                <a:cubicBezTo>
                  <a:pt x="3083722" y="296761"/>
                  <a:pt x="3143962" y="272581"/>
                  <a:pt x="3210913" y="265787"/>
                </a:cubicBezTo>
                <a:lnTo>
                  <a:pt x="3312571" y="270057"/>
                </a:lnTo>
                <a:lnTo>
                  <a:pt x="3337545" y="258643"/>
                </a:lnTo>
                <a:cubicBezTo>
                  <a:pt x="3542003" y="181910"/>
                  <a:pt x="3792960" y="182490"/>
                  <a:pt x="4001281" y="269876"/>
                </a:cubicBezTo>
                <a:lnTo>
                  <a:pt x="4001444" y="269708"/>
                </a:lnTo>
                <a:lnTo>
                  <a:pt x="4076188" y="192636"/>
                </a:lnTo>
                <a:cubicBezTo>
                  <a:pt x="4275447" y="32709"/>
                  <a:pt x="4632271" y="16385"/>
                  <a:pt x="4857666" y="175491"/>
                </a:cubicBezTo>
                <a:lnTo>
                  <a:pt x="4861486" y="171354"/>
                </a:lnTo>
                <a:lnTo>
                  <a:pt x="4916960" y="111271"/>
                </a:lnTo>
                <a:cubicBezTo>
                  <a:pt x="4986197" y="53109"/>
                  <a:pt x="5083365" y="14105"/>
                  <a:pt x="5191364" y="3147"/>
                </a:cubicBezTo>
                <a:cubicBezTo>
                  <a:pt x="5310230" y="-8931"/>
                  <a:pt x="5428983" y="14205"/>
                  <a:pt x="5521885" y="65019"/>
                </a:cubicBezTo>
                <a:lnTo>
                  <a:pt x="5600366" y="121301"/>
                </a:lnTo>
                <a:lnTo>
                  <a:pt x="5605217" y="124780"/>
                </a:lnTo>
                <a:cubicBezTo>
                  <a:pt x="5692746" y="50992"/>
                  <a:pt x="5816059" y="8179"/>
                  <a:pt x="5944774" y="1416"/>
                </a:cubicBezTo>
                <a:cubicBezTo>
                  <a:pt x="6022004" y="-2641"/>
                  <a:pt x="6101179" y="6280"/>
                  <a:pt x="6175736" y="29276"/>
                </a:cubicBezTo>
                <a:cubicBezTo>
                  <a:pt x="6327232" y="75988"/>
                  <a:pt x="6435864" y="173785"/>
                  <a:pt x="6465049" y="289819"/>
                </a:cubicBezTo>
                <a:lnTo>
                  <a:pt x="6466623" y="290284"/>
                </a:lnTo>
                <a:lnTo>
                  <a:pt x="6588956" y="326374"/>
                </a:lnTo>
                <a:cubicBezTo>
                  <a:pt x="6704707" y="373311"/>
                  <a:pt x="6793781" y="449899"/>
                  <a:pt x="6836342" y="542683"/>
                </a:cubicBezTo>
                <a:cubicBezTo>
                  <a:pt x="6877585" y="632481"/>
                  <a:pt x="6871708" y="730012"/>
                  <a:pt x="6819723" y="816877"/>
                </a:cubicBezTo>
                <a:cubicBezTo>
                  <a:pt x="6947507" y="936004"/>
                  <a:pt x="6992196" y="1090431"/>
                  <a:pt x="6941123" y="1236113"/>
                </a:cubicBezTo>
                <a:cubicBezTo>
                  <a:pt x="6873228" y="1429787"/>
                  <a:pt x="6648465" y="1574830"/>
                  <a:pt x="6372428" y="1603092"/>
                </a:cubicBezTo>
                <a:cubicBezTo>
                  <a:pt x="6371111" y="1723978"/>
                  <a:pt x="6296832" y="1838625"/>
                  <a:pt x="6168845" y="1917545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任意多边形 114"/>
          <p:cNvSpPr/>
          <p:nvPr/>
        </p:nvSpPr>
        <p:spPr>
          <a:xfrm>
            <a:off x="9601200" y="4971240"/>
            <a:ext cx="658800" cy="1903680"/>
          </a:xfrm>
          <a:custGeom>
            <a:avLst/>
            <a:gdLst>
              <a:gd name="textAreaLeft" fmla="*/ 0 w 658800"/>
              <a:gd name="textAreaRight" fmla="*/ 659160 w 65880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1098717" h="3173425">
                <a:moveTo>
                  <a:pt x="863257" y="1234"/>
                </a:moveTo>
                <a:cubicBezTo>
                  <a:pt x="876257" y="3485"/>
                  <a:pt x="889231" y="9983"/>
                  <a:pt x="901689" y="20959"/>
                </a:cubicBezTo>
                <a:cubicBezTo>
                  <a:pt x="939662" y="54403"/>
                  <a:pt x="966891" y="124421"/>
                  <a:pt x="974206" y="207496"/>
                </a:cubicBezTo>
                <a:lnTo>
                  <a:pt x="974601" y="207829"/>
                </a:lnTo>
                <a:lnTo>
                  <a:pt x="1005264" y="233668"/>
                </a:lnTo>
                <a:cubicBezTo>
                  <a:pt x="1034277" y="267273"/>
                  <a:pt x="1056604" y="322106"/>
                  <a:pt x="1067272" y="388536"/>
                </a:cubicBezTo>
                <a:cubicBezTo>
                  <a:pt x="1077610" y="452827"/>
                  <a:pt x="1076136" y="522655"/>
                  <a:pt x="1063106" y="584846"/>
                </a:cubicBezTo>
                <a:cubicBezTo>
                  <a:pt x="1095136" y="670136"/>
                  <a:pt x="1106337" y="780699"/>
                  <a:pt x="1093535" y="885001"/>
                </a:cubicBezTo>
                <a:cubicBezTo>
                  <a:pt x="1076517" y="1023663"/>
                  <a:pt x="1020180" y="1127507"/>
                  <a:pt x="950991" y="1147742"/>
                </a:cubicBezTo>
                <a:cubicBezTo>
                  <a:pt x="950660" y="1234291"/>
                  <a:pt x="932042" y="1316373"/>
                  <a:pt x="899962" y="1372877"/>
                </a:cubicBezTo>
                <a:cubicBezTo>
                  <a:pt x="851219" y="1458739"/>
                  <a:pt x="780811" y="1469773"/>
                  <a:pt x="726226" y="1400136"/>
                </a:cubicBezTo>
                <a:cubicBezTo>
                  <a:pt x="717399" y="1459942"/>
                  <a:pt x="701169" y="1512704"/>
                  <a:pt x="679741" y="1554155"/>
                </a:cubicBezTo>
                <a:lnTo>
                  <a:pt x="650634" y="1597420"/>
                </a:lnTo>
                <a:lnTo>
                  <a:pt x="652124" y="1604798"/>
                </a:lnTo>
                <a:cubicBezTo>
                  <a:pt x="652124" y="1630049"/>
                  <a:pt x="641889" y="1652909"/>
                  <a:pt x="625342" y="1669456"/>
                </a:cubicBezTo>
                <a:lnTo>
                  <a:pt x="624110" y="1670287"/>
                </a:lnTo>
                <a:lnTo>
                  <a:pt x="677585" y="3173425"/>
                </a:lnTo>
                <a:lnTo>
                  <a:pt x="421553" y="3173425"/>
                </a:lnTo>
                <a:lnTo>
                  <a:pt x="476142" y="1638967"/>
                </a:lnTo>
                <a:lnTo>
                  <a:pt x="469244" y="1604798"/>
                </a:lnTo>
                <a:lnTo>
                  <a:pt x="471675" y="1592759"/>
                </a:lnTo>
                <a:lnTo>
                  <a:pt x="455063" y="1573096"/>
                </a:lnTo>
                <a:cubicBezTo>
                  <a:pt x="441532" y="1550932"/>
                  <a:pt x="429497" y="1524319"/>
                  <a:pt x="419521" y="1493710"/>
                </a:cubicBezTo>
                <a:cubicBezTo>
                  <a:pt x="325338" y="1609924"/>
                  <a:pt x="203011" y="1544601"/>
                  <a:pt x="148351" y="1348863"/>
                </a:cubicBezTo>
                <a:cubicBezTo>
                  <a:pt x="94655" y="1361729"/>
                  <a:pt x="44236" y="1293581"/>
                  <a:pt x="29123" y="1187676"/>
                </a:cubicBezTo>
                <a:cubicBezTo>
                  <a:pt x="18176" y="1111053"/>
                  <a:pt x="27853" y="1028359"/>
                  <a:pt x="54599" y="970100"/>
                </a:cubicBezTo>
                <a:cubicBezTo>
                  <a:pt x="16652" y="924401"/>
                  <a:pt x="-4481" y="836706"/>
                  <a:pt x="802" y="746874"/>
                </a:cubicBezTo>
                <a:cubicBezTo>
                  <a:pt x="7000" y="641693"/>
                  <a:pt x="47792" y="559306"/>
                  <a:pt x="99049" y="548463"/>
                </a:cubicBezTo>
                <a:lnTo>
                  <a:pt x="99989" y="543233"/>
                </a:lnTo>
                <a:cubicBezTo>
                  <a:pt x="93106" y="439656"/>
                  <a:pt x="109158" y="335201"/>
                  <a:pt x="143753" y="258311"/>
                </a:cubicBezTo>
                <a:cubicBezTo>
                  <a:pt x="198414" y="136867"/>
                  <a:pt x="287035" y="109799"/>
                  <a:pt x="356656" y="193217"/>
                </a:cubicBezTo>
                <a:lnTo>
                  <a:pt x="356697" y="193097"/>
                </a:lnTo>
                <a:lnTo>
                  <a:pt x="375432" y="137918"/>
                </a:lnTo>
                <a:cubicBezTo>
                  <a:pt x="425377" y="23417"/>
                  <a:pt x="514815" y="11729"/>
                  <a:pt x="571311" y="125643"/>
                </a:cubicBezTo>
                <a:lnTo>
                  <a:pt x="572076" y="123801"/>
                </a:lnTo>
                <a:lnTo>
                  <a:pt x="605703" y="42830"/>
                </a:lnTo>
                <a:cubicBezTo>
                  <a:pt x="620067" y="21636"/>
                  <a:pt x="636907" y="7482"/>
                  <a:pt x="654954" y="2252"/>
                </a:cubicBezTo>
                <a:cubicBezTo>
                  <a:pt x="684748" y="-6396"/>
                  <a:pt x="714513" y="10169"/>
                  <a:pt x="737800" y="46549"/>
                </a:cubicBezTo>
                <a:lnTo>
                  <a:pt x="757471" y="86845"/>
                </a:lnTo>
                <a:lnTo>
                  <a:pt x="758687" y="89335"/>
                </a:lnTo>
                <a:cubicBezTo>
                  <a:pt x="785014" y="25941"/>
                  <a:pt x="824257" y="-5520"/>
                  <a:pt x="863257" y="1234"/>
                </a:cubicBezTo>
                <a:close/>
              </a:path>
            </a:pathLst>
          </a:cu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云形标注 116"/>
          <p:cNvSpPr/>
          <p:nvPr/>
        </p:nvSpPr>
        <p:spPr>
          <a:xfrm>
            <a:off x="9055080" y="187560"/>
            <a:ext cx="1113120" cy="383400"/>
          </a:xfrm>
          <a:prstGeom prst="cloudCallout">
            <a:avLst>
              <a:gd name="adj1" fmla="val -8588"/>
              <a:gd name="adj2" fmla="val 15137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矩形 117"/>
          <p:cNvSpPr/>
          <p:nvPr/>
        </p:nvSpPr>
        <p:spPr>
          <a:xfrm>
            <a:off x="8154000" y="24120"/>
            <a:ext cx="35640" cy="7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矩形 118"/>
          <p:cNvSpPr/>
          <p:nvPr/>
        </p:nvSpPr>
        <p:spPr>
          <a:xfrm>
            <a:off x="8428320" y="24120"/>
            <a:ext cx="35640" cy="7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任意多边形 33"/>
          <p:cNvSpPr/>
          <p:nvPr/>
        </p:nvSpPr>
        <p:spPr>
          <a:xfrm rot="5400000">
            <a:off x="2904120" y="6035040"/>
            <a:ext cx="1159560" cy="520200"/>
          </a:xfrm>
          <a:custGeom>
            <a:avLst/>
            <a:gdLst>
              <a:gd name="textAreaLeft" fmla="*/ 0 w 1159560"/>
              <a:gd name="textAreaRight" fmla="*/ 1159920 w 115956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1159891" h="520542">
                <a:moveTo>
                  <a:pt x="308141" y="233193"/>
                </a:moveTo>
                <a:lnTo>
                  <a:pt x="327184" y="261438"/>
                </a:lnTo>
                <a:lnTo>
                  <a:pt x="352906" y="253439"/>
                </a:lnTo>
                <a:lnTo>
                  <a:pt x="352906" y="187369"/>
                </a:lnTo>
                <a:lnTo>
                  <a:pt x="318781" y="225291"/>
                </a:lnTo>
                <a:close/>
                <a:moveTo>
                  <a:pt x="0" y="344942"/>
                </a:moveTo>
                <a:cubicBezTo>
                  <a:pt x="0" y="247961"/>
                  <a:pt x="78619" y="169342"/>
                  <a:pt x="175600" y="169342"/>
                </a:cubicBezTo>
                <a:lnTo>
                  <a:pt x="206385" y="175557"/>
                </a:lnTo>
                <a:lnTo>
                  <a:pt x="220181" y="136562"/>
                </a:lnTo>
                <a:lnTo>
                  <a:pt x="323309" y="21959"/>
                </a:lnTo>
                <a:cubicBezTo>
                  <a:pt x="341685" y="1538"/>
                  <a:pt x="369869" y="-4810"/>
                  <a:pt x="394298" y="3628"/>
                </a:cubicBezTo>
                <a:lnTo>
                  <a:pt x="413939" y="15230"/>
                </a:lnTo>
                <a:lnTo>
                  <a:pt x="431656" y="18807"/>
                </a:lnTo>
                <a:cubicBezTo>
                  <a:pt x="452001" y="27412"/>
                  <a:pt x="466276" y="47558"/>
                  <a:pt x="466276" y="71037"/>
                </a:cubicBezTo>
                <a:lnTo>
                  <a:pt x="466276" y="218179"/>
                </a:lnTo>
                <a:lnTo>
                  <a:pt x="573175" y="184932"/>
                </a:lnTo>
                <a:lnTo>
                  <a:pt x="573175" y="182633"/>
                </a:lnTo>
                <a:lnTo>
                  <a:pt x="577178" y="183687"/>
                </a:lnTo>
                <a:lnTo>
                  <a:pt x="804773" y="112902"/>
                </a:lnTo>
                <a:lnTo>
                  <a:pt x="819916" y="247617"/>
                </a:lnTo>
                <a:lnTo>
                  <a:pt x="877468" y="262775"/>
                </a:lnTo>
                <a:cubicBezTo>
                  <a:pt x="967282" y="273144"/>
                  <a:pt x="1048445" y="277826"/>
                  <a:pt x="1138259" y="288196"/>
                </a:cubicBezTo>
                <a:lnTo>
                  <a:pt x="1159891" y="431065"/>
                </a:lnTo>
                <a:lnTo>
                  <a:pt x="840010" y="426385"/>
                </a:lnTo>
                <a:lnTo>
                  <a:pt x="846643" y="485398"/>
                </a:lnTo>
                <a:lnTo>
                  <a:pt x="324103" y="433016"/>
                </a:lnTo>
                <a:lnTo>
                  <a:pt x="299768" y="469110"/>
                </a:lnTo>
                <a:cubicBezTo>
                  <a:pt x="267990" y="500887"/>
                  <a:pt x="224090" y="520542"/>
                  <a:pt x="175600" y="520542"/>
                </a:cubicBezTo>
                <a:cubicBezTo>
                  <a:pt x="78619" y="520542"/>
                  <a:pt x="0" y="441923"/>
                  <a:pt x="0" y="344942"/>
                </a:cubicBezTo>
                <a:close/>
              </a:path>
            </a:pathLst>
          </a:cu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矩形 1"/>
          <p:cNvSpPr/>
          <p:nvPr/>
        </p:nvSpPr>
        <p:spPr>
          <a:xfrm>
            <a:off x="1994400" y="4027680"/>
            <a:ext cx="347004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7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如果只有</a:t>
            </a:r>
            <a:r>
              <a:rPr b="1" lang="zh-CN" sz="37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一个人</a:t>
            </a:r>
            <a:r>
              <a:rPr b="0" lang="zh-CN" sz="37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在场的时候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这个人会有</a:t>
            </a:r>
            <a:r>
              <a:rPr b="1" lang="en-US" sz="36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75%</a:t>
            </a:r>
            <a:r>
              <a:rPr b="0" lang="zh-CN" sz="36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的概率报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饼形 3"/>
          <p:cNvSpPr/>
          <p:nvPr/>
        </p:nvSpPr>
        <p:spPr>
          <a:xfrm>
            <a:off x="1974600" y="380160"/>
            <a:ext cx="3239640" cy="3239640"/>
          </a:xfrm>
          <a:prstGeom prst="pie">
            <a:avLst>
              <a:gd name="adj1" fmla="val 0"/>
              <a:gd name="adj2" fmla="val 16200000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椭圆 4"/>
          <p:cNvSpPr/>
          <p:nvPr/>
        </p:nvSpPr>
        <p:spPr>
          <a:xfrm>
            <a:off x="1976760" y="380160"/>
            <a:ext cx="3239640" cy="323964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云形标注 115"/>
          <p:cNvSpPr/>
          <p:nvPr/>
        </p:nvSpPr>
        <p:spPr>
          <a:xfrm>
            <a:off x="6087600" y="316440"/>
            <a:ext cx="1478520" cy="509400"/>
          </a:xfrm>
          <a:prstGeom prst="cloudCallout">
            <a:avLst>
              <a:gd name="adj1" fmla="val -8588"/>
              <a:gd name="adj2" fmla="val 15137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梯形 93"/>
          <p:cNvSpPr/>
          <p:nvPr/>
        </p:nvSpPr>
        <p:spPr>
          <a:xfrm>
            <a:off x="7132320" y="0"/>
            <a:ext cx="2340360" cy="6857640"/>
          </a:xfrm>
          <a:prstGeom prst="trapezoid">
            <a:avLst>
              <a:gd name="adj" fmla="val 25000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矩形 96"/>
          <p:cNvSpPr/>
          <p:nvPr/>
        </p:nvSpPr>
        <p:spPr>
          <a:xfrm>
            <a:off x="7754040" y="4334760"/>
            <a:ext cx="368280" cy="5389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矩形 97"/>
          <p:cNvSpPr/>
          <p:nvPr/>
        </p:nvSpPr>
        <p:spPr>
          <a:xfrm>
            <a:off x="8467200" y="4334760"/>
            <a:ext cx="368280" cy="5389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矩形 98"/>
          <p:cNvSpPr/>
          <p:nvPr/>
        </p:nvSpPr>
        <p:spPr>
          <a:xfrm>
            <a:off x="7827120" y="3608640"/>
            <a:ext cx="323640" cy="46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矩形 99"/>
          <p:cNvSpPr/>
          <p:nvPr/>
        </p:nvSpPr>
        <p:spPr>
          <a:xfrm>
            <a:off x="8394120" y="3608640"/>
            <a:ext cx="323640" cy="46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矩形 100"/>
          <p:cNvSpPr/>
          <p:nvPr/>
        </p:nvSpPr>
        <p:spPr>
          <a:xfrm>
            <a:off x="7900560" y="2954880"/>
            <a:ext cx="251640" cy="39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" name="矩形 101"/>
          <p:cNvSpPr/>
          <p:nvPr/>
        </p:nvSpPr>
        <p:spPr>
          <a:xfrm>
            <a:off x="8321040" y="2954880"/>
            <a:ext cx="251640" cy="39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矩形 102"/>
          <p:cNvSpPr/>
          <p:nvPr/>
        </p:nvSpPr>
        <p:spPr>
          <a:xfrm>
            <a:off x="7987320" y="2337120"/>
            <a:ext cx="215640" cy="35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矩形 103"/>
          <p:cNvSpPr/>
          <p:nvPr/>
        </p:nvSpPr>
        <p:spPr>
          <a:xfrm>
            <a:off x="8407800" y="2337120"/>
            <a:ext cx="215640" cy="35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矩形 104"/>
          <p:cNvSpPr/>
          <p:nvPr/>
        </p:nvSpPr>
        <p:spPr>
          <a:xfrm>
            <a:off x="8042040" y="1755360"/>
            <a:ext cx="179640" cy="323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矩形 105"/>
          <p:cNvSpPr/>
          <p:nvPr/>
        </p:nvSpPr>
        <p:spPr>
          <a:xfrm>
            <a:off x="8407800" y="1755360"/>
            <a:ext cx="179640" cy="323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6" name="矩形 106"/>
          <p:cNvSpPr/>
          <p:nvPr/>
        </p:nvSpPr>
        <p:spPr>
          <a:xfrm>
            <a:off x="8045640" y="1209600"/>
            <a:ext cx="143640" cy="28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" name="矩形 107"/>
          <p:cNvSpPr/>
          <p:nvPr/>
        </p:nvSpPr>
        <p:spPr>
          <a:xfrm>
            <a:off x="8411400" y="1209600"/>
            <a:ext cx="143640" cy="28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矩形 108"/>
          <p:cNvSpPr/>
          <p:nvPr/>
        </p:nvSpPr>
        <p:spPr>
          <a:xfrm>
            <a:off x="8064000" y="699840"/>
            <a:ext cx="107640" cy="25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矩形 109"/>
          <p:cNvSpPr/>
          <p:nvPr/>
        </p:nvSpPr>
        <p:spPr>
          <a:xfrm>
            <a:off x="8374680" y="699840"/>
            <a:ext cx="107640" cy="25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矩形 110"/>
          <p:cNvSpPr/>
          <p:nvPr/>
        </p:nvSpPr>
        <p:spPr>
          <a:xfrm>
            <a:off x="8118720" y="226080"/>
            <a:ext cx="71640" cy="21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矩形 111"/>
          <p:cNvSpPr/>
          <p:nvPr/>
        </p:nvSpPr>
        <p:spPr>
          <a:xfrm>
            <a:off x="8393040" y="226080"/>
            <a:ext cx="71640" cy="21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2" name="矩形 36"/>
          <p:cNvSpPr/>
          <p:nvPr/>
        </p:nvSpPr>
        <p:spPr>
          <a:xfrm>
            <a:off x="8176680" y="5832360"/>
            <a:ext cx="577080" cy="10429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3" name="任意多边形 89"/>
          <p:cNvSpPr/>
          <p:nvPr/>
        </p:nvSpPr>
        <p:spPr>
          <a:xfrm rot="13002600">
            <a:off x="5981760" y="5482080"/>
            <a:ext cx="2685600" cy="1303560"/>
          </a:xfrm>
          <a:custGeom>
            <a:avLst/>
            <a:gdLst>
              <a:gd name="textAreaLeft" fmla="*/ 0 w 2685600"/>
              <a:gd name="textAreaRight" fmla="*/ 2685960 w 2685600"/>
              <a:gd name="textAreaTop" fmla="*/ 0 h 1303560"/>
              <a:gd name="textAreaBottom" fmla="*/ 1303920 h 1303560"/>
            </a:gdLst>
            <a:ahLst/>
            <a:rect l="textAreaLeft" t="textAreaTop" r="textAreaRight" b="textAreaBottom"/>
            <a:pathLst>
              <a:path w="6961798" h="2304645">
                <a:moveTo>
                  <a:pt x="6168845" y="1917545"/>
                </a:moveTo>
                <a:cubicBezTo>
                  <a:pt x="5974383" y="2037472"/>
                  <a:pt x="5693481" y="2052882"/>
                  <a:pt x="5475711" y="1955619"/>
                </a:cubicBezTo>
                <a:cubicBezTo>
                  <a:pt x="5405283" y="2122684"/>
                  <a:pt x="5216698" y="2250396"/>
                  <a:pt x="4980383" y="2291083"/>
                </a:cubicBezTo>
                <a:cubicBezTo>
                  <a:pt x="4701914" y="2339021"/>
                  <a:pt x="4411284" y="2257328"/>
                  <a:pt x="4252086" y="2086317"/>
                </a:cubicBezTo>
                <a:cubicBezTo>
                  <a:pt x="3876335" y="2248636"/>
                  <a:pt x="3388303" y="2157398"/>
                  <a:pt x="3170229" y="1884004"/>
                </a:cubicBezTo>
                <a:cubicBezTo>
                  <a:pt x="2956006" y="1901975"/>
                  <a:pt x="2754855" y="1806791"/>
                  <a:pt x="2694561" y="1658869"/>
                </a:cubicBezTo>
                <a:lnTo>
                  <a:pt x="2681539" y="1598627"/>
                </a:lnTo>
                <a:lnTo>
                  <a:pt x="2628612" y="1557240"/>
                </a:lnTo>
                <a:cubicBezTo>
                  <a:pt x="2424785" y="1645291"/>
                  <a:pt x="2167664" y="1612992"/>
                  <a:pt x="2015999" y="1489996"/>
                </a:cubicBezTo>
                <a:lnTo>
                  <a:pt x="1999092" y="1473060"/>
                </a:lnTo>
                <a:lnTo>
                  <a:pt x="1968633" y="1523255"/>
                </a:lnTo>
                <a:cubicBezTo>
                  <a:pt x="1929009" y="1570775"/>
                  <a:pt x="1865499" y="1605643"/>
                  <a:pt x="1790653" y="1619031"/>
                </a:cubicBezTo>
                <a:cubicBezTo>
                  <a:pt x="1673053" y="1640065"/>
                  <a:pt x="1550318" y="1604221"/>
                  <a:pt x="1483088" y="1529188"/>
                </a:cubicBezTo>
                <a:cubicBezTo>
                  <a:pt x="1324408" y="1600407"/>
                  <a:pt x="1118310" y="1560376"/>
                  <a:pt x="1026216" y="1440421"/>
                </a:cubicBezTo>
                <a:lnTo>
                  <a:pt x="964133" y="1437616"/>
                </a:lnTo>
                <a:lnTo>
                  <a:pt x="943512" y="1456422"/>
                </a:lnTo>
                <a:cubicBezTo>
                  <a:pt x="926719" y="1468238"/>
                  <a:pt x="905854" y="1476830"/>
                  <a:pt x="882644" y="1480981"/>
                </a:cubicBezTo>
                <a:cubicBezTo>
                  <a:pt x="827946" y="1490765"/>
                  <a:pt x="770857" y="1474092"/>
                  <a:pt x="739587" y="1439192"/>
                </a:cubicBezTo>
                <a:cubicBezTo>
                  <a:pt x="665779" y="1472319"/>
                  <a:pt x="569915" y="1453699"/>
                  <a:pt x="527079" y="1397903"/>
                </a:cubicBezTo>
                <a:cubicBezTo>
                  <a:pt x="506041" y="1399737"/>
                  <a:pt x="485642" y="1395797"/>
                  <a:pt x="469024" y="1387626"/>
                </a:cubicBezTo>
                <a:lnTo>
                  <a:pt x="458309" y="1376824"/>
                </a:lnTo>
                <a:lnTo>
                  <a:pt x="438822" y="1383609"/>
                </a:lnTo>
                <a:cubicBezTo>
                  <a:pt x="438671" y="1398136"/>
                  <a:pt x="430080" y="1411913"/>
                  <a:pt x="415276" y="1421396"/>
                </a:cubicBezTo>
                <a:cubicBezTo>
                  <a:pt x="392785" y="1435808"/>
                  <a:pt x="360295" y="1437660"/>
                  <a:pt x="335108" y="1425972"/>
                </a:cubicBezTo>
                <a:cubicBezTo>
                  <a:pt x="326963" y="1446048"/>
                  <a:pt x="305151" y="1461394"/>
                  <a:pt x="277818" y="1466284"/>
                </a:cubicBezTo>
                <a:cubicBezTo>
                  <a:pt x="245609" y="1472044"/>
                  <a:pt x="211995" y="1462227"/>
                  <a:pt x="193582" y="1441677"/>
                </a:cubicBezTo>
                <a:cubicBezTo>
                  <a:pt x="150122" y="1461183"/>
                  <a:pt x="93676" y="1450219"/>
                  <a:pt x="68453" y="1417366"/>
                </a:cubicBezTo>
                <a:cubicBezTo>
                  <a:pt x="43677" y="1419525"/>
                  <a:pt x="20411" y="1408087"/>
                  <a:pt x="13437" y="1390311"/>
                </a:cubicBezTo>
                <a:cubicBezTo>
                  <a:pt x="8385" y="1377451"/>
                  <a:pt x="12851" y="1363571"/>
                  <a:pt x="25192" y="1353793"/>
                </a:cubicBezTo>
                <a:cubicBezTo>
                  <a:pt x="7682" y="1346123"/>
                  <a:pt x="-2069" y="1331404"/>
                  <a:pt x="370" y="1316326"/>
                </a:cubicBezTo>
                <a:cubicBezTo>
                  <a:pt x="3228" y="1298672"/>
                  <a:pt x="22052" y="1284844"/>
                  <a:pt x="45703" y="1283024"/>
                </a:cubicBezTo>
                <a:lnTo>
                  <a:pt x="46138" y="1282146"/>
                </a:lnTo>
                <a:cubicBezTo>
                  <a:pt x="42961" y="1264762"/>
                  <a:pt x="50368" y="1247230"/>
                  <a:pt x="66332" y="1234324"/>
                </a:cubicBezTo>
                <a:cubicBezTo>
                  <a:pt x="91554" y="1213941"/>
                  <a:pt x="132447" y="1209398"/>
                  <a:pt x="164573" y="1223399"/>
                </a:cubicBezTo>
                <a:lnTo>
                  <a:pt x="164595" y="1223381"/>
                </a:lnTo>
                <a:lnTo>
                  <a:pt x="184134" y="1206948"/>
                </a:lnTo>
                <a:cubicBezTo>
                  <a:pt x="207765" y="1194769"/>
                  <a:pt x="241279" y="1195669"/>
                  <a:pt x="263625" y="1212057"/>
                </a:cubicBezTo>
                <a:lnTo>
                  <a:pt x="263977" y="1211748"/>
                </a:lnTo>
                <a:lnTo>
                  <a:pt x="279495" y="1198157"/>
                </a:lnTo>
                <a:cubicBezTo>
                  <a:pt x="286122" y="1194600"/>
                  <a:pt x="293892" y="1192225"/>
                  <a:pt x="302220" y="1191347"/>
                </a:cubicBezTo>
                <a:cubicBezTo>
                  <a:pt x="311385" y="1190379"/>
                  <a:pt x="320545" y="1191292"/>
                  <a:pt x="328817" y="1193818"/>
                </a:cubicBezTo>
                <a:lnTo>
                  <a:pt x="349471" y="1205611"/>
                </a:lnTo>
                <a:lnTo>
                  <a:pt x="350087" y="1205963"/>
                </a:lnTo>
                <a:cubicBezTo>
                  <a:pt x="366284" y="1191776"/>
                  <a:pt x="393077" y="1187117"/>
                  <a:pt x="416073" y="1194486"/>
                </a:cubicBezTo>
                <a:lnTo>
                  <a:pt x="425267" y="1199714"/>
                </a:lnTo>
                <a:lnTo>
                  <a:pt x="436705" y="1187945"/>
                </a:lnTo>
                <a:cubicBezTo>
                  <a:pt x="450325" y="1177940"/>
                  <a:pt x="468360" y="1171296"/>
                  <a:pt x="488443" y="1169750"/>
                </a:cubicBezTo>
                <a:lnTo>
                  <a:pt x="489180" y="1168259"/>
                </a:lnTo>
                <a:cubicBezTo>
                  <a:pt x="483786" y="1138735"/>
                  <a:pt x="496366" y="1108960"/>
                  <a:pt x="523476" y="1087043"/>
                </a:cubicBezTo>
                <a:cubicBezTo>
                  <a:pt x="566312" y="1052425"/>
                  <a:pt x="635761" y="1044710"/>
                  <a:pt x="690321" y="1068488"/>
                </a:cubicBezTo>
                <a:lnTo>
                  <a:pt x="690359" y="1068457"/>
                </a:lnTo>
                <a:lnTo>
                  <a:pt x="723539" y="1040550"/>
                </a:lnTo>
                <a:cubicBezTo>
                  <a:pt x="743607" y="1030208"/>
                  <a:pt x="767870" y="1025419"/>
                  <a:pt x="791859" y="1026694"/>
                </a:cubicBezTo>
                <a:lnTo>
                  <a:pt x="795127" y="1027798"/>
                </a:lnTo>
                <a:lnTo>
                  <a:pt x="795749" y="1026245"/>
                </a:lnTo>
                <a:cubicBezTo>
                  <a:pt x="823531" y="984540"/>
                  <a:pt x="878382" y="954893"/>
                  <a:pt x="943152" y="949910"/>
                </a:cubicBezTo>
                <a:lnTo>
                  <a:pt x="944736" y="946705"/>
                </a:lnTo>
                <a:cubicBezTo>
                  <a:pt x="933138" y="883229"/>
                  <a:pt x="960184" y="819216"/>
                  <a:pt x="1018470" y="772095"/>
                </a:cubicBezTo>
                <a:cubicBezTo>
                  <a:pt x="1110563" y="697670"/>
                  <a:pt x="1259873" y="681082"/>
                  <a:pt x="1377172" y="732204"/>
                </a:cubicBezTo>
                <a:lnTo>
                  <a:pt x="1377242" y="732130"/>
                </a:lnTo>
                <a:lnTo>
                  <a:pt x="1408807" y="698315"/>
                </a:lnTo>
                <a:cubicBezTo>
                  <a:pt x="1492954" y="628145"/>
                  <a:pt x="1643642" y="620982"/>
                  <a:pt x="1738828" y="690792"/>
                </a:cubicBezTo>
                <a:lnTo>
                  <a:pt x="1740116" y="689663"/>
                </a:lnTo>
                <a:lnTo>
                  <a:pt x="1796771" y="640042"/>
                </a:lnTo>
                <a:cubicBezTo>
                  <a:pt x="1808872" y="633548"/>
                  <a:pt x="1822015" y="628132"/>
                  <a:pt x="1835934" y="623939"/>
                </a:cubicBezTo>
                <a:lnTo>
                  <a:pt x="1848654" y="621395"/>
                </a:lnTo>
                <a:lnTo>
                  <a:pt x="1853956" y="602200"/>
                </a:lnTo>
                <a:cubicBezTo>
                  <a:pt x="1872449" y="560055"/>
                  <a:pt x="1903766" y="520798"/>
                  <a:pt x="1946548" y="487509"/>
                </a:cubicBezTo>
                <a:cubicBezTo>
                  <a:pt x="2081742" y="382351"/>
                  <a:pt x="2300930" y="358912"/>
                  <a:pt x="2473126" y="431144"/>
                </a:cubicBezTo>
                <a:lnTo>
                  <a:pt x="2473227" y="431040"/>
                </a:lnTo>
                <a:lnTo>
                  <a:pt x="2519566" y="383260"/>
                </a:lnTo>
                <a:cubicBezTo>
                  <a:pt x="2643096" y="284114"/>
                  <a:pt x="2864307" y="273994"/>
                  <a:pt x="3004040" y="372631"/>
                </a:cubicBezTo>
                <a:lnTo>
                  <a:pt x="3006408" y="370067"/>
                </a:lnTo>
                <a:lnTo>
                  <a:pt x="3040798" y="332818"/>
                </a:lnTo>
                <a:cubicBezTo>
                  <a:pt x="3083722" y="296761"/>
                  <a:pt x="3143962" y="272581"/>
                  <a:pt x="3210913" y="265787"/>
                </a:cubicBezTo>
                <a:lnTo>
                  <a:pt x="3312571" y="270057"/>
                </a:lnTo>
                <a:lnTo>
                  <a:pt x="3337545" y="258643"/>
                </a:lnTo>
                <a:cubicBezTo>
                  <a:pt x="3542003" y="181910"/>
                  <a:pt x="3792960" y="182490"/>
                  <a:pt x="4001281" y="269876"/>
                </a:cubicBezTo>
                <a:lnTo>
                  <a:pt x="4001444" y="269708"/>
                </a:lnTo>
                <a:lnTo>
                  <a:pt x="4076188" y="192636"/>
                </a:lnTo>
                <a:cubicBezTo>
                  <a:pt x="4275447" y="32709"/>
                  <a:pt x="4632271" y="16385"/>
                  <a:pt x="4857666" y="175491"/>
                </a:cubicBezTo>
                <a:lnTo>
                  <a:pt x="4861486" y="171354"/>
                </a:lnTo>
                <a:lnTo>
                  <a:pt x="4916960" y="111271"/>
                </a:lnTo>
                <a:cubicBezTo>
                  <a:pt x="4986197" y="53109"/>
                  <a:pt x="5083365" y="14105"/>
                  <a:pt x="5191364" y="3147"/>
                </a:cubicBezTo>
                <a:cubicBezTo>
                  <a:pt x="5310230" y="-8931"/>
                  <a:pt x="5428983" y="14205"/>
                  <a:pt x="5521885" y="65019"/>
                </a:cubicBezTo>
                <a:lnTo>
                  <a:pt x="5600366" y="121301"/>
                </a:lnTo>
                <a:lnTo>
                  <a:pt x="5605217" y="124780"/>
                </a:lnTo>
                <a:cubicBezTo>
                  <a:pt x="5692746" y="50992"/>
                  <a:pt x="5816059" y="8179"/>
                  <a:pt x="5944774" y="1416"/>
                </a:cubicBezTo>
                <a:cubicBezTo>
                  <a:pt x="6022004" y="-2641"/>
                  <a:pt x="6101179" y="6280"/>
                  <a:pt x="6175736" y="29276"/>
                </a:cubicBezTo>
                <a:cubicBezTo>
                  <a:pt x="6327232" y="75988"/>
                  <a:pt x="6435864" y="173785"/>
                  <a:pt x="6465049" y="289819"/>
                </a:cubicBezTo>
                <a:lnTo>
                  <a:pt x="6466623" y="290284"/>
                </a:lnTo>
                <a:lnTo>
                  <a:pt x="6588956" y="326374"/>
                </a:lnTo>
                <a:cubicBezTo>
                  <a:pt x="6704707" y="373311"/>
                  <a:pt x="6793781" y="449899"/>
                  <a:pt x="6836342" y="542683"/>
                </a:cubicBezTo>
                <a:cubicBezTo>
                  <a:pt x="6877585" y="632481"/>
                  <a:pt x="6871708" y="730012"/>
                  <a:pt x="6819723" y="816877"/>
                </a:cubicBezTo>
                <a:cubicBezTo>
                  <a:pt x="6947507" y="936004"/>
                  <a:pt x="6992196" y="1090431"/>
                  <a:pt x="6941123" y="1236113"/>
                </a:cubicBezTo>
                <a:cubicBezTo>
                  <a:pt x="6873228" y="1429787"/>
                  <a:pt x="6648465" y="1574830"/>
                  <a:pt x="6372428" y="1603092"/>
                </a:cubicBezTo>
                <a:cubicBezTo>
                  <a:pt x="6371111" y="1723978"/>
                  <a:pt x="6296832" y="1838625"/>
                  <a:pt x="6168845" y="1917545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4" name="任意多边形 114"/>
          <p:cNvSpPr/>
          <p:nvPr/>
        </p:nvSpPr>
        <p:spPr>
          <a:xfrm>
            <a:off x="9601200" y="4971240"/>
            <a:ext cx="658800" cy="1903680"/>
          </a:xfrm>
          <a:custGeom>
            <a:avLst/>
            <a:gdLst>
              <a:gd name="textAreaLeft" fmla="*/ 0 w 658800"/>
              <a:gd name="textAreaRight" fmla="*/ 659160 w 65880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1098717" h="3173425">
                <a:moveTo>
                  <a:pt x="863257" y="1234"/>
                </a:moveTo>
                <a:cubicBezTo>
                  <a:pt x="876257" y="3485"/>
                  <a:pt x="889231" y="9983"/>
                  <a:pt x="901689" y="20959"/>
                </a:cubicBezTo>
                <a:cubicBezTo>
                  <a:pt x="939662" y="54403"/>
                  <a:pt x="966891" y="124421"/>
                  <a:pt x="974206" y="207496"/>
                </a:cubicBezTo>
                <a:lnTo>
                  <a:pt x="974601" y="207829"/>
                </a:lnTo>
                <a:lnTo>
                  <a:pt x="1005264" y="233668"/>
                </a:lnTo>
                <a:cubicBezTo>
                  <a:pt x="1034277" y="267273"/>
                  <a:pt x="1056604" y="322106"/>
                  <a:pt x="1067272" y="388536"/>
                </a:cubicBezTo>
                <a:cubicBezTo>
                  <a:pt x="1077610" y="452827"/>
                  <a:pt x="1076136" y="522655"/>
                  <a:pt x="1063106" y="584846"/>
                </a:cubicBezTo>
                <a:cubicBezTo>
                  <a:pt x="1095136" y="670136"/>
                  <a:pt x="1106337" y="780699"/>
                  <a:pt x="1093535" y="885001"/>
                </a:cubicBezTo>
                <a:cubicBezTo>
                  <a:pt x="1076517" y="1023663"/>
                  <a:pt x="1020180" y="1127507"/>
                  <a:pt x="950991" y="1147742"/>
                </a:cubicBezTo>
                <a:cubicBezTo>
                  <a:pt x="950660" y="1234291"/>
                  <a:pt x="932042" y="1316373"/>
                  <a:pt x="899962" y="1372877"/>
                </a:cubicBezTo>
                <a:cubicBezTo>
                  <a:pt x="851219" y="1458739"/>
                  <a:pt x="780811" y="1469773"/>
                  <a:pt x="726226" y="1400136"/>
                </a:cubicBezTo>
                <a:cubicBezTo>
                  <a:pt x="717399" y="1459942"/>
                  <a:pt x="701169" y="1512704"/>
                  <a:pt x="679741" y="1554155"/>
                </a:cubicBezTo>
                <a:lnTo>
                  <a:pt x="650634" y="1597420"/>
                </a:lnTo>
                <a:lnTo>
                  <a:pt x="652124" y="1604798"/>
                </a:lnTo>
                <a:cubicBezTo>
                  <a:pt x="652124" y="1630049"/>
                  <a:pt x="641889" y="1652909"/>
                  <a:pt x="625342" y="1669456"/>
                </a:cubicBezTo>
                <a:lnTo>
                  <a:pt x="624110" y="1670287"/>
                </a:lnTo>
                <a:lnTo>
                  <a:pt x="677585" y="3173425"/>
                </a:lnTo>
                <a:lnTo>
                  <a:pt x="421553" y="3173425"/>
                </a:lnTo>
                <a:lnTo>
                  <a:pt x="476142" y="1638967"/>
                </a:lnTo>
                <a:lnTo>
                  <a:pt x="469244" y="1604798"/>
                </a:lnTo>
                <a:lnTo>
                  <a:pt x="471675" y="1592759"/>
                </a:lnTo>
                <a:lnTo>
                  <a:pt x="455063" y="1573096"/>
                </a:lnTo>
                <a:cubicBezTo>
                  <a:pt x="441532" y="1550932"/>
                  <a:pt x="429497" y="1524319"/>
                  <a:pt x="419521" y="1493710"/>
                </a:cubicBezTo>
                <a:cubicBezTo>
                  <a:pt x="325338" y="1609924"/>
                  <a:pt x="203011" y="1544601"/>
                  <a:pt x="148351" y="1348863"/>
                </a:cubicBezTo>
                <a:cubicBezTo>
                  <a:pt x="94655" y="1361729"/>
                  <a:pt x="44236" y="1293581"/>
                  <a:pt x="29123" y="1187676"/>
                </a:cubicBezTo>
                <a:cubicBezTo>
                  <a:pt x="18176" y="1111053"/>
                  <a:pt x="27853" y="1028359"/>
                  <a:pt x="54599" y="970100"/>
                </a:cubicBezTo>
                <a:cubicBezTo>
                  <a:pt x="16652" y="924401"/>
                  <a:pt x="-4481" y="836706"/>
                  <a:pt x="802" y="746874"/>
                </a:cubicBezTo>
                <a:cubicBezTo>
                  <a:pt x="7000" y="641693"/>
                  <a:pt x="47792" y="559306"/>
                  <a:pt x="99049" y="548463"/>
                </a:cubicBezTo>
                <a:lnTo>
                  <a:pt x="99989" y="543233"/>
                </a:lnTo>
                <a:cubicBezTo>
                  <a:pt x="93106" y="439656"/>
                  <a:pt x="109158" y="335201"/>
                  <a:pt x="143753" y="258311"/>
                </a:cubicBezTo>
                <a:cubicBezTo>
                  <a:pt x="198414" y="136867"/>
                  <a:pt x="287035" y="109799"/>
                  <a:pt x="356656" y="193217"/>
                </a:cubicBezTo>
                <a:lnTo>
                  <a:pt x="356697" y="193097"/>
                </a:lnTo>
                <a:lnTo>
                  <a:pt x="375432" y="137918"/>
                </a:lnTo>
                <a:cubicBezTo>
                  <a:pt x="425377" y="23417"/>
                  <a:pt x="514815" y="11729"/>
                  <a:pt x="571311" y="125643"/>
                </a:cubicBezTo>
                <a:lnTo>
                  <a:pt x="572076" y="123801"/>
                </a:lnTo>
                <a:lnTo>
                  <a:pt x="605703" y="42830"/>
                </a:lnTo>
                <a:cubicBezTo>
                  <a:pt x="620067" y="21636"/>
                  <a:pt x="636907" y="7482"/>
                  <a:pt x="654954" y="2252"/>
                </a:cubicBezTo>
                <a:cubicBezTo>
                  <a:pt x="684748" y="-6396"/>
                  <a:pt x="714513" y="10169"/>
                  <a:pt x="737800" y="46549"/>
                </a:cubicBezTo>
                <a:lnTo>
                  <a:pt x="757471" y="86845"/>
                </a:lnTo>
                <a:lnTo>
                  <a:pt x="758687" y="89335"/>
                </a:lnTo>
                <a:cubicBezTo>
                  <a:pt x="785014" y="25941"/>
                  <a:pt x="824257" y="-5520"/>
                  <a:pt x="863257" y="1234"/>
                </a:cubicBezTo>
                <a:close/>
              </a:path>
            </a:pathLst>
          </a:cu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5" name="云形标注 116"/>
          <p:cNvSpPr/>
          <p:nvPr/>
        </p:nvSpPr>
        <p:spPr>
          <a:xfrm>
            <a:off x="9055080" y="187560"/>
            <a:ext cx="1113120" cy="383400"/>
          </a:xfrm>
          <a:prstGeom prst="cloudCallout">
            <a:avLst>
              <a:gd name="adj1" fmla="val -8588"/>
              <a:gd name="adj2" fmla="val 15137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矩形 117"/>
          <p:cNvSpPr/>
          <p:nvPr/>
        </p:nvSpPr>
        <p:spPr>
          <a:xfrm>
            <a:off x="8154000" y="24120"/>
            <a:ext cx="35640" cy="7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7" name="矩形 118"/>
          <p:cNvSpPr/>
          <p:nvPr/>
        </p:nvSpPr>
        <p:spPr>
          <a:xfrm>
            <a:off x="8428320" y="24120"/>
            <a:ext cx="35640" cy="7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饼形 3"/>
          <p:cNvSpPr/>
          <p:nvPr/>
        </p:nvSpPr>
        <p:spPr>
          <a:xfrm>
            <a:off x="1974600" y="380160"/>
            <a:ext cx="3239640" cy="3239640"/>
          </a:xfrm>
          <a:prstGeom prst="pie">
            <a:avLst>
              <a:gd name="adj1" fmla="val 0"/>
              <a:gd name="adj2" fmla="val 4178866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29"/>
          <p:cNvSpPr/>
          <p:nvPr/>
        </p:nvSpPr>
        <p:spPr>
          <a:xfrm>
            <a:off x="702360" y="3744000"/>
            <a:ext cx="6241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然而同样的冒烟事件中，如果看见冒烟的是</a:t>
            </a:r>
            <a:r>
              <a:rPr b="1" lang="zh-CN" sz="36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三个人</a:t>
            </a:r>
            <a:r>
              <a:rPr b="0" lang="zh-CN" sz="36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，这三个人会有</a:t>
            </a:r>
            <a:r>
              <a:rPr b="1" lang="en-US" sz="36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38%</a:t>
            </a:r>
            <a:r>
              <a:rPr b="0" lang="zh-CN" sz="36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的概率报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48"/>
          <p:cNvSpPr/>
          <p:nvPr/>
        </p:nvSpPr>
        <p:spPr>
          <a:xfrm flipV="1">
            <a:off x="1832400" y="5673240"/>
            <a:ext cx="2840760" cy="1201320"/>
          </a:xfrm>
          <a:custGeom>
            <a:avLst/>
            <a:gdLst>
              <a:gd name="textAreaLeft" fmla="*/ 0 w 2840760"/>
              <a:gd name="textAreaRight" fmla="*/ 2841120 w 2840760"/>
              <a:gd name="textAreaTop" fmla="*/ -360 h 1201320"/>
              <a:gd name="textAreaBottom" fmla="*/ 1201320 h 1201320"/>
            </a:gdLst>
            <a:ahLst/>
            <a:rect l="textAreaLeft" t="textAreaTop" r="textAreaRight" b="textAreaBottom"/>
            <a:pathLst>
              <a:path w="2841266" h="1201511">
                <a:moveTo>
                  <a:pt x="1513898" y="658158"/>
                </a:moveTo>
                <a:lnTo>
                  <a:pt x="1515466" y="653411"/>
                </a:lnTo>
                <a:lnTo>
                  <a:pt x="1534168" y="648855"/>
                </a:lnTo>
                <a:close/>
                <a:moveTo>
                  <a:pt x="1349707" y="1170254"/>
                </a:moveTo>
                <a:cubicBezTo>
                  <a:pt x="1430569" y="1170254"/>
                  <a:pt x="1496121" y="1104702"/>
                  <a:pt x="1496121" y="1023840"/>
                </a:cubicBezTo>
                <a:cubicBezTo>
                  <a:pt x="1496121" y="983409"/>
                  <a:pt x="1479733" y="946806"/>
                  <a:pt x="1453237" y="920310"/>
                </a:cubicBezTo>
                <a:lnTo>
                  <a:pt x="1419408" y="897502"/>
                </a:lnTo>
                <a:lnTo>
                  <a:pt x="1434663" y="898142"/>
                </a:lnTo>
                <a:lnTo>
                  <a:pt x="1465357" y="805178"/>
                </a:lnTo>
                <a:lnTo>
                  <a:pt x="1645488" y="722503"/>
                </a:lnTo>
                <a:cubicBezTo>
                  <a:pt x="1673940" y="709444"/>
                  <a:pt x="1686420" y="675792"/>
                  <a:pt x="1673361" y="647339"/>
                </a:cubicBezTo>
                <a:cubicBezTo>
                  <a:pt x="1660302" y="618887"/>
                  <a:pt x="1626650" y="606408"/>
                  <a:pt x="1598197" y="619467"/>
                </a:cubicBezTo>
                <a:lnTo>
                  <a:pt x="1541049" y="645697"/>
                </a:lnTo>
                <a:lnTo>
                  <a:pt x="1578992" y="614826"/>
                </a:lnTo>
                <a:cubicBezTo>
                  <a:pt x="1602073" y="586972"/>
                  <a:pt x="1616349" y="548493"/>
                  <a:pt x="1616349" y="505989"/>
                </a:cubicBezTo>
                <a:cubicBezTo>
                  <a:pt x="1616349" y="484737"/>
                  <a:pt x="1612780" y="464492"/>
                  <a:pt x="1606326" y="446077"/>
                </a:cubicBezTo>
                <a:lnTo>
                  <a:pt x="1592243" y="420870"/>
                </a:lnTo>
                <a:lnTo>
                  <a:pt x="1616934" y="346088"/>
                </a:lnTo>
                <a:lnTo>
                  <a:pt x="1464522" y="329950"/>
                </a:lnTo>
                <a:lnTo>
                  <a:pt x="1448134" y="267729"/>
                </a:lnTo>
                <a:cubicBezTo>
                  <a:pt x="1437765" y="177915"/>
                  <a:pt x="1433083" y="96752"/>
                  <a:pt x="1422713" y="6938"/>
                </a:cubicBezTo>
                <a:lnTo>
                  <a:pt x="1376891" y="0"/>
                </a:lnTo>
                <a:lnTo>
                  <a:pt x="1280059" y="0"/>
                </a:lnTo>
                <a:lnTo>
                  <a:pt x="1284607" y="310900"/>
                </a:lnTo>
                <a:lnTo>
                  <a:pt x="1225512" y="304643"/>
                </a:lnTo>
                <a:lnTo>
                  <a:pt x="1288016" y="891986"/>
                </a:lnTo>
                <a:lnTo>
                  <a:pt x="1288176" y="891993"/>
                </a:lnTo>
                <a:lnTo>
                  <a:pt x="1246177" y="920310"/>
                </a:lnTo>
                <a:cubicBezTo>
                  <a:pt x="1219681" y="946806"/>
                  <a:pt x="1203293" y="983409"/>
                  <a:pt x="1203293" y="1023840"/>
                </a:cubicBezTo>
                <a:cubicBezTo>
                  <a:pt x="1203293" y="1104702"/>
                  <a:pt x="1268845" y="1170254"/>
                  <a:pt x="1349707" y="1170254"/>
                </a:cubicBezTo>
                <a:close/>
                <a:moveTo>
                  <a:pt x="175600" y="1179495"/>
                </a:moveTo>
                <a:cubicBezTo>
                  <a:pt x="272581" y="1179495"/>
                  <a:pt x="351200" y="1100876"/>
                  <a:pt x="351200" y="1003895"/>
                </a:cubicBezTo>
                <a:cubicBezTo>
                  <a:pt x="351200" y="955405"/>
                  <a:pt x="331545" y="911505"/>
                  <a:pt x="299768" y="879727"/>
                </a:cubicBezTo>
                <a:lnTo>
                  <a:pt x="280701" y="866872"/>
                </a:lnTo>
                <a:lnTo>
                  <a:pt x="290774" y="843904"/>
                </a:lnTo>
                <a:lnTo>
                  <a:pt x="308671" y="837281"/>
                </a:lnTo>
                <a:lnTo>
                  <a:pt x="470260" y="807343"/>
                </a:lnTo>
                <a:cubicBezTo>
                  <a:pt x="501042" y="801639"/>
                  <a:pt x="521373" y="772062"/>
                  <a:pt x="515670" y="741279"/>
                </a:cubicBezTo>
                <a:cubicBezTo>
                  <a:pt x="509967" y="710497"/>
                  <a:pt x="480389" y="690167"/>
                  <a:pt x="449607" y="695870"/>
                </a:cubicBezTo>
                <a:lnTo>
                  <a:pt x="347393" y="714808"/>
                </a:lnTo>
                <a:lnTo>
                  <a:pt x="385238" y="628517"/>
                </a:lnTo>
                <a:lnTo>
                  <a:pt x="410677" y="623649"/>
                </a:lnTo>
                <a:lnTo>
                  <a:pt x="403178" y="587612"/>
                </a:lnTo>
                <a:lnTo>
                  <a:pt x="451936" y="476439"/>
                </a:lnTo>
                <a:lnTo>
                  <a:pt x="378832" y="470612"/>
                </a:lnTo>
                <a:lnTo>
                  <a:pt x="356377" y="362699"/>
                </a:lnTo>
                <a:lnTo>
                  <a:pt x="335140" y="367118"/>
                </a:lnTo>
                <a:lnTo>
                  <a:pt x="302063" y="241528"/>
                </a:lnTo>
                <a:cubicBezTo>
                  <a:pt x="296879" y="196621"/>
                  <a:pt x="293116" y="153877"/>
                  <a:pt x="289353" y="111133"/>
                </a:cubicBezTo>
                <a:lnTo>
                  <a:pt x="278520" y="0"/>
                </a:lnTo>
                <a:lnTo>
                  <a:pt x="134371" y="0"/>
                </a:lnTo>
                <a:lnTo>
                  <a:pt x="140335" y="407654"/>
                </a:lnTo>
                <a:lnTo>
                  <a:pt x="16329" y="433458"/>
                </a:lnTo>
                <a:lnTo>
                  <a:pt x="102267" y="682670"/>
                </a:lnTo>
                <a:lnTo>
                  <a:pt x="112514" y="680709"/>
                </a:lnTo>
                <a:lnTo>
                  <a:pt x="134549" y="836583"/>
                </a:lnTo>
                <a:lnTo>
                  <a:pt x="107249" y="842095"/>
                </a:lnTo>
                <a:cubicBezTo>
                  <a:pt x="44223" y="868752"/>
                  <a:pt x="0" y="931159"/>
                  <a:pt x="0" y="1003895"/>
                </a:cubicBezTo>
                <a:cubicBezTo>
                  <a:pt x="0" y="1100876"/>
                  <a:pt x="78619" y="1179495"/>
                  <a:pt x="175600" y="1179495"/>
                </a:cubicBezTo>
                <a:close/>
                <a:moveTo>
                  <a:pt x="2450237" y="1201511"/>
                </a:moveTo>
                <a:cubicBezTo>
                  <a:pt x="2547218" y="1201511"/>
                  <a:pt x="2625837" y="1122892"/>
                  <a:pt x="2625837" y="1025911"/>
                </a:cubicBezTo>
                <a:cubicBezTo>
                  <a:pt x="2625837" y="977421"/>
                  <a:pt x="2606183" y="933521"/>
                  <a:pt x="2574405" y="901743"/>
                </a:cubicBezTo>
                <a:lnTo>
                  <a:pt x="2562891" y="893980"/>
                </a:lnTo>
                <a:lnTo>
                  <a:pt x="2572869" y="851845"/>
                </a:lnTo>
                <a:lnTo>
                  <a:pt x="2726129" y="896163"/>
                </a:lnTo>
                <a:cubicBezTo>
                  <a:pt x="2773925" y="909985"/>
                  <a:pt x="2823876" y="882443"/>
                  <a:pt x="2837698" y="834646"/>
                </a:cubicBezTo>
                <a:cubicBezTo>
                  <a:pt x="2851519" y="786849"/>
                  <a:pt x="2823977" y="736898"/>
                  <a:pt x="2776180" y="723077"/>
                </a:cubicBezTo>
                <a:lnTo>
                  <a:pt x="2614437" y="676306"/>
                </a:lnTo>
                <a:lnTo>
                  <a:pt x="2658558" y="489986"/>
                </a:lnTo>
                <a:lnTo>
                  <a:pt x="2576072" y="476005"/>
                </a:lnTo>
                <a:lnTo>
                  <a:pt x="2516080" y="241528"/>
                </a:lnTo>
                <a:cubicBezTo>
                  <a:pt x="2511043" y="196621"/>
                  <a:pt x="2507388" y="153877"/>
                  <a:pt x="2503732" y="111133"/>
                </a:cubicBezTo>
                <a:lnTo>
                  <a:pt x="2493208" y="0"/>
                </a:lnTo>
                <a:lnTo>
                  <a:pt x="2353171" y="0"/>
                </a:lnTo>
                <a:lnTo>
                  <a:pt x="2359415" y="439281"/>
                </a:lnTo>
                <a:lnTo>
                  <a:pt x="2288738" y="427301"/>
                </a:lnTo>
                <a:lnTo>
                  <a:pt x="2363033" y="876822"/>
                </a:lnTo>
                <a:lnTo>
                  <a:pt x="2326069" y="901743"/>
                </a:lnTo>
                <a:cubicBezTo>
                  <a:pt x="2294292" y="933521"/>
                  <a:pt x="2274637" y="977421"/>
                  <a:pt x="2274637" y="1025911"/>
                </a:cubicBezTo>
                <a:cubicBezTo>
                  <a:pt x="2274637" y="1122892"/>
                  <a:pt x="2353256" y="1201511"/>
                  <a:pt x="2450237" y="1201511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任意多边形 86"/>
          <p:cNvSpPr/>
          <p:nvPr/>
        </p:nvSpPr>
        <p:spPr>
          <a:xfrm flipV="1">
            <a:off x="3573360" y="3325320"/>
            <a:ext cx="5021640" cy="2168640"/>
          </a:xfrm>
          <a:custGeom>
            <a:avLst/>
            <a:gdLst>
              <a:gd name="textAreaLeft" fmla="*/ 0 w 5021640"/>
              <a:gd name="textAreaRight" fmla="*/ 5022000 w 5021640"/>
              <a:gd name="textAreaTop" fmla="*/ 360 h 2168640"/>
              <a:gd name="textAreaBottom" fmla="*/ 2169360 h 2168640"/>
            </a:gdLst>
            <a:ahLst/>
            <a:rect l="textAreaLeft" t="textAreaTop" r="textAreaRight" b="textAreaBottom"/>
            <a:pathLst>
              <a:path w="2841266" h="1201511">
                <a:moveTo>
                  <a:pt x="1513898" y="658158"/>
                </a:moveTo>
                <a:lnTo>
                  <a:pt x="1515466" y="653411"/>
                </a:lnTo>
                <a:lnTo>
                  <a:pt x="1534168" y="648855"/>
                </a:lnTo>
                <a:close/>
                <a:moveTo>
                  <a:pt x="1349707" y="1170254"/>
                </a:moveTo>
                <a:cubicBezTo>
                  <a:pt x="1430569" y="1170254"/>
                  <a:pt x="1496121" y="1104702"/>
                  <a:pt x="1496121" y="1023840"/>
                </a:cubicBezTo>
                <a:cubicBezTo>
                  <a:pt x="1496121" y="983409"/>
                  <a:pt x="1479733" y="946806"/>
                  <a:pt x="1453237" y="920310"/>
                </a:cubicBezTo>
                <a:lnTo>
                  <a:pt x="1419408" y="897502"/>
                </a:lnTo>
                <a:lnTo>
                  <a:pt x="1434663" y="898142"/>
                </a:lnTo>
                <a:lnTo>
                  <a:pt x="1465357" y="805178"/>
                </a:lnTo>
                <a:lnTo>
                  <a:pt x="1645488" y="722503"/>
                </a:lnTo>
                <a:cubicBezTo>
                  <a:pt x="1673940" y="709444"/>
                  <a:pt x="1686420" y="675792"/>
                  <a:pt x="1673361" y="647339"/>
                </a:cubicBezTo>
                <a:cubicBezTo>
                  <a:pt x="1660302" y="618887"/>
                  <a:pt x="1626650" y="606408"/>
                  <a:pt x="1598197" y="619467"/>
                </a:cubicBezTo>
                <a:lnTo>
                  <a:pt x="1541049" y="645697"/>
                </a:lnTo>
                <a:lnTo>
                  <a:pt x="1578992" y="614826"/>
                </a:lnTo>
                <a:cubicBezTo>
                  <a:pt x="1602073" y="586972"/>
                  <a:pt x="1616349" y="548493"/>
                  <a:pt x="1616349" y="505989"/>
                </a:cubicBezTo>
                <a:cubicBezTo>
                  <a:pt x="1616349" y="484737"/>
                  <a:pt x="1612780" y="464492"/>
                  <a:pt x="1606326" y="446077"/>
                </a:cubicBezTo>
                <a:lnTo>
                  <a:pt x="1592243" y="420870"/>
                </a:lnTo>
                <a:lnTo>
                  <a:pt x="1616934" y="346088"/>
                </a:lnTo>
                <a:lnTo>
                  <a:pt x="1464522" y="329950"/>
                </a:lnTo>
                <a:lnTo>
                  <a:pt x="1448134" y="267729"/>
                </a:lnTo>
                <a:cubicBezTo>
                  <a:pt x="1437765" y="177915"/>
                  <a:pt x="1433083" y="96752"/>
                  <a:pt x="1422713" y="6938"/>
                </a:cubicBezTo>
                <a:lnTo>
                  <a:pt x="1376891" y="0"/>
                </a:lnTo>
                <a:lnTo>
                  <a:pt x="1280059" y="0"/>
                </a:lnTo>
                <a:lnTo>
                  <a:pt x="1284607" y="310900"/>
                </a:lnTo>
                <a:lnTo>
                  <a:pt x="1225512" y="304643"/>
                </a:lnTo>
                <a:lnTo>
                  <a:pt x="1288016" y="891986"/>
                </a:lnTo>
                <a:lnTo>
                  <a:pt x="1288176" y="891993"/>
                </a:lnTo>
                <a:lnTo>
                  <a:pt x="1246177" y="920310"/>
                </a:lnTo>
                <a:cubicBezTo>
                  <a:pt x="1219681" y="946806"/>
                  <a:pt x="1203293" y="983409"/>
                  <a:pt x="1203293" y="1023840"/>
                </a:cubicBezTo>
                <a:cubicBezTo>
                  <a:pt x="1203293" y="1104702"/>
                  <a:pt x="1268845" y="1170254"/>
                  <a:pt x="1349707" y="1170254"/>
                </a:cubicBezTo>
                <a:close/>
                <a:moveTo>
                  <a:pt x="175600" y="1179495"/>
                </a:moveTo>
                <a:cubicBezTo>
                  <a:pt x="272581" y="1179495"/>
                  <a:pt x="351200" y="1100876"/>
                  <a:pt x="351200" y="1003895"/>
                </a:cubicBezTo>
                <a:cubicBezTo>
                  <a:pt x="351200" y="955405"/>
                  <a:pt x="331545" y="911505"/>
                  <a:pt x="299768" y="879727"/>
                </a:cubicBezTo>
                <a:lnTo>
                  <a:pt x="280701" y="866872"/>
                </a:lnTo>
                <a:lnTo>
                  <a:pt x="290774" y="843904"/>
                </a:lnTo>
                <a:lnTo>
                  <a:pt x="308671" y="837281"/>
                </a:lnTo>
                <a:lnTo>
                  <a:pt x="470260" y="807343"/>
                </a:lnTo>
                <a:cubicBezTo>
                  <a:pt x="501042" y="801639"/>
                  <a:pt x="521373" y="772062"/>
                  <a:pt x="515670" y="741279"/>
                </a:cubicBezTo>
                <a:cubicBezTo>
                  <a:pt x="509967" y="710497"/>
                  <a:pt x="480389" y="690167"/>
                  <a:pt x="449607" y="695870"/>
                </a:cubicBezTo>
                <a:lnTo>
                  <a:pt x="347393" y="714808"/>
                </a:lnTo>
                <a:lnTo>
                  <a:pt x="385238" y="628517"/>
                </a:lnTo>
                <a:lnTo>
                  <a:pt x="410677" y="623649"/>
                </a:lnTo>
                <a:lnTo>
                  <a:pt x="403178" y="587612"/>
                </a:lnTo>
                <a:lnTo>
                  <a:pt x="451936" y="476439"/>
                </a:lnTo>
                <a:lnTo>
                  <a:pt x="378832" y="470612"/>
                </a:lnTo>
                <a:lnTo>
                  <a:pt x="356377" y="362699"/>
                </a:lnTo>
                <a:lnTo>
                  <a:pt x="335140" y="367118"/>
                </a:lnTo>
                <a:lnTo>
                  <a:pt x="302063" y="241528"/>
                </a:lnTo>
                <a:cubicBezTo>
                  <a:pt x="296879" y="196621"/>
                  <a:pt x="293116" y="153877"/>
                  <a:pt x="289353" y="111133"/>
                </a:cubicBezTo>
                <a:lnTo>
                  <a:pt x="278520" y="0"/>
                </a:lnTo>
                <a:lnTo>
                  <a:pt x="134371" y="0"/>
                </a:lnTo>
                <a:lnTo>
                  <a:pt x="140335" y="407654"/>
                </a:lnTo>
                <a:lnTo>
                  <a:pt x="16329" y="433458"/>
                </a:lnTo>
                <a:lnTo>
                  <a:pt x="102267" y="682670"/>
                </a:lnTo>
                <a:lnTo>
                  <a:pt x="112514" y="680709"/>
                </a:lnTo>
                <a:lnTo>
                  <a:pt x="134549" y="836583"/>
                </a:lnTo>
                <a:lnTo>
                  <a:pt x="107249" y="842095"/>
                </a:lnTo>
                <a:cubicBezTo>
                  <a:pt x="44223" y="868752"/>
                  <a:pt x="0" y="931159"/>
                  <a:pt x="0" y="1003895"/>
                </a:cubicBezTo>
                <a:cubicBezTo>
                  <a:pt x="0" y="1100876"/>
                  <a:pt x="78619" y="1179495"/>
                  <a:pt x="175600" y="1179495"/>
                </a:cubicBezTo>
                <a:close/>
                <a:moveTo>
                  <a:pt x="2450237" y="1201511"/>
                </a:moveTo>
                <a:cubicBezTo>
                  <a:pt x="2547218" y="1201511"/>
                  <a:pt x="2625837" y="1122892"/>
                  <a:pt x="2625837" y="1025911"/>
                </a:cubicBezTo>
                <a:cubicBezTo>
                  <a:pt x="2625837" y="977421"/>
                  <a:pt x="2606183" y="933521"/>
                  <a:pt x="2574405" y="901743"/>
                </a:cubicBezTo>
                <a:lnTo>
                  <a:pt x="2562891" y="893980"/>
                </a:lnTo>
                <a:lnTo>
                  <a:pt x="2572869" y="851845"/>
                </a:lnTo>
                <a:lnTo>
                  <a:pt x="2726129" y="896163"/>
                </a:lnTo>
                <a:cubicBezTo>
                  <a:pt x="2773925" y="909985"/>
                  <a:pt x="2823876" y="882443"/>
                  <a:pt x="2837698" y="834646"/>
                </a:cubicBezTo>
                <a:cubicBezTo>
                  <a:pt x="2851519" y="786849"/>
                  <a:pt x="2823977" y="736898"/>
                  <a:pt x="2776180" y="723077"/>
                </a:cubicBezTo>
                <a:lnTo>
                  <a:pt x="2614437" y="676306"/>
                </a:lnTo>
                <a:lnTo>
                  <a:pt x="2658558" y="489986"/>
                </a:lnTo>
                <a:lnTo>
                  <a:pt x="2576072" y="476005"/>
                </a:lnTo>
                <a:lnTo>
                  <a:pt x="2516080" y="241528"/>
                </a:lnTo>
                <a:cubicBezTo>
                  <a:pt x="2511043" y="196621"/>
                  <a:pt x="2507388" y="153877"/>
                  <a:pt x="2503732" y="111133"/>
                </a:cubicBezTo>
                <a:lnTo>
                  <a:pt x="2493208" y="0"/>
                </a:lnTo>
                <a:lnTo>
                  <a:pt x="2353171" y="0"/>
                </a:lnTo>
                <a:lnTo>
                  <a:pt x="2359415" y="439281"/>
                </a:lnTo>
                <a:lnTo>
                  <a:pt x="2288738" y="427301"/>
                </a:lnTo>
                <a:lnTo>
                  <a:pt x="2363033" y="876822"/>
                </a:lnTo>
                <a:lnTo>
                  <a:pt x="2326069" y="901743"/>
                </a:lnTo>
                <a:cubicBezTo>
                  <a:pt x="2294292" y="933521"/>
                  <a:pt x="2274637" y="977421"/>
                  <a:pt x="2274637" y="1025911"/>
                </a:cubicBezTo>
                <a:cubicBezTo>
                  <a:pt x="2274637" y="1122892"/>
                  <a:pt x="2353256" y="1201511"/>
                  <a:pt x="2450237" y="1201511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2" name="矩形 91"/>
          <p:cNvSpPr/>
          <p:nvPr/>
        </p:nvSpPr>
        <p:spPr>
          <a:xfrm>
            <a:off x="4620240" y="5616720"/>
            <a:ext cx="2619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因为他们都会认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"/>
          <p:cNvSpPr/>
          <p:nvPr/>
        </p:nvSpPr>
        <p:spPr>
          <a:xfrm>
            <a:off x="3751560" y="5493960"/>
            <a:ext cx="4356360" cy="9432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圆角矩形标注 18"/>
          <p:cNvSpPr/>
          <p:nvPr/>
        </p:nvSpPr>
        <p:spPr>
          <a:xfrm>
            <a:off x="681480" y="1950120"/>
            <a:ext cx="3441960" cy="948600"/>
          </a:xfrm>
          <a:prstGeom prst="wedgeRoundRectCallout">
            <a:avLst>
              <a:gd name="adj1" fmla="val 37133"/>
              <a:gd name="adj2" fmla="val 83861"/>
              <a:gd name="adj3" fmla="val 16667"/>
            </a:avLst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文本框 9"/>
          <p:cNvSpPr/>
          <p:nvPr/>
        </p:nvSpPr>
        <p:spPr>
          <a:xfrm>
            <a:off x="791640" y="1950120"/>
            <a:ext cx="41626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我就不管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别人肯定会报警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标注 93"/>
          <p:cNvSpPr/>
          <p:nvPr/>
        </p:nvSpPr>
        <p:spPr>
          <a:xfrm>
            <a:off x="4484160" y="1378440"/>
            <a:ext cx="3441960" cy="948600"/>
          </a:xfrm>
          <a:prstGeom prst="wedgeRoundRectCallout">
            <a:avLst>
              <a:gd name="adj1" fmla="val -8180"/>
              <a:gd name="adj2" fmla="val 154719"/>
              <a:gd name="adj3" fmla="val 16667"/>
            </a:avLst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圆角矩形标注 95"/>
          <p:cNvSpPr/>
          <p:nvPr/>
        </p:nvSpPr>
        <p:spPr>
          <a:xfrm>
            <a:off x="8074440" y="1950120"/>
            <a:ext cx="3441960" cy="948600"/>
          </a:xfrm>
          <a:prstGeom prst="wedgeRoundRectCallout">
            <a:avLst>
              <a:gd name="adj1" fmla="val -42946"/>
              <a:gd name="adj2" fmla="val 96615"/>
              <a:gd name="adj3" fmla="val 16667"/>
            </a:avLst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8" name="文本框 96"/>
          <p:cNvSpPr/>
          <p:nvPr/>
        </p:nvSpPr>
        <p:spPr>
          <a:xfrm>
            <a:off x="8286840" y="1983600"/>
            <a:ext cx="41626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我就不管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别人肯定会报警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92"/>
          <p:cNvSpPr/>
          <p:nvPr/>
        </p:nvSpPr>
        <p:spPr>
          <a:xfrm>
            <a:off x="4608000" y="1395000"/>
            <a:ext cx="41626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我就不管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别人肯定会报警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3"/>
          <p:cNvSpPr/>
          <p:nvPr/>
        </p:nvSpPr>
        <p:spPr>
          <a:xfrm>
            <a:off x="1582560" y="2933640"/>
            <a:ext cx="98413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人越多</a:t>
            </a:r>
            <a:r>
              <a:rPr b="0" lang="zh-CN" sz="66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越没有人承担责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"/>
          <p:cNvSpPr/>
          <p:nvPr/>
        </p:nvSpPr>
        <p:spPr>
          <a:xfrm>
            <a:off x="5345640" y="1125360"/>
            <a:ext cx="18770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启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69040" y="2016360"/>
            <a:ext cx="1805040" cy="21060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等腰三角形 5"/>
          <p:cNvSpPr/>
          <p:nvPr/>
        </p:nvSpPr>
        <p:spPr>
          <a:xfrm flipV="1">
            <a:off x="5651280" y="2172600"/>
            <a:ext cx="1265760" cy="585720"/>
          </a:xfrm>
          <a:prstGeom prst="triangle">
            <a:avLst>
              <a:gd name="adj" fmla="val 50000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文本框 3"/>
          <p:cNvSpPr/>
          <p:nvPr/>
        </p:nvSpPr>
        <p:spPr>
          <a:xfrm>
            <a:off x="3037680" y="2236320"/>
            <a:ext cx="69732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为了说明的更加透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再来看一个</a:t>
            </a:r>
            <a:r>
              <a:rPr b="0" lang="zh-CN" sz="5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情景案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文本框 3"/>
          <p:cNvSpPr/>
          <p:nvPr/>
        </p:nvSpPr>
        <p:spPr>
          <a:xfrm>
            <a:off x="1406520" y="4605840"/>
            <a:ext cx="11099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一个女士被一个歹徒在</a:t>
            </a:r>
            <a:r>
              <a:rPr b="0" lang="zh-CN" sz="3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偏僻小路挟持，只有一个人看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4"/>
          <p:cNvSpPr/>
          <p:nvPr/>
        </p:nvSpPr>
        <p:spPr>
          <a:xfrm>
            <a:off x="1188720" y="4353840"/>
            <a:ext cx="10331640" cy="1101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7" name="椭圆 5"/>
          <p:cNvSpPr/>
          <p:nvPr/>
        </p:nvSpPr>
        <p:spPr>
          <a:xfrm>
            <a:off x="5103000" y="1295640"/>
            <a:ext cx="1131840" cy="113184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8" name="梯形 4"/>
          <p:cNvSpPr/>
          <p:nvPr/>
        </p:nvSpPr>
        <p:spPr>
          <a:xfrm>
            <a:off x="5529960" y="2247480"/>
            <a:ext cx="813960" cy="1127880"/>
          </a:xfrm>
          <a:custGeom>
            <a:avLst/>
            <a:gdLst>
              <a:gd name="textAreaLeft" fmla="*/ 0 w 813960"/>
              <a:gd name="textAreaRight" fmla="*/ 814320 w 813960"/>
              <a:gd name="textAreaTop" fmla="*/ 0 h 1127880"/>
              <a:gd name="textAreaBottom" fmla="*/ 1128240 h 1127880"/>
            </a:gdLst>
            <a:ahLst/>
            <a:rect l="textAreaLeft" t="textAreaTop" r="textAreaRight" b="textAreaBottom"/>
            <a:pathLst>
              <a:path w="654214" h="1128180">
                <a:moveTo>
                  <a:pt x="8328" y="1099151"/>
                </a:moveTo>
                <a:lnTo>
                  <a:pt x="0" y="0"/>
                </a:lnTo>
                <a:lnTo>
                  <a:pt x="349238" y="46496"/>
                </a:lnTo>
                <a:lnTo>
                  <a:pt x="654214" y="1128180"/>
                </a:lnTo>
                <a:lnTo>
                  <a:pt x="8328" y="109915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9" name="圆角矩形 7"/>
          <p:cNvSpPr/>
          <p:nvPr/>
        </p:nvSpPr>
        <p:spPr>
          <a:xfrm rot="700200">
            <a:off x="5735520" y="2439720"/>
            <a:ext cx="1360800" cy="41400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0" name="椭圆 8"/>
          <p:cNvSpPr/>
          <p:nvPr/>
        </p:nvSpPr>
        <p:spPr>
          <a:xfrm>
            <a:off x="6152040" y="1690920"/>
            <a:ext cx="739800" cy="73980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梯形 10"/>
          <p:cNvSpPr/>
          <p:nvPr/>
        </p:nvSpPr>
        <p:spPr>
          <a:xfrm rot="20093400">
            <a:off x="6274080" y="2233440"/>
            <a:ext cx="654840" cy="1556640"/>
          </a:xfrm>
          <a:custGeom>
            <a:avLst/>
            <a:gdLst>
              <a:gd name="textAreaLeft" fmla="*/ 0 w 654840"/>
              <a:gd name="textAreaRight" fmla="*/ 655200 w 654840"/>
              <a:gd name="textAreaTop" fmla="*/ 0 h 1556640"/>
              <a:gd name="textAreaBottom" fmla="*/ 1557000 h 1556640"/>
            </a:gdLst>
            <a:ahLst/>
            <a:rect l="textAreaLeft" t="textAreaTop" r="textAreaRight" b="textAreaBottom"/>
            <a:pathLst>
              <a:path w="655125" h="1557005">
                <a:moveTo>
                  <a:pt x="0" y="1557005"/>
                </a:moveTo>
                <a:lnTo>
                  <a:pt x="221738" y="0"/>
                </a:lnTo>
                <a:lnTo>
                  <a:pt x="511319" y="33005"/>
                </a:lnTo>
                <a:lnTo>
                  <a:pt x="655125" y="1557005"/>
                </a:lnTo>
                <a:lnTo>
                  <a:pt x="0" y="1557005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圆角矩形 11"/>
          <p:cNvSpPr/>
          <p:nvPr/>
        </p:nvSpPr>
        <p:spPr>
          <a:xfrm rot="5178000">
            <a:off x="6185520" y="3580560"/>
            <a:ext cx="1267560" cy="471600"/>
          </a:xfrm>
          <a:custGeom>
            <a:avLst/>
            <a:gdLst>
              <a:gd name="textAreaLeft" fmla="*/ 0 w 1267560"/>
              <a:gd name="textAreaRight" fmla="*/ 1267920 w 12675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1268010" h="472009">
                <a:moveTo>
                  <a:pt x="0" y="116956"/>
                </a:moveTo>
                <a:lnTo>
                  <a:pt x="0" y="116956"/>
                </a:lnTo>
                <a:cubicBezTo>
                  <a:pt x="201759" y="118551"/>
                  <a:pt x="442453" y="-1580"/>
                  <a:pt x="644212" y="15"/>
                </a:cubicBezTo>
                <a:lnTo>
                  <a:pt x="1268010" y="116956"/>
                </a:lnTo>
                <a:lnTo>
                  <a:pt x="1268010" y="116956"/>
                </a:lnTo>
                <a:lnTo>
                  <a:pt x="1268010" y="471654"/>
                </a:lnTo>
                <a:lnTo>
                  <a:pt x="1268010" y="471654"/>
                </a:lnTo>
                <a:cubicBezTo>
                  <a:pt x="1085492" y="481746"/>
                  <a:pt x="886049" y="273314"/>
                  <a:pt x="703531" y="283406"/>
                </a:cubicBezTo>
                <a:lnTo>
                  <a:pt x="0" y="471654"/>
                </a:lnTo>
                <a:lnTo>
                  <a:pt x="0" y="471654"/>
                </a:lnTo>
                <a:lnTo>
                  <a:pt x="0" y="116956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梯形 12"/>
          <p:cNvSpPr/>
          <p:nvPr/>
        </p:nvSpPr>
        <p:spPr>
          <a:xfrm flipV="1">
            <a:off x="5540400" y="3242880"/>
            <a:ext cx="735120" cy="1189800"/>
          </a:xfrm>
          <a:custGeom>
            <a:avLst/>
            <a:gdLst>
              <a:gd name="textAreaLeft" fmla="*/ 0 w 735120"/>
              <a:gd name="textAreaRight" fmla="*/ 735480 w 735120"/>
              <a:gd name="textAreaTop" fmla="*/ -360 h 1189800"/>
              <a:gd name="textAreaBottom" fmla="*/ 1189800 h 1189800"/>
            </a:gdLst>
            <a:ahLst/>
            <a:rect l="textAreaLeft" t="textAreaTop" r="textAreaRight" b="textAreaBottom"/>
            <a:pathLst>
              <a:path w="528124" h="1190172">
                <a:moveTo>
                  <a:pt x="0" y="1190172"/>
                </a:moveTo>
                <a:cubicBezTo>
                  <a:pt x="10726" y="1009903"/>
                  <a:pt x="160937" y="783138"/>
                  <a:pt x="171663" y="602869"/>
                </a:cubicBezTo>
                <a:lnTo>
                  <a:pt x="129040" y="0"/>
                </a:lnTo>
                <a:lnTo>
                  <a:pt x="387119" y="0"/>
                </a:lnTo>
                <a:cubicBezTo>
                  <a:pt x="403124" y="206122"/>
                  <a:pt x="512119" y="427744"/>
                  <a:pt x="528124" y="633866"/>
                </a:cubicBezTo>
                <a:lnTo>
                  <a:pt x="516158" y="1190172"/>
                </a:lnTo>
                <a:lnTo>
                  <a:pt x="0" y="1190172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任意多边形 12"/>
          <p:cNvSpPr/>
          <p:nvPr/>
        </p:nvSpPr>
        <p:spPr>
          <a:xfrm flipH="1" rot="350400">
            <a:off x="6838560" y="1853640"/>
            <a:ext cx="273240" cy="813600"/>
          </a:xfrm>
          <a:custGeom>
            <a:avLst/>
            <a:gdLst>
              <a:gd name="textAreaLeft" fmla="*/ -360 w 273240"/>
              <a:gd name="textAreaRight" fmla="*/ 273240 w 273240"/>
              <a:gd name="textAreaTop" fmla="*/ 0 h 813600"/>
              <a:gd name="textAreaBottom" fmla="*/ 813960 h 813600"/>
            </a:gdLst>
            <a:ahLst/>
            <a:rect l="textAreaLeft" t="textAreaTop" r="textAreaRight" b="textAreaBottom"/>
            <a:pathLst>
              <a:path w="812800" h="2419521">
                <a:moveTo>
                  <a:pt x="191538" y="0"/>
                </a:moveTo>
                <a:lnTo>
                  <a:pt x="233026" y="8207"/>
                </a:lnTo>
                <a:cubicBezTo>
                  <a:pt x="454593" y="97177"/>
                  <a:pt x="621263" y="481876"/>
                  <a:pt x="621263" y="942963"/>
                </a:cubicBezTo>
                <a:lnTo>
                  <a:pt x="621251" y="943231"/>
                </a:lnTo>
                <a:lnTo>
                  <a:pt x="621263" y="943231"/>
                </a:lnTo>
                <a:lnTo>
                  <a:pt x="621263" y="1757474"/>
                </a:lnTo>
                <a:lnTo>
                  <a:pt x="812800" y="1757474"/>
                </a:lnTo>
                <a:lnTo>
                  <a:pt x="812800" y="1915885"/>
                </a:lnTo>
                <a:lnTo>
                  <a:pt x="621263" y="1915885"/>
                </a:lnTo>
                <a:lnTo>
                  <a:pt x="621263" y="1915886"/>
                </a:lnTo>
                <a:lnTo>
                  <a:pt x="543081" y="1915886"/>
                </a:lnTo>
                <a:lnTo>
                  <a:pt x="543081" y="2373960"/>
                </a:lnTo>
                <a:cubicBezTo>
                  <a:pt x="543081" y="2399123"/>
                  <a:pt x="522683" y="2419521"/>
                  <a:pt x="497520" y="2419521"/>
                </a:cubicBezTo>
                <a:lnTo>
                  <a:pt x="315279" y="2419521"/>
                </a:lnTo>
                <a:cubicBezTo>
                  <a:pt x="290116" y="2419521"/>
                  <a:pt x="269718" y="2399123"/>
                  <a:pt x="269718" y="2373960"/>
                </a:cubicBezTo>
                <a:lnTo>
                  <a:pt x="269718" y="1915886"/>
                </a:lnTo>
                <a:lnTo>
                  <a:pt x="191538" y="1915886"/>
                </a:lnTo>
                <a:lnTo>
                  <a:pt x="191538" y="1915885"/>
                </a:lnTo>
                <a:lnTo>
                  <a:pt x="0" y="1915885"/>
                </a:lnTo>
                <a:lnTo>
                  <a:pt x="0" y="1757474"/>
                </a:lnTo>
                <a:lnTo>
                  <a:pt x="191538" y="1757474"/>
                </a:lnTo>
                <a:lnTo>
                  <a:pt x="191538" y="94323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5" name="任意多边形 13"/>
          <p:cNvSpPr/>
          <p:nvPr/>
        </p:nvSpPr>
        <p:spPr>
          <a:xfrm flipH="1" flipV="1">
            <a:off x="7797960" y="1550880"/>
            <a:ext cx="1397160" cy="2880000"/>
          </a:xfrm>
          <a:custGeom>
            <a:avLst/>
            <a:gdLst>
              <a:gd name="textAreaLeft" fmla="*/ -360 w 1397160"/>
              <a:gd name="textAreaRight" fmla="*/ 1397160 w 1397160"/>
              <a:gd name="textAreaTop" fmla="*/ 360 h 2880000"/>
              <a:gd name="textAreaBottom" fmla="*/ 2880720 h 2880000"/>
            </a:gdLst>
            <a:ahLst/>
            <a:rect l="textAreaLeft" t="textAreaTop" r="textAreaRight" b="textAreaBottom"/>
            <a:pathLst>
              <a:path w="1096974" h="2261171">
                <a:moveTo>
                  <a:pt x="405921" y="2261171"/>
                </a:moveTo>
                <a:cubicBezTo>
                  <a:pt x="181738" y="2261171"/>
                  <a:pt x="0" y="2079434"/>
                  <a:pt x="0" y="1855251"/>
                </a:cubicBezTo>
                <a:cubicBezTo>
                  <a:pt x="0" y="1715137"/>
                  <a:pt x="70992" y="1591602"/>
                  <a:pt x="178968" y="1518656"/>
                </a:cubicBezTo>
                <a:lnTo>
                  <a:pt x="227383" y="1492376"/>
                </a:lnTo>
                <a:lnTo>
                  <a:pt x="66021" y="653363"/>
                </a:lnTo>
                <a:lnTo>
                  <a:pt x="204202" y="666707"/>
                </a:lnTo>
                <a:lnTo>
                  <a:pt x="189363" y="0"/>
                </a:lnTo>
                <a:lnTo>
                  <a:pt x="481285" y="29055"/>
                </a:lnTo>
                <a:cubicBezTo>
                  <a:pt x="502472" y="149683"/>
                  <a:pt x="512038" y="258691"/>
                  <a:pt x="533227" y="379319"/>
                </a:cubicBezTo>
                <a:lnTo>
                  <a:pt x="666253" y="711330"/>
                </a:lnTo>
                <a:lnTo>
                  <a:pt x="745822" y="719015"/>
                </a:lnTo>
                <a:lnTo>
                  <a:pt x="708201" y="904801"/>
                </a:lnTo>
                <a:lnTo>
                  <a:pt x="736458" y="906544"/>
                </a:lnTo>
                <a:lnTo>
                  <a:pt x="628324" y="1203194"/>
                </a:lnTo>
                <a:lnTo>
                  <a:pt x="744565" y="1245566"/>
                </a:lnTo>
                <a:lnTo>
                  <a:pt x="743433" y="1247885"/>
                </a:lnTo>
                <a:lnTo>
                  <a:pt x="959701" y="1323986"/>
                </a:lnTo>
                <a:lnTo>
                  <a:pt x="1007943" y="1341571"/>
                </a:lnTo>
                <a:lnTo>
                  <a:pt x="1052159" y="1367929"/>
                </a:lnTo>
                <a:cubicBezTo>
                  <a:pt x="1091624" y="1403856"/>
                  <a:pt x="1108002" y="1461214"/>
                  <a:pt x="1089172" y="1514723"/>
                </a:cubicBezTo>
                <a:cubicBezTo>
                  <a:pt x="1064067" y="1586069"/>
                  <a:pt x="985879" y="1623554"/>
                  <a:pt x="914533" y="1598449"/>
                </a:cubicBezTo>
                <a:lnTo>
                  <a:pt x="590801" y="1484533"/>
                </a:lnTo>
                <a:lnTo>
                  <a:pt x="588742" y="1494701"/>
                </a:lnTo>
                <a:lnTo>
                  <a:pt x="632875" y="1518656"/>
                </a:lnTo>
                <a:cubicBezTo>
                  <a:pt x="740851" y="1591602"/>
                  <a:pt x="811841" y="1715137"/>
                  <a:pt x="811841" y="1855251"/>
                </a:cubicBezTo>
                <a:cubicBezTo>
                  <a:pt x="811841" y="2079434"/>
                  <a:pt x="630104" y="2261171"/>
                  <a:pt x="405921" y="2261171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矩形 14"/>
          <p:cNvSpPr/>
          <p:nvPr/>
        </p:nvSpPr>
        <p:spPr>
          <a:xfrm>
            <a:off x="1188720" y="3283920"/>
            <a:ext cx="2420280" cy="10767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7" name="矩形 16"/>
          <p:cNvSpPr/>
          <p:nvPr/>
        </p:nvSpPr>
        <p:spPr>
          <a:xfrm>
            <a:off x="2395800" y="2731680"/>
            <a:ext cx="11840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ffffff"/>
                </a:solidFill>
                <a:latin typeface="Britannic Bold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7"/>
          <p:cNvSpPr/>
          <p:nvPr/>
        </p:nvSpPr>
        <p:spPr>
          <a:xfrm>
            <a:off x="1052640" y="3739680"/>
            <a:ext cx="1918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情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椭圆 3"/>
          <p:cNvSpPr/>
          <p:nvPr/>
        </p:nvSpPr>
        <p:spPr>
          <a:xfrm>
            <a:off x="3141720" y="1143720"/>
            <a:ext cx="1131840" cy="113184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梯形 4"/>
          <p:cNvSpPr/>
          <p:nvPr/>
        </p:nvSpPr>
        <p:spPr>
          <a:xfrm>
            <a:off x="3568680" y="2095560"/>
            <a:ext cx="813960" cy="1127880"/>
          </a:xfrm>
          <a:custGeom>
            <a:avLst/>
            <a:gdLst>
              <a:gd name="textAreaLeft" fmla="*/ 0 w 813960"/>
              <a:gd name="textAreaRight" fmla="*/ 814320 w 813960"/>
              <a:gd name="textAreaTop" fmla="*/ 0 h 1127880"/>
              <a:gd name="textAreaBottom" fmla="*/ 1128240 h 1127880"/>
            </a:gdLst>
            <a:ahLst/>
            <a:rect l="textAreaLeft" t="textAreaTop" r="textAreaRight" b="textAreaBottom"/>
            <a:pathLst>
              <a:path w="654214" h="1128180">
                <a:moveTo>
                  <a:pt x="8328" y="1099151"/>
                </a:moveTo>
                <a:lnTo>
                  <a:pt x="0" y="0"/>
                </a:lnTo>
                <a:lnTo>
                  <a:pt x="349238" y="46496"/>
                </a:lnTo>
                <a:lnTo>
                  <a:pt x="654214" y="1128180"/>
                </a:lnTo>
                <a:lnTo>
                  <a:pt x="8328" y="109915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圆角矩形 6"/>
          <p:cNvSpPr/>
          <p:nvPr/>
        </p:nvSpPr>
        <p:spPr>
          <a:xfrm rot="700200">
            <a:off x="3774240" y="2288160"/>
            <a:ext cx="1360800" cy="41400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椭圆 8"/>
          <p:cNvSpPr/>
          <p:nvPr/>
        </p:nvSpPr>
        <p:spPr>
          <a:xfrm>
            <a:off x="4190760" y="1539000"/>
            <a:ext cx="739800" cy="73980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梯形 10"/>
          <p:cNvSpPr/>
          <p:nvPr/>
        </p:nvSpPr>
        <p:spPr>
          <a:xfrm rot="20093400">
            <a:off x="4312800" y="2081880"/>
            <a:ext cx="654840" cy="1556640"/>
          </a:xfrm>
          <a:custGeom>
            <a:avLst/>
            <a:gdLst>
              <a:gd name="textAreaLeft" fmla="*/ 0 w 654840"/>
              <a:gd name="textAreaRight" fmla="*/ 655200 w 654840"/>
              <a:gd name="textAreaTop" fmla="*/ 0 h 1556640"/>
              <a:gd name="textAreaBottom" fmla="*/ 1557000 h 1556640"/>
            </a:gdLst>
            <a:ahLst/>
            <a:rect l="textAreaLeft" t="textAreaTop" r="textAreaRight" b="textAreaBottom"/>
            <a:pathLst>
              <a:path w="655125" h="1557005">
                <a:moveTo>
                  <a:pt x="0" y="1557005"/>
                </a:moveTo>
                <a:lnTo>
                  <a:pt x="221738" y="0"/>
                </a:lnTo>
                <a:lnTo>
                  <a:pt x="511319" y="33005"/>
                </a:lnTo>
                <a:lnTo>
                  <a:pt x="655125" y="1557005"/>
                </a:lnTo>
                <a:lnTo>
                  <a:pt x="0" y="1557005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" name="圆角矩形 11"/>
          <p:cNvSpPr/>
          <p:nvPr/>
        </p:nvSpPr>
        <p:spPr>
          <a:xfrm rot="5178000">
            <a:off x="4224600" y="3429000"/>
            <a:ext cx="1267560" cy="471600"/>
          </a:xfrm>
          <a:custGeom>
            <a:avLst/>
            <a:gdLst>
              <a:gd name="textAreaLeft" fmla="*/ 0 w 1267560"/>
              <a:gd name="textAreaRight" fmla="*/ 1267920 w 12675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1268010" h="472009">
                <a:moveTo>
                  <a:pt x="0" y="116956"/>
                </a:moveTo>
                <a:lnTo>
                  <a:pt x="0" y="116956"/>
                </a:lnTo>
                <a:cubicBezTo>
                  <a:pt x="201759" y="118551"/>
                  <a:pt x="442453" y="-1580"/>
                  <a:pt x="644212" y="15"/>
                </a:cubicBezTo>
                <a:lnTo>
                  <a:pt x="1268010" y="116956"/>
                </a:lnTo>
                <a:lnTo>
                  <a:pt x="1268010" y="116956"/>
                </a:lnTo>
                <a:lnTo>
                  <a:pt x="1268010" y="471654"/>
                </a:lnTo>
                <a:lnTo>
                  <a:pt x="1268010" y="471654"/>
                </a:lnTo>
                <a:cubicBezTo>
                  <a:pt x="1085492" y="481746"/>
                  <a:pt x="886049" y="273314"/>
                  <a:pt x="703531" y="283406"/>
                </a:cubicBezTo>
                <a:lnTo>
                  <a:pt x="0" y="471654"/>
                </a:lnTo>
                <a:lnTo>
                  <a:pt x="0" y="471654"/>
                </a:lnTo>
                <a:lnTo>
                  <a:pt x="0" y="116956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5" name="梯形 12"/>
          <p:cNvSpPr/>
          <p:nvPr/>
        </p:nvSpPr>
        <p:spPr>
          <a:xfrm flipV="1">
            <a:off x="3579120" y="3090960"/>
            <a:ext cx="735120" cy="1189800"/>
          </a:xfrm>
          <a:custGeom>
            <a:avLst/>
            <a:gdLst>
              <a:gd name="textAreaLeft" fmla="*/ 0 w 735120"/>
              <a:gd name="textAreaRight" fmla="*/ 735480 w 735120"/>
              <a:gd name="textAreaTop" fmla="*/ -360 h 1189800"/>
              <a:gd name="textAreaBottom" fmla="*/ 1189800 h 1189800"/>
            </a:gdLst>
            <a:ahLst/>
            <a:rect l="textAreaLeft" t="textAreaTop" r="textAreaRight" b="textAreaBottom"/>
            <a:pathLst>
              <a:path w="528124" h="1190172">
                <a:moveTo>
                  <a:pt x="0" y="1190172"/>
                </a:moveTo>
                <a:cubicBezTo>
                  <a:pt x="10726" y="1009903"/>
                  <a:pt x="160937" y="783138"/>
                  <a:pt x="171663" y="602869"/>
                </a:cubicBezTo>
                <a:lnTo>
                  <a:pt x="129040" y="0"/>
                </a:lnTo>
                <a:lnTo>
                  <a:pt x="387119" y="0"/>
                </a:lnTo>
                <a:cubicBezTo>
                  <a:pt x="403124" y="206122"/>
                  <a:pt x="512119" y="427744"/>
                  <a:pt x="528124" y="633866"/>
                </a:cubicBezTo>
                <a:lnTo>
                  <a:pt x="516158" y="1190172"/>
                </a:lnTo>
                <a:lnTo>
                  <a:pt x="0" y="1190172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任意多边形 21"/>
          <p:cNvSpPr/>
          <p:nvPr/>
        </p:nvSpPr>
        <p:spPr>
          <a:xfrm flipH="1" rot="350400">
            <a:off x="4877280" y="1701720"/>
            <a:ext cx="273240" cy="813600"/>
          </a:xfrm>
          <a:custGeom>
            <a:avLst/>
            <a:gdLst>
              <a:gd name="textAreaLeft" fmla="*/ -360 w 273240"/>
              <a:gd name="textAreaRight" fmla="*/ 273240 w 273240"/>
              <a:gd name="textAreaTop" fmla="*/ 0 h 813600"/>
              <a:gd name="textAreaBottom" fmla="*/ 813960 h 813600"/>
            </a:gdLst>
            <a:ahLst/>
            <a:rect l="textAreaLeft" t="textAreaTop" r="textAreaRight" b="textAreaBottom"/>
            <a:pathLst>
              <a:path w="812800" h="2419521">
                <a:moveTo>
                  <a:pt x="191538" y="0"/>
                </a:moveTo>
                <a:lnTo>
                  <a:pt x="233026" y="8207"/>
                </a:lnTo>
                <a:cubicBezTo>
                  <a:pt x="454593" y="97177"/>
                  <a:pt x="621263" y="481876"/>
                  <a:pt x="621263" y="942963"/>
                </a:cubicBezTo>
                <a:lnTo>
                  <a:pt x="621251" y="943231"/>
                </a:lnTo>
                <a:lnTo>
                  <a:pt x="621263" y="943231"/>
                </a:lnTo>
                <a:lnTo>
                  <a:pt x="621263" y="1757474"/>
                </a:lnTo>
                <a:lnTo>
                  <a:pt x="812800" y="1757474"/>
                </a:lnTo>
                <a:lnTo>
                  <a:pt x="812800" y="1915885"/>
                </a:lnTo>
                <a:lnTo>
                  <a:pt x="621263" y="1915885"/>
                </a:lnTo>
                <a:lnTo>
                  <a:pt x="621263" y="1915886"/>
                </a:lnTo>
                <a:lnTo>
                  <a:pt x="543081" y="1915886"/>
                </a:lnTo>
                <a:lnTo>
                  <a:pt x="543081" y="2373960"/>
                </a:lnTo>
                <a:cubicBezTo>
                  <a:pt x="543081" y="2399123"/>
                  <a:pt x="522683" y="2419521"/>
                  <a:pt x="497520" y="2419521"/>
                </a:cubicBezTo>
                <a:lnTo>
                  <a:pt x="315279" y="2419521"/>
                </a:lnTo>
                <a:cubicBezTo>
                  <a:pt x="290116" y="2419521"/>
                  <a:pt x="269718" y="2399123"/>
                  <a:pt x="269718" y="2373960"/>
                </a:cubicBezTo>
                <a:lnTo>
                  <a:pt x="269718" y="1915886"/>
                </a:lnTo>
                <a:lnTo>
                  <a:pt x="191538" y="1915886"/>
                </a:lnTo>
                <a:lnTo>
                  <a:pt x="191538" y="1915885"/>
                </a:lnTo>
                <a:lnTo>
                  <a:pt x="0" y="1915885"/>
                </a:lnTo>
                <a:lnTo>
                  <a:pt x="0" y="1757474"/>
                </a:lnTo>
                <a:lnTo>
                  <a:pt x="191538" y="1757474"/>
                </a:lnTo>
                <a:lnTo>
                  <a:pt x="191538" y="94323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矩形 90"/>
          <p:cNvSpPr/>
          <p:nvPr/>
        </p:nvSpPr>
        <p:spPr>
          <a:xfrm>
            <a:off x="798840" y="4236840"/>
            <a:ext cx="10331640" cy="1101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任意多边形 96"/>
          <p:cNvSpPr/>
          <p:nvPr/>
        </p:nvSpPr>
        <p:spPr>
          <a:xfrm flipH="1" flipV="1">
            <a:off x="9979560" y="1931760"/>
            <a:ext cx="1151280" cy="2373120"/>
          </a:xfrm>
          <a:custGeom>
            <a:avLst/>
            <a:gdLst>
              <a:gd name="textAreaLeft" fmla="*/ 360 w 1151280"/>
              <a:gd name="textAreaRight" fmla="*/ 1152000 w 1151280"/>
              <a:gd name="textAreaTop" fmla="*/ 360 h 2373120"/>
              <a:gd name="textAreaBottom" fmla="*/ 2373840 h 2373120"/>
            </a:gdLst>
            <a:ahLst/>
            <a:rect l="textAreaLeft" t="textAreaTop" r="textAreaRight" b="textAreaBottom"/>
            <a:pathLst>
              <a:path w="1096974" h="2261171">
                <a:moveTo>
                  <a:pt x="405921" y="2261171"/>
                </a:moveTo>
                <a:cubicBezTo>
                  <a:pt x="181738" y="2261171"/>
                  <a:pt x="0" y="2079434"/>
                  <a:pt x="0" y="1855251"/>
                </a:cubicBezTo>
                <a:cubicBezTo>
                  <a:pt x="0" y="1715137"/>
                  <a:pt x="70992" y="1591602"/>
                  <a:pt x="178968" y="1518656"/>
                </a:cubicBezTo>
                <a:lnTo>
                  <a:pt x="227383" y="1492376"/>
                </a:lnTo>
                <a:lnTo>
                  <a:pt x="66021" y="653363"/>
                </a:lnTo>
                <a:lnTo>
                  <a:pt x="204202" y="666707"/>
                </a:lnTo>
                <a:lnTo>
                  <a:pt x="189363" y="0"/>
                </a:lnTo>
                <a:lnTo>
                  <a:pt x="481285" y="29055"/>
                </a:lnTo>
                <a:cubicBezTo>
                  <a:pt x="502472" y="149683"/>
                  <a:pt x="512038" y="258691"/>
                  <a:pt x="533227" y="379319"/>
                </a:cubicBezTo>
                <a:lnTo>
                  <a:pt x="666253" y="711330"/>
                </a:lnTo>
                <a:lnTo>
                  <a:pt x="745822" y="719015"/>
                </a:lnTo>
                <a:lnTo>
                  <a:pt x="708201" y="904801"/>
                </a:lnTo>
                <a:lnTo>
                  <a:pt x="736458" y="906544"/>
                </a:lnTo>
                <a:lnTo>
                  <a:pt x="628324" y="1203194"/>
                </a:lnTo>
                <a:lnTo>
                  <a:pt x="744565" y="1245566"/>
                </a:lnTo>
                <a:lnTo>
                  <a:pt x="743433" y="1247885"/>
                </a:lnTo>
                <a:lnTo>
                  <a:pt x="959701" y="1323986"/>
                </a:lnTo>
                <a:lnTo>
                  <a:pt x="1007943" y="1341571"/>
                </a:lnTo>
                <a:lnTo>
                  <a:pt x="1052159" y="1367929"/>
                </a:lnTo>
                <a:cubicBezTo>
                  <a:pt x="1091624" y="1403856"/>
                  <a:pt x="1108002" y="1461214"/>
                  <a:pt x="1089172" y="1514723"/>
                </a:cubicBezTo>
                <a:cubicBezTo>
                  <a:pt x="1064067" y="1586069"/>
                  <a:pt x="985879" y="1623554"/>
                  <a:pt x="914533" y="1598449"/>
                </a:cubicBezTo>
                <a:lnTo>
                  <a:pt x="590801" y="1484533"/>
                </a:lnTo>
                <a:lnTo>
                  <a:pt x="588742" y="1494701"/>
                </a:lnTo>
                <a:lnTo>
                  <a:pt x="632875" y="1518656"/>
                </a:lnTo>
                <a:cubicBezTo>
                  <a:pt x="740851" y="1591602"/>
                  <a:pt x="811841" y="1715137"/>
                  <a:pt x="811841" y="1855251"/>
                </a:cubicBezTo>
                <a:cubicBezTo>
                  <a:pt x="811841" y="2079434"/>
                  <a:pt x="630104" y="2261171"/>
                  <a:pt x="405921" y="2261171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任意多边形 116"/>
          <p:cNvSpPr/>
          <p:nvPr/>
        </p:nvSpPr>
        <p:spPr>
          <a:xfrm flipV="1">
            <a:off x="5626080" y="2570400"/>
            <a:ext cx="4489200" cy="1741680"/>
          </a:xfrm>
          <a:custGeom>
            <a:avLst/>
            <a:gdLst>
              <a:gd name="textAreaLeft" fmla="*/ 0 w 4489200"/>
              <a:gd name="textAreaRight" fmla="*/ 4489560 w 4489200"/>
              <a:gd name="textAreaTop" fmla="*/ 360 h 1741680"/>
              <a:gd name="textAreaBottom" fmla="*/ 1742400 h 1741680"/>
            </a:gdLst>
            <a:ahLst/>
            <a:rect l="textAreaLeft" t="textAreaTop" r="textAreaRight" b="textAreaBottom"/>
            <a:pathLst>
              <a:path w="4489512" h="1741950">
                <a:moveTo>
                  <a:pt x="532371" y="870975"/>
                </a:moveTo>
                <a:cubicBezTo>
                  <a:pt x="705076" y="870975"/>
                  <a:pt x="845082" y="730970"/>
                  <a:pt x="845082" y="558264"/>
                </a:cubicBezTo>
                <a:cubicBezTo>
                  <a:pt x="845082" y="450324"/>
                  <a:pt x="790392" y="355156"/>
                  <a:pt x="707210" y="298960"/>
                </a:cubicBezTo>
                <a:lnTo>
                  <a:pt x="669912" y="278715"/>
                </a:lnTo>
                <a:lnTo>
                  <a:pt x="723516" y="0"/>
                </a:lnTo>
                <a:lnTo>
                  <a:pt x="340648" y="0"/>
                </a:lnTo>
                <a:lnTo>
                  <a:pt x="361037" y="55936"/>
                </a:lnTo>
                <a:lnTo>
                  <a:pt x="271488" y="88578"/>
                </a:lnTo>
                <a:lnTo>
                  <a:pt x="272360" y="90365"/>
                </a:lnTo>
                <a:lnTo>
                  <a:pt x="105752" y="148991"/>
                </a:lnTo>
                <a:lnTo>
                  <a:pt x="68588" y="162538"/>
                </a:lnTo>
                <a:lnTo>
                  <a:pt x="34525" y="182844"/>
                </a:lnTo>
                <a:cubicBezTo>
                  <a:pt x="4122" y="210521"/>
                  <a:pt x="-8495" y="254708"/>
                  <a:pt x="6011" y="295930"/>
                </a:cubicBezTo>
                <a:cubicBezTo>
                  <a:pt x="25351" y="350893"/>
                  <a:pt x="85585" y="379771"/>
                  <a:pt x="140548" y="360431"/>
                </a:cubicBezTo>
                <a:lnTo>
                  <a:pt x="389944" y="272673"/>
                </a:lnTo>
                <a:lnTo>
                  <a:pt x="391530" y="280506"/>
                </a:lnTo>
                <a:lnTo>
                  <a:pt x="357531" y="298960"/>
                </a:lnTo>
                <a:cubicBezTo>
                  <a:pt x="274349" y="355156"/>
                  <a:pt x="219660" y="450324"/>
                  <a:pt x="219660" y="558264"/>
                </a:cubicBezTo>
                <a:cubicBezTo>
                  <a:pt x="219660" y="730970"/>
                  <a:pt x="359665" y="870975"/>
                  <a:pt x="532371" y="870975"/>
                </a:cubicBezTo>
                <a:close/>
                <a:moveTo>
                  <a:pt x="1409813" y="986423"/>
                </a:moveTo>
                <a:cubicBezTo>
                  <a:pt x="1582518" y="986423"/>
                  <a:pt x="1722524" y="846418"/>
                  <a:pt x="1722524" y="673712"/>
                </a:cubicBezTo>
                <a:cubicBezTo>
                  <a:pt x="1722524" y="565772"/>
                  <a:pt x="1667834" y="470604"/>
                  <a:pt x="1584652" y="414408"/>
                </a:cubicBezTo>
                <a:lnTo>
                  <a:pt x="1547354" y="394163"/>
                </a:lnTo>
                <a:lnTo>
                  <a:pt x="1623161" y="0"/>
                </a:lnTo>
                <a:lnTo>
                  <a:pt x="1176007" y="0"/>
                </a:lnTo>
                <a:lnTo>
                  <a:pt x="1238479" y="171384"/>
                </a:lnTo>
                <a:lnTo>
                  <a:pt x="1148930" y="204026"/>
                </a:lnTo>
                <a:lnTo>
                  <a:pt x="1149802" y="205813"/>
                </a:lnTo>
                <a:lnTo>
                  <a:pt x="983194" y="264439"/>
                </a:lnTo>
                <a:lnTo>
                  <a:pt x="946030" y="277986"/>
                </a:lnTo>
                <a:lnTo>
                  <a:pt x="911967" y="298292"/>
                </a:lnTo>
                <a:cubicBezTo>
                  <a:pt x="881564" y="325969"/>
                  <a:pt x="868947" y="370156"/>
                  <a:pt x="883453" y="411378"/>
                </a:cubicBezTo>
                <a:cubicBezTo>
                  <a:pt x="902793" y="466341"/>
                  <a:pt x="963027" y="495219"/>
                  <a:pt x="1017990" y="475879"/>
                </a:cubicBezTo>
                <a:lnTo>
                  <a:pt x="1267386" y="388121"/>
                </a:lnTo>
                <a:lnTo>
                  <a:pt x="1268972" y="395954"/>
                </a:lnTo>
                <a:lnTo>
                  <a:pt x="1234973" y="414408"/>
                </a:lnTo>
                <a:cubicBezTo>
                  <a:pt x="1151791" y="470604"/>
                  <a:pt x="1097102" y="565772"/>
                  <a:pt x="1097102" y="673712"/>
                </a:cubicBezTo>
                <a:cubicBezTo>
                  <a:pt x="1097102" y="846418"/>
                  <a:pt x="1237107" y="986423"/>
                  <a:pt x="1409813" y="986423"/>
                </a:cubicBezTo>
                <a:close/>
                <a:moveTo>
                  <a:pt x="4176800" y="1268611"/>
                </a:moveTo>
                <a:cubicBezTo>
                  <a:pt x="4349505" y="1268611"/>
                  <a:pt x="4489512" y="1128606"/>
                  <a:pt x="4489512" y="955900"/>
                </a:cubicBezTo>
                <a:cubicBezTo>
                  <a:pt x="4489512" y="847960"/>
                  <a:pt x="4434821" y="752792"/>
                  <a:pt x="4351639" y="696596"/>
                </a:cubicBezTo>
                <a:lnTo>
                  <a:pt x="4314342" y="676351"/>
                </a:lnTo>
                <a:lnTo>
                  <a:pt x="4438651" y="29996"/>
                </a:lnTo>
                <a:lnTo>
                  <a:pt x="4332200" y="40276"/>
                </a:lnTo>
                <a:lnTo>
                  <a:pt x="4333096" y="0"/>
                </a:lnTo>
                <a:lnTo>
                  <a:pt x="4006158" y="0"/>
                </a:lnTo>
                <a:lnTo>
                  <a:pt x="3976247" y="74652"/>
                </a:lnTo>
                <a:lnTo>
                  <a:pt x="3914949" y="80573"/>
                </a:lnTo>
                <a:lnTo>
                  <a:pt x="3943931" y="223697"/>
                </a:lnTo>
                <a:lnTo>
                  <a:pt x="3922163" y="225040"/>
                </a:lnTo>
                <a:lnTo>
                  <a:pt x="4005467" y="453572"/>
                </a:lnTo>
                <a:lnTo>
                  <a:pt x="3915917" y="486214"/>
                </a:lnTo>
                <a:lnTo>
                  <a:pt x="3916789" y="488001"/>
                </a:lnTo>
                <a:lnTo>
                  <a:pt x="3750182" y="546627"/>
                </a:lnTo>
                <a:lnTo>
                  <a:pt x="3713017" y="560174"/>
                </a:lnTo>
                <a:lnTo>
                  <a:pt x="3678954" y="580480"/>
                </a:lnTo>
                <a:cubicBezTo>
                  <a:pt x="3648552" y="608157"/>
                  <a:pt x="3635934" y="652344"/>
                  <a:pt x="3650440" y="693566"/>
                </a:cubicBezTo>
                <a:cubicBezTo>
                  <a:pt x="3669781" y="748529"/>
                  <a:pt x="3730015" y="777407"/>
                  <a:pt x="3784978" y="758067"/>
                </a:cubicBezTo>
                <a:lnTo>
                  <a:pt x="4034373" y="670309"/>
                </a:lnTo>
                <a:lnTo>
                  <a:pt x="4035960" y="678142"/>
                </a:lnTo>
                <a:lnTo>
                  <a:pt x="4001961" y="696596"/>
                </a:lnTo>
                <a:cubicBezTo>
                  <a:pt x="3918778" y="752792"/>
                  <a:pt x="3864090" y="847960"/>
                  <a:pt x="3864090" y="955900"/>
                </a:cubicBezTo>
                <a:cubicBezTo>
                  <a:pt x="3864090" y="1128606"/>
                  <a:pt x="4004095" y="1268611"/>
                  <a:pt x="4176800" y="1268611"/>
                </a:cubicBezTo>
                <a:close/>
                <a:moveTo>
                  <a:pt x="2486636" y="1268611"/>
                </a:moveTo>
                <a:cubicBezTo>
                  <a:pt x="2659341" y="1268611"/>
                  <a:pt x="2799348" y="1128606"/>
                  <a:pt x="2799348" y="955900"/>
                </a:cubicBezTo>
                <a:cubicBezTo>
                  <a:pt x="2799348" y="847960"/>
                  <a:pt x="2744657" y="752792"/>
                  <a:pt x="2661475" y="696596"/>
                </a:cubicBezTo>
                <a:lnTo>
                  <a:pt x="2624178" y="676351"/>
                </a:lnTo>
                <a:lnTo>
                  <a:pt x="2748487" y="29996"/>
                </a:lnTo>
                <a:lnTo>
                  <a:pt x="2642036" y="40276"/>
                </a:lnTo>
                <a:lnTo>
                  <a:pt x="2642932" y="0"/>
                </a:lnTo>
                <a:lnTo>
                  <a:pt x="2315994" y="0"/>
                </a:lnTo>
                <a:lnTo>
                  <a:pt x="2286083" y="74652"/>
                </a:lnTo>
                <a:lnTo>
                  <a:pt x="2224785" y="80573"/>
                </a:lnTo>
                <a:lnTo>
                  <a:pt x="2253767" y="223697"/>
                </a:lnTo>
                <a:lnTo>
                  <a:pt x="2231999" y="225040"/>
                </a:lnTo>
                <a:lnTo>
                  <a:pt x="2315303" y="453572"/>
                </a:lnTo>
                <a:lnTo>
                  <a:pt x="2225754" y="486214"/>
                </a:lnTo>
                <a:lnTo>
                  <a:pt x="2226626" y="488001"/>
                </a:lnTo>
                <a:lnTo>
                  <a:pt x="2060018" y="546627"/>
                </a:lnTo>
                <a:lnTo>
                  <a:pt x="2022854" y="560174"/>
                </a:lnTo>
                <a:lnTo>
                  <a:pt x="1988791" y="580480"/>
                </a:lnTo>
                <a:cubicBezTo>
                  <a:pt x="1958388" y="608157"/>
                  <a:pt x="1945771" y="652344"/>
                  <a:pt x="1960277" y="693566"/>
                </a:cubicBezTo>
                <a:cubicBezTo>
                  <a:pt x="1979617" y="748529"/>
                  <a:pt x="2039851" y="777407"/>
                  <a:pt x="2094814" y="758067"/>
                </a:cubicBezTo>
                <a:lnTo>
                  <a:pt x="2344209" y="670309"/>
                </a:lnTo>
                <a:lnTo>
                  <a:pt x="2345796" y="678142"/>
                </a:lnTo>
                <a:lnTo>
                  <a:pt x="2311797" y="696596"/>
                </a:lnTo>
                <a:cubicBezTo>
                  <a:pt x="2228615" y="752792"/>
                  <a:pt x="2173926" y="847960"/>
                  <a:pt x="2173926" y="955900"/>
                </a:cubicBezTo>
                <a:cubicBezTo>
                  <a:pt x="2173926" y="1128606"/>
                  <a:pt x="2313931" y="1268611"/>
                  <a:pt x="2486636" y="1268611"/>
                </a:cubicBezTo>
                <a:close/>
                <a:moveTo>
                  <a:pt x="3331718" y="1741950"/>
                </a:moveTo>
                <a:cubicBezTo>
                  <a:pt x="3504423" y="1741950"/>
                  <a:pt x="3644430" y="1601945"/>
                  <a:pt x="3644430" y="1429239"/>
                </a:cubicBezTo>
                <a:cubicBezTo>
                  <a:pt x="3644430" y="1321299"/>
                  <a:pt x="3589739" y="1226131"/>
                  <a:pt x="3506557" y="1169935"/>
                </a:cubicBezTo>
                <a:lnTo>
                  <a:pt x="3469260" y="1149690"/>
                </a:lnTo>
                <a:lnTo>
                  <a:pt x="3593569" y="503335"/>
                </a:lnTo>
                <a:lnTo>
                  <a:pt x="3487118" y="513615"/>
                </a:lnTo>
                <a:lnTo>
                  <a:pt x="3498549" y="0"/>
                </a:lnTo>
                <a:lnTo>
                  <a:pt x="3273660" y="22383"/>
                </a:lnTo>
                <a:cubicBezTo>
                  <a:pt x="3257338" y="115312"/>
                  <a:pt x="3249968" y="199289"/>
                  <a:pt x="3233645" y="292218"/>
                </a:cubicBezTo>
                <a:lnTo>
                  <a:pt x="3131165" y="547991"/>
                </a:lnTo>
                <a:lnTo>
                  <a:pt x="3069867" y="553912"/>
                </a:lnTo>
                <a:lnTo>
                  <a:pt x="3098849" y="697036"/>
                </a:lnTo>
                <a:lnTo>
                  <a:pt x="3077081" y="698379"/>
                </a:lnTo>
                <a:lnTo>
                  <a:pt x="3160385" y="926911"/>
                </a:lnTo>
                <a:lnTo>
                  <a:pt x="3070835" y="959553"/>
                </a:lnTo>
                <a:lnTo>
                  <a:pt x="3071707" y="961340"/>
                </a:lnTo>
                <a:lnTo>
                  <a:pt x="2905100" y="1019966"/>
                </a:lnTo>
                <a:lnTo>
                  <a:pt x="2867935" y="1033513"/>
                </a:lnTo>
                <a:lnTo>
                  <a:pt x="2833872" y="1053819"/>
                </a:lnTo>
                <a:cubicBezTo>
                  <a:pt x="2803470" y="1081496"/>
                  <a:pt x="2790852" y="1125683"/>
                  <a:pt x="2805358" y="1166905"/>
                </a:cubicBezTo>
                <a:cubicBezTo>
                  <a:pt x="2824699" y="1221868"/>
                  <a:pt x="2884933" y="1250746"/>
                  <a:pt x="2939896" y="1231406"/>
                </a:cubicBezTo>
                <a:lnTo>
                  <a:pt x="3189291" y="1143648"/>
                </a:lnTo>
                <a:lnTo>
                  <a:pt x="3190878" y="1151481"/>
                </a:lnTo>
                <a:lnTo>
                  <a:pt x="3156879" y="1169935"/>
                </a:lnTo>
                <a:cubicBezTo>
                  <a:pt x="3073696" y="1226131"/>
                  <a:pt x="3019008" y="1321299"/>
                  <a:pt x="3019008" y="1429239"/>
                </a:cubicBezTo>
                <a:cubicBezTo>
                  <a:pt x="3019008" y="1601945"/>
                  <a:pt x="3159013" y="1741950"/>
                  <a:pt x="3331718" y="1741950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文本框 111"/>
          <p:cNvSpPr/>
          <p:nvPr/>
        </p:nvSpPr>
        <p:spPr>
          <a:xfrm>
            <a:off x="2542320" y="4457160"/>
            <a:ext cx="9649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一个女士被一个歹徒在</a:t>
            </a:r>
            <a:r>
              <a:rPr b="0" lang="zh-CN" sz="3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广场挟持，有上百人围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17"/>
          <p:cNvSpPr/>
          <p:nvPr/>
        </p:nvSpPr>
        <p:spPr>
          <a:xfrm>
            <a:off x="798840" y="3166920"/>
            <a:ext cx="2420280" cy="10767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2" name="文本框 118"/>
          <p:cNvSpPr/>
          <p:nvPr/>
        </p:nvSpPr>
        <p:spPr>
          <a:xfrm>
            <a:off x="663120" y="3622680"/>
            <a:ext cx="1918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情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19"/>
          <p:cNvSpPr/>
          <p:nvPr/>
        </p:nvSpPr>
        <p:spPr>
          <a:xfrm>
            <a:off x="2173320" y="2615760"/>
            <a:ext cx="11840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ffffff"/>
                </a:solidFill>
                <a:latin typeface="Britannic Bold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Office 主题">
  <a:themeElements>
    <a:clrScheme name="2_Office 主题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9</TotalTime>
  <Application>LibreOffice/7.4.7.2$Linux_X86_64 LibreOffice_project/40$Build-2</Application>
  <AppVersion>15.0000</AppVersion>
  <Words>944</Words>
  <Paragraphs>10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16:04:38Z</dcterms:created>
  <dc:creator>张卫东</dc:creator>
  <dc:description/>
  <dc:language>en-US</dc:language>
  <cp:lastModifiedBy>a</cp:lastModifiedBy>
  <dcterms:modified xsi:type="dcterms:W3CDTF">2015-07-20T06:13:02Z</dcterms:modified>
  <cp:revision>9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24</vt:r8>
  </property>
</Properties>
</file>