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3F8B-EEB6-4D2D-96F5-C88145C6A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C01D-7BE0-40D1-A798-72122408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8B90-1F3C-4C75-8A48-798F5E07D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047E-47E2-44CC-8D75-70E7234F3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B9D7-1C40-429F-A95A-980C2A88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CA12-8E81-4412-9E89-9BEFDF30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FEF0-AFA7-4FDB-91D5-BB7524B9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6DFC-BB94-4697-93E3-719C9471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8505-3A51-4307-9146-7D3C84CC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3CE8-B6BB-4FD2-BF54-5146E019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C72A-83E4-4E5F-AA6C-3FCE2268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EFA9-1E59-42BA-BD70-725E0752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F420-6512-461F-82B8-111923E44E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ic_254418"/>
          <p:cNvPicPr/>
          <p:nvPr/>
        </p:nvPicPr>
        <p:blipFill>
          <a:blip r:embed="rId1"/>
          <a:stretch/>
        </p:blipFill>
        <p:spPr>
          <a:xfrm>
            <a:off x="2411280" y="0"/>
            <a:ext cx="67327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4726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ahoma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ahoma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437760" y="2421000"/>
            <a:ext cx="258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珍珠泉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你见过</a:t>
            </a:r>
            <a:r>
              <a:rPr b="1" lang="zh-CN" sz="8000" spc="-1" strike="noStrike">
                <a:solidFill>
                  <a:srgbClr val="333399"/>
                </a:solidFill>
                <a:latin typeface="Tahoma"/>
                <a:ea typeface="华文行楷"/>
              </a:rPr>
              <a:t>泉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水吗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西藏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———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羊八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河北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———“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喷鱼泉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台湾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———“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水火泉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3"/>
          <p:cNvSpPr/>
          <p:nvPr/>
        </p:nvSpPr>
        <p:spPr>
          <a:xfrm>
            <a:off x="3564000" y="1844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" name="Picture 4" descr="0144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A716-AA6C-4D0E-A9C0-C471B7571A13}" type="slidenum">
              <a:t>4</a:t>
            </a:fld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5"/>
          <p:cNvSpPr/>
          <p:nvPr/>
        </p:nvSpPr>
        <p:spPr>
          <a:xfrm>
            <a:off x="1403280" y="1052640"/>
            <a:ext cx="673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初读要求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读准字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了解课文内容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读后你对珍珠泉的印象怎  样？或有什么感受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再读课文，想一想，说一说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8178480" cy="40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珍珠泉的周边的景物怎样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潭水是什么样的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泉水是怎样冒出的，为什么叫珍珠泉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课文写了珍珠泉的哪些特点？表达了怎样的感情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ff0000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00:47:51Z</dcterms:created>
  <dc:creator/>
  <dc:description/>
  <cp:keywords>幻灯片之家 http:/www.eeppt.com</cp:keywords>
  <dc:language>en-US</dc:language>
  <cp:lastModifiedBy/>
  <dcterms:modified xsi:type="dcterms:W3CDTF">2015-07-04T13:10:47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