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767-A210-48BD-962B-DA23F4DB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A27B-7229-4829-B354-73F3FAC1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92BC-6A4D-47C5-A26C-273F3E18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9101-3285-415D-A971-9FF94206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B928-8FDA-405E-AB7C-3B54C50E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DABC-054C-4A37-967C-CEA522DE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6221-4624-4E77-83CE-88D4B435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6925-F5E4-49F4-972B-2848FB64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63ED-58B1-42A7-9C3C-1920BEF9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DA2C-B76A-43A0-8C26-F938AC49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440A-77B9-4B79-B02E-88CCC195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857-FF92-496C-9E4C-98EDB4B8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ADC3-0BCF-4380-947B-1E48D226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9360-EBEA-461D-A979-58B98A79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239B-4785-4807-BC5B-61F7CE64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373E-C5E2-4220-AB8F-37089573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C449-C073-4FCB-B878-ABE0937C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972-012B-44E9-A7C3-81938024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A6E-C2FC-4E7C-A380-CDFC4055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2DD-8621-4B08-8B07-007841CE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6CCB-7178-45C7-A5F1-7B3E1871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68FF-4B6A-4C1E-AB56-9228F52F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532-030D-4141-B11C-47B294B9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CCA8-F766-4148-9951-47E8D45E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72F3-02C6-44F0-8189-D8F39B5330E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33B6-259F-4817-90A6-F3AA6532724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7081-A435-4FC4-BA86-7FDC1AF28CE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35" descr=""/>
          <p:cNvPicPr/>
          <p:nvPr/>
        </p:nvPicPr>
        <p:blipFill>
          <a:blip r:embed="rId1"/>
          <a:stretch/>
        </p:blipFill>
        <p:spPr>
          <a:xfrm>
            <a:off x="3236760" y="2333520"/>
            <a:ext cx="2670480" cy="157968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11"/>
          <p:cNvSpPr/>
          <p:nvPr/>
        </p:nvSpPr>
        <p:spPr>
          <a:xfrm>
            <a:off x="3671280" y="3735360"/>
            <a:ext cx="174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itannic Bold"/>
                <a:ea typeface="隶书"/>
              </a:rPr>
              <a:t>YU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"/>
          <p:cNvSpPr/>
          <p:nvPr/>
        </p:nvSpPr>
        <p:spPr>
          <a:xfrm>
            <a:off x="3496320" y="2620800"/>
            <a:ext cx="215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e75b5"/>
                </a:solidFill>
                <a:latin typeface="Britannic Bold"/>
                <a:ea typeface="Arial Unicode MS"/>
              </a:rPr>
              <a:t>P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3077"/>
          <p:cNvGrpSpPr/>
          <p:nvPr/>
        </p:nvGrpSpPr>
        <p:grpSpPr>
          <a:xfrm>
            <a:off x="5578560" y="4230720"/>
            <a:ext cx="2187360" cy="1293840"/>
            <a:chOff x="5578560" y="4230720"/>
            <a:chExt cx="2187360" cy="1293840"/>
          </a:xfrm>
        </p:grpSpPr>
        <p:sp>
          <p:nvSpPr>
            <p:cNvPr id="87" name="椭圆 12"/>
            <p:cNvSpPr/>
            <p:nvPr/>
          </p:nvSpPr>
          <p:spPr>
            <a:xfrm>
              <a:off x="5578560" y="4615560"/>
              <a:ext cx="909360" cy="90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椭圆 13"/>
            <p:cNvSpPr/>
            <p:nvPr/>
          </p:nvSpPr>
          <p:spPr>
            <a:xfrm>
              <a:off x="5950800" y="4230720"/>
              <a:ext cx="909360" cy="90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椭圆 14"/>
            <p:cNvSpPr/>
            <p:nvPr/>
          </p:nvSpPr>
          <p:spPr>
            <a:xfrm>
              <a:off x="6460560" y="4397760"/>
              <a:ext cx="934560" cy="934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15"/>
            <p:cNvSpPr/>
            <p:nvPr/>
          </p:nvSpPr>
          <p:spPr>
            <a:xfrm>
              <a:off x="6856560" y="4615560"/>
              <a:ext cx="909360" cy="90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圆角矩形 16"/>
            <p:cNvSpPr/>
            <p:nvPr/>
          </p:nvSpPr>
          <p:spPr>
            <a:xfrm>
              <a:off x="5933520" y="4615560"/>
              <a:ext cx="1563480" cy="909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3083"/>
          <p:cNvGrpSpPr/>
          <p:nvPr/>
        </p:nvGrpSpPr>
        <p:grpSpPr>
          <a:xfrm>
            <a:off x="231840" y="3147840"/>
            <a:ext cx="1235160" cy="730440"/>
            <a:chOff x="231840" y="3147840"/>
            <a:chExt cx="1235160" cy="730440"/>
          </a:xfrm>
        </p:grpSpPr>
        <p:sp>
          <p:nvSpPr>
            <p:cNvPr id="93" name="椭圆 18"/>
            <p:cNvSpPr/>
            <p:nvPr/>
          </p:nvSpPr>
          <p:spPr>
            <a:xfrm>
              <a:off x="231840" y="3365280"/>
              <a:ext cx="513360" cy="51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19"/>
            <p:cNvSpPr/>
            <p:nvPr/>
          </p:nvSpPr>
          <p:spPr>
            <a:xfrm>
              <a:off x="442080" y="3147840"/>
              <a:ext cx="513360" cy="51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20"/>
            <p:cNvSpPr/>
            <p:nvPr/>
          </p:nvSpPr>
          <p:spPr>
            <a:xfrm>
              <a:off x="729720" y="3242160"/>
              <a:ext cx="527760" cy="52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21"/>
            <p:cNvSpPr/>
            <p:nvPr/>
          </p:nvSpPr>
          <p:spPr>
            <a:xfrm>
              <a:off x="953640" y="3365280"/>
              <a:ext cx="513360" cy="51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圆角矩形 22"/>
            <p:cNvSpPr/>
            <p:nvPr/>
          </p:nvSpPr>
          <p:spPr>
            <a:xfrm>
              <a:off x="432360" y="3365280"/>
              <a:ext cx="882720" cy="51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3089"/>
          <p:cNvGrpSpPr/>
          <p:nvPr/>
        </p:nvGrpSpPr>
        <p:grpSpPr>
          <a:xfrm>
            <a:off x="6810480" y="2817720"/>
            <a:ext cx="1253880" cy="741600"/>
            <a:chOff x="6810480" y="2817720"/>
            <a:chExt cx="1253880" cy="741600"/>
          </a:xfrm>
        </p:grpSpPr>
        <p:sp>
          <p:nvSpPr>
            <p:cNvPr id="99" name="椭圆 24"/>
            <p:cNvSpPr/>
            <p:nvPr/>
          </p:nvSpPr>
          <p:spPr>
            <a:xfrm>
              <a:off x="6810480" y="3038400"/>
              <a:ext cx="521280" cy="52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25"/>
            <p:cNvSpPr/>
            <p:nvPr/>
          </p:nvSpPr>
          <p:spPr>
            <a:xfrm>
              <a:off x="7023600" y="2817720"/>
              <a:ext cx="521280" cy="52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26"/>
            <p:cNvSpPr/>
            <p:nvPr/>
          </p:nvSpPr>
          <p:spPr>
            <a:xfrm>
              <a:off x="7315920" y="2913480"/>
              <a:ext cx="535680" cy="535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27"/>
            <p:cNvSpPr/>
            <p:nvPr/>
          </p:nvSpPr>
          <p:spPr>
            <a:xfrm>
              <a:off x="7543080" y="3038400"/>
              <a:ext cx="521280" cy="52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圆角矩形 28"/>
            <p:cNvSpPr/>
            <p:nvPr/>
          </p:nvSpPr>
          <p:spPr>
            <a:xfrm>
              <a:off x="7013880" y="3038400"/>
              <a:ext cx="896400" cy="520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3095"/>
          <p:cNvGrpSpPr/>
          <p:nvPr/>
        </p:nvGrpSpPr>
        <p:grpSpPr>
          <a:xfrm>
            <a:off x="1020600" y="1541520"/>
            <a:ext cx="2143440" cy="1268280"/>
            <a:chOff x="1020600" y="1541520"/>
            <a:chExt cx="2143440" cy="1268280"/>
          </a:xfrm>
        </p:grpSpPr>
        <p:sp>
          <p:nvSpPr>
            <p:cNvPr id="105" name="椭圆 30"/>
            <p:cNvSpPr/>
            <p:nvPr/>
          </p:nvSpPr>
          <p:spPr>
            <a:xfrm>
              <a:off x="1020600" y="1918800"/>
              <a:ext cx="891000" cy="89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31"/>
            <p:cNvSpPr/>
            <p:nvPr/>
          </p:nvSpPr>
          <p:spPr>
            <a:xfrm>
              <a:off x="1385280" y="1541520"/>
              <a:ext cx="891000" cy="89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32"/>
            <p:cNvSpPr/>
            <p:nvPr/>
          </p:nvSpPr>
          <p:spPr>
            <a:xfrm>
              <a:off x="1884960" y="1705320"/>
              <a:ext cx="915840" cy="9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33"/>
            <p:cNvSpPr/>
            <p:nvPr/>
          </p:nvSpPr>
          <p:spPr>
            <a:xfrm>
              <a:off x="2273040" y="1918800"/>
              <a:ext cx="891000" cy="89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圆角矩形 34"/>
            <p:cNvSpPr/>
            <p:nvPr/>
          </p:nvSpPr>
          <p:spPr>
            <a:xfrm>
              <a:off x="1368360" y="1918800"/>
              <a:ext cx="1532160" cy="89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文本框 3101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3102"/>
          <p:cNvSpPr/>
          <p:nvPr/>
        </p:nvSpPr>
        <p:spPr>
          <a:xfrm>
            <a:off x="2231640" y="4302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多彩的世界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xit" presetID="2" presetSubtype="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2" presetSubtype="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1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xit" presetID="2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/>
            <a:ahLst/>
            <a:rect l="l" t="t" r="r" b="b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5d9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close/>
              </a:path>
            </a:pathLst>
          </a:custGeom>
          <a:solidFill>
            <a:srgbClr val="4a8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/>
            <a:ahLst/>
            <a:rect l="l" t="t" r="r" b="b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7"/>
          <p:cNvSpPr/>
          <p:nvPr/>
        </p:nvSpPr>
        <p:spPr>
          <a:xfrm>
            <a:off x="1044720" y="107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蓝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海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12296"/>
          <p:cNvGrpSpPr/>
          <p:nvPr/>
        </p:nvGrpSpPr>
        <p:grpSpPr>
          <a:xfrm>
            <a:off x="5973840" y="792000"/>
            <a:ext cx="2431800" cy="1555560"/>
            <a:chOff x="5973840" y="792000"/>
            <a:chExt cx="2431800" cy="1555560"/>
          </a:xfrm>
        </p:grpSpPr>
        <p:grpSp>
          <p:nvGrpSpPr>
            <p:cNvPr id="256" name="组合 12297"/>
            <p:cNvGrpSpPr/>
            <p:nvPr/>
          </p:nvGrpSpPr>
          <p:grpSpPr>
            <a:xfrm>
              <a:off x="6805080" y="1010880"/>
              <a:ext cx="1600560" cy="1336680"/>
              <a:chOff x="6805080" y="1010880"/>
              <a:chExt cx="1600560" cy="1336680"/>
            </a:xfrm>
          </p:grpSpPr>
          <p:sp>
            <p:nvSpPr>
              <p:cNvPr id="257" name="任意多边形 3"/>
              <p:cNvSpPr/>
              <p:nvPr/>
            </p:nvSpPr>
            <p:spPr>
              <a:xfrm>
                <a:off x="7099560" y="1010880"/>
                <a:ext cx="1306080" cy="826560"/>
              </a:xfrm>
              <a:custGeom>
                <a:avLst/>
                <a:gdLst/>
                <a:ahLst/>
                <a:rect l="l" t="t" r="r" b="b"/>
                <a:pathLst>
                  <a:path w="1729740" h="1095442">
                    <a:moveTo>
                      <a:pt x="0" y="13402"/>
                    </a:moveTo>
                    <a:cubicBezTo>
                      <a:pt x="150495" y="-5013"/>
                      <a:pt x="300990" y="-23428"/>
                      <a:pt x="464820" y="97222"/>
                    </a:cubicBezTo>
                    <a:cubicBezTo>
                      <a:pt x="628650" y="217872"/>
                      <a:pt x="772160" y="570932"/>
                      <a:pt x="982980" y="737302"/>
                    </a:cubicBezTo>
                    <a:cubicBezTo>
                      <a:pt x="1193800" y="903672"/>
                      <a:pt x="1461770" y="999557"/>
                      <a:pt x="1729740" y="1095442"/>
                    </a:cubicBezTo>
                  </a:path>
                </a:pathLst>
              </a:custGeom>
              <a:noFill/>
              <a:ln w="38160">
                <a:solidFill>
                  <a:srgbClr val="4a89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任意多边形 17"/>
              <p:cNvSpPr/>
              <p:nvPr/>
            </p:nvSpPr>
            <p:spPr>
              <a:xfrm>
                <a:off x="7099560" y="1233360"/>
                <a:ext cx="1306080" cy="826560"/>
              </a:xfrm>
              <a:custGeom>
                <a:avLst/>
                <a:gdLst/>
                <a:ahLst/>
                <a:rect l="l" t="t" r="r" b="b"/>
                <a:pathLst>
                  <a:path w="1729740" h="1095442">
                    <a:moveTo>
                      <a:pt x="0" y="13402"/>
                    </a:moveTo>
                    <a:cubicBezTo>
                      <a:pt x="150495" y="-5013"/>
                      <a:pt x="300990" y="-23428"/>
                      <a:pt x="464820" y="97222"/>
                    </a:cubicBezTo>
                    <a:cubicBezTo>
                      <a:pt x="628650" y="217872"/>
                      <a:pt x="772160" y="570932"/>
                      <a:pt x="982980" y="737302"/>
                    </a:cubicBezTo>
                    <a:cubicBezTo>
                      <a:pt x="1193800" y="903672"/>
                      <a:pt x="1461770" y="999557"/>
                      <a:pt x="1729740" y="1095442"/>
                    </a:cubicBezTo>
                  </a:path>
                </a:pathLst>
              </a:custGeom>
              <a:noFill/>
              <a:ln w="38160">
                <a:solidFill>
                  <a:srgbClr val="4a89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任意多边形 18"/>
              <p:cNvSpPr/>
              <p:nvPr/>
            </p:nvSpPr>
            <p:spPr>
              <a:xfrm rot="21148200">
                <a:off x="6954120" y="1359000"/>
                <a:ext cx="1306080" cy="826560"/>
              </a:xfrm>
              <a:custGeom>
                <a:avLst/>
                <a:gdLst/>
                <a:ahLst/>
                <a:rect l="l" t="t" r="r" b="b"/>
                <a:pathLst>
                  <a:path w="1729740" h="1095442">
                    <a:moveTo>
                      <a:pt x="0" y="13402"/>
                    </a:moveTo>
                    <a:cubicBezTo>
                      <a:pt x="150495" y="-5013"/>
                      <a:pt x="300990" y="-23428"/>
                      <a:pt x="464820" y="97222"/>
                    </a:cubicBezTo>
                    <a:cubicBezTo>
                      <a:pt x="628650" y="217872"/>
                      <a:pt x="772160" y="570932"/>
                      <a:pt x="982980" y="737302"/>
                    </a:cubicBezTo>
                    <a:cubicBezTo>
                      <a:pt x="1193800" y="903672"/>
                      <a:pt x="1461770" y="999557"/>
                      <a:pt x="1729740" y="1095442"/>
                    </a:cubicBezTo>
                  </a:path>
                </a:pathLst>
              </a:custGeom>
              <a:noFill/>
              <a:ln w="38160">
                <a:solidFill>
                  <a:srgbClr val="4a89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任意多边形 22"/>
              <p:cNvSpPr/>
              <p:nvPr/>
            </p:nvSpPr>
            <p:spPr>
              <a:xfrm>
                <a:off x="7002360" y="1233360"/>
                <a:ext cx="1306080" cy="826560"/>
              </a:xfrm>
              <a:custGeom>
                <a:avLst/>
                <a:gdLst/>
                <a:ahLst/>
                <a:rect l="l" t="t" r="r" b="b"/>
                <a:pathLst>
                  <a:path w="1729740" h="1095442">
                    <a:moveTo>
                      <a:pt x="0" y="13402"/>
                    </a:moveTo>
                    <a:cubicBezTo>
                      <a:pt x="150495" y="-5013"/>
                      <a:pt x="300990" y="-23428"/>
                      <a:pt x="464820" y="97222"/>
                    </a:cubicBezTo>
                    <a:cubicBezTo>
                      <a:pt x="628650" y="217872"/>
                      <a:pt x="772160" y="570932"/>
                      <a:pt x="982980" y="737302"/>
                    </a:cubicBezTo>
                    <a:cubicBezTo>
                      <a:pt x="1193800" y="903672"/>
                      <a:pt x="1461770" y="999557"/>
                      <a:pt x="1729740" y="1095442"/>
                    </a:cubicBezTo>
                  </a:path>
                </a:pathLst>
              </a:custGeom>
              <a:noFill/>
              <a:ln w="38160">
                <a:solidFill>
                  <a:srgbClr val="4a89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任意多边形 23"/>
              <p:cNvSpPr/>
              <p:nvPr/>
            </p:nvSpPr>
            <p:spPr>
              <a:xfrm rot="21148200">
                <a:off x="6853320" y="1438920"/>
                <a:ext cx="1306080" cy="826560"/>
              </a:xfrm>
              <a:custGeom>
                <a:avLst/>
                <a:gdLst/>
                <a:ahLst/>
                <a:rect l="l" t="t" r="r" b="b"/>
                <a:pathLst>
                  <a:path w="1729740" h="1095442">
                    <a:moveTo>
                      <a:pt x="0" y="13402"/>
                    </a:moveTo>
                    <a:cubicBezTo>
                      <a:pt x="150495" y="-5013"/>
                      <a:pt x="300990" y="-23428"/>
                      <a:pt x="464820" y="97222"/>
                    </a:cubicBezTo>
                    <a:cubicBezTo>
                      <a:pt x="628650" y="217872"/>
                      <a:pt x="772160" y="570932"/>
                      <a:pt x="982980" y="737302"/>
                    </a:cubicBezTo>
                    <a:cubicBezTo>
                      <a:pt x="1193800" y="903672"/>
                      <a:pt x="1461770" y="999557"/>
                      <a:pt x="1729740" y="1095442"/>
                    </a:cubicBezTo>
                  </a:path>
                </a:pathLst>
              </a:custGeom>
              <a:noFill/>
              <a:ln w="38160">
                <a:solidFill>
                  <a:srgbClr val="4a89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云形标注 1"/>
            <p:cNvSpPr/>
            <p:nvPr/>
          </p:nvSpPr>
          <p:spPr>
            <a:xfrm>
              <a:off x="5973840" y="792000"/>
              <a:ext cx="1214280" cy="948960"/>
            </a:xfrm>
            <a:prstGeom prst="cloudCallout">
              <a:avLst>
                <a:gd name="adj1" fmla="val 84106"/>
                <a:gd name="adj2" fmla="val -62282"/>
              </a:avLst>
            </a:prstGeom>
            <a:solidFill>
              <a:srgbClr val="ffffff"/>
            </a:solidFill>
            <a:ln w="38160">
              <a:solidFill>
                <a:srgbClr val="4a89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/>
            <a:ahLst/>
            <a:rect l="l" t="t" r="r" b="b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ac9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close/>
              </a:path>
            </a:pathLst>
          </a:custGeom>
          <a:solidFill>
            <a:srgbClr val="967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/>
            <a:ahLst/>
            <a:rect l="l" t="t" r="r" b="b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7"/>
          <p:cNvSpPr/>
          <p:nvPr/>
        </p:nvSpPr>
        <p:spPr>
          <a:xfrm>
            <a:off x="1091160" y="10764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紫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薰衣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13320"/>
          <p:cNvGrpSpPr/>
          <p:nvPr/>
        </p:nvGrpSpPr>
        <p:grpSpPr>
          <a:xfrm>
            <a:off x="6600600" y="241200"/>
            <a:ext cx="1829160" cy="1416240"/>
            <a:chOff x="6600600" y="241200"/>
            <a:chExt cx="1829160" cy="1416240"/>
          </a:xfrm>
        </p:grpSpPr>
        <p:sp>
          <p:nvSpPr>
            <p:cNvPr id="271" name="任意多边形 4"/>
            <p:cNvSpPr/>
            <p:nvPr/>
          </p:nvSpPr>
          <p:spPr>
            <a:xfrm>
              <a:off x="6936840" y="1090800"/>
              <a:ext cx="121680" cy="566640"/>
            </a:xfrm>
            <a:custGeom>
              <a:avLst/>
              <a:gdLst/>
              <a:ahLst/>
              <a:rect l="l" t="t" r="r" b="b"/>
              <a:pathLst>
                <a:path w="92891" h="514350">
                  <a:moveTo>
                    <a:pt x="0" y="0"/>
                  </a:moveTo>
                  <a:cubicBezTo>
                    <a:pt x="33866" y="112712"/>
                    <a:pt x="67733" y="225425"/>
                    <a:pt x="82550" y="311150"/>
                  </a:cubicBezTo>
                  <a:cubicBezTo>
                    <a:pt x="97367" y="396875"/>
                    <a:pt x="93133" y="455612"/>
                    <a:pt x="88900" y="514350"/>
                  </a:cubicBezTo>
                </a:path>
              </a:pathLst>
            </a:custGeom>
            <a:noFill/>
            <a:ln w="19080">
              <a:solidFill>
                <a:srgbClr val="ac92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任意多边形 5"/>
            <p:cNvSpPr/>
            <p:nvPr/>
          </p:nvSpPr>
          <p:spPr>
            <a:xfrm>
              <a:off x="7264440" y="1041840"/>
              <a:ext cx="44280" cy="615600"/>
            </a:xfrm>
            <a:custGeom>
              <a:avLst/>
              <a:gdLst/>
              <a:ahLst/>
              <a:rect l="l" t="t" r="r" b="b"/>
              <a:pathLst>
                <a:path w="44450" h="615950">
                  <a:moveTo>
                    <a:pt x="0" y="0"/>
                  </a:moveTo>
                  <a:cubicBezTo>
                    <a:pt x="22225" y="145521"/>
                    <a:pt x="44450" y="291042"/>
                    <a:pt x="44450" y="393700"/>
                  </a:cubicBezTo>
                  <a:cubicBezTo>
                    <a:pt x="44450" y="496358"/>
                    <a:pt x="22225" y="556154"/>
                    <a:pt x="0" y="615950"/>
                  </a:cubicBezTo>
                </a:path>
              </a:pathLst>
            </a:custGeom>
            <a:noFill/>
            <a:ln w="19080">
              <a:solidFill>
                <a:srgbClr val="ac92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34"/>
            <p:cNvSpPr/>
            <p:nvPr/>
          </p:nvSpPr>
          <p:spPr>
            <a:xfrm>
              <a:off x="7158600" y="1019880"/>
              <a:ext cx="441360" cy="631440"/>
            </a:xfrm>
            <a:custGeom>
              <a:avLst/>
              <a:gdLst/>
              <a:ahLst/>
              <a:rect l="l" t="t" r="r" b="b"/>
              <a:pathLst>
                <a:path w="431800" h="622300">
                  <a:moveTo>
                    <a:pt x="431800" y="0"/>
                  </a:moveTo>
                  <a:cubicBezTo>
                    <a:pt x="289983" y="91016"/>
                    <a:pt x="148167" y="182033"/>
                    <a:pt x="76200" y="285750"/>
                  </a:cubicBezTo>
                  <a:cubicBezTo>
                    <a:pt x="4233" y="389467"/>
                    <a:pt x="2116" y="505883"/>
                    <a:pt x="0" y="622300"/>
                  </a:cubicBezTo>
                </a:path>
              </a:pathLst>
            </a:custGeom>
            <a:noFill/>
            <a:ln w="19080">
              <a:solidFill>
                <a:srgbClr val="ac92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组合 13324"/>
            <p:cNvGrpSpPr/>
            <p:nvPr/>
          </p:nvGrpSpPr>
          <p:grpSpPr>
            <a:xfrm>
              <a:off x="6600600" y="317160"/>
              <a:ext cx="482760" cy="867960"/>
              <a:chOff x="6600600" y="317160"/>
              <a:chExt cx="482760" cy="867960"/>
            </a:xfrm>
          </p:grpSpPr>
          <p:sp>
            <p:nvSpPr>
              <p:cNvPr id="275" name="等腰三角形 1"/>
              <p:cNvSpPr/>
              <p:nvPr/>
            </p:nvSpPr>
            <p:spPr>
              <a:xfrm rot="9725400">
                <a:off x="6777720" y="948240"/>
                <a:ext cx="28188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等腰三角形 8"/>
              <p:cNvSpPr/>
              <p:nvPr/>
            </p:nvSpPr>
            <p:spPr>
              <a:xfrm rot="9725400">
                <a:off x="6747120" y="853920"/>
                <a:ext cx="28188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等腰三角形 9"/>
              <p:cNvSpPr/>
              <p:nvPr/>
            </p:nvSpPr>
            <p:spPr>
              <a:xfrm rot="9725400">
                <a:off x="6712560" y="746640"/>
                <a:ext cx="28188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等腰三角形 11"/>
              <p:cNvSpPr/>
              <p:nvPr/>
            </p:nvSpPr>
            <p:spPr>
              <a:xfrm rot="9725400">
                <a:off x="6686280" y="665640"/>
                <a:ext cx="28188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等腰三角形 12"/>
              <p:cNvSpPr/>
              <p:nvPr/>
            </p:nvSpPr>
            <p:spPr>
              <a:xfrm rot="9725400">
                <a:off x="6650280" y="554040"/>
                <a:ext cx="28188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等腰三角形 13"/>
              <p:cNvSpPr/>
              <p:nvPr/>
            </p:nvSpPr>
            <p:spPr>
              <a:xfrm rot="9725400">
                <a:off x="6624000" y="472320"/>
                <a:ext cx="28188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等腰三角形 15"/>
              <p:cNvSpPr/>
              <p:nvPr/>
            </p:nvSpPr>
            <p:spPr>
              <a:xfrm rot="20526000">
                <a:off x="6627600" y="341640"/>
                <a:ext cx="19044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组合 13332"/>
            <p:cNvGrpSpPr/>
            <p:nvPr/>
          </p:nvGrpSpPr>
          <p:grpSpPr>
            <a:xfrm>
              <a:off x="7122600" y="241200"/>
              <a:ext cx="237600" cy="822960"/>
              <a:chOff x="7122600" y="241200"/>
              <a:chExt cx="237600" cy="822960"/>
            </a:xfrm>
          </p:grpSpPr>
          <p:sp>
            <p:nvSpPr>
              <p:cNvPr id="283" name="等腰三角形 18"/>
              <p:cNvSpPr/>
              <p:nvPr/>
            </p:nvSpPr>
            <p:spPr>
              <a:xfrm rot="10566000">
                <a:off x="7161840" y="86472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等腰三角形 19"/>
              <p:cNvSpPr/>
              <p:nvPr/>
            </p:nvSpPr>
            <p:spPr>
              <a:xfrm rot="10566000">
                <a:off x="7155360" y="76860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等腰三角形 20"/>
              <p:cNvSpPr/>
              <p:nvPr/>
            </p:nvSpPr>
            <p:spPr>
              <a:xfrm rot="10566000">
                <a:off x="7147800" y="65880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等腰三角形 22"/>
              <p:cNvSpPr/>
              <p:nvPr/>
            </p:nvSpPr>
            <p:spPr>
              <a:xfrm rot="10566000">
                <a:off x="7142400" y="57600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等腰三角形 23"/>
              <p:cNvSpPr/>
              <p:nvPr/>
            </p:nvSpPr>
            <p:spPr>
              <a:xfrm rot="10566000">
                <a:off x="7134480" y="46188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等腰三角形 24"/>
              <p:cNvSpPr/>
              <p:nvPr/>
            </p:nvSpPr>
            <p:spPr>
              <a:xfrm rot="10566000">
                <a:off x="7128720" y="37836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等腰三角形 25"/>
              <p:cNvSpPr/>
              <p:nvPr/>
            </p:nvSpPr>
            <p:spPr>
              <a:xfrm rot="21366600">
                <a:off x="7150680" y="245160"/>
                <a:ext cx="12960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组合 13340"/>
            <p:cNvGrpSpPr/>
            <p:nvPr/>
          </p:nvGrpSpPr>
          <p:grpSpPr>
            <a:xfrm>
              <a:off x="7543800" y="858600"/>
              <a:ext cx="885960" cy="333720"/>
              <a:chOff x="7543800" y="858600"/>
              <a:chExt cx="885960" cy="333720"/>
            </a:xfrm>
          </p:grpSpPr>
          <p:sp>
            <p:nvSpPr>
              <p:cNvPr id="291" name="等腰三角形 27"/>
              <p:cNvSpPr/>
              <p:nvPr/>
            </p:nvSpPr>
            <p:spPr>
              <a:xfrm rot="15203400">
                <a:off x="7567560" y="91260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等腰三角形 28"/>
              <p:cNvSpPr/>
              <p:nvPr/>
            </p:nvSpPr>
            <p:spPr>
              <a:xfrm rot="15736800">
                <a:off x="7653960" y="86976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等腰三角形 29"/>
              <p:cNvSpPr/>
              <p:nvPr/>
            </p:nvSpPr>
            <p:spPr>
              <a:xfrm rot="16199400">
                <a:off x="7764120" y="86508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等腰三角形 30"/>
              <p:cNvSpPr/>
              <p:nvPr/>
            </p:nvSpPr>
            <p:spPr>
              <a:xfrm rot="16567200">
                <a:off x="7860240" y="88056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等腰三角形 31"/>
              <p:cNvSpPr/>
              <p:nvPr/>
            </p:nvSpPr>
            <p:spPr>
              <a:xfrm rot="17085000">
                <a:off x="7961760" y="88416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等腰三角形 32"/>
              <p:cNvSpPr/>
              <p:nvPr/>
            </p:nvSpPr>
            <p:spPr>
              <a:xfrm rot="17431800">
                <a:off x="8064000" y="92664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等腰三角形 33"/>
              <p:cNvSpPr/>
              <p:nvPr/>
            </p:nvSpPr>
            <p:spPr>
              <a:xfrm rot="6958800">
                <a:off x="8249760" y="995040"/>
                <a:ext cx="12960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/>
            <a:ahLst/>
            <a:rect l="l" t="t" r="r" b="b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ec87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close/>
              </a:path>
            </a:pathLst>
          </a:custGeom>
          <a:solidFill>
            <a:srgbClr val="d77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/>
            <a:ahLst/>
            <a:rect l="l" t="t" r="r" b="b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7"/>
          <p:cNvSpPr/>
          <p:nvPr/>
        </p:nvSpPr>
        <p:spPr>
          <a:xfrm>
            <a:off x="1091160" y="10764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粉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粉玫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14344"/>
          <p:cNvGrpSpPr/>
          <p:nvPr/>
        </p:nvGrpSpPr>
        <p:grpSpPr>
          <a:xfrm>
            <a:off x="6480360" y="586080"/>
            <a:ext cx="1372320" cy="1166760"/>
            <a:chOff x="6480360" y="586080"/>
            <a:chExt cx="1372320" cy="1166760"/>
          </a:xfrm>
        </p:grpSpPr>
        <p:sp>
          <p:nvSpPr>
            <p:cNvPr id="306" name="新月形 9"/>
            <p:cNvSpPr/>
            <p:nvPr/>
          </p:nvSpPr>
          <p:spPr>
            <a:xfrm rot="17100000">
              <a:off x="7017840" y="1149480"/>
              <a:ext cx="196200" cy="42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新月形 17"/>
            <p:cNvSpPr/>
            <p:nvPr/>
          </p:nvSpPr>
          <p:spPr>
            <a:xfrm rot="7362000">
              <a:off x="7183440" y="978120"/>
              <a:ext cx="196200" cy="42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新月形 19"/>
            <p:cNvSpPr/>
            <p:nvPr/>
          </p:nvSpPr>
          <p:spPr>
            <a:xfrm rot="2466600">
              <a:off x="6857640" y="901800"/>
              <a:ext cx="196200" cy="42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新月形 20"/>
            <p:cNvSpPr/>
            <p:nvPr/>
          </p:nvSpPr>
          <p:spPr>
            <a:xfrm rot="2466600">
              <a:off x="6753960" y="606600"/>
              <a:ext cx="219960" cy="59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新月形 22"/>
            <p:cNvSpPr/>
            <p:nvPr/>
          </p:nvSpPr>
          <p:spPr>
            <a:xfrm rot="7823400">
              <a:off x="7247160" y="590760"/>
              <a:ext cx="330840" cy="68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新月形 23"/>
            <p:cNvSpPr/>
            <p:nvPr/>
          </p:nvSpPr>
          <p:spPr>
            <a:xfrm rot="13389600">
              <a:off x="7423920" y="1108440"/>
              <a:ext cx="241200" cy="64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770" y="2142"/>
                    <a:pt x="11940" y="5080"/>
                    <a:pt x="11940" y="10800"/>
                  </a:cubicBezTo>
                  <a:cubicBezTo>
                    <a:pt x="11940" y="16520"/>
                    <a:pt x="16770" y="1945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新月形 24"/>
            <p:cNvSpPr/>
            <p:nvPr/>
          </p:nvSpPr>
          <p:spPr>
            <a:xfrm rot="17936400">
              <a:off x="6745320" y="1048680"/>
              <a:ext cx="290880" cy="777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770" y="2142"/>
                    <a:pt x="11940" y="5080"/>
                    <a:pt x="11940" y="10800"/>
                  </a:cubicBezTo>
                  <a:cubicBezTo>
                    <a:pt x="11940" y="16520"/>
                    <a:pt x="16770" y="1945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4352"/>
          <p:cNvGrpSpPr/>
          <p:nvPr/>
        </p:nvGrpSpPr>
        <p:grpSpPr>
          <a:xfrm>
            <a:off x="7673400" y="1079280"/>
            <a:ext cx="623520" cy="597240"/>
            <a:chOff x="7673400" y="1079280"/>
            <a:chExt cx="623520" cy="597240"/>
          </a:xfrm>
        </p:grpSpPr>
        <p:sp>
          <p:nvSpPr>
            <p:cNvPr id="314" name="新月形 26"/>
            <p:cNvSpPr/>
            <p:nvPr/>
          </p:nvSpPr>
          <p:spPr>
            <a:xfrm rot="19765200">
              <a:off x="7867440" y="1306080"/>
              <a:ext cx="104400" cy="22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新月形 27"/>
            <p:cNvSpPr/>
            <p:nvPr/>
          </p:nvSpPr>
          <p:spPr>
            <a:xfrm rot="10026600">
              <a:off x="7994880" y="1302120"/>
              <a:ext cx="104400" cy="22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新月形 28"/>
            <p:cNvSpPr/>
            <p:nvPr/>
          </p:nvSpPr>
          <p:spPr>
            <a:xfrm rot="5130600">
              <a:off x="7899840" y="1152000"/>
              <a:ext cx="104400" cy="226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新月形 29"/>
            <p:cNvSpPr/>
            <p:nvPr/>
          </p:nvSpPr>
          <p:spPr>
            <a:xfrm rot="5130600">
              <a:off x="7937640" y="992160"/>
              <a:ext cx="117000" cy="315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新月形 30"/>
            <p:cNvSpPr/>
            <p:nvPr/>
          </p:nvSpPr>
          <p:spPr>
            <a:xfrm rot="10488000">
              <a:off x="8103960" y="1183320"/>
              <a:ext cx="176400" cy="36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新月形 31"/>
            <p:cNvSpPr/>
            <p:nvPr/>
          </p:nvSpPr>
          <p:spPr>
            <a:xfrm rot="16054800">
              <a:off x="7993080" y="1433160"/>
              <a:ext cx="128520" cy="34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770" y="2142"/>
                    <a:pt x="11940" y="5080"/>
                    <a:pt x="11940" y="10800"/>
                  </a:cubicBezTo>
                  <a:cubicBezTo>
                    <a:pt x="11940" y="16520"/>
                    <a:pt x="16770" y="1945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新月形 32"/>
            <p:cNvSpPr/>
            <p:nvPr/>
          </p:nvSpPr>
          <p:spPr>
            <a:xfrm rot="20601600">
              <a:off x="7729200" y="1157400"/>
              <a:ext cx="155160" cy="41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770" y="2142"/>
                    <a:pt x="11940" y="5080"/>
                    <a:pt x="11940" y="10800"/>
                  </a:cubicBezTo>
                  <a:cubicBezTo>
                    <a:pt x="11940" y="16520"/>
                    <a:pt x="16770" y="1945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14360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/>
            <a:ahLst/>
            <a:rect l="l" t="t" r="r" b="b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ccd1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close/>
              </a:path>
            </a:pathLst>
          </a:custGeom>
          <a:solidFill>
            <a:srgbClr val="aab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/>
            <a:ahLst/>
            <a:rect l="l" t="t" r="r" b="b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7"/>
          <p:cNvSpPr/>
          <p:nvPr/>
        </p:nvSpPr>
        <p:spPr>
          <a:xfrm>
            <a:off x="1044720" y="107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银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水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15368"/>
          <p:cNvGrpSpPr/>
          <p:nvPr/>
        </p:nvGrpSpPr>
        <p:grpSpPr>
          <a:xfrm>
            <a:off x="6354720" y="1030320"/>
            <a:ext cx="671400" cy="582480"/>
            <a:chOff x="6354720" y="1030320"/>
            <a:chExt cx="671400" cy="582480"/>
          </a:xfrm>
        </p:grpSpPr>
        <p:sp>
          <p:nvSpPr>
            <p:cNvPr id="330" name="椭圆 8"/>
            <p:cNvSpPr/>
            <p:nvPr/>
          </p:nvSpPr>
          <p:spPr>
            <a:xfrm>
              <a:off x="6354720" y="1030320"/>
              <a:ext cx="671400" cy="582480"/>
            </a:xfrm>
            <a:prstGeom prst="ellipse">
              <a:avLst/>
            </a:prstGeom>
            <a:solidFill>
              <a:srgbClr val="aa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椭圆 9"/>
            <p:cNvSpPr/>
            <p:nvPr/>
          </p:nvSpPr>
          <p:spPr>
            <a:xfrm>
              <a:off x="6390360" y="1035720"/>
              <a:ext cx="600120" cy="434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椭圆 11"/>
            <p:cNvSpPr/>
            <p:nvPr/>
          </p:nvSpPr>
          <p:spPr>
            <a:xfrm>
              <a:off x="6782040" y="1404720"/>
              <a:ext cx="150840" cy="13104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组合 15372"/>
          <p:cNvGrpSpPr/>
          <p:nvPr/>
        </p:nvGrpSpPr>
        <p:grpSpPr>
          <a:xfrm>
            <a:off x="7418520" y="1171440"/>
            <a:ext cx="420480" cy="363600"/>
            <a:chOff x="7418520" y="1171440"/>
            <a:chExt cx="420480" cy="363600"/>
          </a:xfrm>
        </p:grpSpPr>
        <p:sp>
          <p:nvSpPr>
            <p:cNvPr id="334" name="椭圆 19"/>
            <p:cNvSpPr/>
            <p:nvPr/>
          </p:nvSpPr>
          <p:spPr>
            <a:xfrm>
              <a:off x="7418520" y="1171440"/>
              <a:ext cx="420480" cy="363600"/>
            </a:xfrm>
            <a:prstGeom prst="ellipse">
              <a:avLst/>
            </a:prstGeom>
            <a:solidFill>
              <a:srgbClr val="aa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20"/>
            <p:cNvSpPr/>
            <p:nvPr/>
          </p:nvSpPr>
          <p:spPr>
            <a:xfrm>
              <a:off x="7440840" y="1174680"/>
              <a:ext cx="375840" cy="271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椭圆 22"/>
            <p:cNvSpPr/>
            <p:nvPr/>
          </p:nvSpPr>
          <p:spPr>
            <a:xfrm>
              <a:off x="7686000" y="1405080"/>
              <a:ext cx="94320" cy="817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组合 15376"/>
          <p:cNvGrpSpPr/>
          <p:nvPr/>
        </p:nvGrpSpPr>
        <p:grpSpPr>
          <a:xfrm>
            <a:off x="5819760" y="927000"/>
            <a:ext cx="241200" cy="208080"/>
            <a:chOff x="5819760" y="927000"/>
            <a:chExt cx="241200" cy="208080"/>
          </a:xfrm>
        </p:grpSpPr>
        <p:sp>
          <p:nvSpPr>
            <p:cNvPr id="338" name="椭圆 24"/>
            <p:cNvSpPr/>
            <p:nvPr/>
          </p:nvSpPr>
          <p:spPr>
            <a:xfrm>
              <a:off x="5819760" y="927000"/>
              <a:ext cx="241200" cy="208080"/>
            </a:xfrm>
            <a:prstGeom prst="ellipse">
              <a:avLst/>
            </a:prstGeom>
            <a:solidFill>
              <a:srgbClr val="aa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25"/>
            <p:cNvSpPr/>
            <p:nvPr/>
          </p:nvSpPr>
          <p:spPr>
            <a:xfrm>
              <a:off x="5832360" y="928800"/>
              <a:ext cx="215640" cy="15516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椭圆 26"/>
            <p:cNvSpPr/>
            <p:nvPr/>
          </p:nvSpPr>
          <p:spPr>
            <a:xfrm>
              <a:off x="5973120" y="1060920"/>
              <a:ext cx="54000" cy="46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C658-B5C4-4B61-8AD2-27FA71BE172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/>
            <a:ahLst/>
            <a:rect l="l" t="t" r="r" b="b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close/>
              </a:path>
            </a:pathLst>
          </a:custGeom>
          <a:solidFill>
            <a:srgbClr val="434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/>
            <a:ahLst/>
            <a:rect l="l" t="t" r="r" b="b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7"/>
          <p:cNvSpPr/>
          <p:nvPr/>
        </p:nvSpPr>
        <p:spPr>
          <a:xfrm>
            <a:off x="1078920" y="107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黑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子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新月形 2"/>
          <p:cNvSpPr/>
          <p:nvPr/>
        </p:nvSpPr>
        <p:spPr>
          <a:xfrm rot="17802600">
            <a:off x="6294600" y="769680"/>
            <a:ext cx="603000" cy="12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900" y="1471"/>
                  <a:pt x="8200" y="5080"/>
                  <a:pt x="8200" y="10800"/>
                </a:cubicBezTo>
                <a:cubicBezTo>
                  <a:pt x="8200" y="16520"/>
                  <a:pt x="14900" y="2012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34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五角星 3"/>
          <p:cNvSpPr/>
          <p:nvPr/>
        </p:nvSpPr>
        <p:spPr>
          <a:xfrm>
            <a:off x="8553600" y="898560"/>
            <a:ext cx="136440" cy="138240"/>
          </a:xfrm>
          <a:custGeom>
            <a:avLst/>
            <a:gdLst/>
            <a:ahLst/>
            <a:rect l="l" t="t" r="r" b="b"/>
            <a:pathLst>
              <a:path w="136525" h="138113">
                <a:moveTo>
                  <a:pt x="0" y="52754"/>
                </a:moveTo>
                <a:lnTo>
                  <a:pt x="52148" y="52754"/>
                </a:lnTo>
                <a:lnTo>
                  <a:pt x="68262" y="0"/>
                </a:lnTo>
                <a:lnTo>
                  <a:pt x="84376" y="52754"/>
                </a:lnTo>
                <a:lnTo>
                  <a:pt x="136524" y="52754"/>
                </a:lnTo>
                <a:lnTo>
                  <a:pt x="94335" y="85358"/>
                </a:lnTo>
                <a:lnTo>
                  <a:pt x="110450" y="138112"/>
                </a:lnTo>
                <a:lnTo>
                  <a:pt x="68262" y="105508"/>
                </a:lnTo>
                <a:lnTo>
                  <a:pt x="26074" y="138112"/>
                </a:lnTo>
                <a:lnTo>
                  <a:pt x="42189" y="85358"/>
                </a:ln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五角星 15"/>
          <p:cNvSpPr/>
          <p:nvPr/>
        </p:nvSpPr>
        <p:spPr>
          <a:xfrm>
            <a:off x="7683480" y="1379520"/>
            <a:ext cx="136440" cy="138240"/>
          </a:xfrm>
          <a:custGeom>
            <a:avLst/>
            <a:gdLst/>
            <a:ahLst/>
            <a:rect l="l" t="t" r="r" b="b"/>
            <a:pathLst>
              <a:path w="136525" h="138112">
                <a:moveTo>
                  <a:pt x="0" y="52753"/>
                </a:moveTo>
                <a:lnTo>
                  <a:pt x="52148" y="52754"/>
                </a:lnTo>
                <a:lnTo>
                  <a:pt x="68262" y="0"/>
                </a:lnTo>
                <a:lnTo>
                  <a:pt x="84376" y="52754"/>
                </a:lnTo>
                <a:lnTo>
                  <a:pt x="136524" y="52753"/>
                </a:lnTo>
                <a:lnTo>
                  <a:pt x="94335" y="85357"/>
                </a:lnTo>
                <a:lnTo>
                  <a:pt x="110450" y="138111"/>
                </a:lnTo>
                <a:lnTo>
                  <a:pt x="68262" y="105507"/>
                </a:lnTo>
                <a:lnTo>
                  <a:pt x="26074" y="138111"/>
                </a:lnTo>
                <a:lnTo>
                  <a:pt x="42189" y="85357"/>
                </a:ln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五角星 19"/>
          <p:cNvSpPr/>
          <p:nvPr/>
        </p:nvSpPr>
        <p:spPr>
          <a:xfrm>
            <a:off x="7777080" y="676440"/>
            <a:ext cx="138240" cy="136440"/>
          </a:xfrm>
          <a:custGeom>
            <a:avLst/>
            <a:gdLst/>
            <a:ahLst/>
            <a:rect l="l" t="t" r="r" b="b"/>
            <a:pathLst>
              <a:path w="138112" h="136525">
                <a:moveTo>
                  <a:pt x="0" y="52147"/>
                </a:moveTo>
                <a:lnTo>
                  <a:pt x="52754" y="52148"/>
                </a:lnTo>
                <a:lnTo>
                  <a:pt x="69056" y="0"/>
                </a:lnTo>
                <a:lnTo>
                  <a:pt x="85357" y="52148"/>
                </a:lnTo>
                <a:lnTo>
                  <a:pt x="138111" y="52147"/>
                </a:lnTo>
                <a:lnTo>
                  <a:pt x="95432" y="84376"/>
                </a:lnTo>
                <a:lnTo>
                  <a:pt x="111734" y="136524"/>
                </a:lnTo>
                <a:lnTo>
                  <a:pt x="69056" y="104295"/>
                </a:lnTo>
                <a:lnTo>
                  <a:pt x="26377" y="136524"/>
                </a:lnTo>
                <a:lnTo>
                  <a:pt x="42679" y="84376"/>
                </a:ln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五角星 22"/>
          <p:cNvSpPr/>
          <p:nvPr/>
        </p:nvSpPr>
        <p:spPr>
          <a:xfrm>
            <a:off x="7134120" y="995400"/>
            <a:ext cx="136800" cy="138240"/>
          </a:xfrm>
          <a:custGeom>
            <a:avLst/>
            <a:gdLst/>
            <a:ahLst/>
            <a:rect l="l" t="t" r="r" b="b"/>
            <a:pathLst>
              <a:path w="136525" h="138112">
                <a:moveTo>
                  <a:pt x="0" y="52753"/>
                </a:moveTo>
                <a:lnTo>
                  <a:pt x="52148" y="52754"/>
                </a:lnTo>
                <a:lnTo>
                  <a:pt x="68262" y="0"/>
                </a:lnTo>
                <a:lnTo>
                  <a:pt x="84376" y="52754"/>
                </a:lnTo>
                <a:lnTo>
                  <a:pt x="136524" y="52753"/>
                </a:lnTo>
                <a:lnTo>
                  <a:pt x="94335" y="85357"/>
                </a:lnTo>
                <a:lnTo>
                  <a:pt x="110450" y="138111"/>
                </a:lnTo>
                <a:lnTo>
                  <a:pt x="68262" y="105507"/>
                </a:lnTo>
                <a:lnTo>
                  <a:pt x="26074" y="138111"/>
                </a:lnTo>
                <a:lnTo>
                  <a:pt x="42189" y="85357"/>
                </a:ln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五角星 23"/>
          <p:cNvSpPr/>
          <p:nvPr/>
        </p:nvSpPr>
        <p:spPr>
          <a:xfrm>
            <a:off x="6527880" y="392040"/>
            <a:ext cx="137880" cy="138240"/>
          </a:xfrm>
          <a:custGeom>
            <a:avLst/>
            <a:gdLst/>
            <a:ahLst/>
            <a:rect l="l" t="t" r="r" b="b"/>
            <a:pathLst>
              <a:path w="138113" h="138112">
                <a:moveTo>
                  <a:pt x="0" y="52753"/>
                </a:moveTo>
                <a:lnTo>
                  <a:pt x="52754" y="52754"/>
                </a:lnTo>
                <a:lnTo>
                  <a:pt x="69056" y="0"/>
                </a:lnTo>
                <a:lnTo>
                  <a:pt x="85358" y="52754"/>
                </a:lnTo>
                <a:lnTo>
                  <a:pt x="138112" y="52753"/>
                </a:lnTo>
                <a:lnTo>
                  <a:pt x="95433" y="85357"/>
                </a:lnTo>
                <a:lnTo>
                  <a:pt x="111735" y="138111"/>
                </a:lnTo>
                <a:lnTo>
                  <a:pt x="69056" y="105507"/>
                </a:lnTo>
                <a:lnTo>
                  <a:pt x="26377" y="138111"/>
                </a:lnTo>
                <a:lnTo>
                  <a:pt x="42679" y="85357"/>
                </a:ln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五角星 24"/>
          <p:cNvSpPr/>
          <p:nvPr/>
        </p:nvSpPr>
        <p:spPr>
          <a:xfrm>
            <a:off x="7197840" y="617400"/>
            <a:ext cx="137880" cy="138240"/>
          </a:xfrm>
          <a:custGeom>
            <a:avLst/>
            <a:gdLst/>
            <a:ahLst/>
            <a:rect l="l" t="t" r="r" b="b"/>
            <a:pathLst>
              <a:path w="138113" h="138112">
                <a:moveTo>
                  <a:pt x="0" y="52753"/>
                </a:moveTo>
                <a:lnTo>
                  <a:pt x="52754" y="52754"/>
                </a:lnTo>
                <a:lnTo>
                  <a:pt x="69056" y="0"/>
                </a:lnTo>
                <a:lnTo>
                  <a:pt x="85358" y="52754"/>
                </a:lnTo>
                <a:lnTo>
                  <a:pt x="138112" y="52753"/>
                </a:lnTo>
                <a:lnTo>
                  <a:pt x="95433" y="85357"/>
                </a:lnTo>
                <a:lnTo>
                  <a:pt x="111735" y="138111"/>
                </a:lnTo>
                <a:lnTo>
                  <a:pt x="69056" y="105507"/>
                </a:lnTo>
                <a:lnTo>
                  <a:pt x="26377" y="138111"/>
                </a:lnTo>
                <a:lnTo>
                  <a:pt x="42679" y="85357"/>
                </a:ln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1"/>
          <p:cNvSpPr/>
          <p:nvPr/>
        </p:nvSpPr>
        <p:spPr>
          <a:xfrm>
            <a:off x="3671280" y="3735360"/>
            <a:ext cx="174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itannic Bold"/>
                <a:ea typeface="隶书"/>
              </a:rPr>
              <a:t>YU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3236760" y="2333520"/>
            <a:ext cx="2670480" cy="157968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3"/>
          <p:cNvSpPr/>
          <p:nvPr/>
        </p:nvSpPr>
        <p:spPr>
          <a:xfrm>
            <a:off x="3496320" y="2620800"/>
            <a:ext cx="215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e75b5"/>
                </a:solidFill>
                <a:latin typeface="Britannic Bold"/>
                <a:ea typeface="Arial Unicode MS"/>
              </a:rPr>
              <a:t>P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4167E-006 1.48148E-006 L 3.54167E-006 0.03194 E">
                                      <p:cBhvr>
                                        <p:cTn id="51" dur="25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"/>
                            </p:stCondLst>
                            <p:childTnLst>
                              <p:par>
                                <p:cTn id="53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4167E-006 0.03195 L 3.54167E-006 -0.11852 E">
                                      <p:cBhvr>
                                        <p:cTn id="54" dur="25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1"/>
                            </p:stCondLst>
                            <p:childTnLst>
                              <p:par>
                                <p:cTn id="5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80" fill="hold"/>
                                        <p:tgtEl>
                                          <p:spTgt spid="11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81"/>
                            </p:stCondLst>
                            <p:childTnLst>
                              <p:par>
                                <p:cTn id="62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80" fill="hold"/>
                                        <p:tgtEl>
                                          <p:spTgt spid="11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61"/>
                            </p:stCondLst>
                            <p:childTnLst>
                              <p:par>
                                <p:cTn id="6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80" fill="hold"/>
                                        <p:tgtEl>
                                          <p:spTgt spid="11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41"/>
                            </p:stCondLst>
                            <p:childTnLst>
                              <p:par>
                                <p:cTn id="68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80" fill="hold"/>
                                        <p:tgtEl>
                                          <p:spTgt spid="11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21"/>
                            </p:stCondLst>
                            <p:childTnLst>
                              <p:par>
                                <p:cTn id="7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80" fill="hold"/>
                                        <p:tgtEl>
                                          <p:spTgt spid="11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1"/>
                            </p:stCondLst>
                            <p:childTnLst>
                              <p:par>
                                <p:cTn id="74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80" fill="hold"/>
                                        <p:tgtEl>
                                          <p:spTgt spid="11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81"/>
                            </p:stCondLst>
                            <p:childTnLst>
                              <p:par>
                                <p:cTn id="77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450" fill="hold"/>
                                        <p:tgtEl>
                                          <p:spTgt spid="114"/>
                                        </p:tgtEl>
                                      </p:cBhvr>
                                      <p:to x="700000" y="700000"/>
                                    </p:animScale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0" dur="4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组合 5121"/>
          <p:cNvGrpSpPr/>
          <p:nvPr/>
        </p:nvGrpSpPr>
        <p:grpSpPr>
          <a:xfrm>
            <a:off x="0" y="0"/>
            <a:ext cx="1028880" cy="6858000"/>
            <a:chOff x="0" y="0"/>
            <a:chExt cx="1028880" cy="6858000"/>
          </a:xfrm>
        </p:grpSpPr>
        <p:sp>
          <p:nvSpPr>
            <p:cNvPr id="117" name="任意多边形 7"/>
            <p:cNvSpPr/>
            <p:nvPr/>
          </p:nvSpPr>
          <p:spPr>
            <a:xfrm>
              <a:off x="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8"/>
            <p:cNvSpPr/>
            <p:nvPr/>
          </p:nvSpPr>
          <p:spPr>
            <a:xfrm>
              <a:off x="51444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close/>
                </a:path>
              </a:pathLst>
            </a:custGeom>
            <a:solidFill>
              <a:srgbClr val="da4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5124"/>
          <p:cNvGrpSpPr/>
          <p:nvPr/>
        </p:nvGrpSpPr>
        <p:grpSpPr>
          <a:xfrm>
            <a:off x="901800" y="0"/>
            <a:ext cx="1028520" cy="6858000"/>
            <a:chOff x="901800" y="0"/>
            <a:chExt cx="1028520" cy="6858000"/>
          </a:xfrm>
        </p:grpSpPr>
        <p:sp>
          <p:nvSpPr>
            <p:cNvPr id="120" name="任意多边形 9"/>
            <p:cNvSpPr/>
            <p:nvPr/>
          </p:nvSpPr>
          <p:spPr>
            <a:xfrm>
              <a:off x="901800" y="0"/>
              <a:ext cx="51408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fc6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10"/>
            <p:cNvSpPr/>
            <p:nvPr/>
          </p:nvSpPr>
          <p:spPr>
            <a:xfrm>
              <a:off x="141588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close/>
                </a:path>
              </a:pathLst>
            </a:custGeom>
            <a:solidFill>
              <a:srgbClr val="e95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5127"/>
          <p:cNvGrpSpPr/>
          <p:nvPr/>
        </p:nvGrpSpPr>
        <p:grpSpPr>
          <a:xfrm>
            <a:off x="1803240" y="0"/>
            <a:ext cx="1028880" cy="6858000"/>
            <a:chOff x="1803240" y="0"/>
            <a:chExt cx="1028880" cy="6858000"/>
          </a:xfrm>
        </p:grpSpPr>
        <p:sp>
          <p:nvSpPr>
            <p:cNvPr id="123" name="任意多边形 11"/>
            <p:cNvSpPr/>
            <p:nvPr/>
          </p:nvSpPr>
          <p:spPr>
            <a:xfrm>
              <a:off x="180324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ffce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任意多边形 12"/>
            <p:cNvSpPr/>
            <p:nvPr/>
          </p:nvSpPr>
          <p:spPr>
            <a:xfrm>
              <a:off x="231768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close/>
                </a:path>
              </a:pathLst>
            </a:custGeom>
            <a:solidFill>
              <a:srgbClr val="f6b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5130"/>
          <p:cNvGrpSpPr/>
          <p:nvPr/>
        </p:nvGrpSpPr>
        <p:grpSpPr>
          <a:xfrm>
            <a:off x="2705040" y="0"/>
            <a:ext cx="1028880" cy="6858000"/>
            <a:chOff x="2705040" y="0"/>
            <a:chExt cx="1028880" cy="6858000"/>
          </a:xfrm>
        </p:grpSpPr>
        <p:sp>
          <p:nvSpPr>
            <p:cNvPr id="126" name="任意多边形 13"/>
            <p:cNvSpPr/>
            <p:nvPr/>
          </p:nvSpPr>
          <p:spPr>
            <a:xfrm>
              <a:off x="270504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a0d4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14"/>
            <p:cNvSpPr/>
            <p:nvPr/>
          </p:nvSpPr>
          <p:spPr>
            <a:xfrm>
              <a:off x="321948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close/>
                </a:path>
              </a:pathLst>
            </a:custGeom>
            <a:solidFill>
              <a:srgbClr val="8cc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5133"/>
          <p:cNvGrpSpPr/>
          <p:nvPr/>
        </p:nvGrpSpPr>
        <p:grpSpPr>
          <a:xfrm>
            <a:off x="3606840" y="0"/>
            <a:ext cx="1028520" cy="6858000"/>
            <a:chOff x="3606840" y="0"/>
            <a:chExt cx="1028520" cy="6858000"/>
          </a:xfrm>
        </p:grpSpPr>
        <p:sp>
          <p:nvSpPr>
            <p:cNvPr id="129" name="任意多边形 15"/>
            <p:cNvSpPr/>
            <p:nvPr/>
          </p:nvSpPr>
          <p:spPr>
            <a:xfrm>
              <a:off x="3606840" y="0"/>
              <a:ext cx="51408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48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16"/>
            <p:cNvSpPr/>
            <p:nvPr/>
          </p:nvSpPr>
          <p:spPr>
            <a:xfrm>
              <a:off x="412092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close/>
                </a:path>
              </a:pathLst>
            </a:custGeom>
            <a:solidFill>
              <a:srgbClr val="37b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5136"/>
          <p:cNvGrpSpPr/>
          <p:nvPr/>
        </p:nvGrpSpPr>
        <p:grpSpPr>
          <a:xfrm>
            <a:off x="4508640" y="0"/>
            <a:ext cx="1028520" cy="6858000"/>
            <a:chOff x="4508640" y="0"/>
            <a:chExt cx="1028520" cy="6858000"/>
          </a:xfrm>
        </p:grpSpPr>
        <p:sp>
          <p:nvSpPr>
            <p:cNvPr id="132" name="任意多边形 17"/>
            <p:cNvSpPr/>
            <p:nvPr/>
          </p:nvSpPr>
          <p:spPr>
            <a:xfrm>
              <a:off x="4508640" y="0"/>
              <a:ext cx="51408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4fc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 18"/>
            <p:cNvSpPr/>
            <p:nvPr/>
          </p:nvSpPr>
          <p:spPr>
            <a:xfrm>
              <a:off x="502272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close/>
                </a:path>
              </a:pathLst>
            </a:custGeom>
            <a:solidFill>
              <a:srgbClr val="3ba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5139"/>
          <p:cNvGrpSpPr/>
          <p:nvPr/>
        </p:nvGrpSpPr>
        <p:grpSpPr>
          <a:xfrm>
            <a:off x="5410080" y="0"/>
            <a:ext cx="1028880" cy="6858000"/>
            <a:chOff x="5410080" y="0"/>
            <a:chExt cx="1028880" cy="6858000"/>
          </a:xfrm>
        </p:grpSpPr>
        <p:sp>
          <p:nvSpPr>
            <p:cNvPr id="135" name="任意多边形 19"/>
            <p:cNvSpPr/>
            <p:nvPr/>
          </p:nvSpPr>
          <p:spPr>
            <a:xfrm>
              <a:off x="541008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5d9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20"/>
            <p:cNvSpPr/>
            <p:nvPr/>
          </p:nvSpPr>
          <p:spPr>
            <a:xfrm>
              <a:off x="592452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close/>
                </a:path>
              </a:pathLst>
            </a:custGeom>
            <a:solidFill>
              <a:srgbClr val="4a89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5142"/>
          <p:cNvGrpSpPr/>
          <p:nvPr/>
        </p:nvGrpSpPr>
        <p:grpSpPr>
          <a:xfrm>
            <a:off x="6311880" y="0"/>
            <a:ext cx="1028880" cy="6858000"/>
            <a:chOff x="6311880" y="0"/>
            <a:chExt cx="1028880" cy="6858000"/>
          </a:xfrm>
        </p:grpSpPr>
        <p:sp>
          <p:nvSpPr>
            <p:cNvPr id="138" name="任意多边形 21"/>
            <p:cNvSpPr/>
            <p:nvPr/>
          </p:nvSpPr>
          <p:spPr>
            <a:xfrm>
              <a:off x="631188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ec8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 22"/>
            <p:cNvSpPr/>
            <p:nvPr/>
          </p:nvSpPr>
          <p:spPr>
            <a:xfrm>
              <a:off x="682632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5145"/>
          <p:cNvGrpSpPr/>
          <p:nvPr/>
        </p:nvGrpSpPr>
        <p:grpSpPr>
          <a:xfrm>
            <a:off x="7213680" y="0"/>
            <a:ext cx="1028520" cy="6858000"/>
            <a:chOff x="7213680" y="0"/>
            <a:chExt cx="1028520" cy="6858000"/>
          </a:xfrm>
        </p:grpSpPr>
        <p:sp>
          <p:nvSpPr>
            <p:cNvPr id="141" name="任意多边形 23"/>
            <p:cNvSpPr/>
            <p:nvPr/>
          </p:nvSpPr>
          <p:spPr>
            <a:xfrm>
              <a:off x="7213680" y="0"/>
              <a:ext cx="51408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ccd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24"/>
            <p:cNvSpPr/>
            <p:nvPr/>
          </p:nvSpPr>
          <p:spPr>
            <a:xfrm>
              <a:off x="772776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close/>
                </a:path>
              </a:pathLst>
            </a:custGeom>
            <a:solidFill>
              <a:srgbClr val="aa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5148"/>
          <p:cNvGrpSpPr/>
          <p:nvPr/>
        </p:nvGrpSpPr>
        <p:grpSpPr>
          <a:xfrm>
            <a:off x="8115480" y="0"/>
            <a:ext cx="1028520" cy="6858000"/>
            <a:chOff x="8115480" y="0"/>
            <a:chExt cx="1028520" cy="6858000"/>
          </a:xfrm>
        </p:grpSpPr>
        <p:sp>
          <p:nvSpPr>
            <p:cNvPr id="144" name="任意多边形 25"/>
            <p:cNvSpPr/>
            <p:nvPr/>
          </p:nvSpPr>
          <p:spPr>
            <a:xfrm>
              <a:off x="8115480" y="0"/>
              <a:ext cx="51408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26"/>
            <p:cNvSpPr/>
            <p:nvPr/>
          </p:nvSpPr>
          <p:spPr>
            <a:xfrm>
              <a:off x="862956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close/>
                </a:path>
              </a:pathLst>
            </a:custGeom>
            <a:solidFill>
              <a:srgbClr val="434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圆角矩形 37"/>
          <p:cNvSpPr/>
          <p:nvPr/>
        </p:nvSpPr>
        <p:spPr>
          <a:xfrm>
            <a:off x="2444760" y="2228760"/>
            <a:ext cx="4254480" cy="16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8"/>
          <p:cNvSpPr/>
          <p:nvPr/>
        </p:nvSpPr>
        <p:spPr>
          <a:xfrm>
            <a:off x="3452760" y="23432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华康俪金黑W8(P)"/>
                <a:ea typeface="华康俪金黑W8(P)"/>
              </a:rPr>
              <a:t>多彩的世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39"/>
          <p:cNvSpPr/>
          <p:nvPr/>
        </p:nvSpPr>
        <p:spPr>
          <a:xfrm>
            <a:off x="4367160" y="3273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福利模板系列第一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/>
            <a:ahLst/>
            <a:rect l="l" t="t" r="r" b="b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close/>
              </a:path>
            </a:pathLst>
          </a:custGeom>
          <a:solidFill>
            <a:srgbClr val="da4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/>
            <a:ahLst/>
            <a:rect l="l" t="t" r="r" b="b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0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3"/>
          <p:cNvSpPr/>
          <p:nvPr/>
        </p:nvSpPr>
        <p:spPr>
          <a:xfrm>
            <a:off x="1044720" y="107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红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草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6152"/>
          <p:cNvGrpSpPr/>
          <p:nvPr/>
        </p:nvGrpSpPr>
        <p:grpSpPr>
          <a:xfrm>
            <a:off x="6746760" y="195120"/>
            <a:ext cx="1337760" cy="1477800"/>
            <a:chOff x="6746760" y="195120"/>
            <a:chExt cx="1337760" cy="1477800"/>
          </a:xfrm>
        </p:grpSpPr>
        <p:grpSp>
          <p:nvGrpSpPr>
            <p:cNvPr id="157" name="组合 6153"/>
            <p:cNvGrpSpPr/>
            <p:nvPr/>
          </p:nvGrpSpPr>
          <p:grpSpPr>
            <a:xfrm>
              <a:off x="6746760" y="195120"/>
              <a:ext cx="975240" cy="718200"/>
              <a:chOff x="6746760" y="195120"/>
              <a:chExt cx="975240" cy="718200"/>
            </a:xfrm>
          </p:grpSpPr>
          <p:sp>
            <p:nvSpPr>
              <p:cNvPr id="158" name="等腰三角形 37"/>
              <p:cNvSpPr/>
              <p:nvPr/>
            </p:nvSpPr>
            <p:spPr>
              <a:xfrm rot="17439600">
                <a:off x="6863040" y="450720"/>
                <a:ext cx="313920" cy="466200"/>
              </a:xfrm>
              <a:prstGeom prst="triangle">
                <a:avLst>
                  <a:gd name="adj" fmla="val 50000"/>
                </a:avLst>
              </a:prstGeom>
              <a:solidFill>
                <a:srgbClr val="8cc1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等腰三角形 38"/>
              <p:cNvSpPr/>
              <p:nvPr/>
            </p:nvSpPr>
            <p:spPr>
              <a:xfrm rot="20124600">
                <a:off x="7080840" y="305640"/>
                <a:ext cx="313920" cy="466200"/>
              </a:xfrm>
              <a:prstGeom prst="triangle">
                <a:avLst>
                  <a:gd name="adj" fmla="val 50000"/>
                </a:avLst>
              </a:prstGeom>
              <a:solidFill>
                <a:srgbClr val="8cc1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等腰三角形 39"/>
              <p:cNvSpPr/>
              <p:nvPr/>
            </p:nvSpPr>
            <p:spPr>
              <a:xfrm rot="706800">
                <a:off x="7363440" y="222120"/>
                <a:ext cx="313920" cy="466200"/>
              </a:xfrm>
              <a:prstGeom prst="triangle">
                <a:avLst>
                  <a:gd name="adj" fmla="val 50000"/>
                </a:avLst>
              </a:prstGeom>
              <a:solidFill>
                <a:srgbClr val="8cc1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泪滴形 22"/>
            <p:cNvSpPr/>
            <p:nvPr/>
          </p:nvSpPr>
          <p:spPr>
            <a:xfrm rot="6108000">
              <a:off x="7045200" y="633600"/>
              <a:ext cx="951480" cy="952200"/>
            </a:xfrm>
            <a:custGeom>
              <a:avLst/>
              <a:gdLst/>
              <a:ahLst/>
              <a:rect l="l" t="t" r="r" b="b"/>
              <a:pathLst>
                <a:path w="1657350" h="1657350">
                  <a:moveTo>
                    <a:pt x="0" y="828675"/>
                  </a:moveTo>
                  <a:cubicBezTo>
                    <a:pt x="0" y="371010"/>
                    <a:pt x="371010" y="0"/>
                    <a:pt x="828675" y="0"/>
                  </a:cubicBezTo>
                  <a:cubicBezTo>
                    <a:pt x="1124163" y="0"/>
                    <a:pt x="1419652" y="-19263"/>
                    <a:pt x="1715141" y="-57791"/>
                  </a:cubicBezTo>
                  <a:cubicBezTo>
                    <a:pt x="1676613" y="237697"/>
                    <a:pt x="1657350" y="533185"/>
                    <a:pt x="1657350" y="828675"/>
                  </a:cubicBezTo>
                  <a:cubicBezTo>
                    <a:pt x="1657350" y="1286340"/>
                    <a:pt x="1286340" y="1657350"/>
                    <a:pt x="828675" y="1657350"/>
                  </a:cubicBezTo>
                  <a:cubicBezTo>
                    <a:pt x="371010" y="1657350"/>
                    <a:pt x="0" y="1286340"/>
                    <a:pt x="0" y="828675"/>
                  </a:cubicBezTo>
                  <a:close/>
                </a:path>
              </a:pathLst>
            </a:custGeom>
            <a:solidFill>
              <a:srgbClr val="da4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24"/>
            <p:cNvSpPr/>
            <p:nvPr/>
          </p:nvSpPr>
          <p:spPr>
            <a:xfrm>
              <a:off x="7313400" y="1355040"/>
              <a:ext cx="76320" cy="7632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26"/>
            <p:cNvSpPr/>
            <p:nvPr/>
          </p:nvSpPr>
          <p:spPr>
            <a:xfrm>
              <a:off x="7620120" y="978840"/>
              <a:ext cx="76320" cy="7632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27"/>
            <p:cNvSpPr/>
            <p:nvPr/>
          </p:nvSpPr>
          <p:spPr>
            <a:xfrm>
              <a:off x="7565400" y="1215360"/>
              <a:ext cx="76320" cy="7632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28"/>
            <p:cNvSpPr/>
            <p:nvPr/>
          </p:nvSpPr>
          <p:spPr>
            <a:xfrm>
              <a:off x="7315200" y="1172880"/>
              <a:ext cx="76320" cy="7632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29"/>
            <p:cNvSpPr/>
            <p:nvPr/>
          </p:nvSpPr>
          <p:spPr>
            <a:xfrm>
              <a:off x="7286040" y="757800"/>
              <a:ext cx="76320" cy="7632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30"/>
            <p:cNvSpPr/>
            <p:nvPr/>
          </p:nvSpPr>
          <p:spPr>
            <a:xfrm>
              <a:off x="7359480" y="960120"/>
              <a:ext cx="76320" cy="7632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椭圆 31"/>
            <p:cNvSpPr/>
            <p:nvPr/>
          </p:nvSpPr>
          <p:spPr>
            <a:xfrm>
              <a:off x="7585560" y="757800"/>
              <a:ext cx="76320" cy="7632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32"/>
            <p:cNvSpPr/>
            <p:nvPr/>
          </p:nvSpPr>
          <p:spPr>
            <a:xfrm>
              <a:off x="7136640" y="955440"/>
              <a:ext cx="76320" cy="7632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33"/>
            <p:cNvSpPr/>
            <p:nvPr/>
          </p:nvSpPr>
          <p:spPr>
            <a:xfrm>
              <a:off x="7572960" y="1440720"/>
              <a:ext cx="76320" cy="7632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34"/>
            <p:cNvSpPr/>
            <p:nvPr/>
          </p:nvSpPr>
          <p:spPr>
            <a:xfrm>
              <a:off x="7812720" y="1289520"/>
              <a:ext cx="76320" cy="7632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35"/>
            <p:cNvSpPr/>
            <p:nvPr/>
          </p:nvSpPr>
          <p:spPr>
            <a:xfrm>
              <a:off x="7815600" y="1036800"/>
              <a:ext cx="76320" cy="7632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 36"/>
            <p:cNvSpPr/>
            <p:nvPr/>
          </p:nvSpPr>
          <p:spPr>
            <a:xfrm>
              <a:off x="7103160" y="1170360"/>
              <a:ext cx="76320" cy="7632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/>
            <a:ahLst/>
            <a:rect l="l" t="t" r="r" b="b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fc6e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close/>
              </a:path>
            </a:pathLst>
          </a:custGeom>
          <a:solidFill>
            <a:srgbClr val="e957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/>
            <a:ahLst/>
            <a:rect l="l" t="t" r="r" b="b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7"/>
          <p:cNvSpPr/>
          <p:nvPr/>
        </p:nvSpPr>
        <p:spPr>
          <a:xfrm>
            <a:off x="1044720" y="107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橘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橘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组合 7176"/>
          <p:cNvGrpSpPr/>
          <p:nvPr/>
        </p:nvGrpSpPr>
        <p:grpSpPr>
          <a:xfrm>
            <a:off x="6583680" y="58320"/>
            <a:ext cx="1806120" cy="1805760"/>
            <a:chOff x="6583680" y="58320"/>
            <a:chExt cx="1806120" cy="1805760"/>
          </a:xfrm>
        </p:grpSpPr>
        <p:sp>
          <p:nvSpPr>
            <p:cNvPr id="182" name="椭圆 8"/>
            <p:cNvSpPr/>
            <p:nvPr/>
          </p:nvSpPr>
          <p:spPr>
            <a:xfrm>
              <a:off x="6778800" y="260280"/>
              <a:ext cx="1468440" cy="1468440"/>
            </a:xfrm>
            <a:prstGeom prst="ellipse">
              <a:avLst/>
            </a:prstGeom>
            <a:solidFill>
              <a:srgbClr val="e95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组合 7178"/>
            <p:cNvGrpSpPr/>
            <p:nvPr/>
          </p:nvGrpSpPr>
          <p:grpSpPr>
            <a:xfrm>
              <a:off x="6583680" y="58320"/>
              <a:ext cx="1806120" cy="1805760"/>
              <a:chOff x="6583680" y="58320"/>
              <a:chExt cx="1806120" cy="1805760"/>
            </a:xfrm>
          </p:grpSpPr>
          <p:sp>
            <p:nvSpPr>
              <p:cNvPr id="184" name="饼形 11"/>
              <p:cNvSpPr/>
              <p:nvPr/>
            </p:nvSpPr>
            <p:spPr>
              <a:xfrm rot="19200600">
                <a:off x="6845400" y="320040"/>
                <a:ext cx="1281960" cy="1281960"/>
              </a:xfrm>
              <a:custGeom>
                <a:avLst/>
                <a:gdLst/>
                <a:ahLst/>
                <a:rect l="l" t="t" r="r" b="b"/>
                <a:pathLst>
                  <a:path w="2441135" h="2441135">
                    <a:moveTo>
                      <a:pt x="493889" y="239891"/>
                    </a:moveTo>
                    <a:cubicBezTo>
                      <a:pt x="696863" y="89142"/>
                      <a:pt x="948304" y="-1"/>
                      <a:pt x="1220566" y="-1"/>
                    </a:cubicBezTo>
                    <a:lnTo>
                      <a:pt x="1220567" y="1220567"/>
                    </a:lnTo>
                    <a:close/>
                  </a:path>
                </a:pathLst>
              </a:custGeom>
              <a:solidFill>
                <a:srgbClr val="feb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饼形 13"/>
              <p:cNvSpPr/>
              <p:nvPr/>
            </p:nvSpPr>
            <p:spPr>
              <a:xfrm rot="13931400">
                <a:off x="6845400" y="320040"/>
                <a:ext cx="1281960" cy="1281960"/>
              </a:xfrm>
              <a:custGeom>
                <a:avLst/>
                <a:gdLst/>
                <a:ahLst/>
                <a:rect l="l" t="t" r="r" b="b"/>
                <a:pathLst>
                  <a:path w="2441135" h="2441135">
                    <a:moveTo>
                      <a:pt x="493889" y="239891"/>
                    </a:moveTo>
                    <a:cubicBezTo>
                      <a:pt x="696863" y="89142"/>
                      <a:pt x="948304" y="-1"/>
                      <a:pt x="1220566" y="-1"/>
                    </a:cubicBezTo>
                    <a:lnTo>
                      <a:pt x="1220567" y="1220567"/>
                    </a:lnTo>
                    <a:close/>
                  </a:path>
                </a:pathLst>
              </a:custGeom>
              <a:solidFill>
                <a:srgbClr val="feb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饼形 17"/>
              <p:cNvSpPr/>
              <p:nvPr/>
            </p:nvSpPr>
            <p:spPr>
              <a:xfrm rot="8811000">
                <a:off x="6833160" y="304200"/>
                <a:ext cx="1281960" cy="1281960"/>
              </a:xfrm>
              <a:custGeom>
                <a:avLst/>
                <a:gdLst/>
                <a:ahLst/>
                <a:rect l="l" t="t" r="r" b="b"/>
                <a:pathLst>
                  <a:path w="2441135" h="2441135">
                    <a:moveTo>
                      <a:pt x="493889" y="239891"/>
                    </a:moveTo>
                    <a:cubicBezTo>
                      <a:pt x="696863" y="89142"/>
                      <a:pt x="948304" y="-1"/>
                      <a:pt x="1220566" y="-1"/>
                    </a:cubicBezTo>
                    <a:lnTo>
                      <a:pt x="1220567" y="1220567"/>
                    </a:lnTo>
                    <a:close/>
                  </a:path>
                </a:pathLst>
              </a:custGeom>
              <a:solidFill>
                <a:srgbClr val="feb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饼形 19"/>
              <p:cNvSpPr/>
              <p:nvPr/>
            </p:nvSpPr>
            <p:spPr>
              <a:xfrm rot="3676800">
                <a:off x="6845400" y="320400"/>
                <a:ext cx="1281960" cy="1281960"/>
              </a:xfrm>
              <a:custGeom>
                <a:avLst/>
                <a:gdLst/>
                <a:ahLst/>
                <a:rect l="l" t="t" r="r" b="b"/>
                <a:pathLst>
                  <a:path w="2441135" h="2441135">
                    <a:moveTo>
                      <a:pt x="574338" y="185109"/>
                    </a:moveTo>
                    <a:cubicBezTo>
                      <a:pt x="761653" y="67759"/>
                      <a:pt x="983197" y="0"/>
                      <a:pt x="1220567" y="0"/>
                    </a:cubicBezTo>
                    <a:lnTo>
                      <a:pt x="1220567" y="1220567"/>
                    </a:lnTo>
                    <a:close/>
                  </a:path>
                </a:pathLst>
              </a:custGeom>
              <a:solidFill>
                <a:srgbClr val="feb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饼形 3"/>
              <p:cNvSpPr/>
              <p:nvPr/>
            </p:nvSpPr>
            <p:spPr>
              <a:xfrm>
                <a:off x="6845760" y="320400"/>
                <a:ext cx="1281960" cy="1281960"/>
              </a:xfrm>
              <a:custGeom>
                <a:avLst/>
                <a:gdLst/>
                <a:ahLst/>
                <a:rect l="l" t="t" r="r" b="b"/>
                <a:pathLst>
                  <a:path w="2441135" h="2441135">
                    <a:moveTo>
                      <a:pt x="493889" y="239891"/>
                    </a:moveTo>
                    <a:cubicBezTo>
                      <a:pt x="663316" y="114041"/>
                      <a:pt x="866532" y="31139"/>
                      <a:pt x="1087067" y="7216"/>
                    </a:cubicBezTo>
                    <a:lnTo>
                      <a:pt x="1220567" y="1220567"/>
                    </a:lnTo>
                    <a:close/>
                  </a:path>
                </a:pathLst>
              </a:custGeom>
              <a:solidFill>
                <a:srgbClr val="feb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饼形 12"/>
              <p:cNvSpPr/>
              <p:nvPr/>
            </p:nvSpPr>
            <p:spPr>
              <a:xfrm rot="16699800">
                <a:off x="6845760" y="319680"/>
                <a:ext cx="1281960" cy="1281960"/>
              </a:xfrm>
              <a:custGeom>
                <a:avLst/>
                <a:gdLst/>
                <a:ahLst/>
                <a:rect l="l" t="t" r="r" b="b"/>
                <a:pathLst>
                  <a:path w="2441135" h="2441135">
                    <a:moveTo>
                      <a:pt x="493889" y="239891"/>
                    </a:moveTo>
                    <a:cubicBezTo>
                      <a:pt x="696863" y="89142"/>
                      <a:pt x="948304" y="-1"/>
                      <a:pt x="1220566" y="-1"/>
                    </a:cubicBezTo>
                    <a:lnTo>
                      <a:pt x="1220567" y="1220567"/>
                    </a:lnTo>
                    <a:close/>
                  </a:path>
                </a:pathLst>
              </a:custGeom>
              <a:solidFill>
                <a:srgbClr val="feb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饼形 15"/>
              <p:cNvSpPr/>
              <p:nvPr/>
            </p:nvSpPr>
            <p:spPr>
              <a:xfrm rot="11332200">
                <a:off x="6845040" y="319680"/>
                <a:ext cx="1281960" cy="1281960"/>
              </a:xfrm>
              <a:custGeom>
                <a:avLst/>
                <a:gdLst/>
                <a:ahLst/>
                <a:rect l="l" t="t" r="r" b="b"/>
                <a:pathLst>
                  <a:path w="2441135" h="2441135">
                    <a:moveTo>
                      <a:pt x="493889" y="239891"/>
                    </a:moveTo>
                    <a:cubicBezTo>
                      <a:pt x="696863" y="89142"/>
                      <a:pt x="948304" y="-1"/>
                      <a:pt x="1220566" y="-1"/>
                    </a:cubicBezTo>
                    <a:lnTo>
                      <a:pt x="1220567" y="1220567"/>
                    </a:lnTo>
                    <a:close/>
                  </a:path>
                </a:pathLst>
              </a:custGeom>
              <a:solidFill>
                <a:srgbClr val="feb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饼形 18"/>
              <p:cNvSpPr/>
              <p:nvPr/>
            </p:nvSpPr>
            <p:spPr>
              <a:xfrm rot="6074400">
                <a:off x="6845400" y="320040"/>
                <a:ext cx="1281960" cy="1281960"/>
              </a:xfrm>
              <a:custGeom>
                <a:avLst/>
                <a:gdLst/>
                <a:ahLst/>
                <a:rect l="l" t="t" r="r" b="b"/>
                <a:pathLst>
                  <a:path w="2441135" h="2441135">
                    <a:moveTo>
                      <a:pt x="493889" y="239891"/>
                    </a:moveTo>
                    <a:cubicBezTo>
                      <a:pt x="696863" y="89142"/>
                      <a:pt x="948304" y="-1"/>
                      <a:pt x="1220566" y="-1"/>
                    </a:cubicBezTo>
                    <a:lnTo>
                      <a:pt x="1220567" y="1220567"/>
                    </a:lnTo>
                    <a:close/>
                  </a:path>
                </a:pathLst>
              </a:custGeom>
              <a:solidFill>
                <a:srgbClr val="feb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饼形 20"/>
              <p:cNvSpPr/>
              <p:nvPr/>
            </p:nvSpPr>
            <p:spPr>
              <a:xfrm rot="1465800">
                <a:off x="6845760" y="320040"/>
                <a:ext cx="1281960" cy="1281960"/>
              </a:xfrm>
              <a:custGeom>
                <a:avLst/>
                <a:gdLst/>
                <a:ahLst/>
                <a:rect l="l" t="t" r="r" b="b"/>
                <a:pathLst>
                  <a:path w="2441135" h="2441136">
                    <a:moveTo>
                      <a:pt x="667115" y="132690"/>
                    </a:moveTo>
                    <a:cubicBezTo>
                      <a:pt x="833090" y="47774"/>
                      <a:pt x="1021249" y="-1"/>
                      <a:pt x="1220566" y="-1"/>
                    </a:cubicBezTo>
                    <a:lnTo>
                      <a:pt x="1220567" y="1220568"/>
                    </a:lnTo>
                    <a:close/>
                  </a:path>
                </a:pathLst>
              </a:custGeom>
              <a:solidFill>
                <a:srgbClr val="feb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文本框 7188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/>
            <a:ahLst/>
            <a:rect l="l" t="t" r="r" b="b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ffce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close/>
              </a:path>
            </a:pathLst>
          </a:custGeom>
          <a:solidFill>
            <a:srgbClr val="f6b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/>
            <a:ahLst/>
            <a:rect l="l" t="t" r="r" b="b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8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9"/>
          <p:cNvSpPr/>
          <p:nvPr/>
        </p:nvSpPr>
        <p:spPr>
          <a:xfrm>
            <a:off x="1044720" y="107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黄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香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8200"/>
          <p:cNvGrpSpPr/>
          <p:nvPr/>
        </p:nvGrpSpPr>
        <p:grpSpPr>
          <a:xfrm>
            <a:off x="6087960" y="267480"/>
            <a:ext cx="2248200" cy="1899720"/>
            <a:chOff x="6087960" y="267480"/>
            <a:chExt cx="2248200" cy="1899720"/>
          </a:xfrm>
        </p:grpSpPr>
        <p:grpSp>
          <p:nvGrpSpPr>
            <p:cNvPr id="202" name="组合 8201"/>
            <p:cNvGrpSpPr/>
            <p:nvPr/>
          </p:nvGrpSpPr>
          <p:grpSpPr>
            <a:xfrm>
              <a:off x="6087960" y="324720"/>
              <a:ext cx="2248200" cy="1842480"/>
              <a:chOff x="6087960" y="324720"/>
              <a:chExt cx="2248200" cy="1842480"/>
            </a:xfrm>
          </p:grpSpPr>
          <p:sp>
            <p:nvSpPr>
              <p:cNvPr id="203" name="新月形 1"/>
              <p:cNvSpPr/>
              <p:nvPr/>
            </p:nvSpPr>
            <p:spPr>
              <a:xfrm rot="18068400">
                <a:off x="6706800" y="412560"/>
                <a:ext cx="768240" cy="1879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e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新月形 11"/>
              <p:cNvSpPr/>
              <p:nvPr/>
            </p:nvSpPr>
            <p:spPr>
              <a:xfrm rot="18068400">
                <a:off x="6813720" y="253080"/>
                <a:ext cx="817200" cy="1998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6b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新月形 12"/>
              <p:cNvSpPr/>
              <p:nvPr/>
            </p:nvSpPr>
            <p:spPr>
              <a:xfrm rot="18068400">
                <a:off x="6854040" y="191160"/>
                <a:ext cx="820800" cy="20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e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组合 8205"/>
            <p:cNvGrpSpPr/>
            <p:nvPr/>
          </p:nvGrpSpPr>
          <p:grpSpPr>
            <a:xfrm>
              <a:off x="6243120" y="267480"/>
              <a:ext cx="637920" cy="329760"/>
              <a:chOff x="6243120" y="267480"/>
              <a:chExt cx="637920" cy="329760"/>
            </a:xfrm>
          </p:grpSpPr>
          <p:sp>
            <p:nvSpPr>
              <p:cNvPr id="207" name="矩形 4"/>
              <p:cNvSpPr/>
              <p:nvPr/>
            </p:nvSpPr>
            <p:spPr>
              <a:xfrm rot="20616600">
                <a:off x="6256440" y="343440"/>
                <a:ext cx="566640" cy="177120"/>
              </a:xfrm>
              <a:prstGeom prst="rect">
                <a:avLst/>
              </a:prstGeom>
              <a:solidFill>
                <a:srgbClr val="f6b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矩形 17"/>
              <p:cNvSpPr/>
              <p:nvPr/>
            </p:nvSpPr>
            <p:spPr>
              <a:xfrm rot="20616600">
                <a:off x="6305040" y="346680"/>
                <a:ext cx="563400" cy="168840"/>
              </a:xfrm>
              <a:prstGeom prst="rect">
                <a:avLst/>
              </a:prstGeom>
              <a:solidFill>
                <a:srgbClr val="ffce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/>
            <a:ahLst/>
            <a:rect l="l" t="t" r="r" b="b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a0d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close/>
              </a:path>
            </a:pathLst>
          </a:custGeom>
          <a:solidFill>
            <a:srgbClr val="8cc1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/>
            <a:ahLst/>
            <a:rect l="l" t="t" r="r" b="b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7"/>
          <p:cNvSpPr/>
          <p:nvPr/>
        </p:nvSpPr>
        <p:spPr>
          <a:xfrm>
            <a:off x="1091160" y="10764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青涩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青苹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流程图: 联系 2"/>
          <p:cNvSpPr/>
          <p:nvPr/>
        </p:nvSpPr>
        <p:spPr>
          <a:xfrm>
            <a:off x="6792840" y="558720"/>
            <a:ext cx="1206720" cy="1149480"/>
          </a:xfrm>
          <a:prstGeom prst="flowChartConnector">
            <a:avLst/>
          </a:prstGeom>
          <a:solidFill>
            <a:srgbClr val="8cc1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流程图: 联系 12"/>
          <p:cNvSpPr/>
          <p:nvPr/>
        </p:nvSpPr>
        <p:spPr>
          <a:xfrm>
            <a:off x="6805440" y="563400"/>
            <a:ext cx="1138320" cy="1084320"/>
          </a:xfrm>
          <a:prstGeom prst="flowChartConnector">
            <a:avLst/>
          </a:prstGeom>
          <a:solidFill>
            <a:srgbClr val="a0d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弧形 3"/>
          <p:cNvSpPr/>
          <p:nvPr/>
        </p:nvSpPr>
        <p:spPr>
          <a:xfrm rot="4270200">
            <a:off x="6686640" y="591840"/>
            <a:ext cx="419040" cy="517680"/>
          </a:xfrm>
          <a:custGeom>
            <a:avLst/>
            <a:gdLst/>
            <a:ahLst/>
            <a:rect l="l" t="t" r="r" b="b"/>
            <a:pathLst>
              <a:path stroke="0" w="660" h="815">
                <a:moveTo>
                  <a:pt x="329" y="0"/>
                </a:moveTo>
                <a:cubicBezTo>
                  <a:pt x="511" y="0"/>
                  <a:pt x="659" y="182"/>
                  <a:pt x="659" y="407"/>
                </a:cubicBezTo>
                <a:lnTo>
                  <a:pt x="330" y="407"/>
                </a:lnTo>
                <a:close/>
              </a:path>
              <a:path fill="none" w="660" h="815">
                <a:moveTo>
                  <a:pt x="329" y="0"/>
                </a:moveTo>
                <a:cubicBezTo>
                  <a:pt x="511" y="0"/>
                  <a:pt x="659" y="182"/>
                  <a:pt x="659" y="407"/>
                </a:cubicBezTo>
              </a:path>
            </a:pathLst>
          </a:custGeom>
          <a:noFill/>
          <a:ln w="28440">
            <a:solidFill>
              <a:srgbClr val="3856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弧形 15"/>
          <p:cNvSpPr/>
          <p:nvPr/>
        </p:nvSpPr>
        <p:spPr>
          <a:xfrm flipH="1" rot="17151600">
            <a:off x="6770520" y="265320"/>
            <a:ext cx="523800" cy="777600"/>
          </a:xfrm>
          <a:custGeom>
            <a:avLst/>
            <a:gdLst/>
            <a:ahLst/>
            <a:rect l="l" t="t" r="r" b="b"/>
            <a:pathLst>
              <a:path stroke="0" w="829" h="1227">
                <a:moveTo>
                  <a:pt x="320" y="15"/>
                </a:moveTo>
                <a:cubicBezTo>
                  <a:pt x="350" y="4"/>
                  <a:pt x="381" y="-1"/>
                  <a:pt x="413" y="-1"/>
                </a:cubicBezTo>
                <a:cubicBezTo>
                  <a:pt x="642" y="-1"/>
                  <a:pt x="827" y="273"/>
                  <a:pt x="827" y="612"/>
                </a:cubicBezTo>
                <a:cubicBezTo>
                  <a:pt x="827" y="694"/>
                  <a:pt x="816" y="771"/>
                  <a:pt x="797" y="843"/>
                </a:cubicBezTo>
                <a:lnTo>
                  <a:pt x="414" y="613"/>
                </a:lnTo>
                <a:close/>
              </a:path>
              <a:path fill="none" w="829" h="1227">
                <a:moveTo>
                  <a:pt x="320" y="15"/>
                </a:moveTo>
                <a:cubicBezTo>
                  <a:pt x="350" y="4"/>
                  <a:pt x="381" y="-1"/>
                  <a:pt x="413" y="-1"/>
                </a:cubicBezTo>
                <a:cubicBezTo>
                  <a:pt x="642" y="-1"/>
                  <a:pt x="827" y="273"/>
                  <a:pt x="827" y="612"/>
                </a:cubicBezTo>
                <a:cubicBezTo>
                  <a:pt x="827" y="694"/>
                  <a:pt x="816" y="771"/>
                  <a:pt x="797" y="843"/>
                </a:cubicBezTo>
              </a:path>
            </a:pathLst>
          </a:custGeom>
          <a:noFill/>
          <a:ln w="28440">
            <a:solidFill>
              <a:srgbClr val="3856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19"/>
          <p:cNvSpPr/>
          <p:nvPr/>
        </p:nvSpPr>
        <p:spPr>
          <a:xfrm rot="4792200">
            <a:off x="6316200" y="633240"/>
            <a:ext cx="266400" cy="546120"/>
          </a:xfrm>
          <a:custGeom>
            <a:avLst/>
            <a:gdLst/>
            <a:ahLst/>
            <a:rect l="l" t="t" r="r" b="b"/>
            <a:pathLst>
              <a:path w="517983" h="1050925">
                <a:moveTo>
                  <a:pt x="91852" y="0"/>
                </a:moveTo>
                <a:cubicBezTo>
                  <a:pt x="327198" y="0"/>
                  <a:pt x="517983" y="296141"/>
                  <a:pt x="517983" y="661449"/>
                </a:cubicBezTo>
                <a:cubicBezTo>
                  <a:pt x="517983" y="798440"/>
                  <a:pt x="491154" y="925703"/>
                  <a:pt x="445207" y="1031271"/>
                </a:cubicBezTo>
                <a:lnTo>
                  <a:pt x="435543" y="1049452"/>
                </a:lnTo>
                <a:lnTo>
                  <a:pt x="426131" y="1050925"/>
                </a:lnTo>
                <a:cubicBezTo>
                  <a:pt x="190785" y="1050925"/>
                  <a:pt x="0" y="754784"/>
                  <a:pt x="0" y="389476"/>
                </a:cubicBezTo>
                <a:cubicBezTo>
                  <a:pt x="0" y="252486"/>
                  <a:pt x="26829" y="125222"/>
                  <a:pt x="72777" y="19654"/>
                </a:cubicBezTo>
                <a:lnTo>
                  <a:pt x="82441" y="1473"/>
                </a:lnTo>
                <a:close/>
              </a:path>
            </a:pathLst>
          </a:custGeom>
          <a:solidFill>
            <a:srgbClr val="548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/>
            <a:ahLst/>
            <a:rect l="l" t="t" r="r" b="b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48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close/>
              </a:path>
            </a:pathLst>
          </a:custGeom>
          <a:solidFill>
            <a:srgbClr val="37bc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/>
            <a:ahLst/>
            <a:rect l="l" t="t" r="r" b="b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7"/>
          <p:cNvSpPr/>
          <p:nvPr/>
        </p:nvSpPr>
        <p:spPr>
          <a:xfrm>
            <a:off x="1091160" y="10764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青绿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薄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10248"/>
          <p:cNvGrpSpPr/>
          <p:nvPr/>
        </p:nvGrpSpPr>
        <p:grpSpPr>
          <a:xfrm>
            <a:off x="6690240" y="439920"/>
            <a:ext cx="1566000" cy="1312920"/>
            <a:chOff x="6690240" y="439920"/>
            <a:chExt cx="1566000" cy="1312920"/>
          </a:xfrm>
        </p:grpSpPr>
        <p:sp>
          <p:nvSpPr>
            <p:cNvPr id="229" name="任意多边形 38"/>
            <p:cNvSpPr/>
            <p:nvPr/>
          </p:nvSpPr>
          <p:spPr>
            <a:xfrm rot="18436800">
              <a:off x="6860160" y="622800"/>
              <a:ext cx="485280" cy="668160"/>
            </a:xfrm>
            <a:custGeom>
              <a:avLst/>
              <a:gdLst/>
              <a:ahLst/>
              <a:rect l="l" t="t" r="r" b="b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close/>
                </a:path>
              </a:pathLst>
            </a:custGeom>
            <a:solidFill>
              <a:srgbClr val="48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32"/>
            <p:cNvSpPr/>
            <p:nvPr/>
          </p:nvSpPr>
          <p:spPr>
            <a:xfrm rot="4792200">
              <a:off x="7630560" y="506160"/>
              <a:ext cx="494280" cy="680760"/>
            </a:xfrm>
            <a:custGeom>
              <a:avLst/>
              <a:gdLst/>
              <a:ahLst/>
              <a:rect l="l" t="t" r="r" b="b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close/>
                </a:path>
              </a:pathLst>
            </a:custGeom>
            <a:solidFill>
              <a:srgbClr val="48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任意多边形 33"/>
            <p:cNvSpPr/>
            <p:nvPr/>
          </p:nvSpPr>
          <p:spPr>
            <a:xfrm rot="21436200">
              <a:off x="7186680" y="450360"/>
              <a:ext cx="469080" cy="646200"/>
            </a:xfrm>
            <a:custGeom>
              <a:avLst/>
              <a:gdLst/>
              <a:ahLst/>
              <a:rect l="l" t="t" r="r" b="b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close/>
                </a:path>
              </a:pathLst>
            </a:custGeom>
            <a:solidFill>
              <a:srgbClr val="37b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任意多边形 34"/>
            <p:cNvSpPr/>
            <p:nvPr/>
          </p:nvSpPr>
          <p:spPr>
            <a:xfrm rot="15546000">
              <a:off x="7108920" y="973440"/>
              <a:ext cx="441720" cy="608400"/>
            </a:xfrm>
            <a:custGeom>
              <a:avLst/>
              <a:gdLst/>
              <a:ahLst/>
              <a:rect l="l" t="t" r="r" b="b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close/>
                </a:path>
              </a:pathLst>
            </a:custGeom>
            <a:solidFill>
              <a:srgbClr val="37b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任意多边形 35"/>
            <p:cNvSpPr/>
            <p:nvPr/>
          </p:nvSpPr>
          <p:spPr>
            <a:xfrm rot="10017600">
              <a:off x="7588800" y="1010520"/>
              <a:ext cx="503640" cy="694080"/>
            </a:xfrm>
            <a:custGeom>
              <a:avLst/>
              <a:gdLst/>
              <a:ahLst/>
              <a:rect l="l" t="t" r="r" b="b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close/>
                </a:path>
              </a:pathLst>
            </a:custGeom>
            <a:solidFill>
              <a:srgbClr val="37b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任意多边形 36"/>
            <p:cNvSpPr/>
            <p:nvPr/>
          </p:nvSpPr>
          <p:spPr>
            <a:xfrm rot="10017600">
              <a:off x="7554960" y="1010160"/>
              <a:ext cx="308520" cy="425160"/>
            </a:xfrm>
            <a:custGeom>
              <a:avLst/>
              <a:gdLst/>
              <a:ahLst/>
              <a:rect l="l" t="t" r="r" b="b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close/>
                </a:path>
              </a:pathLst>
            </a:custGeom>
            <a:solidFill>
              <a:srgbClr val="48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任意多边形 37"/>
            <p:cNvSpPr/>
            <p:nvPr/>
          </p:nvSpPr>
          <p:spPr>
            <a:xfrm rot="4792200">
              <a:off x="7582680" y="682920"/>
              <a:ext cx="295560" cy="407160"/>
            </a:xfrm>
            <a:custGeom>
              <a:avLst/>
              <a:gdLst/>
              <a:ahLst/>
              <a:rect l="l" t="t" r="r" b="b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close/>
                </a:path>
              </a:pathLst>
            </a:custGeom>
            <a:solidFill>
              <a:srgbClr val="37b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/>
            <a:ahLst/>
            <a:rect l="l" t="t" r="r" b="b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4f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close/>
              </a:path>
            </a:pathLst>
          </a:custGeom>
          <a:solidFill>
            <a:srgbClr val="3ba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/>
            <a:ahLst/>
            <a:rect l="l" t="t" r="r" b="b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7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8"/>
          <p:cNvSpPr/>
          <p:nvPr/>
        </p:nvSpPr>
        <p:spPr>
          <a:xfrm>
            <a:off x="1091160" y="10764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水绿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河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11272"/>
          <p:cNvGrpSpPr/>
          <p:nvPr/>
        </p:nvGrpSpPr>
        <p:grpSpPr>
          <a:xfrm>
            <a:off x="5355360" y="817920"/>
            <a:ext cx="3215880" cy="886320"/>
            <a:chOff x="5355360" y="817920"/>
            <a:chExt cx="3215880" cy="886320"/>
          </a:xfrm>
        </p:grpSpPr>
        <p:sp>
          <p:nvSpPr>
            <p:cNvPr id="244" name="任意多边形 32"/>
            <p:cNvSpPr/>
            <p:nvPr/>
          </p:nvSpPr>
          <p:spPr>
            <a:xfrm rot="5376600">
              <a:off x="6948000" y="-565560"/>
              <a:ext cx="228240" cy="3016800"/>
            </a:xfrm>
            <a:custGeom>
              <a:avLst/>
              <a:gdLst/>
              <a:ahLst/>
              <a:rect l="l" t="t" r="r" b="b"/>
              <a:pathLst>
                <a:path w="1160132" h="4176215">
                  <a:moveTo>
                    <a:pt x="1160073" y="0"/>
                  </a:moveTo>
                  <a:cubicBezTo>
                    <a:pt x="628947" y="197892"/>
                    <a:pt x="97822" y="395785"/>
                    <a:pt x="95548" y="559558"/>
                  </a:cubicBezTo>
                  <a:cubicBezTo>
                    <a:pt x="93273" y="723331"/>
                    <a:pt x="1150975" y="855260"/>
                    <a:pt x="1146426" y="982639"/>
                  </a:cubicBezTo>
                  <a:cubicBezTo>
                    <a:pt x="1141877" y="1110018"/>
                    <a:pt x="65979" y="1201003"/>
                    <a:pt x="68253" y="1323833"/>
                  </a:cubicBezTo>
                  <a:cubicBezTo>
                    <a:pt x="70527" y="1446663"/>
                    <a:pt x="1150975" y="1612711"/>
                    <a:pt x="1160073" y="1719618"/>
                  </a:cubicBezTo>
                  <a:cubicBezTo>
                    <a:pt x="1169171" y="1826525"/>
                    <a:pt x="122844" y="1862920"/>
                    <a:pt x="122844" y="1965278"/>
                  </a:cubicBezTo>
                  <a:cubicBezTo>
                    <a:pt x="122844" y="2067636"/>
                    <a:pt x="1169172" y="2224585"/>
                    <a:pt x="1160073" y="2333767"/>
                  </a:cubicBezTo>
                  <a:cubicBezTo>
                    <a:pt x="1150974" y="2442949"/>
                    <a:pt x="84175" y="2513463"/>
                    <a:pt x="68253" y="2620370"/>
                  </a:cubicBezTo>
                  <a:cubicBezTo>
                    <a:pt x="52331" y="2727278"/>
                    <a:pt x="1053166" y="2870579"/>
                    <a:pt x="1064539" y="2975212"/>
                  </a:cubicBezTo>
                  <a:cubicBezTo>
                    <a:pt x="1075912" y="3079845"/>
                    <a:pt x="129667" y="3145809"/>
                    <a:pt x="136491" y="3248167"/>
                  </a:cubicBezTo>
                  <a:cubicBezTo>
                    <a:pt x="143315" y="3350525"/>
                    <a:pt x="1128228" y="3493827"/>
                    <a:pt x="1105482" y="3589361"/>
                  </a:cubicBezTo>
                  <a:cubicBezTo>
                    <a:pt x="1082736" y="3684895"/>
                    <a:pt x="4563" y="3723564"/>
                    <a:pt x="14" y="3821373"/>
                  </a:cubicBezTo>
                  <a:cubicBezTo>
                    <a:pt x="-4535" y="3919182"/>
                    <a:pt x="1078187" y="4176215"/>
                    <a:pt x="1078187" y="4176215"/>
                  </a:cubicBezTo>
                  <a:lnTo>
                    <a:pt x="1078187" y="4176215"/>
                  </a:lnTo>
                  <a:lnTo>
                    <a:pt x="1023596" y="4176215"/>
                  </a:lnTo>
                </a:path>
              </a:pathLst>
            </a:custGeom>
            <a:noFill/>
            <a:ln w="38160">
              <a:solidFill>
                <a:srgbClr val="3baf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任意多边形 33"/>
            <p:cNvSpPr/>
            <p:nvPr/>
          </p:nvSpPr>
          <p:spPr>
            <a:xfrm rot="5376600">
              <a:off x="6856200" y="-363960"/>
              <a:ext cx="228240" cy="3016800"/>
            </a:xfrm>
            <a:custGeom>
              <a:avLst/>
              <a:gdLst/>
              <a:ahLst/>
              <a:rect l="l" t="t" r="r" b="b"/>
              <a:pathLst>
                <a:path w="1160132" h="4176215">
                  <a:moveTo>
                    <a:pt x="1160073" y="0"/>
                  </a:moveTo>
                  <a:cubicBezTo>
                    <a:pt x="628947" y="197892"/>
                    <a:pt x="97822" y="395785"/>
                    <a:pt x="95548" y="559558"/>
                  </a:cubicBezTo>
                  <a:cubicBezTo>
                    <a:pt x="93273" y="723331"/>
                    <a:pt x="1150975" y="855260"/>
                    <a:pt x="1146426" y="982639"/>
                  </a:cubicBezTo>
                  <a:cubicBezTo>
                    <a:pt x="1141877" y="1110018"/>
                    <a:pt x="65979" y="1201003"/>
                    <a:pt x="68253" y="1323833"/>
                  </a:cubicBezTo>
                  <a:cubicBezTo>
                    <a:pt x="70527" y="1446663"/>
                    <a:pt x="1150975" y="1612711"/>
                    <a:pt x="1160073" y="1719618"/>
                  </a:cubicBezTo>
                  <a:cubicBezTo>
                    <a:pt x="1169171" y="1826525"/>
                    <a:pt x="122844" y="1862920"/>
                    <a:pt x="122844" y="1965278"/>
                  </a:cubicBezTo>
                  <a:cubicBezTo>
                    <a:pt x="122844" y="2067636"/>
                    <a:pt x="1169172" y="2224585"/>
                    <a:pt x="1160073" y="2333767"/>
                  </a:cubicBezTo>
                  <a:cubicBezTo>
                    <a:pt x="1150974" y="2442949"/>
                    <a:pt x="84175" y="2513463"/>
                    <a:pt x="68253" y="2620370"/>
                  </a:cubicBezTo>
                  <a:cubicBezTo>
                    <a:pt x="52331" y="2727278"/>
                    <a:pt x="1053166" y="2870579"/>
                    <a:pt x="1064539" y="2975212"/>
                  </a:cubicBezTo>
                  <a:cubicBezTo>
                    <a:pt x="1075912" y="3079845"/>
                    <a:pt x="129667" y="3145809"/>
                    <a:pt x="136491" y="3248167"/>
                  </a:cubicBezTo>
                  <a:cubicBezTo>
                    <a:pt x="143315" y="3350525"/>
                    <a:pt x="1128228" y="3493827"/>
                    <a:pt x="1105482" y="3589361"/>
                  </a:cubicBezTo>
                  <a:cubicBezTo>
                    <a:pt x="1082736" y="3684895"/>
                    <a:pt x="4563" y="3723564"/>
                    <a:pt x="14" y="3821373"/>
                  </a:cubicBezTo>
                  <a:cubicBezTo>
                    <a:pt x="-4535" y="3919182"/>
                    <a:pt x="1078187" y="4176215"/>
                    <a:pt x="1078187" y="4176215"/>
                  </a:cubicBezTo>
                  <a:lnTo>
                    <a:pt x="1078187" y="4176215"/>
                  </a:lnTo>
                  <a:lnTo>
                    <a:pt x="1023596" y="4176215"/>
                  </a:lnTo>
                </a:path>
              </a:pathLst>
            </a:custGeom>
            <a:noFill/>
            <a:ln w="38160">
              <a:solidFill>
                <a:srgbClr val="3baf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任意多边形 36"/>
            <p:cNvSpPr/>
            <p:nvPr/>
          </p:nvSpPr>
          <p:spPr>
            <a:xfrm rot="5376600">
              <a:off x="6762240" y="-156960"/>
              <a:ext cx="228240" cy="3016800"/>
            </a:xfrm>
            <a:custGeom>
              <a:avLst/>
              <a:gdLst/>
              <a:ahLst/>
              <a:rect l="l" t="t" r="r" b="b"/>
              <a:pathLst>
                <a:path w="1160132" h="4176215">
                  <a:moveTo>
                    <a:pt x="1160073" y="0"/>
                  </a:moveTo>
                  <a:cubicBezTo>
                    <a:pt x="628947" y="197892"/>
                    <a:pt x="97822" y="395785"/>
                    <a:pt x="95548" y="559558"/>
                  </a:cubicBezTo>
                  <a:cubicBezTo>
                    <a:pt x="93273" y="723331"/>
                    <a:pt x="1150975" y="855260"/>
                    <a:pt x="1146426" y="982639"/>
                  </a:cubicBezTo>
                  <a:cubicBezTo>
                    <a:pt x="1141877" y="1110018"/>
                    <a:pt x="65979" y="1201003"/>
                    <a:pt x="68253" y="1323833"/>
                  </a:cubicBezTo>
                  <a:cubicBezTo>
                    <a:pt x="70527" y="1446663"/>
                    <a:pt x="1150975" y="1612711"/>
                    <a:pt x="1160073" y="1719618"/>
                  </a:cubicBezTo>
                  <a:cubicBezTo>
                    <a:pt x="1169171" y="1826525"/>
                    <a:pt x="122844" y="1862920"/>
                    <a:pt x="122844" y="1965278"/>
                  </a:cubicBezTo>
                  <a:cubicBezTo>
                    <a:pt x="122844" y="2067636"/>
                    <a:pt x="1169172" y="2224585"/>
                    <a:pt x="1160073" y="2333767"/>
                  </a:cubicBezTo>
                  <a:cubicBezTo>
                    <a:pt x="1150974" y="2442949"/>
                    <a:pt x="84175" y="2513463"/>
                    <a:pt x="68253" y="2620370"/>
                  </a:cubicBezTo>
                  <a:cubicBezTo>
                    <a:pt x="52331" y="2727278"/>
                    <a:pt x="1053166" y="2870579"/>
                    <a:pt x="1064539" y="2975212"/>
                  </a:cubicBezTo>
                  <a:cubicBezTo>
                    <a:pt x="1075912" y="3079845"/>
                    <a:pt x="129667" y="3145809"/>
                    <a:pt x="136491" y="3248167"/>
                  </a:cubicBezTo>
                  <a:cubicBezTo>
                    <a:pt x="143315" y="3350525"/>
                    <a:pt x="1128228" y="3493827"/>
                    <a:pt x="1105482" y="3589361"/>
                  </a:cubicBezTo>
                  <a:cubicBezTo>
                    <a:pt x="1082736" y="3684895"/>
                    <a:pt x="4563" y="3723564"/>
                    <a:pt x="14" y="3821373"/>
                  </a:cubicBezTo>
                  <a:cubicBezTo>
                    <a:pt x="-4535" y="3919182"/>
                    <a:pt x="1078187" y="4176215"/>
                    <a:pt x="1078187" y="4176215"/>
                  </a:cubicBezTo>
                  <a:lnTo>
                    <a:pt x="1078187" y="4176215"/>
                  </a:lnTo>
                  <a:lnTo>
                    <a:pt x="1023596" y="4176215"/>
                  </a:lnTo>
                </a:path>
              </a:pathLst>
            </a:custGeom>
            <a:noFill/>
            <a:ln w="38160">
              <a:solidFill>
                <a:srgbClr val="3baf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任意多边形 37"/>
            <p:cNvSpPr/>
            <p:nvPr/>
          </p:nvSpPr>
          <p:spPr>
            <a:xfrm rot="5376600">
              <a:off x="6750360" y="71280"/>
              <a:ext cx="228240" cy="3016800"/>
            </a:xfrm>
            <a:custGeom>
              <a:avLst/>
              <a:gdLst/>
              <a:ahLst/>
              <a:rect l="l" t="t" r="r" b="b"/>
              <a:pathLst>
                <a:path w="1160132" h="4176215">
                  <a:moveTo>
                    <a:pt x="1160073" y="0"/>
                  </a:moveTo>
                  <a:cubicBezTo>
                    <a:pt x="628947" y="197892"/>
                    <a:pt x="97822" y="395785"/>
                    <a:pt x="95548" y="559558"/>
                  </a:cubicBezTo>
                  <a:cubicBezTo>
                    <a:pt x="93273" y="723331"/>
                    <a:pt x="1150975" y="855260"/>
                    <a:pt x="1146426" y="982639"/>
                  </a:cubicBezTo>
                  <a:cubicBezTo>
                    <a:pt x="1141877" y="1110018"/>
                    <a:pt x="65979" y="1201003"/>
                    <a:pt x="68253" y="1323833"/>
                  </a:cubicBezTo>
                  <a:cubicBezTo>
                    <a:pt x="70527" y="1446663"/>
                    <a:pt x="1150975" y="1612711"/>
                    <a:pt x="1160073" y="1719618"/>
                  </a:cubicBezTo>
                  <a:cubicBezTo>
                    <a:pt x="1169171" y="1826525"/>
                    <a:pt x="122844" y="1862920"/>
                    <a:pt x="122844" y="1965278"/>
                  </a:cubicBezTo>
                  <a:cubicBezTo>
                    <a:pt x="122844" y="2067636"/>
                    <a:pt x="1169172" y="2224585"/>
                    <a:pt x="1160073" y="2333767"/>
                  </a:cubicBezTo>
                  <a:cubicBezTo>
                    <a:pt x="1150974" y="2442949"/>
                    <a:pt x="84175" y="2513463"/>
                    <a:pt x="68253" y="2620370"/>
                  </a:cubicBezTo>
                  <a:cubicBezTo>
                    <a:pt x="52331" y="2727278"/>
                    <a:pt x="1053166" y="2870579"/>
                    <a:pt x="1064539" y="2975212"/>
                  </a:cubicBezTo>
                  <a:cubicBezTo>
                    <a:pt x="1075912" y="3079845"/>
                    <a:pt x="129667" y="3145809"/>
                    <a:pt x="136491" y="3248167"/>
                  </a:cubicBezTo>
                  <a:cubicBezTo>
                    <a:pt x="143315" y="3350525"/>
                    <a:pt x="1128228" y="3493827"/>
                    <a:pt x="1105482" y="3589361"/>
                  </a:cubicBezTo>
                  <a:cubicBezTo>
                    <a:pt x="1082736" y="3684895"/>
                    <a:pt x="4563" y="3723564"/>
                    <a:pt x="14" y="3821373"/>
                  </a:cubicBezTo>
                  <a:cubicBezTo>
                    <a:pt x="-4535" y="3919182"/>
                    <a:pt x="1078187" y="4176215"/>
                    <a:pt x="1078187" y="4176215"/>
                  </a:cubicBezTo>
                  <a:lnTo>
                    <a:pt x="1078187" y="4176215"/>
                  </a:lnTo>
                  <a:lnTo>
                    <a:pt x="1023596" y="4176215"/>
                  </a:lnTo>
                </a:path>
              </a:pathLst>
            </a:custGeom>
            <a:noFill/>
            <a:ln w="38160">
              <a:solidFill>
                <a:srgbClr val="3baf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8T21:3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47Z</dcterms:modified>
  <cp:revision>10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