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D646-44C0-4296-8425-2FDA28927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7543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852360"/>
            <a:ext cx="7543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F8AD-30A0-4B7F-A6E3-2CB451B0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46200" y="106632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85236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46200" y="385236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DBC0-D110-4921-981A-05F572163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42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31120" y="1066320"/>
            <a:ext cx="242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2080" y="1066320"/>
            <a:ext cx="242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852360"/>
            <a:ext cx="242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31120" y="3852360"/>
            <a:ext cx="242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2080" y="3852360"/>
            <a:ext cx="242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8A97-AE9B-4042-82B2-8ADE8A50C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02CA-0CAD-4D58-A114-91E7E504B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FA46-8A02-4991-B0C7-38710892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D590-E197-4459-AC27-F7AD1A98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681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46200" y="1066320"/>
            <a:ext cx="3681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DB96-DF4F-489F-977D-BC97E600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0CA8-86A2-4FDA-BB73-5867B68F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86108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FE41-47EB-48E5-B42C-8C53051C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46200" y="1066320"/>
            <a:ext cx="3681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385236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9A5E-DD97-4E5F-BF35-E7E6195D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34D4-22DD-4952-B17F-99FC5B71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681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46200" y="106632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46200" y="385236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926C-3842-4517-92F9-2A367EB5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46200" y="106632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2360"/>
            <a:ext cx="7543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447B-8F34-4D52-A0BE-23D75464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7543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3852360"/>
            <a:ext cx="7543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0F02-0970-4236-8D00-7DFB427B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46200" y="106632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385236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46200" y="385236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3FE1-7FBA-437A-A9D3-2BC5C01B6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42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31120" y="1066320"/>
            <a:ext cx="242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2080" y="1066320"/>
            <a:ext cx="242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3852360"/>
            <a:ext cx="242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31120" y="3852360"/>
            <a:ext cx="242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2080" y="3852360"/>
            <a:ext cx="242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3577-D5FD-4BDB-9E8C-9A3149BA0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1038C-DBFF-46CC-A1DF-DF10374B2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82BCD-D3ED-46FC-B3FC-151FCDAC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463A5-D74A-42D5-86B2-624E8680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681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46200" y="1066320"/>
            <a:ext cx="3681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85DB3-E7BC-4F6B-810A-59CC579F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3BC26-5C8A-48F3-8B15-9E97CD9A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84E7-806B-448F-8898-DF295A76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86108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F1035-A889-4C6B-BC1C-5BB1A3CF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246200" y="1066320"/>
            <a:ext cx="3681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80520" y="385236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F18C2-E99F-4106-9DE9-86B2A1DF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681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246200" y="106632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246200" y="385236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67C3A-5565-4A1E-998D-2CEEF9E6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46200" y="106632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80520" y="3852360"/>
            <a:ext cx="7543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A1B9C-1E38-41F0-AB6E-9BB793AB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7543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80520" y="3852360"/>
            <a:ext cx="7543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53E0D-2BF5-40B2-A8BC-7429D951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246200" y="106632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80520" y="385236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246200" y="385236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3211C-D509-415A-97E7-C8C88A130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42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931120" y="1066320"/>
            <a:ext cx="242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482080" y="1066320"/>
            <a:ext cx="242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80520" y="3852360"/>
            <a:ext cx="242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931120" y="3852360"/>
            <a:ext cx="242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482080" y="3852360"/>
            <a:ext cx="2428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B75EB-522D-49B0-A909-CDA086351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681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46200" y="1066320"/>
            <a:ext cx="3681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7DB8-8CDB-4AB1-8F4B-F0C2525C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067D-EDFA-419D-AE6A-302C29E1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86108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E24F-9185-459C-8040-BF808028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46200" y="1066320"/>
            <a:ext cx="3681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85236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EC54-44C1-403A-80AE-2F7E414D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681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46200" y="106632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46200" y="385236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B6A7-3DFA-4841-89A5-B2F85D20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610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46200" y="1066320"/>
            <a:ext cx="3681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852360"/>
            <a:ext cx="7543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CAF0-C477-4EF1-950F-BC8E54DA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610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292929"/>
              </a:buClr>
              <a:buSzPct val="30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292929"/>
              </a:buClr>
              <a:buSzPct val="3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292929"/>
              </a:buClr>
              <a:buSzPct val="30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292929"/>
              </a:buClr>
              <a:buSzPct val="3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9880" y="6689520"/>
            <a:ext cx="17780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06480" y="6689520"/>
            <a:ext cx="241308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60680" y="6689520"/>
            <a:ext cx="17780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CAB2-73D1-439F-B2A7-F8775D2C10C2}" type="slidenum">
              <a:rPr b="0" lang="en-US" sz="900" spc="-1" strike="noStrike">
                <a:solidFill>
                  <a:srgbClr val="ffffff"/>
                </a:solidFill>
                <a:latin typeface="Eras Bold IT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1EF1-1045-40A2-8E91-175E7423C356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7D7B-1CDE-433C-B29D-906E9C32AAEA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610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520" y="106632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292929"/>
              </a:buClr>
              <a:buSzPct val="30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292929"/>
              </a:buClr>
              <a:buSzPct val="3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292929"/>
              </a:buClr>
              <a:buSzPct val="30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292929"/>
              </a:buClr>
              <a:buSzPct val="3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4920" y="668952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05720" y="668952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64CE-C00B-4A07-B711-2448D4220D9D}" type="slidenum">
              <a:rPr b="0" lang="en-US" sz="900" spc="-1" strike="noStrike">
                <a:solidFill>
                  <a:srgbClr val="ffffff"/>
                </a:solidFill>
                <a:latin typeface="Eras Bold IT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54860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Eclipse in A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0" y="61718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Your Subtitle Goes Here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文本框 409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4100"/>
          <p:cNvSpPr/>
          <p:nvPr/>
        </p:nvSpPr>
        <p:spPr>
          <a:xfrm>
            <a:off x="1855080" y="380880"/>
            <a:ext cx="460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动感线条企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610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705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Your subtopic goes her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54860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Transitional P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0" y="6148800"/>
            <a:ext cx="914400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文本框 6147"/>
          <p:cNvSpPr/>
          <p:nvPr/>
        </p:nvSpPr>
        <p:spPr>
          <a:xfrm>
            <a:off x="755640" y="13413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EFB0-D08F-46BE-92D4-C2487C1BBEC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610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705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Your subtopic goes her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7:18:1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0:58Z</dcterms:modified>
  <cp:revision>3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