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1AE7-2727-4CDD-93D3-F0FCC26E6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A8994-3C43-48C6-9D1F-53D3EC78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2732C-A5CC-44DF-BDF6-67D199A1D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E6C6-C209-46A1-A06C-C3A99B09D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2C98-81A6-499C-A977-C11FC53279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DFEC-BA16-4E98-8AC2-027ECF6B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455FB-06EC-4709-9CB4-65A717E49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E6502-BC7D-4305-8590-57971D04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7E245-665F-4A95-84A2-26283A29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13228-596D-442F-B0DC-0BD21D24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6EDDB-8788-43CA-BFFE-1892D270FC0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A7AB4-2791-4C80-A43E-367D645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5E836-E828-4B7C-B81C-3CE49770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DE2B7-EF0F-4321-A63A-999CEF612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20A6D-540C-4508-BB6A-D6C64C60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74C64-5EDE-4E28-9228-5E4EA04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6C721-C9A4-45DB-8C74-264283C3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06894-E228-4967-B8DC-5C5940DE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713C2-E406-487F-BF6A-BFBCCA19E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C651-8035-4478-AB7E-65324DA9F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0211F-04D9-4E13-AA12-C9813DAFD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B773C-7170-4DEF-AEC4-DC9130B8C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500D9-3C40-4649-BEA5-FEE99E4973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7B14D-0FB7-42E8-9EF3-E92995C4B2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2364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310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B698-AEF7-4A68-B435-55B35990827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049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EB94-0634-444B-8C5E-E70600B9CF6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2D9E-AE3A-47E8-B64F-23BCAA7A0EB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B0AB-A251-4E4D-BF5B-2AC722FFE8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4097" descr="飞花-淡兰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矩形 4098"/>
          <p:cNvSpPr/>
          <p:nvPr/>
        </p:nvSpPr>
        <p:spPr>
          <a:xfrm>
            <a:off x="7010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3384-51A0-4F87-85BA-A6867457D14E}" type="slidenum">
              <a:rPr b="0" lang="zh-CN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099"/>
          <p:cNvSpPr/>
          <p:nvPr/>
        </p:nvSpPr>
        <p:spPr>
          <a:xfrm>
            <a:off x="0" y="6237360"/>
            <a:ext cx="25092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50920" y="6237360"/>
            <a:ext cx="8893080" cy="360"/>
            <a:chOff x="250920" y="6237360"/>
            <a:chExt cx="8893080" cy="360"/>
          </a:xfrm>
        </p:grpSpPr>
        <p:sp>
          <p:nvSpPr>
            <p:cNvPr id="124" name="直接连接符 4100"/>
            <p:cNvSpPr/>
            <p:nvPr/>
          </p:nvSpPr>
          <p:spPr>
            <a:xfrm>
              <a:off x="250920" y="6237360"/>
              <a:ext cx="889308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250920" y="6237360"/>
              <a:ext cx="88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50920" y="6597720"/>
            <a:ext cx="2952720" cy="360"/>
            <a:chOff x="250920" y="6597720"/>
            <a:chExt cx="2952720" cy="360"/>
          </a:xfrm>
        </p:grpSpPr>
        <p:sp>
          <p:nvSpPr>
            <p:cNvPr id="127" name="直接连接符 4101"/>
            <p:cNvSpPr/>
            <p:nvPr/>
          </p:nvSpPr>
          <p:spPr>
            <a:xfrm>
              <a:off x="250920" y="6597720"/>
              <a:ext cx="295272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250920" y="659772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4102"/>
          <p:cNvSpPr/>
          <p:nvPr/>
        </p:nvSpPr>
        <p:spPr>
          <a:xfrm>
            <a:off x="468360" y="6188040"/>
            <a:ext cx="684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4103" descr="云-顶"/>
          <p:cNvPicPr/>
          <p:nvPr/>
        </p:nvPicPr>
        <p:blipFill>
          <a:blip r:embed="rId2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1042920" y="2852640"/>
            <a:ext cx="3960720" cy="360"/>
            <a:chOff x="1042920" y="2852640"/>
            <a:chExt cx="3960720" cy="360"/>
          </a:xfrm>
        </p:grpSpPr>
        <p:sp>
          <p:nvSpPr>
            <p:cNvPr id="132" name="直接连接符 4104"/>
            <p:cNvSpPr/>
            <p:nvPr/>
          </p:nvSpPr>
          <p:spPr>
            <a:xfrm>
              <a:off x="1042920" y="2852640"/>
              <a:ext cx="3960720" cy="0"/>
            </a:xfrm>
            <a:prstGeom prst="line">
              <a:avLst/>
            </a:prstGeom>
            <a:ln w="9360">
              <a:solidFill>
                <a:srgbClr val="061d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1042920" y="2852640"/>
              <a:ext cx="39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立方体 4105"/>
          <p:cNvSpPr/>
          <p:nvPr/>
        </p:nvSpPr>
        <p:spPr>
          <a:xfrm>
            <a:off x="6156360" y="5229360"/>
            <a:ext cx="2806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4106"/>
          <p:cNvSpPr/>
          <p:nvPr/>
        </p:nvSpPr>
        <p:spPr>
          <a:xfrm>
            <a:off x="6372360" y="4869000"/>
            <a:ext cx="2590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立方体 4107"/>
          <p:cNvSpPr/>
          <p:nvPr/>
        </p:nvSpPr>
        <p:spPr>
          <a:xfrm>
            <a:off x="6588000" y="4510080"/>
            <a:ext cx="2376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立方体 4108"/>
          <p:cNvSpPr/>
          <p:nvPr/>
        </p:nvSpPr>
        <p:spPr>
          <a:xfrm>
            <a:off x="6804000" y="4149720"/>
            <a:ext cx="2160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09"/>
          <p:cNvSpPr/>
          <p:nvPr/>
        </p:nvSpPr>
        <p:spPr>
          <a:xfrm>
            <a:off x="6443640" y="522936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110"/>
          <p:cNvSpPr/>
          <p:nvPr/>
        </p:nvSpPr>
        <p:spPr>
          <a:xfrm>
            <a:off x="6516720" y="486900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4111"/>
          <p:cNvSpPr/>
          <p:nvPr/>
        </p:nvSpPr>
        <p:spPr>
          <a:xfrm>
            <a:off x="6732720" y="4510080"/>
            <a:ext cx="2016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112"/>
          <p:cNvSpPr/>
          <p:nvPr/>
        </p:nvSpPr>
        <p:spPr>
          <a:xfrm>
            <a:off x="6950160" y="4149720"/>
            <a:ext cx="1871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113"/>
          <p:cNvSpPr/>
          <p:nvPr/>
        </p:nvSpPr>
        <p:spPr>
          <a:xfrm>
            <a:off x="2612880" y="3240000"/>
            <a:ext cx="30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114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4115"/>
          <p:cNvSpPr/>
          <p:nvPr/>
        </p:nvSpPr>
        <p:spPr>
          <a:xfrm>
            <a:off x="2714040" y="1484280"/>
            <a:ext cx="460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淡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804000" y="631044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334B-93EC-4B20-AA60-4B8AC4DE6E2C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5:30:29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6:31Z</dcterms:modified>
  <cp:revision>219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