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7.jpeg" ContentType="image/jpeg"/>
  <Override PartName="/ppt/media/image9.gif" ContentType="image/gif"/>
  <Override PartName="/ppt/media/image10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5B51-D92A-4D70-8DEB-C52C56F4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37540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C0C4-7443-45D4-8B5B-0F79E713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396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DDFD-58DC-4D36-BCF0-2F524ADD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880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496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880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496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D99-4EB6-4AC0-ADE8-4D799596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5F17-7F33-492A-9ADA-2D586527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AAA3-B7B5-415F-AA01-1FBBD3F6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C429-83FE-4A5D-9123-538E3845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A290-2FC4-4C41-BC9C-E99878EF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0E91-808D-46FB-9C2B-E345368D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2640" y="-360"/>
            <a:ext cx="7086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89B5-0ACF-4634-9A22-6ADFE851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0315-D61B-43F6-A608-4AFAFD0A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FED6-65C0-4A0E-A493-FE7BB44E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396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4516-5164-40C8-82A4-AE3120A8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95B4-97CA-41A3-AA23-CAACE4F4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2640" y="37540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143A-3911-4900-BBBA-EA76CE04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7396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6D6D-2468-4A35-A87D-9ED05C6D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880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496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264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880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496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BC50-C3B8-48DC-B202-BA8D9D32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556B4-654F-4F65-AD7F-DE73419F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DF81C-DC2C-493B-B30C-839B5876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C939C-D8CC-485D-9825-58522C69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BF4D7-FE67-4E05-A949-CDB78AB3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325FA-8C3A-4930-AE63-41596199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938B-B021-497B-8C20-60BFECF5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2640" y="-360"/>
            <a:ext cx="7086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D5B53-67E8-43D3-87AD-23BD91F0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3151F-E0A9-4170-B7A4-21765624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7396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D4CB2-679C-44C3-BFAB-3B23A11C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F91CD-35A0-45FA-8337-09E41527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42640" y="37540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395BE-3EBD-4ED1-8860-BA22E684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7396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15115-8F01-4229-93EB-66B2675A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880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496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4264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880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496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36867-3D8F-4C1D-B49D-FC362261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93B3-26CC-4C97-A5C4-05D20414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432B-880E-4254-98FD-EB00BF3C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-360"/>
            <a:ext cx="7086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4389-B48E-4645-935E-CAE68DA5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0C60-7F82-4A91-8CA4-D0DBD4F6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396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8668-84C4-4D92-A2F1-E37C581D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CC3-0FC0-43A5-A322-D4E6BACA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0EEB-BB2F-4E20-93E3-1685808F26F0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3C83-090B-4FF4-80A9-60F1DEEA42A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12B0-1631-4FFE-BF1A-0A77D64D74B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60C4-52D7-42F4-9DF3-76E2225815B1}" type="slidenum">
              <a:rPr b="0" lang="zh-CN" sz="10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8.gif"/><Relationship Id="rId6" Type="http://schemas.openxmlformats.org/officeDocument/2006/relationships/image" Target="../media/image6.gif"/><Relationship Id="rId7" Type="http://schemas.openxmlformats.org/officeDocument/2006/relationships/image" Target="../media/image9.gif"/><Relationship Id="rId8" Type="http://schemas.openxmlformats.org/officeDocument/2006/relationships/image" Target="../media/image3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0" y="1980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  <a:ea typeface="宋体"/>
              </a:rPr>
              <a:t>Silly Monster</a:t>
            </a:r>
            <a:endParaRPr b="0" lang="en-US" sz="6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286000" y="3505320"/>
            <a:ext cx="4114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宋体"/>
              </a:rPr>
              <a:t>Your Subtitle Goes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4100"/>
          <p:cNvSpPr/>
          <p:nvPr/>
        </p:nvSpPr>
        <p:spPr>
          <a:xfrm>
            <a:off x="1291680" y="1052640"/>
            <a:ext cx="50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动漫卡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免费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宋体"/>
              </a:rPr>
              <a:t>Your Topic Goes Here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5123" descr="monster_taking_a_drink_hg_clr"/>
          <p:cNvPicPr/>
          <p:nvPr/>
        </p:nvPicPr>
        <p:blipFill>
          <a:blip r:embed="rId1"/>
          <a:stretch/>
        </p:blipFill>
        <p:spPr>
          <a:xfrm>
            <a:off x="114300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1590840"/>
            <a:ext cx="41148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 Black"/>
              <a:ea typeface="宋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286000" y="3504960"/>
            <a:ext cx="41148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  <a:ea typeface="宋体"/>
            </a:endParaRPr>
          </a:p>
        </p:txBody>
      </p:sp>
      <p:sp>
        <p:nvSpPr>
          <p:cNvPr id="132" name="文本框 6147"/>
          <p:cNvSpPr/>
          <p:nvPr/>
        </p:nvSpPr>
        <p:spPr>
          <a:xfrm>
            <a:off x="755640" y="1341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宋体"/>
              </a:rPr>
              <a:t>Your Topic Goes Here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7171" descr="monster_jumping_hg_clr"/>
          <p:cNvPicPr/>
          <p:nvPr/>
        </p:nvPicPr>
        <p:blipFill>
          <a:blip r:embed="rId2"/>
          <a:stretch/>
        </p:blipFill>
        <p:spPr>
          <a:xfrm>
            <a:off x="1143000" y="4419720"/>
            <a:ext cx="1449360" cy="2438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B4D4-F196-454D-B04F-6F2161FAF26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0" y="1980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  <a:ea typeface="宋体"/>
              </a:rPr>
              <a:t>Elements</a:t>
            </a:r>
            <a:endParaRPr b="0" lang="en-US" sz="6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6000" y="3504960"/>
            <a:ext cx="41148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  <a:ea typeface="宋体"/>
            </a:endParaRPr>
          </a:p>
        </p:txBody>
      </p:sp>
      <p:pic>
        <p:nvPicPr>
          <p:cNvPr id="142" name="图片 8195" descr="silly_monster_prt"/>
          <p:cNvPicPr/>
          <p:nvPr/>
        </p:nvPicPr>
        <p:blipFill>
          <a:blip r:embed="rId1"/>
          <a:stretch/>
        </p:blipFill>
        <p:spPr>
          <a:xfrm>
            <a:off x="6934320" y="19044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8196" descr="silly_monster_qx"/>
          <p:cNvPicPr/>
          <p:nvPr/>
        </p:nvPicPr>
        <p:blipFill>
          <a:blip r:embed="rId2"/>
          <a:stretch/>
        </p:blipFill>
        <p:spPr>
          <a:xfrm>
            <a:off x="228600" y="19044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8197" descr="silly_monster_sld"/>
          <p:cNvPicPr/>
          <p:nvPr/>
        </p:nvPicPr>
        <p:blipFill>
          <a:blip r:embed="rId3"/>
          <a:stretch/>
        </p:blipFill>
        <p:spPr>
          <a:xfrm>
            <a:off x="2438280" y="190440"/>
            <a:ext cx="1981440" cy="148608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8198" descr="silly_monster_trs"/>
          <p:cNvPicPr/>
          <p:nvPr/>
        </p:nvPicPr>
        <p:blipFill>
          <a:blip r:embed="rId4"/>
          <a:stretch/>
        </p:blipFill>
        <p:spPr>
          <a:xfrm>
            <a:off x="4724280" y="190440"/>
            <a:ext cx="1981440" cy="148608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8199" descr="lovestruck_monsters_hg_clr"/>
          <p:cNvPicPr/>
          <p:nvPr/>
        </p:nvPicPr>
        <p:blipFill>
          <a:blip r:embed="rId5"/>
          <a:stretch/>
        </p:blipFill>
        <p:spPr>
          <a:xfrm>
            <a:off x="-15840" y="3657600"/>
            <a:ext cx="2454120" cy="306720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8200" descr="monster_jumping_hg_clr"/>
          <p:cNvPicPr/>
          <p:nvPr/>
        </p:nvPicPr>
        <p:blipFill>
          <a:blip r:embed="rId6"/>
          <a:stretch/>
        </p:blipFill>
        <p:spPr>
          <a:xfrm>
            <a:off x="2184480" y="3792600"/>
            <a:ext cx="1778040" cy="2989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8201" descr="monster_surprised_hg_clr"/>
          <p:cNvPicPr/>
          <p:nvPr/>
        </p:nvPicPr>
        <p:blipFill>
          <a:blip r:embed="rId7"/>
          <a:stretch/>
        </p:blipFill>
        <p:spPr>
          <a:xfrm>
            <a:off x="3352680" y="457200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202" descr="monster_taking_a_drink_hg_clr"/>
          <p:cNvPicPr/>
          <p:nvPr/>
        </p:nvPicPr>
        <p:blipFill>
          <a:blip r:embed="rId8"/>
          <a:stretch/>
        </p:blipFill>
        <p:spPr>
          <a:xfrm>
            <a:off x="495288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8203" descr="monster_wiggling_tail_hg_clr"/>
          <p:cNvPicPr/>
          <p:nvPr/>
        </p:nvPicPr>
        <p:blipFill>
          <a:blip r:embed="rId9"/>
          <a:stretch/>
        </p:blipFill>
        <p:spPr>
          <a:xfrm>
            <a:off x="6762600" y="4768920"/>
            <a:ext cx="2381400" cy="2089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07:38:0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59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