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8C16-DB4A-4E6F-A896-A03C197A6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320" y="609480"/>
            <a:ext cx="5943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4038480" cy="83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049560"/>
            <a:ext cx="4038480" cy="83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7033-F4F6-45E9-BADE-367F4E4A5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320" y="609480"/>
            <a:ext cx="5943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1970640" cy="83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98240" y="2133720"/>
            <a:ext cx="1970640" cy="83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049560"/>
            <a:ext cx="1970640" cy="83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298240" y="3049560"/>
            <a:ext cx="1970640" cy="83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B271-B0ED-4936-8300-25F3B8A86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320" y="609480"/>
            <a:ext cx="5943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1300320" cy="83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94440" y="2133720"/>
            <a:ext cx="1300320" cy="83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959920" y="2133720"/>
            <a:ext cx="1300320" cy="83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049560"/>
            <a:ext cx="1300320" cy="83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94440" y="3049560"/>
            <a:ext cx="1300320" cy="83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959920" y="3049560"/>
            <a:ext cx="1300320" cy="83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A31F-A888-42D5-9986-0AFE00D7F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BCEF5-91A5-4851-9331-490E67019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320" y="609480"/>
            <a:ext cx="5943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2133720"/>
            <a:ext cx="4038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C87F6-A1B6-423A-9D87-D80723BB8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320" y="609480"/>
            <a:ext cx="5943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4038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523E0-5AE9-4D4B-A89C-765CD5967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320" y="609480"/>
            <a:ext cx="5943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1970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298240" y="2133720"/>
            <a:ext cx="1970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18DB9-215E-4DCC-87A1-E5A7CB26C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320" y="609480"/>
            <a:ext cx="5943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45BFB-BB5C-4D73-8BB3-7262015F0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320" y="609480"/>
            <a:ext cx="5943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AC127-5A26-45CD-8ACB-A3A63C30C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320" y="609480"/>
            <a:ext cx="5943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1970640" cy="83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298240" y="2133720"/>
            <a:ext cx="1970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049560"/>
            <a:ext cx="1970640" cy="83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8E836-0679-4AA8-BD3E-A7CE09CB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320" y="609480"/>
            <a:ext cx="5943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2133720"/>
            <a:ext cx="4038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C139-E5A0-4A83-8D35-5838924E4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320" y="609480"/>
            <a:ext cx="5943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1970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298240" y="2133720"/>
            <a:ext cx="1970640" cy="83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98240" y="3049560"/>
            <a:ext cx="1970640" cy="83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EB7A9-9379-4EA7-8D85-DBABC8CC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320" y="609480"/>
            <a:ext cx="5943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1970640" cy="83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298240" y="2133720"/>
            <a:ext cx="1970640" cy="83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049560"/>
            <a:ext cx="4038480" cy="83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01E02-27C0-4D67-BED2-5BE7C74C0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320" y="609480"/>
            <a:ext cx="5943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4038480" cy="83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049560"/>
            <a:ext cx="4038480" cy="83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D28B8-70BC-40E5-A813-EB3CB820B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320" y="609480"/>
            <a:ext cx="5943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1970640" cy="83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98240" y="2133720"/>
            <a:ext cx="1970640" cy="83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049560"/>
            <a:ext cx="1970640" cy="83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298240" y="3049560"/>
            <a:ext cx="1970640" cy="83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2DB07-5061-4F0B-90A8-C96A16FAF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320" y="609480"/>
            <a:ext cx="5943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1300320" cy="83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94440" y="2133720"/>
            <a:ext cx="1300320" cy="83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959920" y="2133720"/>
            <a:ext cx="1300320" cy="83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049560"/>
            <a:ext cx="1300320" cy="83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1594440" y="3049560"/>
            <a:ext cx="1300320" cy="83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2959920" y="3049560"/>
            <a:ext cx="1300320" cy="83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DB371-2615-4618-B1C4-C129147F8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80615-349C-46F2-9DA9-E0D12C084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320" y="609480"/>
            <a:ext cx="5943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2133720"/>
            <a:ext cx="4038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36B7C-F5AB-4754-B4FD-567DC617D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320" y="609480"/>
            <a:ext cx="5943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4038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C58BD-7A11-4F9C-92C9-8D97D2B27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320" y="609480"/>
            <a:ext cx="5943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1970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298240" y="2133720"/>
            <a:ext cx="1970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52B07-A941-4AEA-8014-FF72C177D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320" y="609480"/>
            <a:ext cx="5943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4D3FB-BB1B-4825-9E92-02D957FF3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320" y="609480"/>
            <a:ext cx="5943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4038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A538-CD72-4DF2-A90E-D4892D462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6320" y="609480"/>
            <a:ext cx="5943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C3778-9EBF-454A-9E3E-A60525CBB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320" y="609480"/>
            <a:ext cx="5943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1970640" cy="83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2298240" y="2133720"/>
            <a:ext cx="1970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3049560"/>
            <a:ext cx="1970640" cy="83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D8A8D-3A4C-4226-BDE0-FB130A4F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320" y="609480"/>
            <a:ext cx="5943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1970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2298240" y="2133720"/>
            <a:ext cx="1970640" cy="83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2298240" y="3049560"/>
            <a:ext cx="1970640" cy="83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5A948-10D6-41D4-9AD1-18A06E6A7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320" y="609480"/>
            <a:ext cx="5943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1970640" cy="83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298240" y="2133720"/>
            <a:ext cx="1970640" cy="83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3049560"/>
            <a:ext cx="4038480" cy="83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7B854-58FA-47A4-84DC-5F1C9394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320" y="609480"/>
            <a:ext cx="5943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4038480" cy="83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3049560"/>
            <a:ext cx="4038480" cy="83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4E8FF-CD26-428F-A397-AA03BC5BB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320" y="609480"/>
            <a:ext cx="5943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1970640" cy="83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298240" y="2133720"/>
            <a:ext cx="1970640" cy="83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3049560"/>
            <a:ext cx="1970640" cy="83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2298240" y="3049560"/>
            <a:ext cx="1970640" cy="83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CB957-21D6-4E96-A3CC-91ED6A47E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609480"/>
            <a:ext cx="5943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1300320" cy="83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594440" y="2133720"/>
            <a:ext cx="1300320" cy="83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959920" y="2133720"/>
            <a:ext cx="1300320" cy="83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3049560"/>
            <a:ext cx="1300320" cy="83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1594440" y="3049560"/>
            <a:ext cx="1300320" cy="83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2959920" y="3049560"/>
            <a:ext cx="1300320" cy="83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14D75-F94E-4D89-8967-EB66C8BC9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320" y="609480"/>
            <a:ext cx="5943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1970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298240" y="2133720"/>
            <a:ext cx="1970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973C-CFCD-46A4-B169-E62AC6BFE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320" y="609480"/>
            <a:ext cx="5943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B6A7-D93F-4148-9BAA-8D6AC676C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320" y="609480"/>
            <a:ext cx="5943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28D7-8079-47B5-A41C-4F29504FF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320" y="609480"/>
            <a:ext cx="5943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1970640" cy="83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298240" y="2133720"/>
            <a:ext cx="1970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049560"/>
            <a:ext cx="1970640" cy="83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7E27-333B-41B1-B727-67142945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320" y="609480"/>
            <a:ext cx="5943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1970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298240" y="2133720"/>
            <a:ext cx="1970640" cy="83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98240" y="3049560"/>
            <a:ext cx="1970640" cy="83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65CC-8DE8-4EB0-82E2-E5553E31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320" y="609480"/>
            <a:ext cx="5943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1970640" cy="83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298240" y="2133720"/>
            <a:ext cx="1970640" cy="83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049560"/>
            <a:ext cx="4038480" cy="83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0183-477D-4E2F-8E8F-E33852F3A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320" y="609480"/>
            <a:ext cx="5943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2133720"/>
            <a:ext cx="4038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82760" indent="-185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742680" indent="-1483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040040" indent="-148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337040" indent="-14832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337040" indent="-14832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337040" indent="-14832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8D6A0-9C61-403D-88B0-5C825C7704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6AE7C-42A0-4659-8A65-4801A1772433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1FE94-64A9-487B-A014-3F667CD439A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320" y="609480"/>
            <a:ext cx="5943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28600" y="2133720"/>
            <a:ext cx="4038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82760" indent="-185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742680" indent="-1483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040040" indent="-148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337040" indent="-14832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337040" indent="-14832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337040" indent="-14832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782BE-F19A-41EA-9681-65EB352A3E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6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9907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Eras Bold ITC"/>
              </a:rPr>
              <a:t>骨骼摩擦</a:t>
            </a:r>
            <a:r>
              <a:rPr b="0" lang="zh-CN" sz="4000" spc="-1" strike="noStrike">
                <a:solidFill>
                  <a:srgbClr val="ffffff"/>
                </a:solidFill>
                <a:latin typeface="Eras Bold ITC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Eras Bold ITC"/>
              </a:rPr>
              <a:t>模板</a:t>
            </a:r>
            <a:r>
              <a:rPr b="0" lang="zh-CN" sz="4000" spc="-1" strike="noStrike">
                <a:solidFill>
                  <a:srgbClr val="ffffff"/>
                </a:solidFill>
                <a:latin typeface="Eras Bold ITC"/>
                <a:ea typeface="宋体"/>
              </a:rPr>
              <a:t>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523880" y="1752480"/>
            <a:ext cx="2743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Eras Bold ITC"/>
              </a:rPr>
              <a:t>Click to add subtit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文本框 4099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685800"/>
            <a:ext cx="548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7720" y="2133720"/>
            <a:ext cx="63248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add own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76320" y="609480"/>
            <a:ext cx="5943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tion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文本框 7170"/>
          <p:cNvSpPr/>
          <p:nvPr/>
        </p:nvSpPr>
        <p:spPr>
          <a:xfrm>
            <a:off x="1523880" y="2057400"/>
            <a:ext cx="50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262F4-29F5-4B94-9A55-3872269FC4E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l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内容占位符 8194" descr="skeletal_friction_qx"/>
          <p:cNvPicPr/>
          <p:nvPr/>
        </p:nvPicPr>
        <p:blipFill>
          <a:blip r:embed="rId1"/>
          <a:stretch/>
        </p:blipFill>
        <p:spPr>
          <a:xfrm>
            <a:off x="762120" y="1523880"/>
            <a:ext cx="3043080" cy="2283120"/>
          </a:xfrm>
          <a:prstGeom prst="rect">
            <a:avLst/>
          </a:prstGeom>
          <a:ln w="0">
            <a:noFill/>
          </a:ln>
        </p:spPr>
      </p:pic>
      <p:pic>
        <p:nvPicPr>
          <p:cNvPr id="137" name="内容占位符 8195" descr="skeletal_friction_sld"/>
          <p:cNvPicPr/>
          <p:nvPr/>
        </p:nvPicPr>
        <p:blipFill>
          <a:blip r:embed="rId2"/>
          <a:stretch/>
        </p:blipFill>
        <p:spPr>
          <a:xfrm>
            <a:off x="4038480" y="1523880"/>
            <a:ext cx="3043440" cy="2283120"/>
          </a:xfrm>
          <a:prstGeom prst="rect">
            <a:avLst/>
          </a:prstGeom>
          <a:ln w="0">
            <a:noFill/>
          </a:ln>
        </p:spPr>
      </p:pic>
      <p:pic>
        <p:nvPicPr>
          <p:cNvPr id="138" name="内容占位符 8196" descr="skeletal_friction_prt"/>
          <p:cNvPicPr/>
          <p:nvPr/>
        </p:nvPicPr>
        <p:blipFill>
          <a:blip r:embed="rId3"/>
          <a:stretch/>
        </p:blipFill>
        <p:spPr>
          <a:xfrm>
            <a:off x="4038480" y="4038480"/>
            <a:ext cx="3043440" cy="2283120"/>
          </a:xfrm>
          <a:prstGeom prst="rect">
            <a:avLst/>
          </a:prstGeom>
          <a:ln w="0">
            <a:noFill/>
          </a:ln>
        </p:spPr>
      </p:pic>
      <p:pic>
        <p:nvPicPr>
          <p:cNvPr id="139" name="内容占位符 8197" descr="skeletal_friction_trs"/>
          <p:cNvPicPr/>
          <p:nvPr/>
        </p:nvPicPr>
        <p:blipFill>
          <a:blip r:embed="rId4"/>
          <a:stretch/>
        </p:blipFill>
        <p:spPr>
          <a:xfrm>
            <a:off x="762120" y="4038480"/>
            <a:ext cx="3043080" cy="22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2T23:43:4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9:14Z</dcterms:modified>
  <cp:revision>1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