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87F-EC14-46B9-9550-BC8B4D4A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D75-F094-4816-BF9B-CA58D070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F72-13CE-42E9-8240-9CC25B38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6F4-C3B7-4EFF-98C3-DEB1C514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ACE3-2A18-4F12-BDA5-2677AAD5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182D-5C7F-4EAD-A9D3-64C3E4D5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B984-0E55-4F65-9F7F-94FA3692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E8DE-AB1C-40A1-8130-C4CCAC52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FED-0EEC-485C-BA2B-3AB806E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EC1-6EBE-4086-9450-6C2D534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8F8D-8E6E-42C8-BC26-F7EABF8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E9C-0BDB-46ED-A6AF-18BC5B5E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A306-8C3A-4E66-B9B3-06A202C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EAD7-2A75-46AC-8468-8D723BB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D50F-D814-4043-B599-19733EDA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3A27-232D-4D4E-9F50-E1E19451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A65A-0FE8-4B4C-86F2-ACDF998F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CDB-0AB4-4255-ACB8-664D6540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D65-2B03-4BA1-8617-F730CC4E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6F5-B17B-41A7-BD23-ACAB9A3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020-5AF1-4565-9FB5-27D420A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ADD-9855-43DD-9D77-E80067E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A17-5656-451B-89C2-3657215A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F85-3DCE-4068-80D4-322703F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AD88-B607-4DC7-BFA9-81AF28C094F6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9D6E-3428-47D5-A9CD-7B548DAF3B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099"/>
          <p:cNvSpPr/>
          <p:nvPr/>
        </p:nvSpPr>
        <p:spPr>
          <a:xfrm>
            <a:off x="2507760" y="3860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给工作度个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 rot="316800">
            <a:off x="440280" y="1379520"/>
            <a:ext cx="883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快乐的工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Kozuka Gothic Pr6N EL"/>
                <a:ea typeface="Kozuka Gothic Pr6N E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 rot="21157200">
            <a:off x="3080880" y="336672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工作像度假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5123"/>
          <p:cNvSpPr/>
          <p:nvPr/>
        </p:nvSpPr>
        <p:spPr>
          <a:xfrm>
            <a:off x="5572080" y="4629240"/>
            <a:ext cx="33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.downh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"/>
          <p:cNvSpPr/>
          <p:nvPr/>
        </p:nvSpPr>
        <p:spPr>
          <a:xfrm>
            <a:off x="3456000" y="549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NO</a:t>
            </a:r>
            <a:r>
              <a:rPr b="0" lang="zh-CN" sz="40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92600" y="1614600"/>
            <a:ext cx="40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Kozuka Gothic Pr6N EL"/>
                <a:ea typeface="Kozuka Gothic Pr6N EL"/>
              </a:rPr>
              <a:t>Let’s 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47"/>
          <p:cNvSpPr/>
          <p:nvPr/>
        </p:nvSpPr>
        <p:spPr>
          <a:xfrm>
            <a:off x="3203640" y="465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492360" y="625140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be or not to be, to do or </a:t>
            </a: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不想</a:t>
            </a: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 rot="915600">
            <a:off x="2017440" y="23367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像度假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B356-1B97-47C1-B93A-1C0FB640E7E8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79280" y="4215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成就感——忘记工作的抱怨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997000" y="1989000"/>
            <a:ext cx="47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那种感觉绝对比度假要舒服</a:t>
            </a:r>
            <a:r>
              <a:rPr b="1" lang="en-US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N</a:t>
            </a: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49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