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BBC1-0EC6-4189-9830-CCF56ACD4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198C-A831-432F-BAF1-87CAE02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7641-67B2-4092-8F21-99AF088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2812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500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2812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500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B581-99E5-4C36-9CE4-A024C7D17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78DB-DBEC-4AAE-B474-CF3DD077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1DB2-AAAC-4224-9330-6E2E8D57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F065-1703-44AB-BD83-08FA260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609B8-AC69-48EF-BE3D-76AAB33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A4A58-E170-44DA-880D-F5695157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B9E0-D54C-40D8-B0F3-4B3C7067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6BC19-4BD9-4909-AC1E-B5B6C1A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FB5A-54C6-4FE9-8AB6-4557C55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7514D-D7EE-4681-88FF-0B53428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F4DE-FEBD-4F72-9DC4-33B3602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EE60-EF85-4FCB-943A-93704D81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335F4-F30A-4325-83A5-5FB1F990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812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500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812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500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20205-6E9F-42E3-BF5E-8B16CE6F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27669-9232-48C0-AB11-CDC83B6F8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EE8A3-145C-4F9E-84DD-E3FA79CA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1057A-553B-4466-BBC5-7275BA5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97821-9757-4860-9284-4C0E4AC5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98609-DDD9-473C-B74B-494B3F59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5669-E7C1-497F-B71C-8A86231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2D12B-4E26-4023-AF5D-E5790211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4EDF3-4857-47CB-AECD-D8C8161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525A5-1783-438C-A254-9C1A98F8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82BDC-F88C-4378-A95F-49E8EBC8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7069E-36CE-4BE8-9A9A-A9C70D2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46B8A-907B-407F-A52A-B58A230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812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7500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812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7500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0E146-1CDA-4B63-9023-F25CC4EE32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5ABF-434E-44EE-B9DD-89861AA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41E1-E3C5-48D1-9006-2251F7C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1DB7-6CA4-44B0-85B1-D0DA5B99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6801-A4EB-49FA-9924-E0854F6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F75B-0F49-4A52-A39B-39538A1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F7DE-4451-4F71-8ABC-B7C3B4E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8915400" y="914400"/>
            <a:ext cx="228600" cy="5943600"/>
          </a:xfrm>
          <a:prstGeom prst="rect">
            <a:avLst/>
          </a:prstGeom>
          <a:solidFill>
            <a:srgbClr val="76c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7721640" y="6477120"/>
            <a:ext cx="1371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1029" descr="icon"/>
          <p:cNvPicPr/>
          <p:nvPr/>
        </p:nvPicPr>
        <p:blipFill>
          <a:blip r:embed="rId2"/>
          <a:stretch/>
        </p:blipFill>
        <p:spPr>
          <a:xfrm>
            <a:off x="304920" y="228600"/>
            <a:ext cx="618840" cy="666720"/>
          </a:xfrm>
          <a:prstGeom prst="rect">
            <a:avLst/>
          </a:prstGeom>
          <a:ln w="0">
            <a:noFill/>
          </a:ln>
        </p:spPr>
      </p:pic>
      <p:pic>
        <p:nvPicPr>
          <p:cNvPr id="5" name="图片 1030" descr="s_01"/>
          <p:cNvPicPr/>
          <p:nvPr/>
        </p:nvPicPr>
        <p:blipFill>
          <a:blip r:embed="rId3"/>
          <a:stretch/>
        </p:blipFill>
        <p:spPr>
          <a:xfrm>
            <a:off x="6580080" y="609480"/>
            <a:ext cx="511200" cy="486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1031" descr="s_02"/>
          <p:cNvPicPr/>
          <p:nvPr/>
        </p:nvPicPr>
        <p:blipFill>
          <a:blip r:embed="rId4"/>
          <a:stretch/>
        </p:blipFill>
        <p:spPr>
          <a:xfrm>
            <a:off x="7215120" y="609480"/>
            <a:ext cx="511200" cy="4860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032" descr="s_03"/>
          <p:cNvPicPr/>
          <p:nvPr/>
        </p:nvPicPr>
        <p:blipFill>
          <a:blip r:embed="rId5"/>
          <a:stretch/>
        </p:blipFill>
        <p:spPr>
          <a:xfrm>
            <a:off x="7848720" y="609480"/>
            <a:ext cx="51120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033" descr="s_04"/>
          <p:cNvPicPr/>
          <p:nvPr/>
        </p:nvPicPr>
        <p:blipFill>
          <a:blip r:embed="rId6"/>
          <a:stretch/>
        </p:blipFill>
        <p:spPr>
          <a:xfrm>
            <a:off x="8480520" y="609480"/>
            <a:ext cx="511200" cy="486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82E6-1C15-484A-849B-BDD72EAAF7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F369-C37A-418D-99F9-F7DC435798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721-C6B7-429E-9FFF-C1E80913ED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049"/>
          <p:cNvSpPr/>
          <p:nvPr/>
        </p:nvSpPr>
        <p:spPr>
          <a:xfrm>
            <a:off x="3666960" y="4186080"/>
            <a:ext cx="1857600" cy="1281240"/>
          </a:xfrm>
          <a:prstGeom prst="rect">
            <a:avLst/>
          </a:prstGeom>
          <a:solidFill>
            <a:srgbClr val="f9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50"/>
          <p:cNvSpPr/>
          <p:nvPr/>
        </p:nvSpPr>
        <p:spPr>
          <a:xfrm>
            <a:off x="1828800" y="2962440"/>
            <a:ext cx="1833480" cy="1238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051"/>
          <p:cNvSpPr/>
          <p:nvPr/>
        </p:nvSpPr>
        <p:spPr>
          <a:xfrm>
            <a:off x="0" y="4199040"/>
            <a:ext cx="1828800" cy="1268280"/>
          </a:xfrm>
          <a:prstGeom prst="rect">
            <a:avLst/>
          </a:prstGeom>
          <a:solidFill>
            <a:srgbClr val="fda9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52"/>
          <p:cNvSpPr/>
          <p:nvPr/>
        </p:nvSpPr>
        <p:spPr>
          <a:xfrm>
            <a:off x="0" y="5460840"/>
            <a:ext cx="9144000" cy="139716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0" y="2957400"/>
            <a:ext cx="1828800" cy="124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54"/>
          <p:cNvSpPr/>
          <p:nvPr/>
        </p:nvSpPr>
        <p:spPr>
          <a:xfrm>
            <a:off x="1828800" y="4195800"/>
            <a:ext cx="1838160" cy="12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55"/>
          <p:cNvSpPr/>
          <p:nvPr/>
        </p:nvSpPr>
        <p:spPr>
          <a:xfrm>
            <a:off x="3662280" y="2957400"/>
            <a:ext cx="1862280" cy="1238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56"/>
          <p:cNvSpPr/>
          <p:nvPr/>
        </p:nvSpPr>
        <p:spPr>
          <a:xfrm>
            <a:off x="0" y="4191120"/>
            <a:ext cx="1828800" cy="1271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57"/>
          <p:cNvSpPr/>
          <p:nvPr/>
        </p:nvSpPr>
        <p:spPr>
          <a:xfrm>
            <a:off x="7353360" y="2957400"/>
            <a:ext cx="1790640" cy="1260720"/>
          </a:xfrm>
          <a:prstGeom prst="rect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58"/>
          <p:cNvSpPr/>
          <p:nvPr/>
        </p:nvSpPr>
        <p:spPr>
          <a:xfrm>
            <a:off x="7354800" y="4206960"/>
            <a:ext cx="1789200" cy="1255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059"/>
          <p:cNvSpPr/>
          <p:nvPr/>
        </p:nvSpPr>
        <p:spPr>
          <a:xfrm>
            <a:off x="5524560" y="2957400"/>
            <a:ext cx="1833480" cy="2505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060"/>
          <p:cNvSpPr/>
          <p:nvPr/>
        </p:nvSpPr>
        <p:spPr>
          <a:xfrm>
            <a:off x="5524560" y="2955960"/>
            <a:ext cx="1833480" cy="2506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61"/>
          <p:cNvSpPr/>
          <p:nvPr/>
        </p:nvSpPr>
        <p:spPr>
          <a:xfrm>
            <a:off x="7353360" y="2957400"/>
            <a:ext cx="1790640" cy="1251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064"/>
          <p:cNvSpPr/>
          <p:nvPr/>
        </p:nvSpPr>
        <p:spPr>
          <a:xfrm>
            <a:off x="7772400" y="6324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7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8D1-B474-4D22-B617-EA2A9894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600" y="1676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Galler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715000" y="2361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099"/>
          <p:cNvSpPr/>
          <p:nvPr/>
        </p:nvSpPr>
        <p:spPr>
          <a:xfrm>
            <a:off x="5638680" y="2438280"/>
            <a:ext cx="76320" cy="228600"/>
          </a:xfrm>
          <a:prstGeom prst="rect">
            <a:avLst/>
          </a:prstGeom>
          <a:solidFill>
            <a:srgbClr val="855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101"/>
          <p:cNvSpPr/>
          <p:nvPr/>
        </p:nvSpPr>
        <p:spPr>
          <a:xfrm>
            <a:off x="1326960" y="6094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公司工作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圆角矩形 13314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24120" y="4703760"/>
            <a:ext cx="4075200" cy="9360"/>
            <a:chOff x="2724120" y="4703760"/>
            <a:chExt cx="4075200" cy="9360"/>
          </a:xfrm>
        </p:grpSpPr>
        <p:sp>
          <p:nvSpPr>
            <p:cNvPr id="334" name="直接连接符 13315"/>
            <p:cNvSpPr/>
            <p:nvPr/>
          </p:nvSpPr>
          <p:spPr>
            <a:xfrm flipH="1">
              <a:off x="2724120" y="4703760"/>
              <a:ext cx="4075200" cy="93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724120" y="4703760"/>
              <a:ext cx="407520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263680" y="3263760"/>
            <a:ext cx="4075200" cy="9720"/>
            <a:chOff x="2263680" y="3263760"/>
            <a:chExt cx="4075200" cy="9720"/>
          </a:xfrm>
        </p:grpSpPr>
        <p:sp>
          <p:nvSpPr>
            <p:cNvPr id="337" name="直接连接符 13316"/>
            <p:cNvSpPr/>
            <p:nvPr/>
          </p:nvSpPr>
          <p:spPr>
            <a:xfrm>
              <a:off x="2263680" y="3263760"/>
              <a:ext cx="4075200" cy="972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263680" y="3263760"/>
              <a:ext cx="407520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椭圆 13317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fcc83"/>
              </a:gs>
              <a:gs pos="100000">
                <a:srgbClr val="ff9600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3318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燕尾形 13319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9" y="0"/>
                </a:lnTo>
                <a:lnTo>
                  <a:pt x="21600" y="10800"/>
                </a:lnTo>
                <a:lnTo>
                  <a:pt x="19369" y="21600"/>
                </a:lnTo>
                <a:lnTo>
                  <a:pt x="0" y="21600"/>
                </a:lnTo>
                <a:lnTo>
                  <a:pt x="2231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燕尾形 13320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9" y="0"/>
                </a:lnTo>
                <a:lnTo>
                  <a:pt x="21600" y="10800"/>
                </a:lnTo>
                <a:lnTo>
                  <a:pt x="19369" y="21600"/>
                </a:lnTo>
                <a:lnTo>
                  <a:pt x="0" y="21600"/>
                </a:lnTo>
                <a:lnTo>
                  <a:pt x="2231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13321"/>
          <p:cNvGrpSpPr/>
          <p:nvPr/>
        </p:nvGrpSpPr>
        <p:grpSpPr>
          <a:xfrm>
            <a:off x="5764320" y="2583000"/>
            <a:ext cx="2458800" cy="2765160"/>
            <a:chOff x="5764320" y="2583000"/>
            <a:chExt cx="2458800" cy="2765160"/>
          </a:xfrm>
        </p:grpSpPr>
        <p:sp>
          <p:nvSpPr>
            <p:cNvPr id="344" name="任意多边形 13322"/>
            <p:cNvSpPr/>
            <p:nvPr/>
          </p:nvSpPr>
          <p:spPr>
            <a:xfrm rot="5400000">
              <a:off x="5610960" y="2736000"/>
              <a:ext cx="2765160" cy="2458800"/>
            </a:xfrm>
            <a:custGeom>
              <a:avLst/>
              <a:gdLst/>
              <a:ahLst/>
              <a:rect l="l" t="t" r="r" b="b"/>
              <a:pathLst>
                <a:path w="21600" h="11533">
                  <a:moveTo>
                    <a:pt x="3695" y="11280"/>
                  </a:moveTo>
                  <a:cubicBezTo>
                    <a:pt x="3684" y="11121"/>
                    <a:pt x="3679" y="10961"/>
                    <a:pt x="3679" y="10799"/>
                  </a:cubicBezTo>
                  <a:cubicBezTo>
                    <a:pt x="3679" y="6866"/>
                    <a:pt x="6867" y="3678"/>
                    <a:pt x="10800" y="3678"/>
                  </a:cubicBezTo>
                  <a:cubicBezTo>
                    <a:pt x="14733" y="3678"/>
                    <a:pt x="17921" y="6866"/>
                    <a:pt x="17921" y="10799"/>
                  </a:cubicBezTo>
                  <a:cubicBezTo>
                    <a:pt x="17921" y="10961"/>
                    <a:pt x="17916" y="11122"/>
                    <a:pt x="17905" y="11280"/>
                  </a:cubicBezTo>
                  <a:lnTo>
                    <a:pt x="21575" y="11529"/>
                  </a:lnTo>
                  <a:cubicBezTo>
                    <a:pt x="21592" y="11289"/>
                    <a:pt x="21600" y="1104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6"/>
                    <a:pt x="8" y="11290"/>
                    <a:pt x="24" y="115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燕尾形 13323"/>
            <p:cNvSpPr/>
            <p:nvPr/>
          </p:nvSpPr>
          <p:spPr>
            <a:xfrm>
              <a:off x="6608520" y="2590560"/>
              <a:ext cx="651960" cy="46800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燕尾形 13324"/>
            <p:cNvSpPr/>
            <p:nvPr/>
          </p:nvSpPr>
          <p:spPr>
            <a:xfrm rot="10800000">
              <a:off x="6638400" y="4879800"/>
              <a:ext cx="497880" cy="46800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8" y="0"/>
                  </a:lnTo>
                  <a:lnTo>
                    <a:pt x="21600" y="10800"/>
                  </a:lnTo>
                  <a:lnTo>
                    <a:pt x="12658" y="21600"/>
                  </a:lnTo>
                  <a:lnTo>
                    <a:pt x="0" y="21600"/>
                  </a:lnTo>
                  <a:lnTo>
                    <a:pt x="8942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燕尾形 13325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4" y="0"/>
                </a:lnTo>
                <a:lnTo>
                  <a:pt x="21600" y="10800"/>
                </a:lnTo>
                <a:lnTo>
                  <a:pt x="20364" y="21600"/>
                </a:lnTo>
                <a:lnTo>
                  <a:pt x="0" y="21600"/>
                </a:lnTo>
                <a:lnTo>
                  <a:pt x="1236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13326"/>
          <p:cNvGrpSpPr/>
          <p:nvPr/>
        </p:nvGrpSpPr>
        <p:grpSpPr>
          <a:xfrm>
            <a:off x="923040" y="2585880"/>
            <a:ext cx="2459160" cy="2766960"/>
            <a:chOff x="923040" y="2585880"/>
            <a:chExt cx="2459160" cy="2766960"/>
          </a:xfrm>
        </p:grpSpPr>
        <p:sp>
          <p:nvSpPr>
            <p:cNvPr id="349" name="任意多边形 13327"/>
            <p:cNvSpPr/>
            <p:nvPr/>
          </p:nvSpPr>
          <p:spPr>
            <a:xfrm flipH="1" rot="16200000">
              <a:off x="771480" y="2736720"/>
              <a:ext cx="2761200" cy="2459160"/>
            </a:xfrm>
            <a:custGeom>
              <a:avLst/>
              <a:gdLst/>
              <a:ahLst/>
              <a:rect l="l" t="t" r="r" b="b"/>
              <a:pathLst>
                <a:path w="21600" h="12119">
                  <a:moveTo>
                    <a:pt x="3695" y="11670"/>
                  </a:moveTo>
                  <a:cubicBezTo>
                    <a:pt x="3660" y="11385"/>
                    <a:pt x="3642" y="11094"/>
                    <a:pt x="3642" y="10799"/>
                  </a:cubicBezTo>
                  <a:cubicBezTo>
                    <a:pt x="3642" y="6846"/>
                    <a:pt x="6847" y="3641"/>
                    <a:pt x="10800" y="3641"/>
                  </a:cubicBezTo>
                  <a:cubicBezTo>
                    <a:pt x="14753" y="3641"/>
                    <a:pt x="17958" y="6846"/>
                    <a:pt x="17958" y="10799"/>
                  </a:cubicBezTo>
                  <a:cubicBezTo>
                    <a:pt x="17958" y="11095"/>
                    <a:pt x="17940" y="11387"/>
                    <a:pt x="17905" y="11671"/>
                  </a:cubicBezTo>
                  <a:lnTo>
                    <a:pt x="21519" y="12114"/>
                  </a:lnTo>
                  <a:cubicBezTo>
                    <a:pt x="21572" y="11684"/>
                    <a:pt x="21599" y="11245"/>
                    <a:pt x="21599" y="10800"/>
                  </a:cubicBezTo>
                  <a:cubicBezTo>
                    <a:pt x="21599" y="4835"/>
                    <a:pt x="16764" y="0"/>
                    <a:pt x="10799" y="0"/>
                  </a:cubicBezTo>
                  <a:cubicBezTo>
                    <a:pt x="4834" y="0"/>
                    <a:pt x="-1" y="4835"/>
                    <a:pt x="-1" y="10800"/>
                  </a:cubicBezTo>
                  <a:cubicBezTo>
                    <a:pt x="-1" y="11246"/>
                    <a:pt x="26" y="11686"/>
                    <a:pt x="79" y="12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燕尾形 13328"/>
            <p:cNvSpPr/>
            <p:nvPr/>
          </p:nvSpPr>
          <p:spPr>
            <a:xfrm>
              <a:off x="2038320" y="259344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燕尾形 13329"/>
            <p:cNvSpPr/>
            <p:nvPr/>
          </p:nvSpPr>
          <p:spPr>
            <a:xfrm rot="10800000">
              <a:off x="2019240" y="4885560"/>
              <a:ext cx="792000" cy="4672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7" y="0"/>
                  </a:lnTo>
                  <a:lnTo>
                    <a:pt x="21600" y="10800"/>
                  </a:lnTo>
                  <a:lnTo>
                    <a:pt x="15627" y="21600"/>
                  </a:lnTo>
                  <a:lnTo>
                    <a:pt x="0" y="21600"/>
                  </a:lnTo>
                  <a:lnTo>
                    <a:pt x="597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矩形 13330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3331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3332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3333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3334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3335"/>
          <p:cNvSpPr/>
          <p:nvPr/>
        </p:nvSpPr>
        <p:spPr>
          <a:xfrm>
            <a:off x="3164040" y="36576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3336"/>
          <p:cNvSpPr/>
          <p:nvPr/>
        </p:nvSpPr>
        <p:spPr>
          <a:xfrm>
            <a:off x="2209680" y="167652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组合 14338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361" name="组合 14339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362" name="任意多边形 14340"/>
              <p:cNvSpPr/>
              <p:nvPr/>
            </p:nvSpPr>
            <p:spPr>
              <a:xfrm>
                <a:off x="1981080" y="4191120"/>
                <a:ext cx="5334120" cy="106668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组合 14341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3200400" y="4114440"/>
                  <a:ext cx="838080" cy="1143000"/>
                  <a:chOff x="3200400" y="4114440"/>
                  <a:chExt cx="838080" cy="1143000"/>
                </a:xfrm>
              </p:grpSpPr>
              <p:sp>
                <p:nvSpPr>
                  <p:cNvPr id="365" name="直接连接符 14342"/>
                  <p:cNvSpPr/>
                  <p:nvPr/>
                </p:nvSpPr>
                <p:spPr>
                  <a:xfrm flipV="1">
                    <a:off x="3200400" y="4114440"/>
                    <a:ext cx="83808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 txBox="1"/>
                  <p:nvPr/>
                </p:nvSpPr>
                <p:spPr>
                  <a:xfrm rot="10800000">
                    <a:off x="3200400" y="4114440"/>
                    <a:ext cx="8380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4114440" y="3886200"/>
                  <a:ext cx="152640" cy="1371600"/>
                  <a:chOff x="4114440" y="3886200"/>
                  <a:chExt cx="152640" cy="1371600"/>
                </a:xfrm>
              </p:grpSpPr>
              <p:sp>
                <p:nvSpPr>
                  <p:cNvPr id="368" name="直接连接符 14343"/>
                  <p:cNvSpPr/>
                  <p:nvPr/>
                </p:nvSpPr>
                <p:spPr>
                  <a:xfrm flipV="1">
                    <a:off x="4114800" y="3886200"/>
                    <a:ext cx="15228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 txBox="1"/>
                  <p:nvPr/>
                </p:nvSpPr>
                <p:spPr>
                  <a:xfrm rot="10800000">
                    <a:off x="4114440" y="3886200"/>
                    <a:ext cx="15228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4800240" y="3962520"/>
                  <a:ext cx="360" cy="1295280"/>
                  <a:chOff x="4800240" y="3962520"/>
                  <a:chExt cx="360" cy="1295280"/>
                </a:xfrm>
              </p:grpSpPr>
              <p:sp>
                <p:nvSpPr>
                  <p:cNvPr id="371" name="直接连接符 14344"/>
                  <p:cNvSpPr/>
                  <p:nvPr/>
                </p:nvSpPr>
                <p:spPr>
                  <a:xfrm flipV="1">
                    <a:off x="4800600" y="396252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 txBox="1"/>
                  <p:nvPr/>
                </p:nvSpPr>
                <p:spPr>
                  <a:xfrm rot="10800000">
                    <a:off x="4800240" y="3962520"/>
                    <a:ext cx="360" cy="12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105520" y="4038120"/>
                  <a:ext cx="457200" cy="1219320"/>
                  <a:chOff x="5105520" y="4038120"/>
                  <a:chExt cx="457200" cy="1219320"/>
                </a:xfrm>
              </p:grpSpPr>
              <p:sp>
                <p:nvSpPr>
                  <p:cNvPr id="374" name="直接连接符 14345"/>
                  <p:cNvSpPr/>
                  <p:nvPr/>
                </p:nvSpPr>
                <p:spPr>
                  <a:xfrm flipH="1" flipV="1">
                    <a:off x="5105520" y="4038120"/>
                    <a:ext cx="45720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 txBox="1"/>
                  <p:nvPr/>
                </p:nvSpPr>
                <p:spPr>
                  <a:xfrm rot="10800000">
                    <a:off x="5105520" y="4038120"/>
                    <a:ext cx="457200" cy="121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5333760" y="4114440"/>
                  <a:ext cx="990360" cy="1143000"/>
                  <a:chOff x="5333760" y="4114440"/>
                  <a:chExt cx="990360" cy="1143000"/>
                </a:xfrm>
              </p:grpSpPr>
              <p:sp>
                <p:nvSpPr>
                  <p:cNvPr id="377" name="直接连接符 14346"/>
                  <p:cNvSpPr/>
                  <p:nvPr/>
                </p:nvSpPr>
                <p:spPr>
                  <a:xfrm flipH="1" flipV="1">
                    <a:off x="5333760" y="4114440"/>
                    <a:ext cx="9903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 txBox="1"/>
                  <p:nvPr/>
                </p:nvSpPr>
                <p:spPr>
                  <a:xfrm rot="10800000">
                    <a:off x="5333760" y="4114440"/>
                    <a:ext cx="990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9" name=""/>
            <p:cNvGrpSpPr/>
            <p:nvPr/>
          </p:nvGrpSpPr>
          <p:grpSpPr>
            <a:xfrm>
              <a:off x="2590560" y="4876920"/>
              <a:ext cx="4114800" cy="360"/>
              <a:chOff x="2590560" y="4876920"/>
              <a:chExt cx="4114800" cy="360"/>
            </a:xfrm>
          </p:grpSpPr>
          <p:sp>
            <p:nvSpPr>
              <p:cNvPr id="380" name="直接连接符 14347"/>
              <p:cNvSpPr/>
              <p:nvPr/>
            </p:nvSpPr>
            <p:spPr>
              <a:xfrm>
                <a:off x="2590560" y="487692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2590560" y="487692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047760" y="4572000"/>
              <a:ext cx="3200400" cy="360"/>
              <a:chOff x="3047760" y="4572000"/>
              <a:chExt cx="3200400" cy="360"/>
            </a:xfrm>
          </p:grpSpPr>
          <p:sp>
            <p:nvSpPr>
              <p:cNvPr id="383" name="直接连接符 14348"/>
              <p:cNvSpPr/>
              <p:nvPr/>
            </p:nvSpPr>
            <p:spPr>
              <a:xfrm>
                <a:off x="3047760" y="4572000"/>
                <a:ext cx="320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3047760" y="457200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352680" y="4343400"/>
              <a:ext cx="2590920" cy="360"/>
              <a:chOff x="3352680" y="4343400"/>
              <a:chExt cx="2590920" cy="360"/>
            </a:xfrm>
          </p:grpSpPr>
          <p:sp>
            <p:nvSpPr>
              <p:cNvPr id="386" name="直接连接符 14349"/>
              <p:cNvSpPr/>
              <p:nvPr/>
            </p:nvSpPr>
            <p:spPr>
              <a:xfrm>
                <a:off x="3352680" y="434340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3352680" y="434340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组合 14350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389" name="图片 14351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任意多边形 14352"/>
            <p:cNvSpPr/>
            <p:nvPr/>
          </p:nvSpPr>
          <p:spPr>
            <a:xfrm>
              <a:off x="457200" y="2144880"/>
              <a:ext cx="2556000" cy="24213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76ca2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4353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392" name="圆角矩形 14354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80adce"/>
                </a:gs>
                <a:gs pos="100000">
                  <a:srgbClr val="97ccf3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4355"/>
            <p:cNvSpPr/>
            <p:nvPr/>
          </p:nvSpPr>
          <p:spPr>
            <a:xfrm>
              <a:off x="1962360" y="5367600"/>
              <a:ext cx="5417280" cy="43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d6ebfa"/>
                </a:gs>
                <a:gs pos="100000">
                  <a:srgbClr val="97ccf3"/>
                </a:gs>
              </a:gsLst>
              <a:lin ang="27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14356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4357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396" name="组合 14358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397" name="图片 14359" descr="pan_03"/>
            <p:cNvPicPr/>
            <p:nvPr/>
          </p:nvPicPr>
          <p:blipFill>
            <a:blip r:embed="rId2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任意多边形 14360"/>
            <p:cNvSpPr/>
            <p:nvPr/>
          </p:nvSpPr>
          <p:spPr>
            <a:xfrm flipH="1">
              <a:off x="6137280" y="2144880"/>
              <a:ext cx="2625840" cy="234540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76ca2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文本框 14361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4362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401" name="椭圆 14363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4182"/>
                </a:gs>
                <a:gs pos="100000">
                  <a:srgbClr val="0066cc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14364"/>
            <p:cNvSpPr/>
            <p:nvPr/>
          </p:nvSpPr>
          <p:spPr>
            <a:xfrm>
              <a:off x="3124080" y="2446200"/>
              <a:ext cx="2864160" cy="1283400"/>
            </a:xfrm>
            <a:prstGeom prst="ellipse">
              <a:avLst/>
            </a:prstGeom>
            <a:gradFill rotWithShape="0">
              <a:gsLst>
                <a:gs pos="0">
                  <a:srgbClr val="9bc7f3"/>
                </a:gs>
                <a:gs pos="100000">
                  <a:srgbClr val="1d8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 14365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14366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ed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14367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caa200"/>
              </a:gs>
              <a:gs pos="100000">
                <a:srgbClr val="ffcc00">
                  <a:alpha val="48235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14368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4369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14370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409" name="任意多边形 14371"/>
            <p:cNvSpPr/>
            <p:nvPr/>
          </p:nvSpPr>
          <p:spPr>
            <a:xfrm>
              <a:off x="414936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14372"/>
            <p:cNvSpPr/>
            <p:nvPr/>
          </p:nvSpPr>
          <p:spPr>
            <a:xfrm>
              <a:off x="403848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14373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412" name="任意多边形 14374"/>
            <p:cNvSpPr/>
            <p:nvPr/>
          </p:nvSpPr>
          <p:spPr>
            <a:xfrm>
              <a:off x="468288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14375"/>
            <p:cNvSpPr/>
            <p:nvPr/>
          </p:nvSpPr>
          <p:spPr>
            <a:xfrm>
              <a:off x="457200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组合 15362"/>
          <p:cNvGrpSpPr/>
          <p:nvPr/>
        </p:nvGrpSpPr>
        <p:grpSpPr>
          <a:xfrm>
            <a:off x="2209680" y="1447920"/>
            <a:ext cx="4495680" cy="4514400"/>
            <a:chOff x="2209680" y="1447920"/>
            <a:chExt cx="4495680" cy="4514400"/>
          </a:xfrm>
        </p:grpSpPr>
        <p:sp>
          <p:nvSpPr>
            <p:cNvPr id="416" name="Puzzle3"/>
            <p:cNvSpPr/>
            <p:nvPr/>
          </p:nvSpPr>
          <p:spPr>
            <a:xfrm>
              <a:off x="4398840" y="1447920"/>
              <a:ext cx="1767240" cy="2399040"/>
            </a:xfrm>
            <a:custGeom>
              <a:avLst/>
              <a:gdLst/>
              <a:ahLst/>
              <a:rect l="l" t="t" r="r" b="b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Puzzle2"/>
            <p:cNvSpPr/>
            <p:nvPr/>
          </p:nvSpPr>
          <p:spPr>
            <a:xfrm>
              <a:off x="3885120" y="3195720"/>
              <a:ext cx="2820240" cy="218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Puzzle4"/>
            <p:cNvSpPr/>
            <p:nvPr/>
          </p:nvSpPr>
          <p:spPr>
            <a:xfrm>
              <a:off x="2793240" y="3168720"/>
              <a:ext cx="1700280" cy="2793600"/>
            </a:xfrm>
            <a:custGeom>
              <a:avLst/>
              <a:gdLst/>
              <a:ahLst/>
              <a:rect l="l" t="t" r="r" b="b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20ae3e"/>
                </a:gs>
                <a:gs pos="100000">
                  <a:srgbClr val="8cd59c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Puzzle1"/>
            <p:cNvSpPr/>
            <p:nvPr/>
          </p:nvSpPr>
          <p:spPr>
            <a:xfrm>
              <a:off x="2209680" y="2173680"/>
              <a:ext cx="2855520" cy="1665000"/>
            </a:xfrm>
            <a:custGeom>
              <a:avLst/>
              <a:gdLst/>
              <a:ahLst/>
              <a:rect l="l" t="t" r="r" b="b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466b9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文本框 15367"/>
          <p:cNvSpPr/>
          <p:nvPr/>
        </p:nvSpPr>
        <p:spPr>
          <a:xfrm>
            <a:off x="640188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5368"/>
          <p:cNvSpPr/>
          <p:nvPr/>
        </p:nvSpPr>
        <p:spPr>
          <a:xfrm>
            <a:off x="762120" y="3352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5369"/>
          <p:cNvSpPr/>
          <p:nvPr/>
        </p:nvSpPr>
        <p:spPr>
          <a:xfrm>
            <a:off x="236232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370"/>
          <p:cNvSpPr/>
          <p:nvPr/>
        </p:nvSpPr>
        <p:spPr>
          <a:xfrm>
            <a:off x="4191120" y="56386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右箭头 16386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6387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圆角矩形 16388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6389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429" name="圆角矩形 16390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76ca2a"/>
                </a:gs>
                <a:gs pos="100000">
                  <a:srgbClr val="e2f4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右箭头 16391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16392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432" name="圆角矩形 16393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cfda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右箭头 16394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16395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435" name="圆角矩形 16396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9600"/>
                </a:gs>
                <a:gs pos="100000">
                  <a:srgbClr val="ffe9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右箭头 16397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6398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6399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6400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椭圆 17410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 17411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855ad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17412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76ca2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827440" y="2384280"/>
            <a:ext cx="1149120" cy="833760"/>
            <a:chOff x="2827440" y="2384280"/>
            <a:chExt cx="1149120" cy="833760"/>
          </a:xfrm>
        </p:grpSpPr>
        <p:sp>
          <p:nvSpPr>
            <p:cNvPr id="445" name="直接连接符 17413"/>
            <p:cNvSpPr/>
            <p:nvPr/>
          </p:nvSpPr>
          <p:spPr>
            <a:xfrm flipH="1" flipV="1">
              <a:off x="2827440" y="2384280"/>
              <a:ext cx="1149120" cy="8337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2827440" y="2384280"/>
              <a:ext cx="1149120" cy="83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31960" y="2417400"/>
            <a:ext cx="1218240" cy="765000"/>
            <a:chOff x="5331960" y="2417400"/>
            <a:chExt cx="1218240" cy="765000"/>
          </a:xfrm>
        </p:grpSpPr>
        <p:sp>
          <p:nvSpPr>
            <p:cNvPr id="448" name="直接连接符 17414"/>
            <p:cNvSpPr/>
            <p:nvPr/>
          </p:nvSpPr>
          <p:spPr>
            <a:xfrm flipV="1">
              <a:off x="5332320" y="2417400"/>
              <a:ext cx="1217880" cy="7650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5331960" y="2417400"/>
              <a:ext cx="1217880" cy="7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533480" y="4367160"/>
            <a:ext cx="25920" cy="1042920"/>
            <a:chOff x="4533480" y="4367160"/>
            <a:chExt cx="25920" cy="1042920"/>
          </a:xfrm>
        </p:grpSpPr>
        <p:sp>
          <p:nvSpPr>
            <p:cNvPr id="451" name="直接连接符 17415"/>
            <p:cNvSpPr/>
            <p:nvPr/>
          </p:nvSpPr>
          <p:spPr>
            <a:xfrm flipH="1">
              <a:off x="4533480" y="436716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4533840" y="436716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7416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7417"/>
          <p:cNvSpPr/>
          <p:nvPr/>
        </p:nvSpPr>
        <p:spPr>
          <a:xfrm>
            <a:off x="77616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17418"/>
          <p:cNvSpPr/>
          <p:nvPr/>
        </p:nvSpPr>
        <p:spPr>
          <a:xfrm>
            <a:off x="648180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76ca2a"/>
                </a:solidFill>
                <a:latin typeface="Arial"/>
                <a:ea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7419"/>
          <p:cNvSpPr/>
          <p:nvPr/>
        </p:nvSpPr>
        <p:spPr>
          <a:xfrm>
            <a:off x="3419640" y="535320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7420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7421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7422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椭圆 18434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18435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18436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燕尾形 18437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燕尾形 18438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燕尾形 18439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1a5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8440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8441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8442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8443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8444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6ca2a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76ca2a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8445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8446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圆角矩形 19458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任意多边形 19459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460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9461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19462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任意多边形 19463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76c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9464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9465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19466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19467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9468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9469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19470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488" name="圆角矩形 19471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19472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ca2a">
                    <a:alpha val="90196"/>
                  </a:srgbClr>
                </a:gs>
                <a:gs pos="50000">
                  <a:srgbClr val="d1edb7"/>
                </a:gs>
                <a:gs pos="100000">
                  <a:srgbClr val="76ca2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19473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19474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492" name="圆角矩形 19475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圆角矩形 19476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a50b2">
                    <a:alpha val="90196"/>
                  </a:srgbClr>
                </a:gs>
                <a:gs pos="50000">
                  <a:srgbClr val="b2c4e5"/>
                </a:gs>
                <a:gs pos="100000">
                  <a:srgbClr val="1a50b2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矩形 19477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19478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496" name="圆角矩形 19479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3600"/>
                </a:gs>
                <a:gs pos="50000">
                  <a:srgbClr val="ff9600"/>
                </a:gs>
                <a:gs pos="100000">
                  <a:srgbClr val="5c3600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9480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600">
                    <a:alpha val="90196"/>
                  </a:srgbClr>
                </a:gs>
                <a:gs pos="50000">
                  <a:srgbClr val="ffdca9"/>
                </a:gs>
                <a:gs pos="100000">
                  <a:srgbClr val="ff96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矩形 19481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19482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19483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6c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等腰三角形 19484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a50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组合 20482"/>
          <p:cNvGrpSpPr/>
          <p:nvPr/>
        </p:nvGrpSpPr>
        <p:grpSpPr>
          <a:xfrm>
            <a:off x="2477520" y="1933560"/>
            <a:ext cx="4217760" cy="4161960"/>
            <a:chOff x="2477520" y="1933560"/>
            <a:chExt cx="4217760" cy="4161960"/>
          </a:xfrm>
        </p:grpSpPr>
        <p:sp>
          <p:nvSpPr>
            <p:cNvPr id="504" name="等腰三角形 20483"/>
            <p:cNvSpPr/>
            <p:nvPr/>
          </p:nvSpPr>
          <p:spPr>
            <a:xfrm rot="10800000">
              <a:off x="3967200" y="504324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等腰三角形 20484"/>
            <p:cNvSpPr/>
            <p:nvPr/>
          </p:nvSpPr>
          <p:spPr>
            <a:xfrm>
              <a:off x="3984480" y="193356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76ca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等腰三角形 20485"/>
            <p:cNvSpPr/>
            <p:nvPr/>
          </p:nvSpPr>
          <p:spPr>
            <a:xfrm rot="7186200">
              <a:off x="5344560" y="424512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76ca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20486"/>
            <p:cNvSpPr/>
            <p:nvPr/>
          </p:nvSpPr>
          <p:spPr>
            <a:xfrm rot="3597000">
              <a:off x="5341680" y="2711520"/>
              <a:ext cx="1191960" cy="105228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等腰三角形 20487"/>
            <p:cNvSpPr/>
            <p:nvPr/>
          </p:nvSpPr>
          <p:spPr>
            <a:xfrm rot="14374200">
              <a:off x="2637360" y="4253760"/>
              <a:ext cx="1192320" cy="1053720"/>
            </a:xfrm>
            <a:prstGeom prst="triangle">
              <a:avLst>
                <a:gd name="adj" fmla="val 50000"/>
              </a:avLst>
            </a:prstGeom>
            <a:solidFill>
              <a:srgbClr val="76ca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等腰三角形 20488"/>
            <p:cNvSpPr/>
            <p:nvPr/>
          </p:nvSpPr>
          <p:spPr>
            <a:xfrm rot="17985000">
              <a:off x="2641320" y="270720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309120" y="5429160"/>
              <a:ext cx="1184400" cy="360"/>
              <a:chOff x="3309120" y="5429160"/>
              <a:chExt cx="1184400" cy="360"/>
            </a:xfrm>
          </p:grpSpPr>
          <p:sp>
            <p:nvSpPr>
              <p:cNvPr id="511" name="直接连接符 20489"/>
              <p:cNvSpPr/>
              <p:nvPr/>
            </p:nvSpPr>
            <p:spPr>
              <a:xfrm>
                <a:off x="3309120" y="5429160"/>
                <a:ext cx="11844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3309120" y="5429160"/>
                <a:ext cx="118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矩形 20490"/>
          <p:cNvSpPr/>
          <p:nvPr/>
        </p:nvSpPr>
        <p:spPr>
          <a:xfrm>
            <a:off x="184500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0491"/>
          <p:cNvSpPr/>
          <p:nvPr/>
        </p:nvSpPr>
        <p:spPr>
          <a:xfrm>
            <a:off x="76716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0492"/>
          <p:cNvSpPr/>
          <p:nvPr/>
        </p:nvSpPr>
        <p:spPr>
          <a:xfrm>
            <a:off x="76716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20493"/>
          <p:cNvSpPr/>
          <p:nvPr/>
        </p:nvSpPr>
        <p:spPr>
          <a:xfrm>
            <a:off x="712188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20494"/>
          <p:cNvSpPr/>
          <p:nvPr/>
        </p:nvSpPr>
        <p:spPr>
          <a:xfrm>
            <a:off x="712188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0495"/>
          <p:cNvSpPr/>
          <p:nvPr/>
        </p:nvSpPr>
        <p:spPr>
          <a:xfrm>
            <a:off x="589320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六边形 20496"/>
          <p:cNvSpPr/>
          <p:nvPr/>
        </p:nvSpPr>
        <p:spPr>
          <a:xfrm>
            <a:off x="3564000" y="3081240"/>
            <a:ext cx="2093760" cy="1811520"/>
          </a:xfrm>
          <a:prstGeom prst="hexagon">
            <a:avLst>
              <a:gd name="adj" fmla="val 2889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333600" y="5457960"/>
            <a:ext cx="1229040" cy="360"/>
            <a:chOff x="3333600" y="5457960"/>
            <a:chExt cx="1229040" cy="360"/>
          </a:xfrm>
        </p:grpSpPr>
        <p:sp>
          <p:nvSpPr>
            <p:cNvPr id="521" name="直接连接符 20497"/>
            <p:cNvSpPr/>
            <p:nvPr/>
          </p:nvSpPr>
          <p:spPr>
            <a:xfrm>
              <a:off x="3333600" y="545796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3333600" y="5457960"/>
              <a:ext cx="122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668480" y="2451240"/>
            <a:ext cx="1229040" cy="360"/>
            <a:chOff x="4668480" y="2451240"/>
            <a:chExt cx="1229040" cy="360"/>
          </a:xfrm>
        </p:grpSpPr>
        <p:sp>
          <p:nvSpPr>
            <p:cNvPr id="524" name="直接连接符 20498"/>
            <p:cNvSpPr/>
            <p:nvPr/>
          </p:nvSpPr>
          <p:spPr>
            <a:xfrm flipH="1">
              <a:off x="466848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4668840" y="245124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文本框 20499"/>
          <p:cNvSpPr/>
          <p:nvPr/>
        </p:nvSpPr>
        <p:spPr>
          <a:xfrm>
            <a:off x="352584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255760" y="3286080"/>
            <a:ext cx="1228680" cy="360"/>
            <a:chOff x="2255760" y="3286080"/>
            <a:chExt cx="1228680" cy="360"/>
          </a:xfrm>
        </p:grpSpPr>
        <p:sp>
          <p:nvSpPr>
            <p:cNvPr id="528" name="直接连接符 20500"/>
            <p:cNvSpPr/>
            <p:nvPr/>
          </p:nvSpPr>
          <p:spPr>
            <a:xfrm>
              <a:off x="225576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255760" y="328608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55760" y="4705200"/>
            <a:ext cx="1228680" cy="360"/>
            <a:chOff x="2255760" y="4705200"/>
            <a:chExt cx="1228680" cy="360"/>
          </a:xfrm>
        </p:grpSpPr>
        <p:sp>
          <p:nvSpPr>
            <p:cNvPr id="531" name="直接连接符 20501"/>
            <p:cNvSpPr/>
            <p:nvPr/>
          </p:nvSpPr>
          <p:spPr>
            <a:xfrm>
              <a:off x="225576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2255760" y="4705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897160" y="3303720"/>
            <a:ext cx="1229040" cy="360"/>
            <a:chOff x="5897160" y="3303720"/>
            <a:chExt cx="1229040" cy="360"/>
          </a:xfrm>
        </p:grpSpPr>
        <p:sp>
          <p:nvSpPr>
            <p:cNvPr id="534" name="直接连接符 20502"/>
            <p:cNvSpPr/>
            <p:nvPr/>
          </p:nvSpPr>
          <p:spPr>
            <a:xfrm flipH="1">
              <a:off x="589716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5897520" y="3303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897160" y="4675320"/>
            <a:ext cx="1229040" cy="360"/>
            <a:chOff x="5897160" y="4675320"/>
            <a:chExt cx="1229040" cy="360"/>
          </a:xfrm>
        </p:grpSpPr>
        <p:sp>
          <p:nvSpPr>
            <p:cNvPr id="537" name="直接连接符 20503"/>
            <p:cNvSpPr/>
            <p:nvPr/>
          </p:nvSpPr>
          <p:spPr>
            <a:xfrm flipH="1">
              <a:off x="589716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897520" y="4675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圆角矩形 20504"/>
          <p:cNvSpPr/>
          <p:nvPr/>
        </p:nvSpPr>
        <p:spPr>
          <a:xfrm>
            <a:off x="44928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a5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20505"/>
          <p:cNvSpPr/>
          <p:nvPr/>
        </p:nvSpPr>
        <p:spPr>
          <a:xfrm>
            <a:off x="44928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图片 21506" descr="light_shadow_m"/>
          <p:cNvPicPr/>
          <p:nvPr/>
        </p:nvPicPr>
        <p:blipFill>
          <a:blip r:embed="rId1"/>
          <a:stretch/>
        </p:blipFill>
        <p:spPr>
          <a:xfrm rot="18480600">
            <a:off x="1344600" y="35607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543" name="任意多边形 21507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任意多边形 21508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21509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546" name="任意多边形 21510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21511"/>
            <p:cNvSpPr/>
            <p:nvPr/>
          </p:nvSpPr>
          <p:spPr>
            <a:xfrm>
              <a:off x="4397040" y="32050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任意多边形 21512"/>
          <p:cNvSpPr/>
          <p:nvPr/>
        </p:nvSpPr>
        <p:spPr>
          <a:xfrm>
            <a:off x="2386080" y="29671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1513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21514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1515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21516" descr="circuler_1"/>
          <p:cNvPicPr/>
          <p:nvPr/>
        </p:nvPicPr>
        <p:blipFill>
          <a:blip r:embed="rId2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53" name="椭圆 21517"/>
          <p:cNvSpPr/>
          <p:nvPr/>
        </p:nvSpPr>
        <p:spPr>
          <a:xfrm>
            <a:off x="1122480" y="42703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21518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21519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21520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21521" descr="circuler_1"/>
          <p:cNvPicPr/>
          <p:nvPr/>
        </p:nvPicPr>
        <p:blipFill>
          <a:blip r:embed="rId3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58" name="椭圆 21522"/>
          <p:cNvSpPr/>
          <p:nvPr/>
        </p:nvSpPr>
        <p:spPr>
          <a:xfrm>
            <a:off x="621504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1523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21524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561" name="组合 21525"/>
            <p:cNvGrpSpPr/>
            <p:nvPr/>
          </p:nvGrpSpPr>
          <p:grpSpPr>
            <a:xfrm>
              <a:off x="6549840" y="5281560"/>
              <a:ext cx="1080720" cy="491040"/>
              <a:chOff x="6549840" y="5281560"/>
              <a:chExt cx="1080720" cy="491040"/>
            </a:xfrm>
          </p:grpSpPr>
          <p:sp>
            <p:nvSpPr>
              <p:cNvPr id="562" name="新月形 21526"/>
              <p:cNvSpPr/>
              <p:nvPr/>
            </p:nvSpPr>
            <p:spPr>
              <a:xfrm flipH="1" flipV="1" rot="3964800">
                <a:off x="713844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新月形 21527"/>
              <p:cNvSpPr/>
              <p:nvPr/>
            </p:nvSpPr>
            <p:spPr>
              <a:xfrm flipH="1" flipV="1" rot="4780200">
                <a:off x="701712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新月形 21528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新月形 21529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组合 21530"/>
            <p:cNvGrpSpPr/>
            <p:nvPr/>
          </p:nvGrpSpPr>
          <p:grpSpPr>
            <a:xfrm>
              <a:off x="6320520" y="5287680"/>
              <a:ext cx="1079640" cy="515880"/>
              <a:chOff x="6320520" y="5287680"/>
              <a:chExt cx="1079640" cy="515880"/>
            </a:xfrm>
          </p:grpSpPr>
          <p:sp>
            <p:nvSpPr>
              <p:cNvPr id="567" name="新月形 21531"/>
              <p:cNvSpPr/>
              <p:nvPr/>
            </p:nvSpPr>
            <p:spPr>
              <a:xfrm flipH="1" flipV="1" rot="5317800">
                <a:off x="69091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新月形 21532"/>
              <p:cNvSpPr/>
              <p:nvPr/>
            </p:nvSpPr>
            <p:spPr>
              <a:xfrm flipH="1" flipV="1" rot="6133800">
                <a:off x="677916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新月形 21533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新月形 21534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椭圆 21535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21536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图片 21537" descr="circuler_1"/>
          <p:cNvPicPr/>
          <p:nvPr/>
        </p:nvPicPr>
        <p:blipFill>
          <a:blip r:embed="rId4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椭圆 21538"/>
          <p:cNvSpPr/>
          <p:nvPr/>
        </p:nvSpPr>
        <p:spPr>
          <a:xfrm>
            <a:off x="374328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任意多边形 21539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21540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577" name="组合 21541"/>
            <p:cNvGrpSpPr/>
            <p:nvPr/>
          </p:nvGrpSpPr>
          <p:grpSpPr>
            <a:xfrm>
              <a:off x="4078080" y="5281560"/>
              <a:ext cx="1080720" cy="491040"/>
              <a:chOff x="4078080" y="5281560"/>
              <a:chExt cx="1080720" cy="491040"/>
            </a:xfrm>
          </p:grpSpPr>
          <p:sp>
            <p:nvSpPr>
              <p:cNvPr id="578" name="新月形 21542"/>
              <p:cNvSpPr/>
              <p:nvPr/>
            </p:nvSpPr>
            <p:spPr>
              <a:xfrm flipH="1" flipV="1" rot="3964800">
                <a:off x="466668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新月形 21543"/>
              <p:cNvSpPr/>
              <p:nvPr/>
            </p:nvSpPr>
            <p:spPr>
              <a:xfrm flipH="1" flipV="1" rot="4780200">
                <a:off x="4545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新月形 21544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新月形 21545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21546"/>
            <p:cNvGrpSpPr/>
            <p:nvPr/>
          </p:nvGrpSpPr>
          <p:grpSpPr>
            <a:xfrm>
              <a:off x="3848760" y="5287680"/>
              <a:ext cx="1079640" cy="515880"/>
              <a:chOff x="3848760" y="5287680"/>
              <a:chExt cx="1079640" cy="515880"/>
            </a:xfrm>
          </p:grpSpPr>
          <p:sp>
            <p:nvSpPr>
              <p:cNvPr id="583" name="新月形 21547"/>
              <p:cNvSpPr/>
              <p:nvPr/>
            </p:nvSpPr>
            <p:spPr>
              <a:xfrm flipH="1" flipV="1" rot="5317800">
                <a:off x="443736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新月形 21548"/>
              <p:cNvSpPr/>
              <p:nvPr/>
            </p:nvSpPr>
            <p:spPr>
              <a:xfrm flipH="1" flipV="1" rot="6133800">
                <a:off x="430740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新月形 21549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新月形 21550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7" name="图片 21551" descr="light_shadow_m"/>
          <p:cNvPicPr/>
          <p:nvPr/>
        </p:nvPicPr>
        <p:blipFill>
          <a:blip r:embed="rId5"/>
          <a:stretch/>
        </p:blipFill>
        <p:spPr>
          <a:xfrm rot="3050400">
            <a:off x="4367160" y="356040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588" name="矩形 21552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1553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1554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21555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592" name="组合 21556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593" name="圆角矩形 21557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bacb"/>
                  </a:gs>
                  <a:gs pos="50000">
                    <a:srgbClr val="003366">
                      <a:alpha val="90196"/>
                    </a:srgbClr>
                  </a:gs>
                  <a:gs pos="100000">
                    <a:srgbClr val="a9ba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圆角矩形 21558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6ca2a">
                      <a:alpha val="90196"/>
                    </a:srgbClr>
                  </a:gs>
                  <a:gs pos="50000">
                    <a:srgbClr val="bce597"/>
                  </a:gs>
                  <a:gs pos="100000">
                    <a:srgbClr val="76ca2a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矩形 21559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矩形 21560"/>
          <p:cNvSpPr/>
          <p:nvPr/>
        </p:nvSpPr>
        <p:spPr>
          <a:xfrm>
            <a:off x="243828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21561"/>
          <p:cNvGrpSpPr/>
          <p:nvPr/>
        </p:nvGrpSpPr>
        <p:grpSpPr>
          <a:xfrm>
            <a:off x="1216800" y="5281560"/>
            <a:ext cx="1310040" cy="522000"/>
            <a:chOff x="1216800" y="5281560"/>
            <a:chExt cx="1310040" cy="522000"/>
          </a:xfrm>
        </p:grpSpPr>
        <p:grpSp>
          <p:nvGrpSpPr>
            <p:cNvPr id="598" name="组合 21562"/>
            <p:cNvGrpSpPr/>
            <p:nvPr/>
          </p:nvGrpSpPr>
          <p:grpSpPr>
            <a:xfrm>
              <a:off x="1446120" y="5281560"/>
              <a:ext cx="1080720" cy="491040"/>
              <a:chOff x="1446120" y="5281560"/>
              <a:chExt cx="1080720" cy="491040"/>
            </a:xfrm>
          </p:grpSpPr>
          <p:sp>
            <p:nvSpPr>
              <p:cNvPr id="599" name="新月形 21563"/>
              <p:cNvSpPr/>
              <p:nvPr/>
            </p:nvSpPr>
            <p:spPr>
              <a:xfrm flipH="1" flipV="1" rot="3964800">
                <a:off x="203472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新月形 21564"/>
              <p:cNvSpPr/>
              <p:nvPr/>
            </p:nvSpPr>
            <p:spPr>
              <a:xfrm flipH="1" flipV="1" rot="4780200">
                <a:off x="191340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新月形 21565"/>
              <p:cNvSpPr/>
              <p:nvPr/>
            </p:nvSpPr>
            <p:spPr>
              <a:xfrm flipH="1" flipV="1" rot="5076000">
                <a:off x="183888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新月形 21566"/>
              <p:cNvSpPr/>
              <p:nvPr/>
            </p:nvSpPr>
            <p:spPr>
              <a:xfrm flipH="1" flipV="1" rot="5608200">
                <a:off x="174852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1567"/>
            <p:cNvGrpSpPr/>
            <p:nvPr/>
          </p:nvGrpSpPr>
          <p:grpSpPr>
            <a:xfrm>
              <a:off x="1216800" y="5287680"/>
              <a:ext cx="1079640" cy="515880"/>
              <a:chOff x="1216800" y="5287680"/>
              <a:chExt cx="1079640" cy="515880"/>
            </a:xfrm>
          </p:grpSpPr>
          <p:sp>
            <p:nvSpPr>
              <p:cNvPr id="604" name="新月形 21568"/>
              <p:cNvSpPr/>
              <p:nvPr/>
            </p:nvSpPr>
            <p:spPr>
              <a:xfrm flipH="1" flipV="1" rot="5317800">
                <a:off x="180540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新月形 21569"/>
              <p:cNvSpPr/>
              <p:nvPr/>
            </p:nvSpPr>
            <p:spPr>
              <a:xfrm flipH="1" flipV="1" rot="6133800">
                <a:off x="167544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新月形 21570"/>
              <p:cNvSpPr/>
              <p:nvPr/>
            </p:nvSpPr>
            <p:spPr>
              <a:xfrm flipH="1" flipV="1" rot="6429000">
                <a:off x="160236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新月形 21571"/>
              <p:cNvSpPr/>
              <p:nvPr/>
            </p:nvSpPr>
            <p:spPr>
              <a:xfrm flipH="1" flipV="1" rot="6961200">
                <a:off x="151596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文本框 21572"/>
          <p:cNvSpPr/>
          <p:nvPr/>
        </p:nvSpPr>
        <p:spPr>
          <a:xfrm>
            <a:off x="685800" y="10666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组合 22530"/>
          <p:cNvGrpSpPr/>
          <p:nvPr/>
        </p:nvGrpSpPr>
        <p:grpSpPr>
          <a:xfrm>
            <a:off x="2077200" y="1377720"/>
            <a:ext cx="4462920" cy="3133440"/>
            <a:chOff x="2077200" y="1377720"/>
            <a:chExt cx="4462920" cy="3133440"/>
          </a:xfrm>
        </p:grpSpPr>
        <p:sp>
          <p:nvSpPr>
            <p:cNvPr id="611" name="椭圆 22531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22532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22533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2534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6e90c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22535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528d1d"/>
                </a:gs>
                <a:gs pos="100000">
                  <a:srgbClr val="76ca2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22536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133a8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22537"/>
            <p:cNvSpPr/>
            <p:nvPr/>
          </p:nvSpPr>
          <p:spPr>
            <a:xfrm flipH="1" rot="20602200">
              <a:off x="225468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600"/>
                </a:gs>
                <a:gs pos="100000">
                  <a:srgbClr val="7645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22538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22539"/>
            <p:cNvSpPr/>
            <p:nvPr/>
          </p:nvSpPr>
          <p:spPr>
            <a:xfrm rot="20539200">
              <a:off x="437904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22540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22541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22542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22543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文本框 22544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22545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文本框 22546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22547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2548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文本框 22549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肘形连接符 22550"/>
          <p:cNvCxnSpPr/>
          <p:nvPr/>
        </p:nvCxnSpPr>
        <p:spPr>
          <a:xfrm flipH="1">
            <a:off x="5692320" y="1623960"/>
            <a:ext cx="19296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31" name="文本框 22551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肘形连接符 22552"/>
          <p:cNvCxnSpPr/>
          <p:nvPr/>
        </p:nvCxnSpPr>
        <p:spPr>
          <a:xfrm>
            <a:off x="2494080" y="23320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33" name="文本框 22553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肘形连接符 22554"/>
          <p:cNvCxnSpPr/>
          <p:nvPr/>
        </p:nvCxnSpPr>
        <p:spPr>
          <a:xfrm>
            <a:off x="3922560" y="1565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35" name="文本框 22555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肘形连接符 22556"/>
          <p:cNvCxnSpPr/>
          <p:nvPr/>
        </p:nvCxnSpPr>
        <p:spPr>
          <a:xfrm flipH="1" flipV="1">
            <a:off x="5884200" y="31572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37" name="文本框 22557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肘形连接符 22558"/>
          <p:cNvCxnSpPr>
            <a:stCxn id="637" idx="3"/>
          </p:cNvCxnSpPr>
          <p:nvPr/>
        </p:nvCxnSpPr>
        <p:spPr>
          <a:xfrm flipV="1">
            <a:off x="3200040" y="39384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39" name="组合 22559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640" name="组合 22560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641" name="棱台 22561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棱台 22562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1a50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棱台 22563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棱台 22564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矩形 22565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矩形 22566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矩形 22567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矩形 22568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棱台 22569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棱台 22570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76ca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矩形 22571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矩形 22572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任意多边形 22573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3425760" y="4487400"/>
              <a:ext cx="187200" cy="206280"/>
              <a:chOff x="3425760" y="4487400"/>
              <a:chExt cx="187200" cy="206280"/>
            </a:xfrm>
          </p:grpSpPr>
          <p:sp>
            <p:nvSpPr>
              <p:cNvPr id="655" name="直接连接符 22574"/>
              <p:cNvSpPr/>
              <p:nvPr/>
            </p:nvSpPr>
            <p:spPr>
              <a:xfrm flipV="1">
                <a:off x="3425760" y="4487400"/>
                <a:ext cx="18720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 rot="10800000">
                <a:off x="3425760" y="4487400"/>
                <a:ext cx="18720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343120" y="4492440"/>
              <a:ext cx="190440" cy="222480"/>
              <a:chOff x="5343120" y="4492440"/>
              <a:chExt cx="190440" cy="222480"/>
            </a:xfrm>
          </p:grpSpPr>
          <p:sp>
            <p:nvSpPr>
              <p:cNvPr id="658" name="直接连接符 22575"/>
              <p:cNvSpPr/>
              <p:nvPr/>
            </p:nvSpPr>
            <p:spPr>
              <a:xfrm flipH="1" flipV="1">
                <a:off x="5343120" y="44924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5343120" y="44924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圆角矩形 5121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5122"/>
          <p:cNvSpPr/>
          <p:nvPr/>
        </p:nvSpPr>
        <p:spPr>
          <a:xfrm>
            <a:off x="3657600" y="2590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5123"/>
          <p:cNvSpPr/>
          <p:nvPr/>
        </p:nvSpPr>
        <p:spPr>
          <a:xfrm>
            <a:off x="3657600" y="31240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9600"/>
              </a:gs>
              <a:gs pos="100000">
                <a:srgbClr val="ffd5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5124"/>
          <p:cNvSpPr/>
          <p:nvPr/>
        </p:nvSpPr>
        <p:spPr>
          <a:xfrm>
            <a:off x="3657600" y="36576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5125"/>
          <p:cNvSpPr/>
          <p:nvPr/>
        </p:nvSpPr>
        <p:spPr>
          <a:xfrm>
            <a:off x="3657600" y="41911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9600"/>
              </a:gs>
              <a:gs pos="100000">
                <a:srgbClr val="ffd5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5126"/>
          <p:cNvSpPr/>
          <p:nvPr/>
        </p:nvSpPr>
        <p:spPr>
          <a:xfrm>
            <a:off x="3657600" y="47242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5127"/>
          <p:cNvSpPr/>
          <p:nvPr/>
        </p:nvSpPr>
        <p:spPr>
          <a:xfrm>
            <a:off x="1523880" y="2743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76ca2a"/>
              </a:gs>
              <a:gs pos="50000">
                <a:srgbClr val="9cd964"/>
              </a:gs>
              <a:gs pos="100000">
                <a:srgbClr val="76ca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5128"/>
          <p:cNvSpPr/>
          <p:nvPr/>
        </p:nvSpPr>
        <p:spPr>
          <a:xfrm>
            <a:off x="1523880" y="32767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9600"/>
              </a:gs>
              <a:gs pos="50000">
                <a:srgbClr val="ffb346"/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5129"/>
          <p:cNvSpPr/>
          <p:nvPr/>
        </p:nvSpPr>
        <p:spPr>
          <a:xfrm>
            <a:off x="1523880" y="38098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76ca2a"/>
              </a:gs>
              <a:gs pos="50000">
                <a:srgbClr val="9cd964"/>
              </a:gs>
              <a:gs pos="100000">
                <a:srgbClr val="76ca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5130"/>
          <p:cNvSpPr/>
          <p:nvPr/>
        </p:nvSpPr>
        <p:spPr>
          <a:xfrm>
            <a:off x="1523880" y="43434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9600"/>
              </a:gs>
              <a:gs pos="50000">
                <a:srgbClr val="ffb346"/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5131"/>
          <p:cNvSpPr/>
          <p:nvPr/>
        </p:nvSpPr>
        <p:spPr>
          <a:xfrm>
            <a:off x="1523880" y="48769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76ca2a"/>
              </a:gs>
              <a:gs pos="50000">
                <a:srgbClr val="9cd964"/>
              </a:gs>
              <a:gs pos="100000">
                <a:srgbClr val="76ca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圆角矩形 5133"/>
          <p:cNvSpPr/>
          <p:nvPr/>
        </p:nvSpPr>
        <p:spPr>
          <a:xfrm>
            <a:off x="121932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圆角矩形 23554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3555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Arial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23556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3557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肘形连接符 23558"/>
          <p:cNvCxnSpPr>
            <a:stCxn id="664" idx="1"/>
            <a:endCxn id="666" idx="3"/>
          </p:cNvCxnSpPr>
          <p:nvPr/>
        </p:nvCxnSpPr>
        <p:spPr>
          <a:xfrm flipH="1">
            <a:off x="5105160" y="1980000"/>
            <a:ext cx="24840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667" name="肘形连接符 23559"/>
          <p:cNvCxnSpPr>
            <a:stCxn id="663" idx="1"/>
            <a:endCxn id="668" idx="3"/>
          </p:cNvCxnSpPr>
          <p:nvPr/>
        </p:nvCxnSpPr>
        <p:spPr>
          <a:xfrm flipH="1">
            <a:off x="5601600" y="2284920"/>
            <a:ext cx="437400" cy="367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69" name="组合 23560"/>
          <p:cNvGrpSpPr/>
          <p:nvPr/>
        </p:nvGrpSpPr>
        <p:grpSpPr>
          <a:xfrm>
            <a:off x="533520" y="2286360"/>
            <a:ext cx="2804400" cy="2799000"/>
            <a:chOff x="533520" y="2286360"/>
            <a:chExt cx="2804400" cy="2799000"/>
          </a:xfrm>
        </p:grpSpPr>
        <p:pic>
          <p:nvPicPr>
            <p:cNvPr id="670" name="图片 23561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任意多边形 23562"/>
            <p:cNvSpPr/>
            <p:nvPr/>
          </p:nvSpPr>
          <p:spPr>
            <a:xfrm flipH="1" flipV="1" rot="5400000">
              <a:off x="-75600" y="2916720"/>
              <a:ext cx="2593080" cy="13712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76ca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3563"/>
            <p:cNvSpPr/>
            <p:nvPr/>
          </p:nvSpPr>
          <p:spPr>
            <a:xfrm flipH="1" flipV="1" rot="16490400">
              <a:off x="1059120" y="2850480"/>
              <a:ext cx="2667600" cy="167004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1" y="22738"/>
                    <a:pt x="-1" y="2217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  <a:cubicBezTo>
                    <a:pt x="43199" y="23488"/>
                    <a:pt x="42957" y="25320"/>
                    <a:pt x="42503" y="27060"/>
                  </a:cubicBezTo>
                </a:path>
                <a:path stroke="0" w="43200" h="27056">
                  <a:moveTo>
                    <a:pt x="42499" y="27055"/>
                  </a:moveTo>
                  <a:cubicBezTo>
                    <a:pt x="40328" y="25504"/>
                    <a:pt x="39070" y="23656"/>
                    <a:pt x="39070" y="21672"/>
                  </a:cubicBezTo>
                  <a:cubicBezTo>
                    <a:pt x="39070" y="16176"/>
                    <a:pt x="48726" y="11721"/>
                    <a:pt x="60637" y="11721"/>
                  </a:cubicBezTo>
                  <a:cubicBezTo>
                    <a:pt x="72548" y="11721"/>
                    <a:pt x="82204" y="16176"/>
                    <a:pt x="82204" y="21672"/>
                  </a:cubicBezTo>
                  <a:cubicBezTo>
                    <a:pt x="82204" y="26172"/>
                    <a:pt x="75729" y="29975"/>
                    <a:pt x="66848" y="31204"/>
                  </a:cubicBezTo>
                  <a:lnTo>
                    <a:pt x="66" y="23297"/>
                  </a:lnTo>
                  <a:close/>
                </a:path>
              </a:pathLst>
            </a:cu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文本框 23564"/>
            <p:cNvSpPr/>
            <p:nvPr/>
          </p:nvSpPr>
          <p:spPr>
            <a:xfrm>
              <a:off x="761760" y="31410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23565"/>
            <p:cNvSpPr/>
            <p:nvPr/>
          </p:nvSpPr>
          <p:spPr>
            <a:xfrm>
              <a:off x="1981080" y="35989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组合 23566"/>
            <p:cNvGrpSpPr/>
            <p:nvPr/>
          </p:nvGrpSpPr>
          <p:grpSpPr>
            <a:xfrm>
              <a:off x="1439280" y="3257640"/>
              <a:ext cx="1898640" cy="1730880"/>
              <a:chOff x="1439280" y="3257640"/>
              <a:chExt cx="1898640" cy="1730880"/>
            </a:xfrm>
          </p:grpSpPr>
          <p:grpSp>
            <p:nvGrpSpPr>
              <p:cNvPr id="676" name="组合 23567"/>
              <p:cNvGrpSpPr/>
              <p:nvPr/>
            </p:nvGrpSpPr>
            <p:grpSpPr>
              <a:xfrm>
                <a:off x="1877040" y="3257640"/>
                <a:ext cx="1460880" cy="1714320"/>
                <a:chOff x="1877040" y="3257640"/>
                <a:chExt cx="1460880" cy="1714320"/>
              </a:xfrm>
            </p:grpSpPr>
            <p:sp>
              <p:nvSpPr>
                <p:cNvPr id="677" name="新月形 23568"/>
                <p:cNvSpPr/>
                <p:nvPr/>
              </p:nvSpPr>
              <p:spPr>
                <a:xfrm flipH="1" flipV="1" rot="1528800">
                  <a:off x="2691000" y="32626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新月形 23569"/>
                <p:cNvSpPr/>
                <p:nvPr/>
              </p:nvSpPr>
              <p:spPr>
                <a:xfrm flipH="1" flipV="1" rot="2344200">
                  <a:off x="2580480" y="3471480"/>
                  <a:ext cx="3474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新月形 23570"/>
                <p:cNvSpPr/>
                <p:nvPr/>
              </p:nvSpPr>
              <p:spPr>
                <a:xfrm flipH="1" flipV="1" rot="2640000">
                  <a:off x="2488680" y="35740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新月形 23571"/>
                <p:cNvSpPr/>
                <p:nvPr/>
              </p:nvSpPr>
              <p:spPr>
                <a:xfrm flipH="1" flipV="1" rot="3172200">
                  <a:off x="2376000" y="3691800"/>
                  <a:ext cx="34704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组合 23572"/>
              <p:cNvGrpSpPr/>
              <p:nvPr/>
            </p:nvGrpSpPr>
            <p:grpSpPr>
              <a:xfrm>
                <a:off x="1439280" y="3728880"/>
                <a:ext cx="1834920" cy="1259640"/>
                <a:chOff x="1439280" y="3728880"/>
                <a:chExt cx="1834920" cy="1259640"/>
              </a:xfrm>
            </p:grpSpPr>
            <p:sp>
              <p:nvSpPr>
                <p:cNvPr id="682" name="新月形 23573"/>
                <p:cNvSpPr/>
                <p:nvPr/>
              </p:nvSpPr>
              <p:spPr>
                <a:xfrm flipH="1" flipV="1" rot="2881800">
                  <a:off x="2453040" y="3622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新月形 23574"/>
                <p:cNvSpPr/>
                <p:nvPr/>
              </p:nvSpPr>
              <p:spPr>
                <a:xfrm flipH="1" flipV="1" rot="3697200">
                  <a:off x="2270880" y="3774240"/>
                  <a:ext cx="3492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新月形 23575"/>
                <p:cNvSpPr/>
                <p:nvPr/>
              </p:nvSpPr>
              <p:spPr>
                <a:xfrm flipH="1" flipV="1" rot="3993000">
                  <a:off x="2147400" y="38329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新月形 23576"/>
                <p:cNvSpPr/>
                <p:nvPr/>
              </p:nvSpPr>
              <p:spPr>
                <a:xfrm flipH="1" flipV="1" rot="4525200">
                  <a:off x="1996920" y="3898440"/>
                  <a:ext cx="34920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组合 23577"/>
          <p:cNvGrpSpPr/>
          <p:nvPr/>
        </p:nvGrpSpPr>
        <p:grpSpPr>
          <a:xfrm>
            <a:off x="3352680" y="2199960"/>
            <a:ext cx="2910600" cy="2886120"/>
            <a:chOff x="3352680" y="2199960"/>
            <a:chExt cx="2910600" cy="2886120"/>
          </a:xfrm>
        </p:grpSpPr>
        <p:pic>
          <p:nvPicPr>
            <p:cNvPr id="687" name="图片 23578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360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任意多边形 23579"/>
            <p:cNvSpPr/>
            <p:nvPr/>
          </p:nvSpPr>
          <p:spPr>
            <a:xfrm flipH="1" flipV="1" rot="5400000">
              <a:off x="2745360" y="2916000"/>
              <a:ext cx="2592720" cy="137412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76ca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任意多边形 23580"/>
            <p:cNvSpPr/>
            <p:nvPr/>
          </p:nvSpPr>
          <p:spPr>
            <a:xfrm flipH="1" flipV="1" rot="16490400">
              <a:off x="4443480" y="3459240"/>
              <a:ext cx="1443240" cy="167328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1" y="24"/>
                    <a:pt x="1170" y="0"/>
                    <a:pt x="1764" y="0"/>
                  </a:cubicBezTo>
                  <a:cubicBezTo>
                    <a:pt x="13693" y="0"/>
                    <a:pt x="23364" y="9671"/>
                    <a:pt x="23364" y="21600"/>
                  </a:cubicBezTo>
                  <a:cubicBezTo>
                    <a:pt x="23364" y="23488"/>
                    <a:pt x="23122" y="25320"/>
                    <a:pt x="22668" y="27060"/>
                  </a:cubicBezTo>
                </a:path>
                <a:path stroke="0" w="23364" h="27056">
                  <a:moveTo>
                    <a:pt x="22663" y="27055"/>
                  </a:moveTo>
                  <a:cubicBezTo>
                    <a:pt x="23994" y="17839"/>
                    <a:pt x="28543" y="11060"/>
                    <a:pt x="33949" y="11060"/>
                  </a:cubicBezTo>
                  <a:cubicBezTo>
                    <a:pt x="40401" y="11060"/>
                    <a:pt x="45631" y="20715"/>
                    <a:pt x="45631" y="32624"/>
                  </a:cubicBezTo>
                  <a:cubicBezTo>
                    <a:pt x="45631" y="35271"/>
                    <a:pt x="45373" y="37806"/>
                    <a:pt x="44901" y="40145"/>
                  </a:cubicBezTo>
                  <a:lnTo>
                    <a:pt x="0" y="72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23581"/>
            <p:cNvSpPr/>
            <p:nvPr/>
          </p:nvSpPr>
          <p:spPr>
            <a:xfrm flipH="1" flipV="1" rot="11090400">
              <a:off x="4768920" y="2379600"/>
              <a:ext cx="803160" cy="130500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4" y="0"/>
                  </a:moveTo>
                  <a:cubicBezTo>
                    <a:pt x="7685" y="668"/>
                    <a:pt x="10546" y="2009"/>
                    <a:pt x="13000" y="3860"/>
                  </a:cubicBezTo>
                </a:path>
                <a:path stroke="0" w="12999" h="21112">
                  <a:moveTo>
                    <a:pt x="12999" y="3861"/>
                  </a:moveTo>
                  <a:cubicBezTo>
                    <a:pt x="13067" y="3861"/>
                    <a:pt x="13033" y="3861"/>
                    <a:pt x="12999" y="3861"/>
                  </a:cubicBezTo>
                  <a:cubicBezTo>
                    <a:pt x="8295" y="3861"/>
                    <a:pt x="4481" y="-5700"/>
                    <a:pt x="4481" y="-17495"/>
                  </a:cubicBezTo>
                  <a:cubicBezTo>
                    <a:pt x="4481" y="-29290"/>
                    <a:pt x="8295" y="-38851"/>
                    <a:pt x="12999" y="-38851"/>
                  </a:cubicBezTo>
                  <a:cubicBezTo>
                    <a:pt x="17703" y="-38851"/>
                    <a:pt x="21517" y="-29290"/>
                    <a:pt x="21517" y="-17495"/>
                  </a:cubicBezTo>
                  <a:cubicBezTo>
                    <a:pt x="21517" y="-15696"/>
                    <a:pt x="21428" y="-13950"/>
                    <a:pt x="21262" y="-12287"/>
                  </a:cubicBezTo>
                  <a:lnTo>
                    <a:pt x="4564" y="0"/>
                  </a:lnTo>
                  <a:close/>
                </a:path>
              </a:pathLst>
            </a:cu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23582"/>
            <p:cNvSpPr/>
            <p:nvPr/>
          </p:nvSpPr>
          <p:spPr>
            <a:xfrm flipH="1" flipV="1" rot="13924200">
              <a:off x="4886280" y="2799000"/>
              <a:ext cx="1052280" cy="133704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0" y="343"/>
                  </a:moveTo>
                  <a:cubicBezTo>
                    <a:pt x="1243" y="116"/>
                    <a:pt x="2526" y="-1"/>
                    <a:pt x="3837" y="-1"/>
                  </a:cubicBezTo>
                  <a:cubicBezTo>
                    <a:pt x="8809" y="-1"/>
                    <a:pt x="13389" y="1679"/>
                    <a:pt x="17040" y="4502"/>
                  </a:cubicBezTo>
                </a:path>
                <a:path stroke="0" w="17040" h="21600">
                  <a:moveTo>
                    <a:pt x="17039" y="4504"/>
                  </a:moveTo>
                  <a:cubicBezTo>
                    <a:pt x="12467" y="1256"/>
                    <a:pt x="9262" y="-6362"/>
                    <a:pt x="9262" y="-15241"/>
                  </a:cubicBezTo>
                  <a:cubicBezTo>
                    <a:pt x="9262" y="-27075"/>
                    <a:pt x="14956" y="-36669"/>
                    <a:pt x="21980" y="-36669"/>
                  </a:cubicBezTo>
                  <a:cubicBezTo>
                    <a:pt x="29004" y="-36669"/>
                    <a:pt x="34698" y="-27075"/>
                    <a:pt x="34698" y="-15241"/>
                  </a:cubicBezTo>
                  <a:cubicBezTo>
                    <a:pt x="34698" y="-12271"/>
                    <a:pt x="34339" y="-9442"/>
                    <a:pt x="33692" y="-6873"/>
                  </a:cubicBezTo>
                  <a:lnTo>
                    <a:pt x="0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23583"/>
            <p:cNvSpPr/>
            <p:nvPr/>
          </p:nvSpPr>
          <p:spPr>
            <a:xfrm flipH="1" flipV="1" rot="9746400">
              <a:off x="4509720" y="2284200"/>
              <a:ext cx="75672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1" y="0"/>
                  </a:moveTo>
                  <a:cubicBezTo>
                    <a:pt x="8655" y="647"/>
                    <a:pt x="10540" y="1585"/>
                    <a:pt x="12246" y="2762"/>
                  </a:cubicBezTo>
                </a:path>
                <a:path stroke="0" w="12246" h="20557">
                  <a:moveTo>
                    <a:pt x="12245" y="2763"/>
                  </a:moveTo>
                  <a:cubicBezTo>
                    <a:pt x="11590" y="3299"/>
                    <a:pt x="10895" y="3584"/>
                    <a:pt x="10177" y="3584"/>
                  </a:cubicBezTo>
                  <a:cubicBezTo>
                    <a:pt x="6044" y="3584"/>
                    <a:pt x="2693" y="-5853"/>
                    <a:pt x="2693" y="-17494"/>
                  </a:cubicBezTo>
                  <a:cubicBezTo>
                    <a:pt x="2693" y="-29135"/>
                    <a:pt x="6044" y="-38572"/>
                    <a:pt x="10177" y="-38572"/>
                  </a:cubicBezTo>
                  <a:cubicBezTo>
                    <a:pt x="14310" y="-38572"/>
                    <a:pt x="17661" y="-29135"/>
                    <a:pt x="17661" y="-17494"/>
                  </a:cubicBezTo>
                  <a:cubicBezTo>
                    <a:pt x="17661" y="-15936"/>
                    <a:pt x="17601" y="-14418"/>
                    <a:pt x="17488" y="-12962"/>
                  </a:cubicBezTo>
                  <a:lnTo>
                    <a:pt x="6631" y="0"/>
                  </a:lnTo>
                  <a:close/>
                </a:path>
              </a:pathLst>
            </a:custGeom>
            <a:solidFill>
              <a:srgbClr val="1a50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文本框 23584"/>
            <p:cNvSpPr/>
            <p:nvPr/>
          </p:nvSpPr>
          <p:spPr>
            <a:xfrm>
              <a:off x="3553200" y="321768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文本框 23585"/>
            <p:cNvSpPr/>
            <p:nvPr/>
          </p:nvSpPr>
          <p:spPr>
            <a:xfrm>
              <a:off x="4698000" y="390456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文本框 23586"/>
            <p:cNvSpPr/>
            <p:nvPr/>
          </p:nvSpPr>
          <p:spPr>
            <a:xfrm>
              <a:off x="5003280" y="3141360"/>
              <a:ext cx="106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组合 23587"/>
            <p:cNvGrpSpPr/>
            <p:nvPr/>
          </p:nvGrpSpPr>
          <p:grpSpPr>
            <a:xfrm>
              <a:off x="4261680" y="3257640"/>
              <a:ext cx="1899360" cy="1731240"/>
              <a:chOff x="4261680" y="3257640"/>
              <a:chExt cx="1899360" cy="1731240"/>
            </a:xfrm>
          </p:grpSpPr>
          <p:grpSp>
            <p:nvGrpSpPr>
              <p:cNvPr id="695" name="组合 23588"/>
              <p:cNvGrpSpPr/>
              <p:nvPr/>
            </p:nvGrpSpPr>
            <p:grpSpPr>
              <a:xfrm>
                <a:off x="4699440" y="3257640"/>
                <a:ext cx="1461600" cy="1714320"/>
                <a:chOff x="4699440" y="3257640"/>
                <a:chExt cx="1461600" cy="1714320"/>
              </a:xfrm>
            </p:grpSpPr>
            <p:sp>
              <p:nvSpPr>
                <p:cNvPr id="696" name="新月形 23589"/>
                <p:cNvSpPr/>
                <p:nvPr/>
              </p:nvSpPr>
              <p:spPr>
                <a:xfrm flipH="1" flipV="1" rot="1528800">
                  <a:off x="5513760" y="32626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新月形 23590"/>
                <p:cNvSpPr/>
                <p:nvPr/>
              </p:nvSpPr>
              <p:spPr>
                <a:xfrm flipH="1" flipV="1" rot="2344200">
                  <a:off x="5402880" y="3472200"/>
                  <a:ext cx="3477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新月形 23591"/>
                <p:cNvSpPr/>
                <p:nvPr/>
              </p:nvSpPr>
              <p:spPr>
                <a:xfrm flipH="1" flipV="1" rot="2640000">
                  <a:off x="5311080" y="35740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新月形 23592"/>
                <p:cNvSpPr/>
                <p:nvPr/>
              </p:nvSpPr>
              <p:spPr>
                <a:xfrm flipH="1" flipV="1" rot="3172200">
                  <a:off x="5197320" y="369144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组合 23593"/>
              <p:cNvGrpSpPr/>
              <p:nvPr/>
            </p:nvGrpSpPr>
            <p:grpSpPr>
              <a:xfrm>
                <a:off x="4261680" y="3728880"/>
                <a:ext cx="1836000" cy="1260000"/>
                <a:chOff x="4261680" y="3728880"/>
                <a:chExt cx="1836000" cy="1260000"/>
              </a:xfrm>
            </p:grpSpPr>
            <p:sp>
              <p:nvSpPr>
                <p:cNvPr id="701" name="新月形 23594"/>
                <p:cNvSpPr/>
                <p:nvPr/>
              </p:nvSpPr>
              <p:spPr>
                <a:xfrm flipH="1" flipV="1" rot="2881800">
                  <a:off x="5275800" y="3622320"/>
                  <a:ext cx="34956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新月形 23595"/>
                <p:cNvSpPr/>
                <p:nvPr/>
              </p:nvSpPr>
              <p:spPr>
                <a:xfrm flipH="1" flipV="1" rot="3697200">
                  <a:off x="5092920" y="3775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新月形 23596"/>
                <p:cNvSpPr/>
                <p:nvPr/>
              </p:nvSpPr>
              <p:spPr>
                <a:xfrm flipH="1" flipV="1" rot="3993000">
                  <a:off x="4969440" y="3832920"/>
                  <a:ext cx="3495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新月形 23597"/>
                <p:cNvSpPr/>
                <p:nvPr/>
              </p:nvSpPr>
              <p:spPr>
                <a:xfrm flipH="1" flipV="1" rot="4525200">
                  <a:off x="4818960" y="3898080"/>
                  <a:ext cx="3495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5" name="圆角矩形 23598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3599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Arial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 23600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圆角矩形 23601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6ca2a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76ca2a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圆角矩形 23602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9600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圆角矩形 23603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a5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a50b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圆角矩形 23604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55a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5ada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855ada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椭圆 24578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任意多边形 24579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任意多边形 24580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9eb5d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24581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c4afed"/>
              </a:gs>
              <a:gs pos="100000">
                <a:srgbClr val="855a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24582"/>
          <p:cNvSpPr/>
          <p:nvPr/>
        </p:nvSpPr>
        <p:spPr>
          <a:xfrm rot="16200000">
            <a:off x="2494800" y="183708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d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4583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4584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133960" y="3884760"/>
            <a:ext cx="360" cy="115920"/>
            <a:chOff x="5133960" y="3884760"/>
            <a:chExt cx="360" cy="115920"/>
          </a:xfrm>
        </p:grpSpPr>
        <p:sp>
          <p:nvSpPr>
            <p:cNvPr id="721" name="直接连接符 24585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513396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719600" y="4143240"/>
            <a:ext cx="360" cy="69840"/>
            <a:chOff x="4719600" y="4143240"/>
            <a:chExt cx="360" cy="69840"/>
          </a:xfrm>
        </p:grpSpPr>
        <p:sp>
          <p:nvSpPr>
            <p:cNvPr id="724" name="直接连接符 24586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471960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476440" y="3635280"/>
            <a:ext cx="1014480" cy="830520"/>
            <a:chOff x="2476440" y="3635280"/>
            <a:chExt cx="1014480" cy="830520"/>
          </a:xfrm>
        </p:grpSpPr>
        <p:sp>
          <p:nvSpPr>
            <p:cNvPr id="727" name="直接连接符 24587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247644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任意多边形 24588"/>
          <p:cNvSpPr/>
          <p:nvPr/>
        </p:nvSpPr>
        <p:spPr>
          <a:xfrm rot="16200000">
            <a:off x="251604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3d6816"/>
              </a:gs>
              <a:gs pos="100000">
                <a:srgbClr val="76c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24589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24590"/>
          <p:cNvSpPr/>
          <p:nvPr/>
        </p:nvSpPr>
        <p:spPr>
          <a:xfrm rot="16200000">
            <a:off x="2531520" y="124020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76ca2a"/>
              </a:gs>
              <a:gs pos="100000">
                <a:srgbClr val="c8ea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4591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肘形连接符 24592"/>
          <p:cNvCxnSpPr>
            <a:endCxn id="732" idx="3"/>
          </p:cNvCxnSpPr>
          <p:nvPr/>
        </p:nvCxnSpPr>
        <p:spPr>
          <a:xfrm flipH="1">
            <a:off x="3907800" y="2179800"/>
            <a:ext cx="2416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肘形连接符 24593"/>
          <p:cNvCxnSpPr>
            <a:endCxn id="719" idx="3"/>
          </p:cNvCxnSpPr>
          <p:nvPr/>
        </p:nvCxnSpPr>
        <p:spPr>
          <a:xfrm flipH="1" flipV="1">
            <a:off x="5250600" y="3596760"/>
            <a:ext cx="12265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文本框 24594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24595"/>
          <p:cNvSpPr/>
          <p:nvPr/>
        </p:nvSpPr>
        <p:spPr>
          <a:xfrm>
            <a:off x="609480" y="10666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组合 24596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738" name="任意多边形 24597"/>
            <p:cNvSpPr/>
            <p:nvPr/>
          </p:nvSpPr>
          <p:spPr>
            <a:xfrm>
              <a:off x="644400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矩形 24598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6ca2a"/>
                </a:gs>
                <a:gs pos="100000">
                  <a:srgbClr val="5d9f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组合 24599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741" name="任意多边形 24600"/>
            <p:cNvSpPr/>
            <p:nvPr/>
          </p:nvSpPr>
          <p:spPr>
            <a:xfrm>
              <a:off x="644400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矩形 24601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143f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24602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744" name="任意多边形 24603"/>
            <p:cNvSpPr/>
            <p:nvPr/>
          </p:nvSpPr>
          <p:spPr>
            <a:xfrm>
              <a:off x="644400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矩形 24604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6947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4605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747" name="任意多边形 24606"/>
            <p:cNvSpPr/>
            <p:nvPr/>
          </p:nvSpPr>
          <p:spPr>
            <a:xfrm>
              <a:off x="126252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24607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97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9" name="肘形连接符 24608"/>
          <p:cNvCxnSpPr/>
          <p:nvPr/>
        </p:nvCxnSpPr>
        <p:spPr>
          <a:xfrm flipH="1" flipV="1">
            <a:off x="479988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0" name="肘形连接符 24609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1" name="矩形 24610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4611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4612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组合 24613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755" name="组合 24614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756" name="任意多边形 24615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椭圆 24616"/>
              <p:cNvSpPr/>
              <p:nvPr/>
            </p:nvSpPr>
            <p:spPr>
              <a:xfrm>
                <a:off x="231948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任意多边形 24617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任意多边形 24618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24619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任意多边形 24620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组合 24621"/>
            <p:cNvGrpSpPr/>
            <p:nvPr/>
          </p:nvGrpSpPr>
          <p:grpSpPr>
            <a:xfrm>
              <a:off x="2305800" y="2155680"/>
              <a:ext cx="344880" cy="359280"/>
              <a:chOff x="2305800" y="2155680"/>
              <a:chExt cx="344880" cy="359280"/>
            </a:xfrm>
          </p:grpSpPr>
          <p:grpSp>
            <p:nvGrpSpPr>
              <p:cNvPr id="763" name="组合 24622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764" name="新月形 24623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新月形 24624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新月形 24625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新月形 24626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8" name="组合 24627"/>
              <p:cNvGrpSpPr/>
              <p:nvPr/>
            </p:nvGrpSpPr>
            <p:grpSpPr>
              <a:xfrm>
                <a:off x="2305800" y="2177280"/>
                <a:ext cx="271800" cy="337680"/>
                <a:chOff x="2305800" y="2177280"/>
                <a:chExt cx="271800" cy="337680"/>
              </a:xfrm>
            </p:grpSpPr>
            <p:sp>
              <p:nvSpPr>
                <p:cNvPr id="769" name="新月形 24628"/>
                <p:cNvSpPr/>
                <p:nvPr/>
              </p:nvSpPr>
              <p:spPr>
                <a:xfrm flipH="1" rot="13687200">
                  <a:off x="240228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新月形 24629"/>
                <p:cNvSpPr/>
                <p:nvPr/>
              </p:nvSpPr>
              <p:spPr>
                <a:xfrm flipH="1" rot="12871200">
                  <a:off x="237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新月形 24630"/>
                <p:cNvSpPr/>
                <p:nvPr/>
              </p:nvSpPr>
              <p:spPr>
                <a:xfrm flipH="1" rot="12576000">
                  <a:off x="23616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新月形 24631"/>
                <p:cNvSpPr/>
                <p:nvPr/>
              </p:nvSpPr>
              <p:spPr>
                <a:xfrm flipH="1" rot="12043800">
                  <a:off x="235008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组合 24632"/>
            <p:cNvGrpSpPr/>
            <p:nvPr/>
          </p:nvGrpSpPr>
          <p:grpSpPr>
            <a:xfrm>
              <a:off x="2125440" y="2691360"/>
              <a:ext cx="429480" cy="517320"/>
              <a:chOff x="2125440" y="2691360"/>
              <a:chExt cx="429480" cy="517320"/>
            </a:xfrm>
          </p:grpSpPr>
          <p:grpSp>
            <p:nvGrpSpPr>
              <p:cNvPr id="774" name="组合 24633"/>
              <p:cNvGrpSpPr/>
              <p:nvPr/>
            </p:nvGrpSpPr>
            <p:grpSpPr>
              <a:xfrm>
                <a:off x="2125440" y="2691360"/>
                <a:ext cx="429480" cy="405000"/>
                <a:chOff x="2125440" y="2691360"/>
                <a:chExt cx="429480" cy="405000"/>
              </a:xfrm>
            </p:grpSpPr>
            <p:sp>
              <p:nvSpPr>
                <p:cNvPr id="775" name="新月形 24634"/>
                <p:cNvSpPr/>
                <p:nvPr/>
              </p:nvSpPr>
              <p:spPr>
                <a:xfrm flipH="1" rot="14424600">
                  <a:off x="232200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新月形 24635"/>
                <p:cNvSpPr/>
                <p:nvPr/>
              </p:nvSpPr>
              <p:spPr>
                <a:xfrm flipH="1" rot="13608600">
                  <a:off x="226944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新月形 24636"/>
                <p:cNvSpPr/>
                <p:nvPr/>
              </p:nvSpPr>
              <p:spPr>
                <a:xfrm flipH="1" rot="13313400">
                  <a:off x="224568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新月形 24637"/>
                <p:cNvSpPr/>
                <p:nvPr/>
              </p:nvSpPr>
              <p:spPr>
                <a:xfrm flipH="1" rot="12781200">
                  <a:off x="221760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组合 24638"/>
              <p:cNvGrpSpPr/>
              <p:nvPr/>
            </p:nvGrpSpPr>
            <p:grpSpPr>
              <a:xfrm>
                <a:off x="2126520" y="2719080"/>
                <a:ext cx="308880" cy="489600"/>
                <a:chOff x="2126520" y="2719080"/>
                <a:chExt cx="308880" cy="489600"/>
              </a:xfrm>
            </p:grpSpPr>
            <p:sp>
              <p:nvSpPr>
                <p:cNvPr id="780" name="新月形 24639"/>
                <p:cNvSpPr/>
                <p:nvPr/>
              </p:nvSpPr>
              <p:spPr>
                <a:xfrm flipH="1" rot="13071600">
                  <a:off x="223488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新月形 24640"/>
                <p:cNvSpPr/>
                <p:nvPr/>
              </p:nvSpPr>
              <p:spPr>
                <a:xfrm flipH="1" rot="12256200">
                  <a:off x="219780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新月形 24641"/>
                <p:cNvSpPr/>
                <p:nvPr/>
              </p:nvSpPr>
              <p:spPr>
                <a:xfrm flipH="1" rot="11960400">
                  <a:off x="218520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新月形 24642"/>
                <p:cNvSpPr/>
                <p:nvPr/>
              </p:nvSpPr>
              <p:spPr>
                <a:xfrm flipH="1" rot="11428200">
                  <a:off x="217260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4" name="矩形 24643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24644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786" name="组合 24645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787" name="任意多边形 24646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椭圆 24647"/>
              <p:cNvSpPr/>
              <p:nvPr/>
            </p:nvSpPr>
            <p:spPr>
              <a:xfrm>
                <a:off x="178596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任意多边形 24648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432700"/>
                </a:gs>
                <a:gs pos="100000">
                  <a:srgbClr val="ff9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任意多边形 24649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6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4650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8f5400"/>
                </a:gs>
                <a:gs pos="50000">
                  <a:srgbClr val="ff9600"/>
                </a:gs>
                <a:gs pos="100000">
                  <a:srgbClr val="8f5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24651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6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组合 24652"/>
            <p:cNvGrpSpPr/>
            <p:nvPr/>
          </p:nvGrpSpPr>
          <p:grpSpPr>
            <a:xfrm>
              <a:off x="1772280" y="2155680"/>
              <a:ext cx="344520" cy="359280"/>
              <a:chOff x="1772280" y="2155680"/>
              <a:chExt cx="344520" cy="359280"/>
            </a:xfrm>
          </p:grpSpPr>
          <p:grpSp>
            <p:nvGrpSpPr>
              <p:cNvPr id="794" name="组合 24653"/>
              <p:cNvGrpSpPr/>
              <p:nvPr/>
            </p:nvGrpSpPr>
            <p:grpSpPr>
              <a:xfrm>
                <a:off x="1780920" y="2155680"/>
                <a:ext cx="335880" cy="273960"/>
                <a:chOff x="1780920" y="2155680"/>
                <a:chExt cx="335880" cy="273960"/>
              </a:xfrm>
            </p:grpSpPr>
            <p:sp>
              <p:nvSpPr>
                <p:cNvPr id="795" name="新月形 24654"/>
                <p:cNvSpPr/>
                <p:nvPr/>
              </p:nvSpPr>
              <p:spPr>
                <a:xfrm flipH="1" rot="15040200">
                  <a:off x="193320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新月形 24655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新月形 24656"/>
                <p:cNvSpPr/>
                <p:nvPr/>
              </p:nvSpPr>
              <p:spPr>
                <a:xfrm flipH="1" rot="13928400">
                  <a:off x="187524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新月形 24657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组合 24658"/>
              <p:cNvGrpSpPr/>
              <p:nvPr/>
            </p:nvGrpSpPr>
            <p:grpSpPr>
              <a:xfrm>
                <a:off x="1772280" y="2177640"/>
                <a:ext cx="271800" cy="337320"/>
                <a:chOff x="1772280" y="2177640"/>
                <a:chExt cx="271800" cy="337320"/>
              </a:xfrm>
            </p:grpSpPr>
            <p:sp>
              <p:nvSpPr>
                <p:cNvPr id="800" name="新月形 24659"/>
                <p:cNvSpPr/>
                <p:nvPr/>
              </p:nvSpPr>
              <p:spPr>
                <a:xfrm flipH="1" rot="13687200">
                  <a:off x="186912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新月形 24660"/>
                <p:cNvSpPr/>
                <p:nvPr/>
              </p:nvSpPr>
              <p:spPr>
                <a:xfrm flipH="1" rot="12871200">
                  <a:off x="183852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新月形 24661"/>
                <p:cNvSpPr/>
                <p:nvPr/>
              </p:nvSpPr>
              <p:spPr>
                <a:xfrm flipH="1" rot="12576000">
                  <a:off x="182808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新月形 24662"/>
                <p:cNvSpPr/>
                <p:nvPr/>
              </p:nvSpPr>
              <p:spPr>
                <a:xfrm flipH="1" rot="12043800">
                  <a:off x="181692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组合 24663"/>
            <p:cNvGrpSpPr/>
            <p:nvPr/>
          </p:nvGrpSpPr>
          <p:grpSpPr>
            <a:xfrm>
              <a:off x="1592280" y="2691360"/>
              <a:ext cx="429480" cy="517320"/>
              <a:chOff x="1592280" y="2691360"/>
              <a:chExt cx="429480" cy="517320"/>
            </a:xfrm>
          </p:grpSpPr>
          <p:grpSp>
            <p:nvGrpSpPr>
              <p:cNvPr id="805" name="组合 24664"/>
              <p:cNvGrpSpPr/>
              <p:nvPr/>
            </p:nvGrpSpPr>
            <p:grpSpPr>
              <a:xfrm>
                <a:off x="1592280" y="2691360"/>
                <a:ext cx="429480" cy="405000"/>
                <a:chOff x="1592280" y="2691360"/>
                <a:chExt cx="429480" cy="405000"/>
              </a:xfrm>
            </p:grpSpPr>
            <p:sp>
              <p:nvSpPr>
                <p:cNvPr id="806" name="新月形 24665"/>
                <p:cNvSpPr/>
                <p:nvPr/>
              </p:nvSpPr>
              <p:spPr>
                <a:xfrm flipH="1" rot="14424600">
                  <a:off x="178884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新月形 24666"/>
                <p:cNvSpPr/>
                <p:nvPr/>
              </p:nvSpPr>
              <p:spPr>
                <a:xfrm flipH="1" rot="13608600">
                  <a:off x="173628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新月形 24667"/>
                <p:cNvSpPr/>
                <p:nvPr/>
              </p:nvSpPr>
              <p:spPr>
                <a:xfrm flipH="1" rot="13313400">
                  <a:off x="171252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新月形 24668"/>
                <p:cNvSpPr/>
                <p:nvPr/>
              </p:nvSpPr>
              <p:spPr>
                <a:xfrm flipH="1" rot="12781200">
                  <a:off x="168444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组合 24669"/>
              <p:cNvGrpSpPr/>
              <p:nvPr/>
            </p:nvGrpSpPr>
            <p:grpSpPr>
              <a:xfrm>
                <a:off x="1593360" y="2719080"/>
                <a:ext cx="308880" cy="489600"/>
                <a:chOff x="1593360" y="2719080"/>
                <a:chExt cx="308880" cy="489600"/>
              </a:xfrm>
            </p:grpSpPr>
            <p:sp>
              <p:nvSpPr>
                <p:cNvPr id="811" name="新月形 24670"/>
                <p:cNvSpPr/>
                <p:nvPr/>
              </p:nvSpPr>
              <p:spPr>
                <a:xfrm flipH="1" rot="13071600">
                  <a:off x="170172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新月形 24671"/>
                <p:cNvSpPr/>
                <p:nvPr/>
              </p:nvSpPr>
              <p:spPr>
                <a:xfrm flipH="1" rot="12256200">
                  <a:off x="166464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新月形 24672"/>
                <p:cNvSpPr/>
                <p:nvPr/>
              </p:nvSpPr>
              <p:spPr>
                <a:xfrm flipH="1" rot="11960400">
                  <a:off x="165204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新月形 24673"/>
                <p:cNvSpPr/>
                <p:nvPr/>
              </p:nvSpPr>
              <p:spPr>
                <a:xfrm flipH="1" rot="11428200">
                  <a:off x="163944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5" name="矩形 24674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614760" y="3182760"/>
            <a:ext cx="342720" cy="108000"/>
            <a:chOff x="3614760" y="3182760"/>
            <a:chExt cx="342720" cy="108000"/>
          </a:xfrm>
        </p:grpSpPr>
        <p:sp>
          <p:nvSpPr>
            <p:cNvPr id="818" name="直接连接符 25602"/>
            <p:cNvSpPr/>
            <p:nvPr/>
          </p:nvSpPr>
          <p:spPr>
            <a:xfrm>
              <a:off x="3614760" y="318276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3614760" y="3182760"/>
              <a:ext cx="34272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733920" y="4800240"/>
            <a:ext cx="247680" cy="190440"/>
            <a:chOff x="3733920" y="4800240"/>
            <a:chExt cx="247680" cy="190440"/>
          </a:xfrm>
        </p:grpSpPr>
        <p:sp>
          <p:nvSpPr>
            <p:cNvPr id="821" name="直接连接符 25603"/>
            <p:cNvSpPr/>
            <p:nvPr/>
          </p:nvSpPr>
          <p:spPr>
            <a:xfrm flipV="1">
              <a:off x="3733920" y="480024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10800000">
              <a:off x="3733920" y="48002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381920" y="5169240"/>
            <a:ext cx="309960" cy="309960"/>
            <a:chOff x="4381920" y="5169240"/>
            <a:chExt cx="309960" cy="309960"/>
          </a:xfrm>
        </p:grpSpPr>
        <p:sp>
          <p:nvSpPr>
            <p:cNvPr id="824" name="直接连接符 25604"/>
            <p:cNvSpPr/>
            <p:nvPr/>
          </p:nvSpPr>
          <p:spPr>
            <a:xfrm flipV="1">
              <a:off x="4516560" y="516924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 rot="8104200">
              <a:off x="4412880" y="522900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458880" y="4021920"/>
            <a:ext cx="313560" cy="299160"/>
            <a:chOff x="3458880" y="4021920"/>
            <a:chExt cx="313560" cy="299160"/>
          </a:xfrm>
        </p:grpSpPr>
        <p:sp>
          <p:nvSpPr>
            <p:cNvPr id="827" name="直接连接符 25605"/>
            <p:cNvSpPr/>
            <p:nvPr/>
          </p:nvSpPr>
          <p:spPr>
            <a:xfrm flipV="1">
              <a:off x="3458880" y="416520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 rot="12903600">
              <a:off x="3490920" y="407628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586120" y="2475360"/>
            <a:ext cx="206280" cy="360360"/>
            <a:chOff x="5586120" y="2475360"/>
            <a:chExt cx="206280" cy="360360"/>
          </a:xfrm>
        </p:grpSpPr>
        <p:sp>
          <p:nvSpPr>
            <p:cNvPr id="830" name="直接连接符 25606"/>
            <p:cNvSpPr/>
            <p:nvPr/>
          </p:nvSpPr>
          <p:spPr>
            <a:xfrm>
              <a:off x="5688720" y="2475360"/>
              <a:ext cx="1080" cy="3596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 rot="4342800">
              <a:off x="5517720" y="2601720"/>
              <a:ext cx="343080" cy="10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6271560" y="4424400"/>
            <a:ext cx="254520" cy="292320"/>
            <a:chOff x="6271560" y="4424400"/>
            <a:chExt cx="254520" cy="292320"/>
          </a:xfrm>
        </p:grpSpPr>
        <p:sp>
          <p:nvSpPr>
            <p:cNvPr id="833" name="直接连接符 25607"/>
            <p:cNvSpPr/>
            <p:nvPr/>
          </p:nvSpPr>
          <p:spPr>
            <a:xfrm flipH="1" flipV="1">
              <a:off x="6271560" y="447984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 rot="4384800">
              <a:off x="6274800" y="447516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151320" y="2954880"/>
            <a:ext cx="254520" cy="199080"/>
            <a:chOff x="6151320" y="2954880"/>
            <a:chExt cx="254520" cy="199080"/>
          </a:xfrm>
        </p:grpSpPr>
        <p:sp>
          <p:nvSpPr>
            <p:cNvPr id="836" name="直接连接符 25608"/>
            <p:cNvSpPr/>
            <p:nvPr/>
          </p:nvSpPr>
          <p:spPr>
            <a:xfrm flipH="1">
              <a:off x="6151320" y="296352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 rot="121200">
              <a:off x="6154560" y="29588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圆角矩形 25609"/>
          <p:cNvSpPr/>
          <p:nvPr/>
        </p:nvSpPr>
        <p:spPr>
          <a:xfrm>
            <a:off x="1752480" y="28195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6430320" y="3653640"/>
            <a:ext cx="313560" cy="300240"/>
            <a:chOff x="6430320" y="3653640"/>
            <a:chExt cx="313560" cy="300240"/>
          </a:xfrm>
        </p:grpSpPr>
        <p:sp>
          <p:nvSpPr>
            <p:cNvPr id="840" name="直接连接符 25610"/>
            <p:cNvSpPr/>
            <p:nvPr/>
          </p:nvSpPr>
          <p:spPr>
            <a:xfrm flipH="1">
              <a:off x="6430320" y="3799080"/>
              <a:ext cx="313560" cy="9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 rot="2147400">
              <a:off x="6462360" y="370836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25611"/>
          <p:cNvGrpSpPr/>
          <p:nvPr/>
        </p:nvGrpSpPr>
        <p:grpSpPr>
          <a:xfrm>
            <a:off x="457200" y="1447920"/>
            <a:ext cx="4191120" cy="761760"/>
            <a:chOff x="457200" y="1447920"/>
            <a:chExt cx="4191120" cy="761760"/>
          </a:xfrm>
        </p:grpSpPr>
        <p:sp>
          <p:nvSpPr>
            <p:cNvPr id="843" name="矩形标注 25612"/>
            <p:cNvSpPr/>
            <p:nvPr/>
          </p:nvSpPr>
          <p:spPr>
            <a:xfrm>
              <a:off x="457200" y="1447920"/>
              <a:ext cx="4191120" cy="76176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ff9600"/>
              </a:solidFill>
              <a:miter/>
            </a:ln>
            <a:effectLst>
              <a:outerShdw dist="63504" dir="3183908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25613"/>
            <p:cNvSpPr/>
            <p:nvPr/>
          </p:nvSpPr>
          <p:spPr>
            <a:xfrm>
              <a:off x="609480" y="159984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椭圆 25614"/>
          <p:cNvSpPr/>
          <p:nvPr/>
        </p:nvSpPr>
        <p:spPr>
          <a:xfrm>
            <a:off x="3886200" y="2819520"/>
            <a:ext cx="23623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5615"/>
          <p:cNvSpPr/>
          <p:nvPr/>
        </p:nvSpPr>
        <p:spPr>
          <a:xfrm>
            <a:off x="19051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圆角矩形 25616"/>
          <p:cNvSpPr/>
          <p:nvPr/>
        </p:nvSpPr>
        <p:spPr>
          <a:xfrm>
            <a:off x="1600200" y="38862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圆角矩形 25617"/>
          <p:cNvSpPr/>
          <p:nvPr/>
        </p:nvSpPr>
        <p:spPr>
          <a:xfrm>
            <a:off x="1752480" y="48006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5618"/>
          <p:cNvSpPr/>
          <p:nvPr/>
        </p:nvSpPr>
        <p:spPr>
          <a:xfrm>
            <a:off x="2971800" y="54864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25619"/>
          <p:cNvSpPr/>
          <p:nvPr/>
        </p:nvSpPr>
        <p:spPr>
          <a:xfrm>
            <a:off x="18288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25620"/>
          <p:cNvSpPr/>
          <p:nvPr/>
        </p:nvSpPr>
        <p:spPr>
          <a:xfrm>
            <a:off x="19051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5621"/>
          <p:cNvSpPr/>
          <p:nvPr/>
        </p:nvSpPr>
        <p:spPr>
          <a:xfrm>
            <a:off x="31240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 25622"/>
          <p:cNvSpPr/>
          <p:nvPr/>
        </p:nvSpPr>
        <p:spPr>
          <a:xfrm>
            <a:off x="5334120" y="18288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50b2"/>
              </a:gs>
              <a:gs pos="50000">
                <a:srgbClr val="9eb5de"/>
              </a:gs>
              <a:gs pos="100000">
                <a:srgbClr val="1a50b2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25623"/>
          <p:cNvSpPr/>
          <p:nvPr/>
        </p:nvSpPr>
        <p:spPr>
          <a:xfrm>
            <a:off x="54864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 25624"/>
          <p:cNvSpPr/>
          <p:nvPr/>
        </p:nvSpPr>
        <p:spPr>
          <a:xfrm>
            <a:off x="6400800" y="25909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50b2"/>
              </a:gs>
              <a:gs pos="50000">
                <a:srgbClr val="9eb5de"/>
              </a:gs>
              <a:gs pos="100000">
                <a:srgbClr val="1a50b2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25625"/>
          <p:cNvSpPr/>
          <p:nvPr/>
        </p:nvSpPr>
        <p:spPr>
          <a:xfrm>
            <a:off x="6553080" y="2666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25626"/>
          <p:cNvSpPr/>
          <p:nvPr/>
        </p:nvSpPr>
        <p:spPr>
          <a:xfrm>
            <a:off x="6781680" y="35053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50b2"/>
              </a:gs>
              <a:gs pos="50000">
                <a:srgbClr val="9eb5de"/>
              </a:gs>
              <a:gs pos="100000">
                <a:srgbClr val="1a50b2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25627"/>
          <p:cNvSpPr/>
          <p:nvPr/>
        </p:nvSpPr>
        <p:spPr>
          <a:xfrm>
            <a:off x="6934320" y="3581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25628"/>
          <p:cNvSpPr/>
          <p:nvPr/>
        </p:nvSpPr>
        <p:spPr>
          <a:xfrm>
            <a:off x="6553080" y="44956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50b2"/>
              </a:gs>
              <a:gs pos="50000">
                <a:srgbClr val="9eb5de"/>
              </a:gs>
              <a:gs pos="100000">
                <a:srgbClr val="1a50b2"/>
              </a:gs>
            </a:gsLst>
            <a:lin ang="5400000"/>
          </a:gra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25629"/>
          <p:cNvSpPr/>
          <p:nvPr/>
        </p:nvSpPr>
        <p:spPr>
          <a:xfrm>
            <a:off x="6705720" y="4572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椭圆 25630"/>
          <p:cNvSpPr/>
          <p:nvPr/>
        </p:nvSpPr>
        <p:spPr>
          <a:xfrm>
            <a:off x="3809880" y="2743200"/>
            <a:ext cx="2519640" cy="2438280"/>
          </a:xfrm>
          <a:prstGeom prst="ellipse">
            <a:avLst/>
          </a:prstGeom>
          <a:noFill/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矩形 26626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组合 26627"/>
          <p:cNvGrpSpPr/>
          <p:nvPr/>
        </p:nvGrpSpPr>
        <p:grpSpPr>
          <a:xfrm>
            <a:off x="883080" y="2358720"/>
            <a:ext cx="7348320" cy="3819240"/>
            <a:chOff x="883080" y="2358720"/>
            <a:chExt cx="7348320" cy="3819240"/>
          </a:xfrm>
        </p:grpSpPr>
        <p:sp>
          <p:nvSpPr>
            <p:cNvPr id="865" name="椭圆 26628"/>
            <p:cNvSpPr/>
            <p:nvPr/>
          </p:nvSpPr>
          <p:spPr>
            <a:xfrm>
              <a:off x="2883600" y="353664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0" y="2703600"/>
              <a:ext cx="1141200" cy="1233000"/>
              <a:chOff x="4374000" y="2703600"/>
              <a:chExt cx="1141200" cy="1233000"/>
            </a:xfrm>
          </p:grpSpPr>
          <p:sp>
            <p:nvSpPr>
              <p:cNvPr id="867" name="直接连接符 26629"/>
              <p:cNvSpPr/>
              <p:nvPr/>
            </p:nvSpPr>
            <p:spPr>
              <a:xfrm flipH="1">
                <a:off x="4374000" y="2703600"/>
                <a:ext cx="1141200" cy="123300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4374000" y="2703600"/>
                <a:ext cx="1141200" cy="123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373640" y="3770640"/>
              <a:ext cx="3079440" cy="131760"/>
              <a:chOff x="4373640" y="3770640"/>
              <a:chExt cx="3079440" cy="131760"/>
            </a:xfrm>
          </p:grpSpPr>
          <p:sp>
            <p:nvSpPr>
              <p:cNvPr id="870" name="直接连接符 26630"/>
              <p:cNvSpPr/>
              <p:nvPr/>
            </p:nvSpPr>
            <p:spPr>
              <a:xfrm flipH="1">
                <a:off x="4373640" y="3770640"/>
                <a:ext cx="3079080" cy="13176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4374000" y="3770640"/>
                <a:ext cx="3079080" cy="13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4408200" y="3902400"/>
              <a:ext cx="1314000" cy="1432440"/>
              <a:chOff x="4408200" y="3902400"/>
              <a:chExt cx="1314000" cy="1432440"/>
            </a:xfrm>
          </p:grpSpPr>
          <p:sp>
            <p:nvSpPr>
              <p:cNvPr id="873" name="直接连接符 26631"/>
              <p:cNvSpPr/>
              <p:nvPr/>
            </p:nvSpPr>
            <p:spPr>
              <a:xfrm flipH="1" flipV="1">
                <a:off x="4408200" y="3902400"/>
                <a:ext cx="1314000" cy="1432440"/>
              </a:xfrm>
              <a:prstGeom prst="line">
                <a:avLst/>
              </a:prstGeom>
              <a:ln w="763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 rot="10800000">
                <a:off x="4408200" y="3902400"/>
                <a:ext cx="1314000" cy="14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2574360" y="3902760"/>
              <a:ext cx="1833840" cy="1632240"/>
              <a:chOff x="2574360" y="3902760"/>
              <a:chExt cx="1833840" cy="1632240"/>
            </a:xfrm>
          </p:grpSpPr>
          <p:sp>
            <p:nvSpPr>
              <p:cNvPr id="876" name="直接连接符 26632"/>
              <p:cNvSpPr/>
              <p:nvPr/>
            </p:nvSpPr>
            <p:spPr>
              <a:xfrm flipV="1">
                <a:off x="2574720" y="3902760"/>
                <a:ext cx="1833480" cy="1632240"/>
              </a:xfrm>
              <a:prstGeom prst="line">
                <a:avLst/>
              </a:prstGeom>
              <a:ln w="763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 rot="10800000">
                <a:off x="2574360" y="3902760"/>
                <a:ext cx="1833480" cy="163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1501560" y="3902400"/>
              <a:ext cx="2906640" cy="100440"/>
              <a:chOff x="1501560" y="3902400"/>
              <a:chExt cx="2906640" cy="100440"/>
            </a:xfrm>
          </p:grpSpPr>
          <p:sp>
            <p:nvSpPr>
              <p:cNvPr id="879" name="直接连接符 26633"/>
              <p:cNvSpPr/>
              <p:nvPr/>
            </p:nvSpPr>
            <p:spPr>
              <a:xfrm flipV="1">
                <a:off x="1501920" y="3902400"/>
                <a:ext cx="2906280" cy="100440"/>
              </a:xfrm>
              <a:prstGeom prst="line">
                <a:avLst/>
              </a:prstGeom>
              <a:ln w="763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 rot="10800000">
                <a:off x="1501560" y="3902400"/>
                <a:ext cx="2906280" cy="10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椭圆 26634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99ffcc"/>
                </a:gs>
              </a:gsLst>
              <a:lin ang="3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26635"/>
            <p:cNvSpPr/>
            <p:nvPr/>
          </p:nvSpPr>
          <p:spPr>
            <a:xfrm rot="21256800">
              <a:off x="1327320" y="2667960"/>
              <a:ext cx="6233040" cy="303516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 26636"/>
            <p:cNvSpPr/>
            <p:nvPr/>
          </p:nvSpPr>
          <p:spPr>
            <a:xfrm rot="21256800">
              <a:off x="1291320" y="2662560"/>
              <a:ext cx="6250320" cy="300456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文本框 26637"/>
            <p:cNvSpPr/>
            <p:nvPr/>
          </p:nvSpPr>
          <p:spPr>
            <a:xfrm>
              <a:off x="3338280" y="3363120"/>
              <a:ext cx="2139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组合 26638"/>
            <p:cNvGrpSpPr/>
            <p:nvPr/>
          </p:nvGrpSpPr>
          <p:grpSpPr>
            <a:xfrm>
              <a:off x="883080" y="3661560"/>
              <a:ext cx="1391040" cy="770400"/>
              <a:chOff x="883080" y="3661560"/>
              <a:chExt cx="1391040" cy="770400"/>
            </a:xfrm>
          </p:grpSpPr>
          <p:sp>
            <p:nvSpPr>
              <p:cNvPr id="886" name="椭圆 26639"/>
              <p:cNvSpPr/>
              <p:nvPr/>
            </p:nvSpPr>
            <p:spPr>
              <a:xfrm rot="21204600">
                <a:off x="917280" y="3783240"/>
                <a:ext cx="1328040" cy="57456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椭圆 26640"/>
              <p:cNvSpPr/>
              <p:nvPr/>
            </p:nvSpPr>
            <p:spPr>
              <a:xfrm rot="21204600">
                <a:off x="911520" y="3735720"/>
                <a:ext cx="1328760" cy="574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组合 26641"/>
            <p:cNvGrpSpPr/>
            <p:nvPr/>
          </p:nvGrpSpPr>
          <p:grpSpPr>
            <a:xfrm>
              <a:off x="2486880" y="2616120"/>
              <a:ext cx="1206720" cy="542160"/>
              <a:chOff x="2486880" y="2616120"/>
              <a:chExt cx="1206720" cy="542160"/>
            </a:xfrm>
          </p:grpSpPr>
          <p:sp>
            <p:nvSpPr>
              <p:cNvPr id="889" name="椭圆 26642"/>
              <p:cNvSpPr/>
              <p:nvPr/>
            </p:nvSpPr>
            <p:spPr>
              <a:xfrm rot="21274800">
                <a:off x="2506680" y="270324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椭圆 26643"/>
              <p:cNvSpPr/>
              <p:nvPr/>
            </p:nvSpPr>
            <p:spPr>
              <a:xfrm rot="21274800">
                <a:off x="2503080" y="267012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组合 26644"/>
            <p:cNvGrpSpPr/>
            <p:nvPr/>
          </p:nvGrpSpPr>
          <p:grpSpPr>
            <a:xfrm>
              <a:off x="4834440" y="2389680"/>
              <a:ext cx="1365840" cy="650880"/>
              <a:chOff x="4834440" y="2389680"/>
              <a:chExt cx="1365840" cy="650880"/>
            </a:xfrm>
          </p:grpSpPr>
          <p:sp>
            <p:nvSpPr>
              <p:cNvPr id="892" name="椭圆 26645"/>
              <p:cNvSpPr/>
              <p:nvPr/>
            </p:nvSpPr>
            <p:spPr>
              <a:xfrm rot="21345000">
                <a:off x="4854960" y="2480040"/>
                <a:ext cx="1328040" cy="51192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6646"/>
              <p:cNvSpPr/>
              <p:nvPr/>
            </p:nvSpPr>
            <p:spPr>
              <a:xfrm rot="21345000">
                <a:off x="4851360" y="2438280"/>
                <a:ext cx="1328760" cy="51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26647"/>
            <p:cNvGrpSpPr/>
            <p:nvPr/>
          </p:nvGrpSpPr>
          <p:grpSpPr>
            <a:xfrm>
              <a:off x="6459120" y="3286080"/>
              <a:ext cx="1772280" cy="1010160"/>
              <a:chOff x="6459120" y="3286080"/>
              <a:chExt cx="1772280" cy="1010160"/>
            </a:xfrm>
          </p:grpSpPr>
          <p:sp>
            <p:nvSpPr>
              <p:cNvPr id="895" name="椭圆 26648"/>
              <p:cNvSpPr/>
              <p:nvPr/>
            </p:nvSpPr>
            <p:spPr>
              <a:xfrm rot="21391800">
                <a:off x="6487920" y="340596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6649"/>
              <p:cNvSpPr/>
              <p:nvPr/>
            </p:nvSpPr>
            <p:spPr>
              <a:xfrm rot="21391800">
                <a:off x="6482880" y="3337200"/>
                <a:ext cx="172044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组合 26650"/>
            <p:cNvGrpSpPr/>
            <p:nvPr/>
          </p:nvGrpSpPr>
          <p:grpSpPr>
            <a:xfrm>
              <a:off x="4473720" y="4668120"/>
              <a:ext cx="2449080" cy="1498320"/>
              <a:chOff x="4473720" y="4668120"/>
              <a:chExt cx="2449080" cy="1498320"/>
            </a:xfrm>
          </p:grpSpPr>
          <p:sp>
            <p:nvSpPr>
              <p:cNvPr id="898" name="椭圆 26651"/>
              <p:cNvSpPr/>
              <p:nvPr/>
            </p:nvSpPr>
            <p:spPr>
              <a:xfrm rot="21401400">
                <a:off x="4515120" y="4839120"/>
                <a:ext cx="2373120" cy="125964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椭圆 26652"/>
              <p:cNvSpPr/>
              <p:nvPr/>
            </p:nvSpPr>
            <p:spPr>
              <a:xfrm rot="21401400">
                <a:off x="4507920" y="4735440"/>
                <a:ext cx="2374200" cy="1259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26653"/>
            <p:cNvGrpSpPr/>
            <p:nvPr/>
          </p:nvGrpSpPr>
          <p:grpSpPr>
            <a:xfrm>
              <a:off x="1598760" y="4957560"/>
              <a:ext cx="1954440" cy="1220400"/>
              <a:chOff x="1598760" y="4957560"/>
              <a:chExt cx="1954440" cy="1220400"/>
            </a:xfrm>
          </p:grpSpPr>
          <p:sp>
            <p:nvSpPr>
              <p:cNvPr id="901" name="椭圆 26654"/>
              <p:cNvSpPr/>
              <p:nvPr/>
            </p:nvSpPr>
            <p:spPr>
              <a:xfrm rot="21307200">
                <a:off x="1644840" y="511632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椭圆 26655"/>
              <p:cNvSpPr/>
              <p:nvPr/>
            </p:nvSpPr>
            <p:spPr>
              <a:xfrm rot="21307200">
                <a:off x="1636920" y="503532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文本框 26656"/>
            <p:cNvSpPr/>
            <p:nvPr/>
          </p:nvSpPr>
          <p:spPr>
            <a:xfrm>
              <a:off x="2643120" y="26722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文本框 26657"/>
            <p:cNvSpPr/>
            <p:nvPr/>
          </p:nvSpPr>
          <p:spPr>
            <a:xfrm>
              <a:off x="5100480" y="250416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文本框 26658"/>
            <p:cNvSpPr/>
            <p:nvPr/>
          </p:nvSpPr>
          <p:spPr>
            <a:xfrm>
              <a:off x="6968520" y="353664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文本框 26659"/>
            <p:cNvSpPr/>
            <p:nvPr/>
          </p:nvSpPr>
          <p:spPr>
            <a:xfrm>
              <a:off x="5273640" y="51634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文本框 26660"/>
            <p:cNvSpPr/>
            <p:nvPr/>
          </p:nvSpPr>
          <p:spPr>
            <a:xfrm>
              <a:off x="2089800" y="5335560"/>
              <a:ext cx="86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6661"/>
            <p:cNvSpPr/>
            <p:nvPr/>
          </p:nvSpPr>
          <p:spPr>
            <a:xfrm>
              <a:off x="1121400" y="383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任意多边形 27650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图片 27651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912" name="椭圆 27652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任意多边形 27653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组合 27654"/>
          <p:cNvGrpSpPr/>
          <p:nvPr/>
        </p:nvGrpSpPr>
        <p:grpSpPr>
          <a:xfrm>
            <a:off x="4003560" y="2554560"/>
            <a:ext cx="1318320" cy="528120"/>
            <a:chOff x="4003560" y="2554560"/>
            <a:chExt cx="1318320" cy="528120"/>
          </a:xfrm>
        </p:grpSpPr>
        <p:grpSp>
          <p:nvGrpSpPr>
            <p:cNvPr id="915" name="组合 27655"/>
            <p:cNvGrpSpPr/>
            <p:nvPr/>
          </p:nvGrpSpPr>
          <p:grpSpPr>
            <a:xfrm>
              <a:off x="4234320" y="2554560"/>
              <a:ext cx="1087560" cy="496800"/>
              <a:chOff x="4234320" y="2554560"/>
              <a:chExt cx="1087560" cy="496800"/>
            </a:xfrm>
          </p:grpSpPr>
          <p:sp>
            <p:nvSpPr>
              <p:cNvPr id="916" name="新月形 27656"/>
              <p:cNvSpPr/>
              <p:nvPr/>
            </p:nvSpPr>
            <p:spPr>
              <a:xfrm flipH="1" flipV="1" rot="3964800">
                <a:off x="4824720" y="24084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新月形 27657"/>
              <p:cNvSpPr/>
              <p:nvPr/>
            </p:nvSpPr>
            <p:spPr>
              <a:xfrm flipH="1" flipV="1" rot="4780200">
                <a:off x="4702320" y="2456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新月形 27658"/>
              <p:cNvSpPr/>
              <p:nvPr/>
            </p:nvSpPr>
            <p:spPr>
              <a:xfrm flipH="1" flipV="1" rot="5076000">
                <a:off x="4626720" y="2465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新月形 27659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组合 27660"/>
            <p:cNvGrpSpPr/>
            <p:nvPr/>
          </p:nvGrpSpPr>
          <p:grpSpPr>
            <a:xfrm>
              <a:off x="4003560" y="2561760"/>
              <a:ext cx="1085040" cy="520920"/>
              <a:chOff x="4003560" y="2561760"/>
              <a:chExt cx="1085040" cy="520920"/>
            </a:xfrm>
          </p:grpSpPr>
          <p:sp>
            <p:nvSpPr>
              <p:cNvPr id="921" name="新月形 27661"/>
              <p:cNvSpPr/>
              <p:nvPr/>
            </p:nvSpPr>
            <p:spPr>
              <a:xfrm flipH="1" flipV="1" rot="5318400">
                <a:off x="4594680" y="24757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新月形 27662"/>
              <p:cNvSpPr/>
              <p:nvPr/>
            </p:nvSpPr>
            <p:spPr>
              <a:xfrm flipH="1" flipV="1" rot="6133800">
                <a:off x="4462200" y="24735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新月形 27663"/>
              <p:cNvSpPr/>
              <p:nvPr/>
            </p:nvSpPr>
            <p:spPr>
              <a:xfrm flipH="1" flipV="1" rot="6429600">
                <a:off x="4389480" y="24541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新月形 27664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文本框 27665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27666" descr="circuler_1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927" name="椭圆 27667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2836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328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27668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组合 27669"/>
          <p:cNvGrpSpPr/>
          <p:nvPr/>
        </p:nvGrpSpPr>
        <p:grpSpPr>
          <a:xfrm>
            <a:off x="1598400" y="3164400"/>
            <a:ext cx="1318320" cy="528120"/>
            <a:chOff x="1598400" y="3164400"/>
            <a:chExt cx="1318320" cy="528120"/>
          </a:xfrm>
        </p:grpSpPr>
        <p:grpSp>
          <p:nvGrpSpPr>
            <p:cNvPr id="930" name="组合 27670"/>
            <p:cNvGrpSpPr/>
            <p:nvPr/>
          </p:nvGrpSpPr>
          <p:grpSpPr>
            <a:xfrm>
              <a:off x="1829160" y="3164400"/>
              <a:ext cx="1087560" cy="496800"/>
              <a:chOff x="1829160" y="3164400"/>
              <a:chExt cx="1087560" cy="496800"/>
            </a:xfrm>
          </p:grpSpPr>
          <p:sp>
            <p:nvSpPr>
              <p:cNvPr id="931" name="新月形 27671"/>
              <p:cNvSpPr/>
              <p:nvPr/>
            </p:nvSpPr>
            <p:spPr>
              <a:xfrm flipH="1" flipV="1" rot="3964800">
                <a:off x="2419560" y="301824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新月形 27672"/>
              <p:cNvSpPr/>
              <p:nvPr/>
            </p:nvSpPr>
            <p:spPr>
              <a:xfrm flipH="1" flipV="1" rot="4780200">
                <a:off x="2297160" y="3066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新月形 27673"/>
              <p:cNvSpPr/>
              <p:nvPr/>
            </p:nvSpPr>
            <p:spPr>
              <a:xfrm flipH="1" flipV="1" rot="5076000">
                <a:off x="2221560" y="3075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新月形 27674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组合 27675"/>
            <p:cNvGrpSpPr/>
            <p:nvPr/>
          </p:nvGrpSpPr>
          <p:grpSpPr>
            <a:xfrm>
              <a:off x="1598400" y="3171600"/>
              <a:ext cx="1085040" cy="520920"/>
              <a:chOff x="1598400" y="3171600"/>
              <a:chExt cx="1085040" cy="520920"/>
            </a:xfrm>
          </p:grpSpPr>
          <p:sp>
            <p:nvSpPr>
              <p:cNvPr id="936" name="新月形 27676"/>
              <p:cNvSpPr/>
              <p:nvPr/>
            </p:nvSpPr>
            <p:spPr>
              <a:xfrm flipH="1" flipV="1" rot="5318400">
                <a:off x="2189520" y="30855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新月形 27677"/>
              <p:cNvSpPr/>
              <p:nvPr/>
            </p:nvSpPr>
            <p:spPr>
              <a:xfrm flipH="1" flipV="1" rot="6133800">
                <a:off x="2057040" y="308340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新月形 27678"/>
              <p:cNvSpPr/>
              <p:nvPr/>
            </p:nvSpPr>
            <p:spPr>
              <a:xfrm flipH="1" flipV="1" rot="6429600">
                <a:off x="1984320" y="306396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新月形 27679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文本框 27680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图片 27681" descr="circuler_1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942" name="椭圆 27682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3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27683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组合 27684"/>
          <p:cNvGrpSpPr/>
          <p:nvPr/>
        </p:nvGrpSpPr>
        <p:grpSpPr>
          <a:xfrm>
            <a:off x="6268680" y="3240360"/>
            <a:ext cx="1318320" cy="528120"/>
            <a:chOff x="6268680" y="3240360"/>
            <a:chExt cx="1318320" cy="528120"/>
          </a:xfrm>
        </p:grpSpPr>
        <p:grpSp>
          <p:nvGrpSpPr>
            <p:cNvPr id="945" name="组合 27685"/>
            <p:cNvGrpSpPr/>
            <p:nvPr/>
          </p:nvGrpSpPr>
          <p:grpSpPr>
            <a:xfrm>
              <a:off x="6499440" y="3240360"/>
              <a:ext cx="1087560" cy="496800"/>
              <a:chOff x="6499440" y="3240360"/>
              <a:chExt cx="1087560" cy="496800"/>
            </a:xfrm>
          </p:grpSpPr>
          <p:sp>
            <p:nvSpPr>
              <p:cNvPr id="946" name="新月形 27686"/>
              <p:cNvSpPr/>
              <p:nvPr/>
            </p:nvSpPr>
            <p:spPr>
              <a:xfrm flipH="1" flipV="1" rot="3964800">
                <a:off x="7089840" y="3094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新月形 27687"/>
              <p:cNvSpPr/>
              <p:nvPr/>
            </p:nvSpPr>
            <p:spPr>
              <a:xfrm flipH="1" flipV="1" rot="4780200">
                <a:off x="6967440" y="3142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新月形 27688"/>
              <p:cNvSpPr/>
              <p:nvPr/>
            </p:nvSpPr>
            <p:spPr>
              <a:xfrm flipH="1" flipV="1" rot="5076000">
                <a:off x="6891840" y="3151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新月形 27689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组合 27690"/>
            <p:cNvGrpSpPr/>
            <p:nvPr/>
          </p:nvGrpSpPr>
          <p:grpSpPr>
            <a:xfrm>
              <a:off x="6268680" y="3247560"/>
              <a:ext cx="1085040" cy="520920"/>
              <a:chOff x="6268680" y="3247560"/>
              <a:chExt cx="1085040" cy="520920"/>
            </a:xfrm>
          </p:grpSpPr>
          <p:sp>
            <p:nvSpPr>
              <p:cNvPr id="951" name="新月形 27691"/>
              <p:cNvSpPr/>
              <p:nvPr/>
            </p:nvSpPr>
            <p:spPr>
              <a:xfrm flipH="1" flipV="1" rot="5318400">
                <a:off x="6859800" y="31615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新月形 27692"/>
              <p:cNvSpPr/>
              <p:nvPr/>
            </p:nvSpPr>
            <p:spPr>
              <a:xfrm flipH="1" flipV="1" rot="6133800">
                <a:off x="6727320" y="31593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新月形 27693"/>
              <p:cNvSpPr/>
              <p:nvPr/>
            </p:nvSpPr>
            <p:spPr>
              <a:xfrm flipH="1" flipV="1" rot="6429600">
                <a:off x="6654600" y="31399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新月形 27694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5" name="文本框 27695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27696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27697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27698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27699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椭圆 28674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28675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28676"/>
          <p:cNvGrpSpPr/>
          <p:nvPr/>
        </p:nvGrpSpPr>
        <p:grpSpPr>
          <a:xfrm>
            <a:off x="905040" y="2642760"/>
            <a:ext cx="1773000" cy="2410200"/>
            <a:chOff x="905040" y="2642760"/>
            <a:chExt cx="1773000" cy="2410200"/>
          </a:xfrm>
        </p:grpSpPr>
        <p:sp>
          <p:nvSpPr>
            <p:cNvPr id="964" name="任意多边形 28677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28678"/>
            <p:cNvSpPr/>
            <p:nvPr/>
          </p:nvSpPr>
          <p:spPr>
            <a:xfrm>
              <a:off x="909000" y="4038840"/>
              <a:ext cx="176904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右箭头 28679"/>
          <p:cNvSpPr/>
          <p:nvPr/>
        </p:nvSpPr>
        <p:spPr>
          <a:xfrm>
            <a:off x="609480" y="3432240"/>
            <a:ext cx="2719440" cy="812880"/>
          </a:xfrm>
          <a:prstGeom prst="rightArrow">
            <a:avLst>
              <a:gd name="adj1" fmla="val 54000"/>
              <a:gd name="adj2" fmla="val 68597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28680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4e4e4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28681"/>
          <p:cNvSpPr/>
          <p:nvPr/>
        </p:nvSpPr>
        <p:spPr>
          <a:xfrm>
            <a:off x="623088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28682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970" name="任意多边形 28683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任意多边形 28684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右箭头 28685"/>
          <p:cNvSpPr/>
          <p:nvPr/>
        </p:nvSpPr>
        <p:spPr>
          <a:xfrm flipH="1">
            <a:off x="5734080" y="3452760"/>
            <a:ext cx="2673360" cy="717480"/>
          </a:xfrm>
          <a:prstGeom prst="rightArrow">
            <a:avLst>
              <a:gd name="adj1" fmla="val 62213"/>
              <a:gd name="adj2" fmla="val 69415"/>
            </a:avLst>
          </a:prstGeom>
          <a:gradFill rotWithShape="0">
            <a:gsLst>
              <a:gs pos="0">
                <a:srgbClr val="764500"/>
              </a:gs>
              <a:gs pos="100000">
                <a:srgbClr val="ff96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28686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28687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文本框 28688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a5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a50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28689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aeaea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28690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a5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a50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28691"/>
          <p:cNvGrpSpPr/>
          <p:nvPr/>
        </p:nvGrpSpPr>
        <p:grpSpPr>
          <a:xfrm>
            <a:off x="3124080" y="2362320"/>
            <a:ext cx="2819160" cy="2818800"/>
            <a:chOff x="3124080" y="2362320"/>
            <a:chExt cx="2819160" cy="2818800"/>
          </a:xfrm>
        </p:grpSpPr>
        <p:grpSp>
          <p:nvGrpSpPr>
            <p:cNvPr id="979" name="组合 28692"/>
            <p:cNvGrpSpPr/>
            <p:nvPr/>
          </p:nvGrpSpPr>
          <p:grpSpPr>
            <a:xfrm>
              <a:off x="3960000" y="2362320"/>
              <a:ext cx="1147320" cy="938520"/>
              <a:chOff x="3960000" y="2362320"/>
              <a:chExt cx="1147320" cy="938520"/>
            </a:xfrm>
          </p:grpSpPr>
          <p:grpSp>
            <p:nvGrpSpPr>
              <p:cNvPr id="980" name="组合 28693"/>
              <p:cNvGrpSpPr/>
              <p:nvPr/>
            </p:nvGrpSpPr>
            <p:grpSpPr>
              <a:xfrm>
                <a:off x="3960000" y="2362320"/>
                <a:ext cx="1147320" cy="938520"/>
                <a:chOff x="3960000" y="2362320"/>
                <a:chExt cx="1147320" cy="938520"/>
              </a:xfrm>
            </p:grpSpPr>
            <p:sp>
              <p:nvSpPr>
                <p:cNvPr id="981" name="六边形 28694"/>
                <p:cNvSpPr/>
                <p:nvPr/>
              </p:nvSpPr>
              <p:spPr>
                <a:xfrm>
                  <a:off x="3969360" y="23781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六边形 28695"/>
                <p:cNvSpPr/>
                <p:nvPr/>
              </p:nvSpPr>
              <p:spPr>
                <a:xfrm>
                  <a:off x="3960000" y="236232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六边形 28696"/>
                <p:cNvSpPr/>
                <p:nvPr/>
              </p:nvSpPr>
              <p:spPr>
                <a:xfrm>
                  <a:off x="4026600" y="241776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文本框 28697"/>
              <p:cNvSpPr/>
              <p:nvPr/>
            </p:nvSpPr>
            <p:spPr>
              <a:xfrm>
                <a:off x="420768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28698"/>
            <p:cNvGrpSpPr/>
            <p:nvPr/>
          </p:nvGrpSpPr>
          <p:grpSpPr>
            <a:xfrm>
              <a:off x="3124080" y="2829960"/>
              <a:ext cx="1148400" cy="938520"/>
              <a:chOff x="3124080" y="2829960"/>
              <a:chExt cx="1148400" cy="938520"/>
            </a:xfrm>
          </p:grpSpPr>
          <p:grpSp>
            <p:nvGrpSpPr>
              <p:cNvPr id="986" name="组合 28699"/>
              <p:cNvGrpSpPr/>
              <p:nvPr/>
            </p:nvGrpSpPr>
            <p:grpSpPr>
              <a:xfrm>
                <a:off x="3124080" y="2829960"/>
                <a:ext cx="1148400" cy="938520"/>
                <a:chOff x="3124080" y="2829960"/>
                <a:chExt cx="1148400" cy="938520"/>
              </a:xfrm>
            </p:grpSpPr>
            <p:sp>
              <p:nvSpPr>
                <p:cNvPr id="987" name="六边形 28700"/>
                <p:cNvSpPr/>
                <p:nvPr/>
              </p:nvSpPr>
              <p:spPr>
                <a:xfrm>
                  <a:off x="3133440" y="28458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六边形 28701"/>
                <p:cNvSpPr/>
                <p:nvPr/>
              </p:nvSpPr>
              <p:spPr>
                <a:xfrm>
                  <a:off x="3124080" y="282996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六边形 28702"/>
                <p:cNvSpPr/>
                <p:nvPr/>
              </p:nvSpPr>
              <p:spPr>
                <a:xfrm>
                  <a:off x="3190680" y="288540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文本框 28703"/>
              <p:cNvSpPr/>
              <p:nvPr/>
            </p:nvSpPr>
            <p:spPr>
              <a:xfrm>
                <a:off x="337932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组合 28704"/>
            <p:cNvGrpSpPr/>
            <p:nvPr/>
          </p:nvGrpSpPr>
          <p:grpSpPr>
            <a:xfrm>
              <a:off x="3960000" y="3300840"/>
              <a:ext cx="1147320" cy="938520"/>
              <a:chOff x="3960000" y="3300840"/>
              <a:chExt cx="1147320" cy="938520"/>
            </a:xfrm>
          </p:grpSpPr>
          <p:grpSp>
            <p:nvGrpSpPr>
              <p:cNvPr id="992" name="组合 28705"/>
              <p:cNvGrpSpPr/>
              <p:nvPr/>
            </p:nvGrpSpPr>
            <p:grpSpPr>
              <a:xfrm>
                <a:off x="3960000" y="3300840"/>
                <a:ext cx="1147320" cy="938520"/>
                <a:chOff x="3960000" y="3300840"/>
                <a:chExt cx="1147320" cy="938520"/>
              </a:xfrm>
            </p:grpSpPr>
            <p:sp>
              <p:nvSpPr>
                <p:cNvPr id="993" name="六边形 28706"/>
                <p:cNvSpPr/>
                <p:nvPr/>
              </p:nvSpPr>
              <p:spPr>
                <a:xfrm>
                  <a:off x="3969360" y="33166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六边形 28707"/>
                <p:cNvSpPr/>
                <p:nvPr/>
              </p:nvSpPr>
              <p:spPr>
                <a:xfrm>
                  <a:off x="3960000" y="330084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六边形 28708"/>
                <p:cNvSpPr/>
                <p:nvPr/>
              </p:nvSpPr>
              <p:spPr>
                <a:xfrm>
                  <a:off x="4026600" y="335628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文本框 28709"/>
              <p:cNvSpPr/>
              <p:nvPr/>
            </p:nvSpPr>
            <p:spPr>
              <a:xfrm>
                <a:off x="4188240" y="3568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组合 28710"/>
            <p:cNvGrpSpPr/>
            <p:nvPr/>
          </p:nvGrpSpPr>
          <p:grpSpPr>
            <a:xfrm>
              <a:off x="4794840" y="2829960"/>
              <a:ext cx="1148400" cy="938520"/>
              <a:chOff x="4794840" y="2829960"/>
              <a:chExt cx="1148400" cy="938520"/>
            </a:xfrm>
          </p:grpSpPr>
          <p:grpSp>
            <p:nvGrpSpPr>
              <p:cNvPr id="998" name="组合 28711"/>
              <p:cNvGrpSpPr/>
              <p:nvPr/>
            </p:nvGrpSpPr>
            <p:grpSpPr>
              <a:xfrm>
                <a:off x="4794840" y="2829960"/>
                <a:ext cx="1148400" cy="938520"/>
                <a:chOff x="4794840" y="2829960"/>
                <a:chExt cx="1148400" cy="938520"/>
              </a:xfrm>
            </p:grpSpPr>
            <p:sp>
              <p:nvSpPr>
                <p:cNvPr id="999" name="六边形 28712"/>
                <p:cNvSpPr/>
                <p:nvPr/>
              </p:nvSpPr>
              <p:spPr>
                <a:xfrm>
                  <a:off x="4804200" y="28458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六边形 28713"/>
                <p:cNvSpPr/>
                <p:nvPr/>
              </p:nvSpPr>
              <p:spPr>
                <a:xfrm>
                  <a:off x="4794840" y="282996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六边形 28714"/>
                <p:cNvSpPr/>
                <p:nvPr/>
              </p:nvSpPr>
              <p:spPr>
                <a:xfrm>
                  <a:off x="4861440" y="288540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文本框 28715"/>
              <p:cNvSpPr/>
              <p:nvPr/>
            </p:nvSpPr>
            <p:spPr>
              <a:xfrm>
                <a:off x="505008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组合 28716"/>
            <p:cNvGrpSpPr/>
            <p:nvPr/>
          </p:nvGrpSpPr>
          <p:grpSpPr>
            <a:xfrm>
              <a:off x="4794840" y="3771720"/>
              <a:ext cx="1148400" cy="938520"/>
              <a:chOff x="4794840" y="3771720"/>
              <a:chExt cx="1148400" cy="938520"/>
            </a:xfrm>
          </p:grpSpPr>
          <p:grpSp>
            <p:nvGrpSpPr>
              <p:cNvPr id="1004" name="组合 28717"/>
              <p:cNvGrpSpPr/>
              <p:nvPr/>
            </p:nvGrpSpPr>
            <p:grpSpPr>
              <a:xfrm>
                <a:off x="4794840" y="3771720"/>
                <a:ext cx="1148400" cy="938520"/>
                <a:chOff x="4794840" y="3771720"/>
                <a:chExt cx="1148400" cy="938520"/>
              </a:xfrm>
            </p:grpSpPr>
            <p:sp>
              <p:nvSpPr>
                <p:cNvPr id="1005" name="六边形 28718"/>
                <p:cNvSpPr/>
                <p:nvPr/>
              </p:nvSpPr>
              <p:spPr>
                <a:xfrm>
                  <a:off x="4804200" y="37875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六边形 28719"/>
                <p:cNvSpPr/>
                <p:nvPr/>
              </p:nvSpPr>
              <p:spPr>
                <a:xfrm>
                  <a:off x="4794840" y="377172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六边形 28720"/>
                <p:cNvSpPr/>
                <p:nvPr/>
              </p:nvSpPr>
              <p:spPr>
                <a:xfrm>
                  <a:off x="4861440" y="382716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文本框 28721"/>
              <p:cNvSpPr/>
              <p:nvPr/>
            </p:nvSpPr>
            <p:spPr>
              <a:xfrm>
                <a:off x="506556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组合 28722"/>
            <p:cNvGrpSpPr/>
            <p:nvPr/>
          </p:nvGrpSpPr>
          <p:grpSpPr>
            <a:xfrm>
              <a:off x="3124080" y="3771720"/>
              <a:ext cx="1148400" cy="938520"/>
              <a:chOff x="3124080" y="3771720"/>
              <a:chExt cx="1148400" cy="938520"/>
            </a:xfrm>
          </p:grpSpPr>
          <p:grpSp>
            <p:nvGrpSpPr>
              <p:cNvPr id="1010" name="组合 28723"/>
              <p:cNvGrpSpPr/>
              <p:nvPr/>
            </p:nvGrpSpPr>
            <p:grpSpPr>
              <a:xfrm>
                <a:off x="3124080" y="3771720"/>
                <a:ext cx="1148400" cy="938520"/>
                <a:chOff x="3124080" y="3771720"/>
                <a:chExt cx="1148400" cy="938520"/>
              </a:xfrm>
            </p:grpSpPr>
            <p:sp>
              <p:nvSpPr>
                <p:cNvPr id="1011" name="六边形 28724"/>
                <p:cNvSpPr/>
                <p:nvPr/>
              </p:nvSpPr>
              <p:spPr>
                <a:xfrm>
                  <a:off x="3133440" y="37875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六边形 28725"/>
                <p:cNvSpPr/>
                <p:nvPr/>
              </p:nvSpPr>
              <p:spPr>
                <a:xfrm>
                  <a:off x="3124080" y="377172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六边形 28726"/>
                <p:cNvSpPr/>
                <p:nvPr/>
              </p:nvSpPr>
              <p:spPr>
                <a:xfrm>
                  <a:off x="3190680" y="382716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文本框 28727"/>
              <p:cNvSpPr/>
              <p:nvPr/>
            </p:nvSpPr>
            <p:spPr>
              <a:xfrm>
                <a:off x="337932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组合 28728"/>
            <p:cNvGrpSpPr/>
            <p:nvPr/>
          </p:nvGrpSpPr>
          <p:grpSpPr>
            <a:xfrm>
              <a:off x="3960000" y="4242600"/>
              <a:ext cx="1147320" cy="938520"/>
              <a:chOff x="3960000" y="4242600"/>
              <a:chExt cx="1147320" cy="938520"/>
            </a:xfrm>
          </p:grpSpPr>
          <p:grpSp>
            <p:nvGrpSpPr>
              <p:cNvPr id="1016" name="组合 28729"/>
              <p:cNvGrpSpPr/>
              <p:nvPr/>
            </p:nvGrpSpPr>
            <p:grpSpPr>
              <a:xfrm>
                <a:off x="3960000" y="4242600"/>
                <a:ext cx="1147320" cy="938520"/>
                <a:chOff x="3960000" y="4242600"/>
                <a:chExt cx="1147320" cy="938520"/>
              </a:xfrm>
            </p:grpSpPr>
            <p:sp>
              <p:nvSpPr>
                <p:cNvPr id="1017" name="六边形 28730"/>
                <p:cNvSpPr/>
                <p:nvPr/>
              </p:nvSpPr>
              <p:spPr>
                <a:xfrm>
                  <a:off x="3969360" y="425844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六边形 28731"/>
                <p:cNvSpPr/>
                <p:nvPr/>
              </p:nvSpPr>
              <p:spPr>
                <a:xfrm>
                  <a:off x="3960000" y="424260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六边形 28732"/>
                <p:cNvSpPr/>
                <p:nvPr/>
              </p:nvSpPr>
              <p:spPr>
                <a:xfrm>
                  <a:off x="4026600" y="429804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0" name="文本框 28733"/>
              <p:cNvSpPr/>
              <p:nvPr/>
            </p:nvSpPr>
            <p:spPr>
              <a:xfrm>
                <a:off x="421056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右箭头标注 29698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3"/>
              <a:gd name="adj4" fmla="val 86532"/>
            </a:avLst>
          </a:prstGeom>
          <a:gradFill rotWithShape="0">
            <a:gsLst>
              <a:gs pos="0">
                <a:srgbClr val="ff9600"/>
              </a:gs>
              <a:gs pos="50000">
                <a:srgbClr val="ffbc5d">
                  <a:alpha val="90196"/>
                </a:srgbClr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右箭头标注 29699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84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29700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76ca2a"/>
              </a:gs>
              <a:gs pos="50000">
                <a:srgbClr val="96d65c"/>
              </a:gs>
              <a:gs pos="100000">
                <a:srgbClr val="76ca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右箭头标注 29701"/>
          <p:cNvSpPr/>
          <p:nvPr/>
        </p:nvSpPr>
        <p:spPr>
          <a:xfrm rot="5400000">
            <a:off x="6082200" y="1751760"/>
            <a:ext cx="2307960" cy="2119320"/>
          </a:xfrm>
          <a:prstGeom prst="rightArrowCallout">
            <a:avLst>
              <a:gd name="adj1" fmla="val 28438"/>
              <a:gd name="adj2" fmla="val 21477"/>
              <a:gd name="adj3" fmla="val 7931"/>
              <a:gd name="adj4" fmla="val 86532"/>
            </a:avLst>
          </a:prstGeom>
          <a:gradFill rotWithShape="0">
            <a:gsLst>
              <a:gs pos="0">
                <a:srgbClr val="ff9600"/>
              </a:gs>
              <a:gs pos="50000">
                <a:srgbClr val="ffcc83">
                  <a:alpha val="90196"/>
                </a:srgbClr>
              </a:gs>
              <a:gs pos="100000">
                <a:srgbClr val="ff9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9702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50000">
                <a:srgbClr val="d17b00"/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右箭头标注 29703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84"/>
              <a:gd name="adj4" fmla="val 86532"/>
            </a:avLst>
          </a:prstGeom>
          <a:gradFill rotWithShape="0">
            <a:gsLst>
              <a:gs pos="0">
                <a:srgbClr val="ff9600"/>
              </a:gs>
              <a:gs pos="50000">
                <a:srgbClr val="ffbc5d">
                  <a:alpha val="90196"/>
                </a:srgbClr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9704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50000">
                <a:srgbClr val="e08400"/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右箭头标注 29705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84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9706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76ca2a"/>
              </a:gs>
              <a:gs pos="50000">
                <a:srgbClr val="96d65c"/>
              </a:gs>
              <a:gs pos="100000">
                <a:srgbClr val="76ca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9707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50000">
                <a:srgbClr val="e08400"/>
              </a:gs>
              <a:gs pos="100000">
                <a:srgbClr val="ff9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708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29709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29710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29711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29712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29713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29714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29715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29716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29717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29718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任意多边形 30722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5"/>
                </a:moveTo>
                <a:cubicBezTo>
                  <a:pt x="1326" y="30125"/>
                  <a:pt x="0" y="2601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46" y="43200"/>
                  <a:pt x="19314" y="43110"/>
                  <a:pt x="18216" y="42936"/>
                </a:cubicBezTo>
              </a:path>
              <a:path stroke="0" w="43200" h="43200">
                <a:moveTo>
                  <a:pt x="18219" y="42933"/>
                </a:moveTo>
                <a:cubicBezTo>
                  <a:pt x="26592" y="43497"/>
                  <a:pt x="32732" y="45366"/>
                  <a:pt x="32732" y="47585"/>
                </a:cubicBezTo>
                <a:cubicBezTo>
                  <a:pt x="32732" y="50009"/>
                  <a:pt x="25401" y="52016"/>
                  <a:pt x="15855" y="52360"/>
                </a:cubicBezTo>
                <a:lnTo>
                  <a:pt x="3603" y="33545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任意多边形 30723"/>
          <p:cNvSpPr/>
          <p:nvPr/>
        </p:nvSpPr>
        <p:spPr>
          <a:xfrm flipH="1" rot="5400000">
            <a:off x="1820880" y="1274400"/>
            <a:ext cx="1380960" cy="14191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8" y="41974"/>
                </a:moveTo>
                <a:cubicBezTo>
                  <a:pt x="6020" y="39018"/>
                  <a:pt x="0" y="3101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2332"/>
                  <a:pt x="35373" y="41236"/>
                  <a:pt x="25122" y="42914"/>
                </a:cubicBezTo>
              </a:path>
              <a:path stroke="0" w="43200" h="42913">
                <a:moveTo>
                  <a:pt x="25112" y="42912"/>
                </a:moveTo>
                <a:cubicBezTo>
                  <a:pt x="29911" y="43011"/>
                  <a:pt x="33216" y="43220"/>
                  <a:pt x="33216" y="43463"/>
                </a:cubicBezTo>
                <a:cubicBezTo>
                  <a:pt x="33216" y="43796"/>
                  <a:pt x="26998" y="44066"/>
                  <a:pt x="19247" y="44076"/>
                </a:cubicBezTo>
                <a:lnTo>
                  <a:pt x="14428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30724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1047" name="椭圆 30725"/>
          <p:cNvSpPr/>
          <p:nvPr/>
        </p:nvSpPr>
        <p:spPr>
          <a:xfrm>
            <a:off x="5789520" y="28670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61b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61b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任意多边形 30726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30727"/>
          <p:cNvGrpSpPr/>
          <p:nvPr/>
        </p:nvGrpSpPr>
        <p:grpSpPr>
          <a:xfrm>
            <a:off x="5886000" y="3808440"/>
            <a:ext cx="1200960" cy="479520"/>
            <a:chOff x="5886000" y="3808440"/>
            <a:chExt cx="1200960" cy="479520"/>
          </a:xfrm>
        </p:grpSpPr>
        <p:grpSp>
          <p:nvGrpSpPr>
            <p:cNvPr id="1050" name="组合 30728"/>
            <p:cNvGrpSpPr/>
            <p:nvPr/>
          </p:nvGrpSpPr>
          <p:grpSpPr>
            <a:xfrm>
              <a:off x="6096240" y="3808440"/>
              <a:ext cx="990720" cy="452880"/>
              <a:chOff x="6096240" y="3808440"/>
              <a:chExt cx="990720" cy="452880"/>
            </a:xfrm>
          </p:grpSpPr>
          <p:sp>
            <p:nvSpPr>
              <p:cNvPr id="1051" name="新月形 30729"/>
              <p:cNvSpPr/>
              <p:nvPr/>
            </p:nvSpPr>
            <p:spPr>
              <a:xfrm flipH="1" flipV="1" rot="3964800">
                <a:off x="6633720" y="36752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新月形 30730"/>
              <p:cNvSpPr/>
              <p:nvPr/>
            </p:nvSpPr>
            <p:spPr>
              <a:xfrm flipH="1" flipV="1" rot="4780200">
                <a:off x="6522120" y="371916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新月形 30731"/>
              <p:cNvSpPr/>
              <p:nvPr/>
            </p:nvSpPr>
            <p:spPr>
              <a:xfrm flipH="1" flipV="1" rot="5076000">
                <a:off x="6453720" y="3728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新月形 30732"/>
              <p:cNvSpPr/>
              <p:nvPr/>
            </p:nvSpPr>
            <p:spPr>
              <a:xfrm flipH="1" flipV="1" rot="5608200">
                <a:off x="6371280" y="37364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组合 30733"/>
            <p:cNvGrpSpPr/>
            <p:nvPr/>
          </p:nvGrpSpPr>
          <p:grpSpPr>
            <a:xfrm>
              <a:off x="5886000" y="3813480"/>
              <a:ext cx="988920" cy="474480"/>
              <a:chOff x="5886000" y="3813480"/>
              <a:chExt cx="988920" cy="474480"/>
            </a:xfrm>
          </p:grpSpPr>
          <p:sp>
            <p:nvSpPr>
              <p:cNvPr id="1056" name="新月形 30734"/>
              <p:cNvSpPr/>
              <p:nvPr/>
            </p:nvSpPr>
            <p:spPr>
              <a:xfrm flipH="1" flipV="1" rot="5317800">
                <a:off x="6423840" y="37350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新月形 30735"/>
              <p:cNvSpPr/>
              <p:nvPr/>
            </p:nvSpPr>
            <p:spPr>
              <a:xfrm flipH="1" flipV="1" rot="6133800">
                <a:off x="6303600" y="373248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新月形 30736"/>
              <p:cNvSpPr/>
              <p:nvPr/>
            </p:nvSpPr>
            <p:spPr>
              <a:xfrm flipH="1" flipV="1" rot="6429000">
                <a:off x="6238080" y="37152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新月形 30737"/>
              <p:cNvSpPr/>
              <p:nvPr/>
            </p:nvSpPr>
            <p:spPr>
              <a:xfrm flipH="1" flipV="1" rot="6961200">
                <a:off x="6158520" y="36910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0" name="图片 30738" descr="circuler_1"/>
          <p:cNvPicPr/>
          <p:nvPr/>
        </p:nvPicPr>
        <p:blipFill>
          <a:blip r:embed="rId2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1061" name="椭圆 30739"/>
          <p:cNvSpPr/>
          <p:nvPr/>
        </p:nvSpPr>
        <p:spPr>
          <a:xfrm>
            <a:off x="1920960" y="14032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716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716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任意多边形 30740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30741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0742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30743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30744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30745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1068" name="椭圆 30746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299c2"/>
                </a:gs>
                <a:gs pos="100000">
                  <a:srgbClr val="660066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柱形 30747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30748"/>
          <p:cNvGrpSpPr/>
          <p:nvPr/>
        </p:nvGrpSpPr>
        <p:grpSpPr>
          <a:xfrm>
            <a:off x="4521600" y="3572280"/>
            <a:ext cx="1479240" cy="150120"/>
            <a:chOff x="4521600" y="3572280"/>
            <a:chExt cx="1479240" cy="150120"/>
          </a:xfrm>
        </p:grpSpPr>
        <p:sp>
          <p:nvSpPr>
            <p:cNvPr id="1071" name="椭圆 30749"/>
            <p:cNvSpPr/>
            <p:nvPr/>
          </p:nvSpPr>
          <p:spPr>
            <a:xfrm rot="5607000">
              <a:off x="5894640" y="36187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333"/>
                </a:gs>
                <a:gs pos="50000">
                  <a:srgbClr val="00ffff"/>
                </a:gs>
                <a:gs pos="100000">
                  <a:srgbClr val="003333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圆柱形 30750"/>
            <p:cNvSpPr/>
            <p:nvPr/>
          </p:nvSpPr>
          <p:spPr>
            <a:xfrm flipH="1" rot="16242000">
              <a:off x="5202360" y="2899080"/>
              <a:ext cx="100800" cy="14623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3" name="图片 30751" descr="circuler_1"/>
          <p:cNvPicPr/>
          <p:nvPr/>
        </p:nvPicPr>
        <p:blipFill>
          <a:blip r:embed="rId3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1074" name="椭圆 30752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任意多边形 30753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30754"/>
          <p:cNvGrpSpPr/>
          <p:nvPr/>
        </p:nvGrpSpPr>
        <p:grpSpPr>
          <a:xfrm>
            <a:off x="3467520" y="3944520"/>
            <a:ext cx="1455480" cy="579600"/>
            <a:chOff x="3467520" y="3944520"/>
            <a:chExt cx="1455480" cy="579600"/>
          </a:xfrm>
        </p:grpSpPr>
        <p:grpSp>
          <p:nvGrpSpPr>
            <p:cNvPr id="1077" name="组合 30755"/>
            <p:cNvGrpSpPr/>
            <p:nvPr/>
          </p:nvGrpSpPr>
          <p:grpSpPr>
            <a:xfrm>
              <a:off x="3722400" y="3944520"/>
              <a:ext cx="1200600" cy="547920"/>
              <a:chOff x="3722400" y="3944520"/>
              <a:chExt cx="1200600" cy="547920"/>
            </a:xfrm>
          </p:grpSpPr>
          <p:sp>
            <p:nvSpPr>
              <p:cNvPr id="1078" name="新月形 30756"/>
              <p:cNvSpPr/>
              <p:nvPr/>
            </p:nvSpPr>
            <p:spPr>
              <a:xfrm flipH="1" flipV="1" rot="3964800">
                <a:off x="4374360" y="3782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新月形 30757"/>
              <p:cNvSpPr/>
              <p:nvPr/>
            </p:nvSpPr>
            <p:spPr>
              <a:xfrm flipH="1" flipV="1" rot="4780200">
                <a:off x="4239360" y="383616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新月形 30758"/>
              <p:cNvSpPr/>
              <p:nvPr/>
            </p:nvSpPr>
            <p:spPr>
              <a:xfrm flipH="1" flipV="1" rot="5076000">
                <a:off x="4155840" y="38462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新月形 30759"/>
              <p:cNvSpPr/>
              <p:nvPr/>
            </p:nvSpPr>
            <p:spPr>
              <a:xfrm flipH="1" flipV="1" rot="5608200">
                <a:off x="4056480" y="38563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组合 30760"/>
            <p:cNvGrpSpPr/>
            <p:nvPr/>
          </p:nvGrpSpPr>
          <p:grpSpPr>
            <a:xfrm>
              <a:off x="3467520" y="3949560"/>
              <a:ext cx="1198080" cy="574560"/>
              <a:chOff x="3467520" y="3949560"/>
              <a:chExt cx="1198080" cy="574560"/>
            </a:xfrm>
          </p:grpSpPr>
          <p:sp>
            <p:nvSpPr>
              <p:cNvPr id="1083" name="新月形 30761"/>
              <p:cNvSpPr/>
              <p:nvPr/>
            </p:nvSpPr>
            <p:spPr>
              <a:xfrm flipH="1" flipV="1" rot="5317800">
                <a:off x="4119840" y="3854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新月形 30762"/>
              <p:cNvSpPr/>
              <p:nvPr/>
            </p:nvSpPr>
            <p:spPr>
              <a:xfrm flipH="1" flipV="1" rot="6133800">
                <a:off x="3975480" y="38530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新月形 30763"/>
              <p:cNvSpPr/>
              <p:nvPr/>
            </p:nvSpPr>
            <p:spPr>
              <a:xfrm flipH="1" flipV="1" rot="6429000">
                <a:off x="3893760" y="38318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新月形 30764"/>
              <p:cNvSpPr/>
              <p:nvPr/>
            </p:nvSpPr>
            <p:spPr>
              <a:xfrm flipH="1" flipV="1" rot="6961200">
                <a:off x="3799080" y="3800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矩形 30765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30766"/>
          <p:cNvGrpSpPr/>
          <p:nvPr/>
        </p:nvGrpSpPr>
        <p:grpSpPr>
          <a:xfrm>
            <a:off x="2500920" y="3888720"/>
            <a:ext cx="1258920" cy="1019520"/>
            <a:chOff x="2500920" y="3888720"/>
            <a:chExt cx="1258920" cy="1019520"/>
          </a:xfrm>
        </p:grpSpPr>
        <p:sp>
          <p:nvSpPr>
            <p:cNvPr id="1089" name="椭圆 30767"/>
            <p:cNvSpPr/>
            <p:nvPr/>
          </p:nvSpPr>
          <p:spPr>
            <a:xfrm rot="3460800">
              <a:off x="3585600" y="39398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6c299"/>
                </a:gs>
                <a:gs pos="100000">
                  <a:srgbClr val="996600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圆柱形 30768"/>
            <p:cNvSpPr/>
            <p:nvPr/>
          </p:nvSpPr>
          <p:spPr>
            <a:xfrm flipH="1" rot="13956000">
              <a:off x="3058560" y="36925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任意多边形 30769"/>
          <p:cNvSpPr/>
          <p:nvPr/>
        </p:nvSpPr>
        <p:spPr>
          <a:xfrm flipH="1" rot="5910600">
            <a:off x="1603440" y="4243320"/>
            <a:ext cx="1677960" cy="170820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902" y="38860"/>
                  <a:pt x="0" y="3091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1545"/>
                  <a:pt x="36479" y="39920"/>
                  <a:pt x="27336" y="42430"/>
                </a:cubicBezTo>
              </a:path>
              <a:path stroke="0" w="43200" h="42427">
                <a:moveTo>
                  <a:pt x="27326" y="42427"/>
                </a:moveTo>
                <a:cubicBezTo>
                  <a:pt x="25417" y="42473"/>
                  <a:pt x="23251" y="42501"/>
                  <a:pt x="20952" y="42504"/>
                </a:cubicBez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30770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30771" descr="circuler_1"/>
          <p:cNvPicPr/>
          <p:nvPr/>
        </p:nvPicPr>
        <p:blipFill>
          <a:blip r:embed="rId4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1094" name="椭圆 30772"/>
          <p:cNvSpPr/>
          <p:nvPr/>
        </p:nvSpPr>
        <p:spPr>
          <a:xfrm>
            <a:off x="1724040" y="44020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61b43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6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任意多边形 30773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30774"/>
          <p:cNvGrpSpPr/>
          <p:nvPr/>
        </p:nvGrpSpPr>
        <p:grpSpPr>
          <a:xfrm>
            <a:off x="1824120" y="5389200"/>
            <a:ext cx="1258920" cy="502200"/>
            <a:chOff x="1824120" y="5389200"/>
            <a:chExt cx="1258920" cy="502200"/>
          </a:xfrm>
        </p:grpSpPr>
        <p:grpSp>
          <p:nvGrpSpPr>
            <p:cNvPr id="1097" name="组合 30775"/>
            <p:cNvGrpSpPr/>
            <p:nvPr/>
          </p:nvGrpSpPr>
          <p:grpSpPr>
            <a:xfrm>
              <a:off x="2045160" y="5389200"/>
              <a:ext cx="1037880" cy="474480"/>
              <a:chOff x="2045160" y="5389200"/>
              <a:chExt cx="1037880" cy="474480"/>
            </a:xfrm>
          </p:grpSpPr>
          <p:sp>
            <p:nvSpPr>
              <p:cNvPr id="1098" name="新月形 30776"/>
              <p:cNvSpPr/>
              <p:nvPr/>
            </p:nvSpPr>
            <p:spPr>
              <a:xfrm flipH="1" flipV="1" rot="3964800">
                <a:off x="2608560" y="524952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新月形 30777"/>
              <p:cNvSpPr/>
              <p:nvPr/>
            </p:nvSpPr>
            <p:spPr>
              <a:xfrm flipH="1" flipV="1" rot="4780200">
                <a:off x="2491560" y="529560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新月形 30778"/>
              <p:cNvSpPr/>
              <p:nvPr/>
            </p:nvSpPr>
            <p:spPr>
              <a:xfrm flipH="1" flipV="1" rot="5076000">
                <a:off x="2420640" y="530568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新月形 30779"/>
              <p:cNvSpPr/>
              <p:nvPr/>
            </p:nvSpPr>
            <p:spPr>
              <a:xfrm flipH="1" flipV="1" rot="5608200">
                <a:off x="2334240" y="53132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组合 30780"/>
            <p:cNvGrpSpPr/>
            <p:nvPr/>
          </p:nvGrpSpPr>
          <p:grpSpPr>
            <a:xfrm>
              <a:off x="1824120" y="5394960"/>
              <a:ext cx="1036440" cy="496440"/>
              <a:chOff x="1824120" y="5394960"/>
              <a:chExt cx="1036440" cy="496440"/>
            </a:xfrm>
          </p:grpSpPr>
          <p:sp>
            <p:nvSpPr>
              <p:cNvPr id="1103" name="新月形 30781"/>
              <p:cNvSpPr/>
              <p:nvPr/>
            </p:nvSpPr>
            <p:spPr>
              <a:xfrm flipH="1" flipV="1" rot="5317800">
                <a:off x="2388600" y="53128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新月形 30782"/>
              <p:cNvSpPr/>
              <p:nvPr/>
            </p:nvSpPr>
            <p:spPr>
              <a:xfrm flipH="1" flipV="1" rot="6133800">
                <a:off x="2263320" y="531144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新月形 30783"/>
              <p:cNvSpPr/>
              <p:nvPr/>
            </p:nvSpPr>
            <p:spPr>
              <a:xfrm flipH="1" flipV="1" rot="6429000">
                <a:off x="2192760" y="52927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新月形 30784"/>
              <p:cNvSpPr/>
              <p:nvPr/>
            </p:nvSpPr>
            <p:spPr>
              <a:xfrm flipH="1" flipV="1" rot="6961200">
                <a:off x="2111040" y="52657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矩形 30785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组合 30786"/>
          <p:cNvGrpSpPr/>
          <p:nvPr/>
        </p:nvGrpSpPr>
        <p:grpSpPr>
          <a:xfrm>
            <a:off x="2003760" y="2216520"/>
            <a:ext cx="1036080" cy="414360"/>
            <a:chOff x="2003760" y="2216520"/>
            <a:chExt cx="1036080" cy="414360"/>
          </a:xfrm>
        </p:grpSpPr>
        <p:grpSp>
          <p:nvGrpSpPr>
            <p:cNvPr id="1109" name="组合 30787"/>
            <p:cNvGrpSpPr/>
            <p:nvPr/>
          </p:nvGrpSpPr>
          <p:grpSpPr>
            <a:xfrm>
              <a:off x="2184840" y="2216520"/>
              <a:ext cx="855000" cy="390600"/>
              <a:chOff x="2184840" y="2216520"/>
              <a:chExt cx="855000" cy="390600"/>
            </a:xfrm>
          </p:grpSpPr>
          <p:sp>
            <p:nvSpPr>
              <p:cNvPr id="1110" name="新月形 30788"/>
              <p:cNvSpPr/>
              <p:nvPr/>
            </p:nvSpPr>
            <p:spPr>
              <a:xfrm flipH="1" flipV="1" rot="3964800">
                <a:off x="2649240" y="21009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新月形 30789"/>
              <p:cNvSpPr/>
              <p:nvPr/>
            </p:nvSpPr>
            <p:spPr>
              <a:xfrm flipH="1" flipV="1" rot="4780200">
                <a:off x="2553120" y="21398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新月形 30790"/>
              <p:cNvSpPr/>
              <p:nvPr/>
            </p:nvSpPr>
            <p:spPr>
              <a:xfrm flipH="1" flipV="1" rot="5076000">
                <a:off x="2494080" y="21466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新月形 30791"/>
              <p:cNvSpPr/>
              <p:nvPr/>
            </p:nvSpPr>
            <p:spPr>
              <a:xfrm flipH="1" flipV="1" rot="5608200">
                <a:off x="2423160" y="21538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组合 30792"/>
            <p:cNvGrpSpPr/>
            <p:nvPr/>
          </p:nvGrpSpPr>
          <p:grpSpPr>
            <a:xfrm>
              <a:off x="2003760" y="2221200"/>
              <a:ext cx="852840" cy="409680"/>
              <a:chOff x="2003760" y="2221200"/>
              <a:chExt cx="852840" cy="409680"/>
            </a:xfrm>
          </p:grpSpPr>
          <p:sp>
            <p:nvSpPr>
              <p:cNvPr id="1115" name="新月形 30793"/>
              <p:cNvSpPr/>
              <p:nvPr/>
            </p:nvSpPr>
            <p:spPr>
              <a:xfrm flipH="1" flipV="1" rot="5317800">
                <a:off x="2468520" y="215388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新月形 30794"/>
              <p:cNvSpPr/>
              <p:nvPr/>
            </p:nvSpPr>
            <p:spPr>
              <a:xfrm flipH="1" flipV="1" rot="6133800">
                <a:off x="2365200" y="215244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新月形 30795"/>
              <p:cNvSpPr/>
              <p:nvPr/>
            </p:nvSpPr>
            <p:spPr>
              <a:xfrm flipH="1" flipV="1" rot="6429000">
                <a:off x="2307600" y="21369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新月形 30796"/>
              <p:cNvSpPr/>
              <p:nvPr/>
            </p:nvSpPr>
            <p:spPr>
              <a:xfrm flipH="1" flipV="1" rot="6961200">
                <a:off x="2239200" y="21153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矩形 30797"/>
          <p:cNvSpPr/>
          <p:nvPr/>
        </p:nvSpPr>
        <p:spPr>
          <a:xfrm>
            <a:off x="3497400" y="5153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任意多边形 31745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任意多边形 31746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任意多边形 31747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76c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274920" y="3341520"/>
            <a:ext cx="360" cy="2497320"/>
            <a:chOff x="3274920" y="3341520"/>
            <a:chExt cx="360" cy="2497320"/>
          </a:xfrm>
        </p:grpSpPr>
        <p:sp>
          <p:nvSpPr>
            <p:cNvPr id="1125" name="直接连接符 31749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32749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386320" y="3341520"/>
            <a:ext cx="360" cy="2497320"/>
            <a:chOff x="5386320" y="3341520"/>
            <a:chExt cx="360" cy="2497320"/>
          </a:xfrm>
        </p:grpSpPr>
        <p:sp>
          <p:nvSpPr>
            <p:cNvPr id="1128" name="直接连接符 31750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53863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470720" y="3035160"/>
            <a:ext cx="360" cy="2803680"/>
            <a:chOff x="7470720" y="3035160"/>
            <a:chExt cx="360" cy="2803680"/>
          </a:xfrm>
        </p:grpSpPr>
        <p:sp>
          <p:nvSpPr>
            <p:cNvPr id="1131" name="直接连接符 31751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>
              <a:off x="747072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任意多边形 31752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棱台 31753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a5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31754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31755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棱台 31756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a5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棱台 31757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a5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31758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31759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31760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3" name="组合 32770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144" name="组合 32771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1145" name="菱形 32772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菱形 32773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菱形 32774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组合 32775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1149" name="菱形 32776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菱形 32777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菱形 32778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组合 32779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153" name="菱形 32780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菱形 32781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菱形 32782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矩形 32783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32784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矩形 32785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椭圆 32786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文本框 32787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32788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文本框 32789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组合 32790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1164" name="菱形 32791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菱形 32792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菱形 32793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组合 32794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168" name="菱形 32795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菱形 32796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菱形 32797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矩形 32798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椭圆 32799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文本框 32800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组合 32801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1175" name="菱形 32802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菱形 32803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菱形 32804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组合 32805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1179" name="菱形 32806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菱形 32807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菱形 32808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矩形 32809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椭圆 32810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文本框 32811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组合 32812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1186" name="菱形 32813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菱形 32814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菱形 32815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文本框 32816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文本框 32817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文本框 32818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文本框 32819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7200" y="1371600"/>
            <a:ext cx="8006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F5A-F153-4BE8-B064-E69CC4542D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33794"/>
          <p:cNvSpPr txBox="1"/>
          <p:nvPr/>
        </p:nvSpPr>
        <p:spPr>
          <a:xfrm>
            <a:off x="990720" y="22096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96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ff96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7170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166" name="圆角矩形 7171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100000">
                  <a:srgbClr val="ffc9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7172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ff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7173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7174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70" name="圆角矩形 7175"/>
            <p:cNvSpPr/>
            <p:nvPr/>
          </p:nvSpPr>
          <p:spPr>
            <a:xfrm>
              <a:off x="10666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ca2a"/>
                </a:gs>
                <a:gs pos="100000">
                  <a:srgbClr val="b9e4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 7176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7177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ca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7178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74" name="圆角矩形 7179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89a5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7180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1a5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圆角矩形 7181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a50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7182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183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184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7185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1a5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7186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76ca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7187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f9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圆角矩形 8194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8195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86" name="圆角矩形 8196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6ca2a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角矩形 8197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ca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8198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89" name="圆角矩形 8199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60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圆角矩形 8200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8201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92" name="圆角矩形 8202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6ca2a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8203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ca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8204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205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206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207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98" name="组合 8208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99" name="椭圆 8209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8210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8211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椭圆 8212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8213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8214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205" name="椭圆 8215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8216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8217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8218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8219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8220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211" name="组合 8221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212" name="椭圆 8222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8223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8224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8225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226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8227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218" name="椭圆 8228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8229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8230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8231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8232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文本框 8233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椭圆 9218"/>
          <p:cNvSpPr/>
          <p:nvPr/>
        </p:nvSpPr>
        <p:spPr>
          <a:xfrm>
            <a:off x="2682720" y="1843200"/>
            <a:ext cx="3743640" cy="374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右箭头 9219"/>
          <p:cNvSpPr/>
          <p:nvPr/>
        </p:nvSpPr>
        <p:spPr>
          <a:xfrm rot="17973000">
            <a:off x="4766400" y="2481840"/>
            <a:ext cx="792000" cy="289080"/>
          </a:xfrm>
          <a:prstGeom prst="rightArrow">
            <a:avLst>
              <a:gd name="adj1" fmla="val 35167"/>
              <a:gd name="adj2" fmla="val 1109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右箭头 9220"/>
          <p:cNvSpPr/>
          <p:nvPr/>
        </p:nvSpPr>
        <p:spPr>
          <a:xfrm rot="3465600">
            <a:off x="4766760" y="4646520"/>
            <a:ext cx="790560" cy="289080"/>
          </a:xfrm>
          <a:prstGeom prst="rightArrow">
            <a:avLst>
              <a:gd name="adj1" fmla="val 35167"/>
              <a:gd name="adj2" fmla="val 11073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右箭头 9221"/>
          <p:cNvSpPr/>
          <p:nvPr/>
        </p:nvSpPr>
        <p:spPr>
          <a:xfrm rot="14368800">
            <a:off x="3546720" y="2557440"/>
            <a:ext cx="792360" cy="289080"/>
          </a:xfrm>
          <a:prstGeom prst="rightArrow">
            <a:avLst>
              <a:gd name="adj1" fmla="val 35167"/>
              <a:gd name="adj2" fmla="val 11098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右箭头 9222"/>
          <p:cNvSpPr/>
          <p:nvPr/>
        </p:nvSpPr>
        <p:spPr>
          <a:xfrm rot="7534800">
            <a:off x="3508920" y="4612680"/>
            <a:ext cx="792000" cy="288720"/>
          </a:xfrm>
          <a:prstGeom prst="rightArrow">
            <a:avLst>
              <a:gd name="adj1" fmla="val 35167"/>
              <a:gd name="adj2" fmla="val 11107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箭头 9223"/>
          <p:cNvSpPr/>
          <p:nvPr/>
        </p:nvSpPr>
        <p:spPr>
          <a:xfrm>
            <a:off x="5346720" y="3611520"/>
            <a:ext cx="792000" cy="289080"/>
          </a:xfrm>
          <a:prstGeom prst="rightArrow">
            <a:avLst>
              <a:gd name="adj1" fmla="val 35167"/>
              <a:gd name="adj2" fmla="val 1109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右箭头 9224"/>
          <p:cNvSpPr/>
          <p:nvPr/>
        </p:nvSpPr>
        <p:spPr>
          <a:xfrm rot="10800000">
            <a:off x="2936520" y="3604680"/>
            <a:ext cx="863640" cy="289080"/>
          </a:xfrm>
          <a:prstGeom prst="rightArrow">
            <a:avLst>
              <a:gd name="adj1" fmla="val 35167"/>
              <a:gd name="adj2" fmla="val 12096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225"/>
          <p:cNvSpPr/>
          <p:nvPr/>
        </p:nvSpPr>
        <p:spPr>
          <a:xfrm>
            <a:off x="3338640" y="5100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2fbf9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9226"/>
          <p:cNvSpPr/>
          <p:nvPr/>
        </p:nvSpPr>
        <p:spPr>
          <a:xfrm>
            <a:off x="570780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227"/>
          <p:cNvSpPr/>
          <p:nvPr/>
        </p:nvSpPr>
        <p:spPr>
          <a:xfrm>
            <a:off x="190728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9228"/>
          <p:cNvSpPr/>
          <p:nvPr/>
        </p:nvSpPr>
        <p:spPr>
          <a:xfrm>
            <a:off x="662220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9229"/>
          <p:cNvSpPr/>
          <p:nvPr/>
        </p:nvSpPr>
        <p:spPr>
          <a:xfrm>
            <a:off x="5707800" y="5181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9230"/>
          <p:cNvSpPr/>
          <p:nvPr/>
        </p:nvSpPr>
        <p:spPr>
          <a:xfrm>
            <a:off x="99288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231"/>
          <p:cNvSpPr/>
          <p:nvPr/>
        </p:nvSpPr>
        <p:spPr>
          <a:xfrm>
            <a:off x="1831320" y="511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9232"/>
          <p:cNvSpPr/>
          <p:nvPr/>
        </p:nvSpPr>
        <p:spPr>
          <a:xfrm>
            <a:off x="5400720" y="5105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af5fd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9233"/>
          <p:cNvSpPr/>
          <p:nvPr/>
        </p:nvSpPr>
        <p:spPr>
          <a:xfrm>
            <a:off x="623880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1f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9234"/>
          <p:cNvSpPr/>
          <p:nvPr/>
        </p:nvSpPr>
        <p:spPr>
          <a:xfrm>
            <a:off x="5324400" y="19051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6e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9235"/>
          <p:cNvSpPr/>
          <p:nvPr/>
        </p:nvSpPr>
        <p:spPr>
          <a:xfrm>
            <a:off x="334332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df4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9236"/>
          <p:cNvSpPr/>
          <p:nvPr/>
        </p:nvSpPr>
        <p:spPr>
          <a:xfrm>
            <a:off x="250524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6faee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9237"/>
          <p:cNvSpPr/>
          <p:nvPr/>
        </p:nvSpPr>
        <p:spPr>
          <a:xfrm>
            <a:off x="3429000" y="26668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e4e4e4"/>
              </a:gs>
              <a:gs pos="50000">
                <a:srgbClr val="c0c0c0"/>
              </a:gs>
              <a:gs pos="100000">
                <a:srgbClr val="e4e4e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9238"/>
          <p:cNvSpPr/>
          <p:nvPr/>
        </p:nvSpPr>
        <p:spPr>
          <a:xfrm>
            <a:off x="3570120" y="280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ca2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239"/>
          <p:cNvSpPr/>
          <p:nvPr/>
        </p:nvSpPr>
        <p:spPr>
          <a:xfrm>
            <a:off x="3581280" y="3505320"/>
            <a:ext cx="1890720" cy="476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组合 10242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249" name="任意多边形 10243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10244"/>
            <p:cNvSpPr/>
            <p:nvPr/>
          </p:nvSpPr>
          <p:spPr>
            <a:xfrm>
              <a:off x="338040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10245"/>
            <p:cNvSpPr/>
            <p:nvPr/>
          </p:nvSpPr>
          <p:spPr>
            <a:xfrm>
              <a:off x="175248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10246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253" name="任意多边形 10247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375d13"/>
                </a:gs>
                <a:gs pos="100000">
                  <a:srgbClr val="76c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10248"/>
            <p:cNvSpPr/>
            <p:nvPr/>
          </p:nvSpPr>
          <p:spPr>
            <a:xfrm>
              <a:off x="332784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600"/>
                </a:gs>
                <a:gs pos="100000">
                  <a:srgbClr val="764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10249"/>
            <p:cNvSpPr/>
            <p:nvPr/>
          </p:nvSpPr>
          <p:spPr>
            <a:xfrm>
              <a:off x="167652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5980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线形标注 2(带强调线) 10250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线形标注 2(带强调线) 10251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76ca2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线形标注 2(带强调线) 10252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右箭头 11266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2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76c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11267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600"/>
              </a:gs>
              <a:gs pos="100000">
                <a:srgbClr val="ffb64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11268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55ada"/>
              </a:gs>
              <a:gs pos="100000">
                <a:srgbClr val="aa8ce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11269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a50b2"/>
              </a:gs>
              <a:gs pos="100000">
                <a:srgbClr val="5f85c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1270"/>
          <p:cNvGrpSpPr/>
          <p:nvPr/>
        </p:nvGrpSpPr>
        <p:grpSpPr>
          <a:xfrm>
            <a:off x="6095880" y="2209680"/>
            <a:ext cx="2285640" cy="3309840"/>
            <a:chOff x="6095880" y="2209680"/>
            <a:chExt cx="2285640" cy="3309840"/>
          </a:xfrm>
        </p:grpSpPr>
        <p:sp>
          <p:nvSpPr>
            <p:cNvPr id="265" name="圆角矩形 11271"/>
            <p:cNvSpPr/>
            <p:nvPr/>
          </p:nvSpPr>
          <p:spPr>
            <a:xfrm>
              <a:off x="609588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60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11272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文本框 11273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11274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269" name="椭圆 11275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11276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1277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1278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11279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1280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1281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11282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11283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1284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279" name="椭圆 11285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1286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11287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1288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11289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11290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1291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1292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11293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1294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289" name="椭圆 11295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11296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297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11298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1299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1300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11301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11302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11303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12290"/>
          <p:cNvGrpSpPr/>
          <p:nvPr/>
        </p:nvGrpSpPr>
        <p:grpSpPr>
          <a:xfrm>
            <a:off x="2895480" y="2057400"/>
            <a:ext cx="3352320" cy="3514680"/>
            <a:chOff x="2895480" y="2057400"/>
            <a:chExt cx="3352320" cy="3514680"/>
          </a:xfrm>
        </p:grpSpPr>
        <p:sp>
          <p:nvSpPr>
            <p:cNvPr id="300" name="椭圆 12291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图片 12292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任意多边形 12293"/>
            <p:cNvSpPr/>
            <p:nvPr/>
          </p:nvSpPr>
          <p:spPr>
            <a:xfrm>
              <a:off x="4581360" y="206136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2294"/>
            <p:cNvSpPr/>
            <p:nvPr/>
          </p:nvSpPr>
          <p:spPr>
            <a:xfrm rot="5400000">
              <a:off x="455904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2295"/>
            <p:cNvSpPr/>
            <p:nvPr/>
          </p:nvSpPr>
          <p:spPr>
            <a:xfrm flipH="1" flipV="1" rot="5400000">
              <a:off x="2914200" y="206280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2296"/>
            <p:cNvSpPr/>
            <p:nvPr/>
          </p:nvSpPr>
          <p:spPr>
            <a:xfrm rot="10419000">
              <a:off x="2995920" y="360000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2297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7" name="矩形 12298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8" name="矩形 12299"/>
            <p:cNvSpPr txBox="1"/>
            <p:nvPr/>
          </p:nvSpPr>
          <p:spPr>
            <a:xfrm rot="2760000">
              <a:off x="3159000" y="4054320"/>
              <a:ext cx="155088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9" name="矩形 12300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10" name="组合 12301"/>
            <p:cNvGrpSpPr/>
            <p:nvPr/>
          </p:nvGrpSpPr>
          <p:grpSpPr>
            <a:xfrm>
              <a:off x="3676680" y="2819880"/>
              <a:ext cx="1791000" cy="1841040"/>
              <a:chOff x="3676680" y="2819880"/>
              <a:chExt cx="1791000" cy="1841040"/>
            </a:xfrm>
          </p:grpSpPr>
          <p:pic>
            <p:nvPicPr>
              <p:cNvPr id="311" name="图片 1230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6680" y="281988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椭圆 12303"/>
              <p:cNvSpPr/>
              <p:nvPr/>
            </p:nvSpPr>
            <p:spPr>
              <a:xfrm>
                <a:off x="3676680" y="281988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 12304"/>
              <p:cNvSpPr/>
              <p:nvPr/>
            </p:nvSpPr>
            <p:spPr>
              <a:xfrm>
                <a:off x="3861360" y="285516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组合 12305"/>
              <p:cNvGrpSpPr/>
              <p:nvPr/>
            </p:nvGrpSpPr>
            <p:grpSpPr>
              <a:xfrm>
                <a:off x="3803040" y="4033800"/>
                <a:ext cx="1571760" cy="627120"/>
                <a:chOff x="3803040" y="4033800"/>
                <a:chExt cx="1571760" cy="627120"/>
              </a:xfrm>
            </p:grpSpPr>
            <p:grpSp>
              <p:nvGrpSpPr>
                <p:cNvPr id="315" name="组合 12306"/>
                <p:cNvGrpSpPr/>
                <p:nvPr/>
              </p:nvGrpSpPr>
              <p:grpSpPr>
                <a:xfrm>
                  <a:off x="4077360" y="4033800"/>
                  <a:ext cx="1297440" cy="590040"/>
                  <a:chOff x="4077360" y="4033800"/>
                  <a:chExt cx="1297440" cy="590040"/>
                </a:xfrm>
              </p:grpSpPr>
              <p:sp>
                <p:nvSpPr>
                  <p:cNvPr id="316" name="新月形 12307"/>
                  <p:cNvSpPr/>
                  <p:nvPr/>
                </p:nvSpPr>
                <p:spPr>
                  <a:xfrm flipH="1" flipV="1" rot="3964800">
                    <a:off x="4783680" y="38570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新月形 12308"/>
                  <p:cNvSpPr/>
                  <p:nvPr/>
                </p:nvSpPr>
                <p:spPr>
                  <a:xfrm flipH="1" flipV="1" rot="4780200">
                    <a:off x="4638600" y="391536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新月形 12309"/>
                  <p:cNvSpPr/>
                  <p:nvPr/>
                </p:nvSpPr>
                <p:spPr>
                  <a:xfrm flipH="1" flipV="1" rot="5076000">
                    <a:off x="4548600" y="392760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新月形 12310"/>
                  <p:cNvSpPr/>
                  <p:nvPr/>
                </p:nvSpPr>
                <p:spPr>
                  <a:xfrm flipH="1" flipV="1" rot="5608200">
                    <a:off x="4440240" y="39373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组合 12311"/>
                <p:cNvGrpSpPr/>
                <p:nvPr/>
              </p:nvGrpSpPr>
              <p:grpSpPr>
                <a:xfrm>
                  <a:off x="3803040" y="4042440"/>
                  <a:ext cx="1295640" cy="618480"/>
                  <a:chOff x="3803040" y="4042440"/>
                  <a:chExt cx="1295640" cy="618480"/>
                </a:xfrm>
              </p:grpSpPr>
              <p:sp>
                <p:nvSpPr>
                  <p:cNvPr id="321" name="新月形 12312"/>
                  <p:cNvSpPr/>
                  <p:nvPr/>
                </p:nvSpPr>
                <p:spPr>
                  <a:xfrm flipH="1" flipV="1" rot="5317800">
                    <a:off x="4510440" y="39380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新月形 12313"/>
                  <p:cNvSpPr/>
                  <p:nvPr/>
                </p:nvSpPr>
                <p:spPr>
                  <a:xfrm flipH="1" flipV="1" rot="6133800">
                    <a:off x="4354200" y="393444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新月形 12314"/>
                  <p:cNvSpPr/>
                  <p:nvPr/>
                </p:nvSpPr>
                <p:spPr>
                  <a:xfrm flipH="1" flipV="1" rot="6429000">
                    <a:off x="4265640" y="39121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新月形 12315"/>
                  <p:cNvSpPr/>
                  <p:nvPr/>
                </p:nvSpPr>
                <p:spPr>
                  <a:xfrm flipH="1" flipV="1" rot="6961200">
                    <a:off x="4162680" y="388008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矩形 12316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线形标注 2(带强调线) 12317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线形标注 2(带强调线) 12318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600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线形标注 2(带强调线) 12319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600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线形标注 2(带强调线) 12320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2321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1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