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872A-1F77-402C-8B79-D21D5A09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560" y="-6840"/>
            <a:ext cx="532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6040" y="1994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6040" y="435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8D8-260F-430D-AC5F-FDE77329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560" y="-6840"/>
            <a:ext cx="532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46040" y="1994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080" y="1994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46040" y="435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080" y="435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2B98-36DA-4FDB-B95A-A863D91F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0560" y="-6840"/>
            <a:ext cx="532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46040" y="1994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8480" y="1994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0920" y="1994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6040" y="435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8480" y="435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0920" y="435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BA52-AB3A-43A9-8C52-DD3FF7F9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560" y="-6840"/>
            <a:ext cx="532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46040" y="1994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D807-5744-44E2-9A41-1505D98D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-6840"/>
            <a:ext cx="532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46040" y="1994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2B9D-975C-4861-B49E-9169FC2C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-6840"/>
            <a:ext cx="532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46040" y="1994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080" y="1994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FE23-1EA5-4ABC-B23B-0B2D3909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560" y="-6840"/>
            <a:ext cx="532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D849-F874-479F-A4C3-9226FD54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0560" y="68040"/>
            <a:ext cx="532908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DDC6-2176-4F9C-B758-0B8144EA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-6840"/>
            <a:ext cx="532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6040" y="1994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080" y="1994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6040" y="435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0B51-BC45-4A90-ADFA-2F0BBCE5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0560" y="-6840"/>
            <a:ext cx="532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6040" y="1994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080" y="1994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080" y="435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EB1C-97DB-4176-8E09-EB3D81AC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0560" y="-6840"/>
            <a:ext cx="532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6040" y="1994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080" y="1994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46040" y="435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153C-1B92-4B9D-BE5B-97EA9380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"/>
          <p:cNvSpPr/>
          <p:nvPr/>
        </p:nvSpPr>
        <p:spPr>
          <a:xfrm>
            <a:off x="1469880" y="6519960"/>
            <a:ext cx="40849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560" y="68040"/>
            <a:ext cx="5329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6040" y="1994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DB69-6ED5-408F-968A-A416083783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611280" y="558720"/>
            <a:ext cx="7126200" cy="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"/>
          <p:cNvSpPr/>
          <p:nvPr/>
        </p:nvSpPr>
        <p:spPr>
          <a:xfrm>
            <a:off x="446040" y="981000"/>
            <a:ext cx="72738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5" descr="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395280" y="1413000"/>
            <a:ext cx="53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黑体"/>
                <a:ea typeface="黑体"/>
              </a:rPr>
              <a:t>长沙</a:t>
            </a:r>
            <a:r>
              <a:rPr b="0" lang="zh-CN" sz="2800" spc="-1" strike="noStrike">
                <a:solidFill>
                  <a:srgbClr val="808080"/>
                </a:solidFill>
                <a:latin typeface="黑体"/>
                <a:ea typeface="黑体"/>
              </a:rPr>
              <a:t>****</a:t>
            </a:r>
            <a:r>
              <a:rPr b="0" lang="zh-CN" sz="2800" spc="-1" strike="noStrike">
                <a:solidFill>
                  <a:srgbClr val="808080"/>
                </a:solidFill>
                <a:latin typeface="黑体"/>
                <a:ea typeface="黑体"/>
              </a:rPr>
              <a:t>服装有限公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539640" y="2816280"/>
            <a:ext cx="61200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微软雅黑"/>
                <a:ea typeface="微软雅黑"/>
              </a:rPr>
              <a:t>4</a:t>
            </a:r>
            <a:r>
              <a:rPr b="1" lang="zh-CN" sz="3600" spc="-1" strike="noStrike">
                <a:solidFill>
                  <a:srgbClr val="0d0d0d"/>
                </a:solidFill>
                <a:latin typeface="微软雅黑"/>
                <a:ea typeface="微软雅黑"/>
              </a:rPr>
              <a:t>月工作总结及五月工作计划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黑体"/>
                <a:ea typeface="黑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d0d0d"/>
                </a:solidFill>
                <a:latin typeface="黑体"/>
                <a:ea typeface="黑体"/>
              </a:rPr>
              <a:t>零售支持</a:t>
            </a:r>
            <a:r>
              <a:rPr b="0" lang="en-US" sz="1800" spc="-1" strike="noStrike">
                <a:solidFill>
                  <a:srgbClr val="0d0d0d"/>
                </a:solidFill>
                <a:latin typeface="黑体"/>
                <a:ea typeface="黑体"/>
              </a:rPr>
              <a:t>·VIP</a:t>
            </a:r>
            <a:r>
              <a:rPr b="0" lang="zh-CN" sz="1800" spc="-1" strike="noStrike">
                <a:solidFill>
                  <a:srgbClr val="0d0d0d"/>
                </a:solidFill>
                <a:latin typeface="黑体"/>
                <a:ea typeface="黑体"/>
              </a:rPr>
              <a:t>管理及推广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3076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3077"/>
          <p:cNvSpPr/>
          <p:nvPr/>
        </p:nvSpPr>
        <p:spPr>
          <a:xfrm>
            <a:off x="2005920" y="5126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公司五月工作计划幻灯片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4"/>
          <p:cNvSpPr/>
          <p:nvPr/>
        </p:nvSpPr>
        <p:spPr>
          <a:xfrm>
            <a:off x="1292400" y="1339920"/>
            <a:ext cx="223200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KPI</a:t>
            </a:r>
            <a:r>
              <a:rPr b="1" lang="zh-CN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总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15"/>
          <p:cNvSpPr/>
          <p:nvPr/>
        </p:nvSpPr>
        <p:spPr>
          <a:xfrm>
            <a:off x="979560" y="1447920"/>
            <a:ext cx="62532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6"/>
          <p:cNvSpPr/>
          <p:nvPr/>
        </p:nvSpPr>
        <p:spPr>
          <a:xfrm>
            <a:off x="1292400" y="2492280"/>
            <a:ext cx="223200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工作分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17"/>
          <p:cNvSpPr/>
          <p:nvPr/>
        </p:nvSpPr>
        <p:spPr>
          <a:xfrm>
            <a:off x="979560" y="2600280"/>
            <a:ext cx="625320" cy="625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1284120" y="3571920"/>
            <a:ext cx="223236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成总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19"/>
          <p:cNvSpPr/>
          <p:nvPr/>
        </p:nvSpPr>
        <p:spPr>
          <a:xfrm>
            <a:off x="971640" y="3679920"/>
            <a:ext cx="62532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0"/>
          <p:cNvSpPr/>
          <p:nvPr/>
        </p:nvSpPr>
        <p:spPr>
          <a:xfrm>
            <a:off x="1284120" y="4654440"/>
            <a:ext cx="223236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下期计划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21"/>
          <p:cNvSpPr/>
          <p:nvPr/>
        </p:nvSpPr>
        <p:spPr>
          <a:xfrm>
            <a:off x="971640" y="4762440"/>
            <a:ext cx="625320" cy="625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11" descr=""/>
          <p:cNvPicPr/>
          <p:nvPr/>
        </p:nvPicPr>
        <p:blipFill>
          <a:blip r:embed="rId1"/>
          <a:stretch/>
        </p:blipFill>
        <p:spPr>
          <a:xfrm>
            <a:off x="3995640" y="1268280"/>
            <a:ext cx="4754520" cy="4397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7812000" y="1557360"/>
            <a:ext cx="662040" cy="13352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3"/>
          <p:cNvSpPr/>
          <p:nvPr/>
        </p:nvSpPr>
        <p:spPr>
          <a:xfrm>
            <a:off x="4356000" y="2292480"/>
            <a:ext cx="39610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VIP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管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客户管理方案（初稿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市场推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店开业方案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0692-7853-487D-AE2F-888079BC23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2"/>
          <p:cNvSpPr/>
          <p:nvPr/>
        </p:nvSpPr>
        <p:spPr>
          <a:xfrm>
            <a:off x="289080" y="18900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客户管理方案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324000" y="765000"/>
            <a:ext cx="842472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P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客户管理的定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客户：湖南地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*****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品牌顾客的消费提升人群，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****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品牌具有较高的认可度与忠诚度，并在本品牌店铺有一定消费习惯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客户管理：即针对品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客户作出一系列细分、开发以及维护工作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P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客户管理的背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员管理具有如下问题：单店、单商发行，自营店顾客与分销店顾客利益不同，会员卡形式、使用规则不统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员积分不共享，一般只能在开卡店消费，会员不能跨区域带来顾客投诉、降低品牌感和满意度，会员卡本身的附加值不高、不体现品牌特质，会员质量低（有效会员比例很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员的年人均消费次数和年进店率极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员年累积消费金额也较低、会员信息失真无效的占比高，会员生命周期短和流失率大），会员管理无法为运营决策提供有效依据等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P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客户管理的目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强化和巩固品牌的固定消费群体，并使之不间断增长，深化品牌服务，满足优质消费者心理需求。建立健全品牌客户管理系统，达到对目标市场、人群的认知及了解，增强活动目的性与计划性。增强消费群体对品牌的认知与关注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3315"/>
          <p:cNvSpPr/>
          <p:nvPr/>
        </p:nvSpPr>
        <p:spPr>
          <a:xfrm>
            <a:off x="1368360" y="429264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板网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6689-512C-4186-BC6C-2D49C73762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2"/>
          <p:cNvSpPr/>
          <p:nvPr/>
        </p:nvSpPr>
        <p:spPr>
          <a:xfrm>
            <a:off x="289080" y="18900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客户管理方案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55640" y="836640"/>
          <a:ext cx="4968720" cy="5424480"/>
        </p:xfrm>
        <a:graphic>
          <a:graphicData uri="http://schemas.openxmlformats.org/drawingml/2006/table">
            <a:tbl>
              <a:tblPr/>
              <a:tblGrid>
                <a:gridCol w="880920"/>
                <a:gridCol w="222480"/>
                <a:gridCol w="658800"/>
                <a:gridCol w="109440"/>
                <a:gridCol w="444600"/>
                <a:gridCol w="131760"/>
                <a:gridCol w="757080"/>
                <a:gridCol w="754200"/>
                <a:gridCol w="1009440"/>
              </a:tblGrid>
              <a:tr h="266760">
                <a:tc gridSpan="9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P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顾客信息表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姓名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卡号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专属导购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外貌特征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5360" rIns="453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性格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64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其他信息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5360" rIns="453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4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意见记录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5360" rIns="453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反馈结果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452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意见记录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5360" rIns="453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反馈结果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180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意见记录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5360" rIns="453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反馈结果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 gridSpan="9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消 费 记 录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来店次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购买次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8680"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时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货号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金额（元）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陪同人员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与其关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回访日期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Box 5"/>
          <p:cNvSpPr/>
          <p:nvPr/>
        </p:nvSpPr>
        <p:spPr>
          <a:xfrm>
            <a:off x="5940360" y="765000"/>
            <a:ext cx="1008000" cy="307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Arial"/>
              </a:rPr>
              <a:t>负责到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5867280" y="1465200"/>
            <a:ext cx="2521080" cy="307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Arial"/>
              </a:rPr>
              <a:t>客户是公司的，而非个人的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5940360" y="2133720"/>
            <a:ext cx="2664000" cy="52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Arial"/>
              </a:rPr>
              <a:t>有意见的客户是最好的客户，记录顾客需求，达成需求就是维护手段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6093000" y="3697200"/>
            <a:ext cx="2224080" cy="307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Arial"/>
              </a:rPr>
              <a:t>正字记录，每月不同颜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6156360" y="4200480"/>
            <a:ext cx="1800360" cy="307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Arial"/>
              </a:rPr>
              <a:t>陪同人员的重要性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1"/>
          <p:cNvSpPr/>
          <p:nvPr/>
        </p:nvSpPr>
        <p:spPr>
          <a:xfrm>
            <a:off x="6227640" y="5084640"/>
            <a:ext cx="2305080" cy="307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Arial"/>
              </a:rPr>
              <a:t>拒绝虎头蛇尾服务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直接箭头连接符 13"/>
          <p:cNvCxnSpPr/>
          <p:nvPr/>
        </p:nvCxnSpPr>
        <p:spPr>
          <a:xfrm flipH="1">
            <a:off x="5508000" y="919080"/>
            <a:ext cx="432360" cy="3499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61" name="直接箭头连接符 15"/>
          <p:cNvCxnSpPr/>
          <p:nvPr/>
        </p:nvCxnSpPr>
        <p:spPr>
          <a:xfrm flipH="1">
            <a:off x="5292360" y="1628280"/>
            <a:ext cx="57528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62" name="直接箭头连接符 17"/>
          <p:cNvCxnSpPr/>
          <p:nvPr/>
        </p:nvCxnSpPr>
        <p:spPr>
          <a:xfrm flipH="1">
            <a:off x="5508000" y="2565000"/>
            <a:ext cx="43236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63" name="直接箭头连接符 19"/>
          <p:cNvCxnSpPr/>
          <p:nvPr/>
        </p:nvCxnSpPr>
        <p:spPr>
          <a:xfrm flipH="1">
            <a:off x="5292000" y="3851280"/>
            <a:ext cx="801000" cy="100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64" name="直接箭头连接符 21"/>
          <p:cNvCxnSpPr/>
          <p:nvPr/>
        </p:nvCxnSpPr>
        <p:spPr>
          <a:xfrm flipH="1">
            <a:off x="3850920" y="4282560"/>
            <a:ext cx="2305440" cy="1044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65" name="直接箭头连接符 23"/>
          <p:cNvCxnSpPr/>
          <p:nvPr/>
        </p:nvCxnSpPr>
        <p:spPr>
          <a:xfrm flipH="1" flipV="1">
            <a:off x="5292000" y="4581000"/>
            <a:ext cx="935640" cy="6580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6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9DB7-2A22-4A0C-B12D-B55366F243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2"/>
          <p:cNvSpPr/>
          <p:nvPr/>
        </p:nvSpPr>
        <p:spPr>
          <a:xfrm>
            <a:off x="289080" y="18900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兴路中心广场开业方案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66560" y="1268280"/>
          <a:ext cx="8137440" cy="5091120"/>
        </p:xfrm>
        <a:graphic>
          <a:graphicData uri="http://schemas.openxmlformats.org/drawingml/2006/table">
            <a:tbl>
              <a:tblPr/>
              <a:tblGrid>
                <a:gridCol w="1467000"/>
                <a:gridCol w="3274920"/>
                <a:gridCol w="3395520"/>
              </a:tblGrid>
              <a:tr h="36036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项目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达成情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总结分析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572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员到位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陈列工作完成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*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宣传物料到位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*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店铺人员安排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*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外协工作完成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*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整体跟进完成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*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员到位情况较好，负责工作到位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12680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物料到位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及时到位内容：音乐、音响设备、花球、剪刀、托盘、花篮、胸花、礼炮、相机、海报、奖券、抽奖箱、果盘、礼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未能及时到位内容：（蓝色、白色）气球、水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采购沟通及时性需加强沟通与跟进，建议气球由零售支持部采买、水果由店内采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824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活动效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开业前：本地五一假期正值雨期，开业第一天虽然商圈客流较平时少，但进店量、成交单数均较可观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开业活动：现场把控、紧凑性需加强。店员舞蹈为吸引人流的高峰时段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开业当天：新店开业氛围、抽奖活动拉动顾客消费，效果显著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加大活动宣传力度。店内抽奖活动建立在针对进店顾客进行宣导上进行，一方面激发了顾客购买欲望、推动了店铺销售业绩，但另一方面在商圈人流的辐射度不够，未能激发更多顾客购买机会。此后活动方案需充足准备、加强宣传的接收度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加强开业活动紧凑性。开业剪彩环节虽按计划完成、但前期组织不强，临时安排性加大对活动效果达成稍有影响。此后活动方案需加强活动紧凑性，旨在针对商圈客流进行品牌形象的深入渗透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                   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69" name="TextBox 5"/>
          <p:cNvSpPr/>
          <p:nvPr/>
        </p:nvSpPr>
        <p:spPr>
          <a:xfrm>
            <a:off x="324000" y="76500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活动分析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ECE8-9B67-44CD-9306-1704F924A0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2"/>
          <p:cNvSpPr/>
          <p:nvPr/>
        </p:nvSpPr>
        <p:spPr>
          <a:xfrm>
            <a:off x="289080" y="18900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****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开业方案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24000" y="1339920"/>
          <a:ext cx="8567640" cy="3166920"/>
        </p:xfrm>
        <a:graphic>
          <a:graphicData uri="http://schemas.openxmlformats.org/drawingml/2006/table">
            <a:tbl>
              <a:tblPr/>
              <a:tblGrid>
                <a:gridCol w="1812960"/>
                <a:gridCol w="6754680"/>
              </a:tblGrid>
              <a:tr h="64764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对比类型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达成分析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当天销售额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新开店开业当天因开业布置、店铺活动营业流水为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8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元，远超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店（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98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元）、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店（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95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元）以及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店（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65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元）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2216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当天单件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新开店店内以夏款居多，成交单数为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件，约为其他三店两倍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同期销售额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去年五一假期第一天为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月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日，当天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*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销售为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86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元，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店为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99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元，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店为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元，差异原因包括路段地铁施工、天气原因影响。该对比结果较为可观。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5"/>
          <p:cNvSpPr/>
          <p:nvPr/>
        </p:nvSpPr>
        <p:spPr>
          <a:xfrm>
            <a:off x="324000" y="76500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业绩分析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4D5A-6C35-42BA-B30A-BBACEFCC4B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2"/>
          <p:cNvSpPr/>
          <p:nvPr/>
        </p:nvSpPr>
        <p:spPr>
          <a:xfrm>
            <a:off x="289080" y="18900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****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开业方案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395280" y="76500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开业仪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营业情况照片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395280" y="1413000"/>
            <a:ext cx="8137440" cy="39934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现场照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7412"/>
          <p:cNvSpPr/>
          <p:nvPr/>
        </p:nvSpPr>
        <p:spPr>
          <a:xfrm>
            <a:off x="1079640" y="4292640"/>
            <a:ext cx="5040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板网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8050-879E-4AE8-86D8-B267C66B4E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14"/>
          <p:cNvSpPr/>
          <p:nvPr/>
        </p:nvSpPr>
        <p:spPr>
          <a:xfrm>
            <a:off x="1292400" y="1339920"/>
            <a:ext cx="223200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KPI</a:t>
            </a:r>
            <a:r>
              <a:rPr b="1" lang="zh-CN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总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椭圆 15"/>
          <p:cNvSpPr/>
          <p:nvPr/>
        </p:nvSpPr>
        <p:spPr>
          <a:xfrm>
            <a:off x="979560" y="1447920"/>
            <a:ext cx="62532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6"/>
          <p:cNvSpPr/>
          <p:nvPr/>
        </p:nvSpPr>
        <p:spPr>
          <a:xfrm>
            <a:off x="1292400" y="2492280"/>
            <a:ext cx="223200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工作分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17"/>
          <p:cNvSpPr/>
          <p:nvPr/>
        </p:nvSpPr>
        <p:spPr>
          <a:xfrm>
            <a:off x="979560" y="2600280"/>
            <a:ext cx="625320" cy="625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8"/>
          <p:cNvSpPr/>
          <p:nvPr/>
        </p:nvSpPr>
        <p:spPr>
          <a:xfrm>
            <a:off x="1284120" y="3571920"/>
            <a:ext cx="223236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达成总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19"/>
          <p:cNvSpPr/>
          <p:nvPr/>
        </p:nvSpPr>
        <p:spPr>
          <a:xfrm>
            <a:off x="971640" y="3679920"/>
            <a:ext cx="62532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0"/>
          <p:cNvSpPr/>
          <p:nvPr/>
        </p:nvSpPr>
        <p:spPr>
          <a:xfrm>
            <a:off x="1284120" y="4654440"/>
            <a:ext cx="223236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期计划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21"/>
          <p:cNvSpPr/>
          <p:nvPr/>
        </p:nvSpPr>
        <p:spPr>
          <a:xfrm>
            <a:off x="971640" y="4762440"/>
            <a:ext cx="625320" cy="625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图片 11" descr=""/>
          <p:cNvPicPr/>
          <p:nvPr/>
        </p:nvPicPr>
        <p:blipFill>
          <a:blip r:embed="rId1"/>
          <a:stretch/>
        </p:blipFill>
        <p:spPr>
          <a:xfrm>
            <a:off x="3995640" y="1268280"/>
            <a:ext cx="4754520" cy="4397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 rot="11341200">
            <a:off x="7410240" y="1591920"/>
            <a:ext cx="1118880" cy="10350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2"/>
          <p:cNvSpPr/>
          <p:nvPr/>
        </p:nvSpPr>
        <p:spPr>
          <a:xfrm>
            <a:off x="4356000" y="2060640"/>
            <a:ext cx="39610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VIP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管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客户管理方案（落实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质方案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市场推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沙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店宣传方案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父亲节活动策划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B43B-210D-441E-8D1C-FC049430C9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2"/>
          <p:cNvSpPr/>
          <p:nvPr/>
        </p:nvSpPr>
        <p:spPr>
          <a:xfrm>
            <a:off x="324000" y="836640"/>
            <a:ext cx="72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VIP</a:t>
            </a: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管理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客户管理方案（落实）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圆角矩形 4"/>
          <p:cNvSpPr/>
          <p:nvPr/>
        </p:nvSpPr>
        <p:spPr>
          <a:xfrm>
            <a:off x="250920" y="1628640"/>
            <a:ext cx="1944720" cy="1368720"/>
          </a:xfrm>
          <a:prstGeom prst="roundRect">
            <a:avLst>
              <a:gd name="adj" fmla="val 16667"/>
            </a:avLst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圆角矩形 5"/>
          <p:cNvSpPr/>
          <p:nvPr/>
        </p:nvSpPr>
        <p:spPr>
          <a:xfrm>
            <a:off x="2482920" y="1628640"/>
            <a:ext cx="1944720" cy="1368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圆角矩形 6"/>
          <p:cNvSpPr/>
          <p:nvPr/>
        </p:nvSpPr>
        <p:spPr>
          <a:xfrm>
            <a:off x="4643280" y="1628640"/>
            <a:ext cx="1944720" cy="1368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圆角矩形 7"/>
          <p:cNvSpPr/>
          <p:nvPr/>
        </p:nvSpPr>
        <p:spPr>
          <a:xfrm>
            <a:off x="6804000" y="1628640"/>
            <a:ext cx="1944720" cy="1368720"/>
          </a:xfrm>
          <a:prstGeom prst="roundRect">
            <a:avLst>
              <a:gd name="adj" fmla="val 16667"/>
            </a:avLst>
          </a:prstGeom>
          <a:solidFill>
            <a:srgbClr val="f2a3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直接箭头连接符 9"/>
          <p:cNvCxnSpPr>
            <a:stCxn id="193" idx="3"/>
            <a:endCxn id="194" idx="1"/>
          </p:cNvCxnSpPr>
          <p:nvPr/>
        </p:nvCxnSpPr>
        <p:spPr>
          <a:xfrm>
            <a:off x="2195640" y="2312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98" name="直接箭头连接符 12"/>
          <p:cNvCxnSpPr>
            <a:stCxn id="194" idx="3"/>
            <a:endCxn id="195" idx="1"/>
          </p:cNvCxnSpPr>
          <p:nvPr/>
        </p:nvCxnSpPr>
        <p:spPr>
          <a:xfrm>
            <a:off x="4427280" y="2312640"/>
            <a:ext cx="21636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99" name="直接箭头连接符 14"/>
          <p:cNvCxnSpPr>
            <a:stCxn id="195" idx="3"/>
            <a:endCxn id="196" idx="1"/>
          </p:cNvCxnSpPr>
          <p:nvPr/>
        </p:nvCxnSpPr>
        <p:spPr>
          <a:xfrm>
            <a:off x="6588000" y="2312640"/>
            <a:ext cx="21672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00" name="TextBox 15"/>
          <p:cNvSpPr/>
          <p:nvPr/>
        </p:nvSpPr>
        <p:spPr>
          <a:xfrm>
            <a:off x="466560" y="203184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初稿形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6"/>
          <p:cNvSpPr/>
          <p:nvPr/>
        </p:nvSpPr>
        <p:spPr>
          <a:xfrm>
            <a:off x="2843280" y="2124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Arial"/>
              </a:rPr>
              <a:t>定稿成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7"/>
          <p:cNvSpPr/>
          <p:nvPr/>
        </p:nvSpPr>
        <p:spPr>
          <a:xfrm>
            <a:off x="5076720" y="2124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Arial"/>
              </a:rPr>
              <a:t>试行推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8"/>
          <p:cNvSpPr/>
          <p:nvPr/>
        </p:nvSpPr>
        <p:spPr>
          <a:xfrm>
            <a:off x="7164360" y="2124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Arial"/>
              </a:rPr>
              <a:t>全面实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" descr=""/>
          <p:cNvPicPr/>
          <p:nvPr/>
        </p:nvPicPr>
        <p:blipFill>
          <a:blip r:embed="rId1"/>
          <a:srcRect l="0" t="482" r="-2020" b="0"/>
          <a:stretch/>
        </p:blipFill>
        <p:spPr>
          <a:xfrm rot="20634000">
            <a:off x="1141560" y="3146400"/>
            <a:ext cx="677880" cy="8049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19"/>
          <p:cNvSpPr/>
          <p:nvPr/>
        </p:nvSpPr>
        <p:spPr>
          <a:xfrm>
            <a:off x="395280" y="4481640"/>
            <a:ext cx="8137440" cy="1313640"/>
          </a:xfrm>
          <a:prstGeom prst="rect">
            <a:avLst/>
          </a:prstGeom>
          <a:noFill/>
          <a:ln w="9360">
            <a:solidFill>
              <a:srgbClr val="7f7f7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意义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建立客户管理系统、提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顾客质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进度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形成初稿，进行基于实际情况及可操作性的二次修改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原因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需做方案本身调整以及等待总部相关方案出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计完成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月前完成二稿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B744-1D11-4D80-9D1F-EF08FE1155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2"/>
          <p:cNvSpPr/>
          <p:nvPr/>
        </p:nvSpPr>
        <p:spPr>
          <a:xfrm>
            <a:off x="324000" y="836640"/>
            <a:ext cx="72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VIP</a:t>
            </a: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管理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质方案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圆角矩形 4"/>
          <p:cNvSpPr/>
          <p:nvPr/>
        </p:nvSpPr>
        <p:spPr>
          <a:xfrm>
            <a:off x="250920" y="1628640"/>
            <a:ext cx="1944720" cy="1368720"/>
          </a:xfrm>
          <a:prstGeom prst="roundRect">
            <a:avLst>
              <a:gd name="adj" fmla="val 16667"/>
            </a:avLst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圆角矩形 5"/>
          <p:cNvSpPr/>
          <p:nvPr/>
        </p:nvSpPr>
        <p:spPr>
          <a:xfrm>
            <a:off x="2482920" y="1628640"/>
            <a:ext cx="1944720" cy="1368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圆角矩形 6"/>
          <p:cNvSpPr/>
          <p:nvPr/>
        </p:nvSpPr>
        <p:spPr>
          <a:xfrm>
            <a:off x="4643280" y="1628640"/>
            <a:ext cx="1944720" cy="1368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圆角矩形 7"/>
          <p:cNvSpPr/>
          <p:nvPr/>
        </p:nvSpPr>
        <p:spPr>
          <a:xfrm>
            <a:off x="6804000" y="1628640"/>
            <a:ext cx="1944720" cy="1368720"/>
          </a:xfrm>
          <a:prstGeom prst="roundRect">
            <a:avLst>
              <a:gd name="adj" fmla="val 16667"/>
            </a:avLst>
          </a:prstGeom>
          <a:solidFill>
            <a:srgbClr val="f2a3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直接箭头连接符 8"/>
          <p:cNvCxnSpPr>
            <a:stCxn id="208" idx="3"/>
            <a:endCxn id="209" idx="1"/>
          </p:cNvCxnSpPr>
          <p:nvPr/>
        </p:nvCxnSpPr>
        <p:spPr>
          <a:xfrm>
            <a:off x="2195640" y="2312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13" name="直接箭头连接符 9"/>
          <p:cNvCxnSpPr>
            <a:stCxn id="209" idx="3"/>
            <a:endCxn id="210" idx="1"/>
          </p:cNvCxnSpPr>
          <p:nvPr/>
        </p:nvCxnSpPr>
        <p:spPr>
          <a:xfrm>
            <a:off x="4427280" y="2312640"/>
            <a:ext cx="21636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14" name="直接箭头连接符 10"/>
          <p:cNvCxnSpPr>
            <a:stCxn id="210" idx="3"/>
            <a:endCxn id="211" idx="1"/>
          </p:cNvCxnSpPr>
          <p:nvPr/>
        </p:nvCxnSpPr>
        <p:spPr>
          <a:xfrm>
            <a:off x="6588000" y="2312640"/>
            <a:ext cx="21672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15" name="TextBox 11"/>
          <p:cNvSpPr/>
          <p:nvPr/>
        </p:nvSpPr>
        <p:spPr>
          <a:xfrm>
            <a:off x="466560" y="203184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初稿形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2"/>
          <p:cNvSpPr/>
          <p:nvPr/>
        </p:nvSpPr>
        <p:spPr>
          <a:xfrm>
            <a:off x="2843280" y="2124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Arial"/>
              </a:rPr>
              <a:t>定稿成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3"/>
          <p:cNvSpPr/>
          <p:nvPr/>
        </p:nvSpPr>
        <p:spPr>
          <a:xfrm>
            <a:off x="5076720" y="2124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Arial"/>
              </a:rPr>
              <a:t>试行推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4"/>
          <p:cNvSpPr/>
          <p:nvPr/>
        </p:nvSpPr>
        <p:spPr>
          <a:xfrm>
            <a:off x="7164360" y="2124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Arial"/>
              </a:rPr>
              <a:t>全面实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" descr=""/>
          <p:cNvPicPr/>
          <p:nvPr/>
        </p:nvPicPr>
        <p:blipFill>
          <a:blip r:embed="rId1"/>
          <a:srcRect l="0" t="482" r="-2020" b="0"/>
          <a:stretch/>
        </p:blipFill>
        <p:spPr>
          <a:xfrm rot="20634000">
            <a:off x="1141560" y="3146400"/>
            <a:ext cx="677880" cy="80496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6"/>
          <p:cNvSpPr/>
          <p:nvPr/>
        </p:nvSpPr>
        <p:spPr>
          <a:xfrm>
            <a:off x="395280" y="4481640"/>
            <a:ext cx="8137440" cy="1313640"/>
          </a:xfrm>
          <a:prstGeom prst="rect">
            <a:avLst/>
          </a:prstGeom>
          <a:noFill/>
          <a:ln w="9360">
            <a:solidFill>
              <a:srgbClr val="7f7f7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意义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提升品牌服务质量、客户服务专业化、差异化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进度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待出初稿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原因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编写中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计完成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日完成初稿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ACA8-D96D-46B8-A959-3D44A47489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2"/>
          <p:cNvSpPr/>
          <p:nvPr/>
        </p:nvSpPr>
        <p:spPr>
          <a:xfrm>
            <a:off x="324000" y="836640"/>
            <a:ext cx="72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市场推广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店特惠方案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圆角矩形 4"/>
          <p:cNvSpPr/>
          <p:nvPr/>
        </p:nvSpPr>
        <p:spPr>
          <a:xfrm>
            <a:off x="250920" y="1628640"/>
            <a:ext cx="1944720" cy="1368720"/>
          </a:xfrm>
          <a:prstGeom prst="roundRect">
            <a:avLst>
              <a:gd name="adj" fmla="val 16667"/>
            </a:avLst>
          </a:prstGeom>
          <a:solidFill>
            <a:srgbClr val="cbe6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5"/>
          <p:cNvSpPr/>
          <p:nvPr/>
        </p:nvSpPr>
        <p:spPr>
          <a:xfrm>
            <a:off x="2482920" y="1628640"/>
            <a:ext cx="1944720" cy="1368720"/>
          </a:xfrm>
          <a:prstGeom prst="roundRect">
            <a:avLst>
              <a:gd name="adj" fmla="val 16667"/>
            </a:avLst>
          </a:prstGeom>
          <a:solidFill>
            <a:srgbClr val="9ddd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圆角矩形 6"/>
          <p:cNvSpPr/>
          <p:nvPr/>
        </p:nvSpPr>
        <p:spPr>
          <a:xfrm>
            <a:off x="4643280" y="1628640"/>
            <a:ext cx="1944720" cy="1368720"/>
          </a:xfrm>
          <a:prstGeom prst="roundRect">
            <a:avLst>
              <a:gd name="adj" fmla="val 16667"/>
            </a:avLst>
          </a:prstGeom>
          <a:solidFill>
            <a:srgbClr val="58b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圆角矩形 7"/>
          <p:cNvSpPr/>
          <p:nvPr/>
        </p:nvSpPr>
        <p:spPr>
          <a:xfrm>
            <a:off x="6804000" y="1628640"/>
            <a:ext cx="1944720" cy="1368720"/>
          </a:xfrm>
          <a:prstGeom prst="roundRect">
            <a:avLst>
              <a:gd name="adj" fmla="val 16667"/>
            </a:avLst>
          </a:prstGeom>
          <a:solidFill>
            <a:srgbClr val="30a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直接箭头连接符 8"/>
          <p:cNvCxnSpPr>
            <a:stCxn id="223" idx="3"/>
            <a:endCxn id="224" idx="1"/>
          </p:cNvCxnSpPr>
          <p:nvPr/>
        </p:nvCxnSpPr>
        <p:spPr>
          <a:xfrm>
            <a:off x="2195640" y="2312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28" name="直接箭头连接符 9"/>
          <p:cNvCxnSpPr>
            <a:stCxn id="224" idx="3"/>
            <a:endCxn id="225" idx="1"/>
          </p:cNvCxnSpPr>
          <p:nvPr/>
        </p:nvCxnSpPr>
        <p:spPr>
          <a:xfrm>
            <a:off x="4427280" y="2312640"/>
            <a:ext cx="21636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29" name="直接箭头连接符 10"/>
          <p:cNvCxnSpPr>
            <a:stCxn id="225" idx="3"/>
            <a:endCxn id="226" idx="1"/>
          </p:cNvCxnSpPr>
          <p:nvPr/>
        </p:nvCxnSpPr>
        <p:spPr>
          <a:xfrm>
            <a:off x="6588000" y="2312640"/>
            <a:ext cx="21672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30" name="TextBox 11"/>
          <p:cNvSpPr/>
          <p:nvPr/>
        </p:nvSpPr>
        <p:spPr>
          <a:xfrm>
            <a:off x="466560" y="203184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初稿形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2"/>
          <p:cNvSpPr/>
          <p:nvPr/>
        </p:nvSpPr>
        <p:spPr>
          <a:xfrm>
            <a:off x="2843280" y="2124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Arial"/>
              </a:rPr>
              <a:t>定稿成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3"/>
          <p:cNvSpPr/>
          <p:nvPr/>
        </p:nvSpPr>
        <p:spPr>
          <a:xfrm>
            <a:off x="5076720" y="2124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Arial"/>
              </a:rPr>
              <a:t>前期准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7164360" y="2124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Arial"/>
              </a:rPr>
              <a:t>全面实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" descr=""/>
          <p:cNvPicPr/>
          <p:nvPr/>
        </p:nvPicPr>
        <p:blipFill>
          <a:blip r:embed="rId1"/>
          <a:srcRect l="0" t="482" r="-2020" b="0"/>
          <a:stretch/>
        </p:blipFill>
        <p:spPr>
          <a:xfrm rot="20634000">
            <a:off x="1141560" y="3146400"/>
            <a:ext cx="677880" cy="80496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6"/>
          <p:cNvSpPr/>
          <p:nvPr/>
        </p:nvSpPr>
        <p:spPr>
          <a:xfrm>
            <a:off x="395280" y="4481640"/>
            <a:ext cx="8137440" cy="1313640"/>
          </a:xfrm>
          <a:prstGeom prst="rect">
            <a:avLst/>
          </a:prstGeom>
          <a:noFill/>
          <a:ln w="9360">
            <a:solidFill>
              <a:srgbClr val="7f7f7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意义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提升直营维持店销量，推广多元化特惠销售途径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进度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待出初稿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原因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编写中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计完成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日完成初稿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81F4-6029-454A-8528-B8E504934E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4"/>
          <p:cNvSpPr/>
          <p:nvPr/>
        </p:nvSpPr>
        <p:spPr>
          <a:xfrm>
            <a:off x="1292400" y="1339920"/>
            <a:ext cx="223200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KPI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5"/>
          <p:cNvSpPr/>
          <p:nvPr/>
        </p:nvSpPr>
        <p:spPr>
          <a:xfrm>
            <a:off x="979560" y="1447920"/>
            <a:ext cx="62532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1292400" y="2492280"/>
            <a:ext cx="223200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工作分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7"/>
          <p:cNvSpPr/>
          <p:nvPr/>
        </p:nvSpPr>
        <p:spPr>
          <a:xfrm>
            <a:off x="979560" y="2600280"/>
            <a:ext cx="625320" cy="625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1284120" y="3571920"/>
            <a:ext cx="223236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达成总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19"/>
          <p:cNvSpPr/>
          <p:nvPr/>
        </p:nvSpPr>
        <p:spPr>
          <a:xfrm>
            <a:off x="971640" y="3679920"/>
            <a:ext cx="62532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0"/>
          <p:cNvSpPr/>
          <p:nvPr/>
        </p:nvSpPr>
        <p:spPr>
          <a:xfrm>
            <a:off x="1284120" y="4654440"/>
            <a:ext cx="223236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下期计划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21"/>
          <p:cNvSpPr/>
          <p:nvPr/>
        </p:nvSpPr>
        <p:spPr>
          <a:xfrm>
            <a:off x="971640" y="4762440"/>
            <a:ext cx="625320" cy="625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26" descr=""/>
          <p:cNvPicPr/>
          <p:nvPr/>
        </p:nvPicPr>
        <p:blipFill>
          <a:blip r:embed="rId1"/>
          <a:stretch/>
        </p:blipFill>
        <p:spPr>
          <a:xfrm>
            <a:off x="3995640" y="1268280"/>
            <a:ext cx="4754520" cy="43974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7"/>
          <p:cNvSpPr/>
          <p:nvPr/>
        </p:nvSpPr>
        <p:spPr>
          <a:xfrm>
            <a:off x="4427640" y="2752560"/>
            <a:ext cx="39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离目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还差多远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7812000" y="1506600"/>
            <a:ext cx="627120" cy="625320"/>
          </a:xfrm>
          <a:prstGeom prst="rect">
            <a:avLst/>
          </a:prstGeom>
          <a:ln w="0">
            <a:noFill/>
          </a:ln>
        </p:spPr>
      </p:pic>
      <p:sp>
        <p:nvSpPr>
          <p:cNvPr id="6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B919-57EA-4E17-961A-ABD4EAB8B3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2"/>
          <p:cNvSpPr/>
          <p:nvPr/>
        </p:nvSpPr>
        <p:spPr>
          <a:xfrm>
            <a:off x="324000" y="836640"/>
            <a:ext cx="72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市场推广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父亲节方案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圆角矩形 4"/>
          <p:cNvSpPr/>
          <p:nvPr/>
        </p:nvSpPr>
        <p:spPr>
          <a:xfrm>
            <a:off x="250920" y="1628640"/>
            <a:ext cx="1944720" cy="1368720"/>
          </a:xfrm>
          <a:prstGeom prst="roundRect">
            <a:avLst>
              <a:gd name="adj" fmla="val 16667"/>
            </a:avLst>
          </a:prstGeom>
          <a:solidFill>
            <a:srgbClr val="cbe6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圆角矩形 5"/>
          <p:cNvSpPr/>
          <p:nvPr/>
        </p:nvSpPr>
        <p:spPr>
          <a:xfrm>
            <a:off x="2482920" y="1628640"/>
            <a:ext cx="1944720" cy="1368720"/>
          </a:xfrm>
          <a:prstGeom prst="roundRect">
            <a:avLst>
              <a:gd name="adj" fmla="val 16667"/>
            </a:avLst>
          </a:prstGeom>
          <a:solidFill>
            <a:srgbClr val="9ddd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圆角矩形 6"/>
          <p:cNvSpPr/>
          <p:nvPr/>
        </p:nvSpPr>
        <p:spPr>
          <a:xfrm>
            <a:off x="4643280" y="1628640"/>
            <a:ext cx="1944720" cy="1368720"/>
          </a:xfrm>
          <a:prstGeom prst="roundRect">
            <a:avLst>
              <a:gd name="adj" fmla="val 16667"/>
            </a:avLst>
          </a:prstGeom>
          <a:solidFill>
            <a:srgbClr val="58b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圆角矩形 7"/>
          <p:cNvSpPr/>
          <p:nvPr/>
        </p:nvSpPr>
        <p:spPr>
          <a:xfrm>
            <a:off x="6804000" y="1628640"/>
            <a:ext cx="1944720" cy="1368720"/>
          </a:xfrm>
          <a:prstGeom prst="roundRect">
            <a:avLst>
              <a:gd name="adj" fmla="val 16667"/>
            </a:avLst>
          </a:prstGeom>
          <a:solidFill>
            <a:srgbClr val="30a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直接箭头连接符 8"/>
          <p:cNvCxnSpPr>
            <a:stCxn id="238" idx="3"/>
            <a:endCxn id="239" idx="1"/>
          </p:cNvCxnSpPr>
          <p:nvPr/>
        </p:nvCxnSpPr>
        <p:spPr>
          <a:xfrm>
            <a:off x="2195640" y="2312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43" name="直接箭头连接符 9"/>
          <p:cNvCxnSpPr>
            <a:stCxn id="239" idx="3"/>
            <a:endCxn id="240" idx="1"/>
          </p:cNvCxnSpPr>
          <p:nvPr/>
        </p:nvCxnSpPr>
        <p:spPr>
          <a:xfrm>
            <a:off x="4427280" y="2312640"/>
            <a:ext cx="21636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44" name="直接箭头连接符 10"/>
          <p:cNvCxnSpPr>
            <a:stCxn id="240" idx="3"/>
            <a:endCxn id="241" idx="1"/>
          </p:cNvCxnSpPr>
          <p:nvPr/>
        </p:nvCxnSpPr>
        <p:spPr>
          <a:xfrm>
            <a:off x="6588000" y="2312640"/>
            <a:ext cx="21672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45" name="TextBox 11"/>
          <p:cNvSpPr/>
          <p:nvPr/>
        </p:nvSpPr>
        <p:spPr>
          <a:xfrm>
            <a:off x="466560" y="203184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初稿形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2"/>
          <p:cNvSpPr/>
          <p:nvPr/>
        </p:nvSpPr>
        <p:spPr>
          <a:xfrm>
            <a:off x="2843280" y="2124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Arial"/>
              </a:rPr>
              <a:t>定稿成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3"/>
          <p:cNvSpPr/>
          <p:nvPr/>
        </p:nvSpPr>
        <p:spPr>
          <a:xfrm>
            <a:off x="5076720" y="2124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Arial"/>
              </a:rPr>
              <a:t>前期准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4"/>
          <p:cNvSpPr/>
          <p:nvPr/>
        </p:nvSpPr>
        <p:spPr>
          <a:xfrm>
            <a:off x="7164360" y="2124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Arial"/>
              </a:rPr>
              <a:t>全面实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" descr=""/>
          <p:cNvPicPr/>
          <p:nvPr/>
        </p:nvPicPr>
        <p:blipFill>
          <a:blip r:embed="rId1"/>
          <a:srcRect l="0" t="482" r="-2020" b="0"/>
          <a:stretch/>
        </p:blipFill>
        <p:spPr>
          <a:xfrm rot="20634000">
            <a:off x="1141560" y="3146400"/>
            <a:ext cx="677880" cy="804960"/>
          </a:xfrm>
          <a:prstGeom prst="rect">
            <a:avLst/>
          </a:prstGeom>
          <a:ln w="0">
            <a:noFill/>
          </a:ln>
        </p:spPr>
      </p:pic>
      <p:sp>
        <p:nvSpPr>
          <p:cNvPr id="250" name="TextBox 16"/>
          <p:cNvSpPr/>
          <p:nvPr/>
        </p:nvSpPr>
        <p:spPr>
          <a:xfrm>
            <a:off x="395280" y="4481640"/>
            <a:ext cx="8137440" cy="1313640"/>
          </a:xfrm>
          <a:prstGeom prst="rect">
            <a:avLst/>
          </a:prstGeom>
          <a:noFill/>
          <a:ln w="9360">
            <a:solidFill>
              <a:srgbClr val="7f7f7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意义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按照品牌形象推出相关营销推广方案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进度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待出初稿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原因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编写中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预计完成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日完成初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日进行推广实施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日父亲节）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BF62-25CB-478D-8F42-A6CDEC96FA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B63D-CE20-4CF2-B562-CD84F8490F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3924360" y="1123920"/>
            <a:ext cx="1512720" cy="2238480"/>
          </a:xfrm>
          <a:prstGeom prst="rect">
            <a:avLst/>
          </a:prstGeom>
          <a:ln w="0">
            <a:noFill/>
          </a:ln>
        </p:spPr>
      </p:pic>
      <p:sp>
        <p:nvSpPr>
          <p:cNvPr id="257" name="矩形 19"/>
          <p:cNvSpPr/>
          <p:nvPr/>
        </p:nvSpPr>
        <p:spPr>
          <a:xfrm>
            <a:off x="1403280" y="3683880"/>
            <a:ext cx="6626160" cy="825120"/>
          </a:xfrm>
          <a:prstGeom prst="rect">
            <a:avLst/>
          </a:prstGeom>
          <a:solidFill>
            <a:srgbClr val="f2a3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管理：打好基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1405080" y="4762800"/>
            <a:ext cx="6624360" cy="825120"/>
          </a:xfrm>
          <a:prstGeom prst="rect">
            <a:avLst/>
          </a:prstGeom>
          <a:solidFill>
            <a:srgbClr val="f2a3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推广：乘势而上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4BC3-9E07-4050-9C32-ED7F3BA71B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圆角矩形 14"/>
          <p:cNvSpPr/>
          <p:nvPr/>
        </p:nvSpPr>
        <p:spPr>
          <a:xfrm>
            <a:off x="466560" y="765000"/>
            <a:ext cx="8282160" cy="4751640"/>
          </a:xfrm>
          <a:prstGeom prst="roundRect">
            <a:avLst>
              <a:gd name="adj" fmla="val 6394"/>
            </a:avLst>
          </a:prstGeom>
          <a:solidFill>
            <a:srgbClr val="ffffff"/>
          </a:solidFill>
          <a:ln w="101520">
            <a:solidFill>
              <a:srgbClr val="3f3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7"/>
          <p:cNvSpPr/>
          <p:nvPr/>
        </p:nvSpPr>
        <p:spPr>
          <a:xfrm>
            <a:off x="755640" y="754200"/>
            <a:ext cx="792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客户</a:t>
            </a:r>
            <a:r>
              <a:rPr b="1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&amp;</a:t>
            </a: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推广组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季度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KPI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览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2560" y="1225440"/>
          <a:ext cx="7848720" cy="4003560"/>
        </p:xfrm>
        <a:graphic>
          <a:graphicData uri="http://schemas.openxmlformats.org/drawingml/2006/table">
            <a:tbl>
              <a:tblPr/>
              <a:tblGrid>
                <a:gridCol w="1415880"/>
                <a:gridCol w="560520"/>
                <a:gridCol w="4695840"/>
                <a:gridCol w="1176480"/>
              </a:tblGrid>
              <a:tr h="46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指标名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权重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计算公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衡量标准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黑体"/>
                        </a:rPr>
                        <a:t>目标值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06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销售收入达成率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二季度销售收入目标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****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万，直营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****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万，分销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****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万；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.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当销售达成率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%,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此项得分为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,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当达标率在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%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9%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之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%=1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为基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每降低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%,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减少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．当达成率在＞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%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，每增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%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，得分增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，最高不超过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****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万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店效增长率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店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=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销售收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店铺数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贡献月数；实际达成率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%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，分值为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；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%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＞实际达成率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%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，得权重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%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；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％＞实际达成率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％，得权重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%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；实际达成率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％，得权重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.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其中维持店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.7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，新开店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.9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1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VIP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项目推进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每店每月有明确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VIP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管理目标，此项得权重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%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；店铺有实际的服务提质的案例，每个案例加权重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，最高分值不超过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推广活动效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评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推广活动业绩达成率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=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本季度所有推广活动实际业绩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本季度所有推广活动目标业绩总和，达成率低于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%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，此项分值为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；达成率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%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以上，按照实际达成率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*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权重评分，最高分值不超过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图片 4" descr=""/>
          <p:cNvPicPr/>
          <p:nvPr/>
        </p:nvPicPr>
        <p:blipFill>
          <a:blip r:embed="rId1"/>
          <a:stretch/>
        </p:blipFill>
        <p:spPr>
          <a:xfrm>
            <a:off x="3564000" y="5038560"/>
            <a:ext cx="2087640" cy="1559160"/>
          </a:xfrm>
          <a:prstGeom prst="rect">
            <a:avLst/>
          </a:prstGeom>
          <a:ln w="0">
            <a:noFill/>
          </a:ln>
        </p:spPr>
      </p:pic>
      <p:sp>
        <p:nvSpPr>
          <p:cNvPr id="6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8FCF-3C24-41A0-868A-F284990A7D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折角形 5"/>
          <p:cNvSpPr/>
          <p:nvPr/>
        </p:nvSpPr>
        <p:spPr>
          <a:xfrm>
            <a:off x="755640" y="1197000"/>
            <a:ext cx="7705800" cy="4968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 4"/>
          <p:cNvSpPr/>
          <p:nvPr/>
        </p:nvSpPr>
        <p:spPr>
          <a:xfrm>
            <a:off x="395280" y="836640"/>
            <a:ext cx="2952720" cy="10810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57240">
            <a:solidFill>
              <a:srgbClr val="f2a3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1260360" y="216540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份直营完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万元，加盟完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万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826920" y="112392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 TH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1332000" y="4365720"/>
            <a:ext cx="61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特别关注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*****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店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*****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店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*****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店等自营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</a:rPr>
              <a:t>维持店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店效增长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1403280" y="3068640"/>
            <a:ext cx="5472360" cy="5814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此处为目标与达成柱形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6151"/>
          <p:cNvSpPr/>
          <p:nvPr/>
        </p:nvSpPr>
        <p:spPr>
          <a:xfrm>
            <a:off x="1403280" y="441360"/>
            <a:ext cx="504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板网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E668-6EFA-4F89-84D2-456C172093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4"/>
          <p:cNvSpPr/>
          <p:nvPr/>
        </p:nvSpPr>
        <p:spPr>
          <a:xfrm>
            <a:off x="1292400" y="1339920"/>
            <a:ext cx="223200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KPI</a:t>
            </a:r>
            <a:r>
              <a:rPr b="1" lang="zh-CN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总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15"/>
          <p:cNvSpPr/>
          <p:nvPr/>
        </p:nvSpPr>
        <p:spPr>
          <a:xfrm>
            <a:off x="979560" y="1447920"/>
            <a:ext cx="62532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1292400" y="2492280"/>
            <a:ext cx="223200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分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17"/>
          <p:cNvSpPr/>
          <p:nvPr/>
        </p:nvSpPr>
        <p:spPr>
          <a:xfrm>
            <a:off x="979560" y="2600280"/>
            <a:ext cx="625320" cy="625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8"/>
          <p:cNvSpPr/>
          <p:nvPr/>
        </p:nvSpPr>
        <p:spPr>
          <a:xfrm>
            <a:off x="1284120" y="3571920"/>
            <a:ext cx="223236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达成总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19"/>
          <p:cNvSpPr/>
          <p:nvPr/>
        </p:nvSpPr>
        <p:spPr>
          <a:xfrm>
            <a:off x="971640" y="3679920"/>
            <a:ext cx="62532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0"/>
          <p:cNvSpPr/>
          <p:nvPr/>
        </p:nvSpPr>
        <p:spPr>
          <a:xfrm>
            <a:off x="1284120" y="4654440"/>
            <a:ext cx="2232360" cy="8413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下期计划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21"/>
          <p:cNvSpPr/>
          <p:nvPr/>
        </p:nvSpPr>
        <p:spPr>
          <a:xfrm>
            <a:off x="971640" y="4762440"/>
            <a:ext cx="625320" cy="625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26" descr=""/>
          <p:cNvPicPr/>
          <p:nvPr/>
        </p:nvPicPr>
        <p:blipFill>
          <a:blip r:embed="rId1"/>
          <a:stretch/>
        </p:blipFill>
        <p:spPr>
          <a:xfrm>
            <a:off x="3995640" y="1268280"/>
            <a:ext cx="4754520" cy="4397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7461360" y="1557360"/>
            <a:ext cx="998280" cy="833400"/>
          </a:xfrm>
          <a:prstGeom prst="rect">
            <a:avLst/>
          </a:prstGeom>
          <a:ln w="0">
            <a:noFill/>
          </a:ln>
        </p:spPr>
      </p:pic>
      <p:sp>
        <p:nvSpPr>
          <p:cNvPr id="84" name="TextBox 27"/>
          <p:cNvSpPr/>
          <p:nvPr/>
        </p:nvSpPr>
        <p:spPr>
          <a:xfrm>
            <a:off x="4356000" y="2205000"/>
            <a:ext cx="39610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VIP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管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效扩大顾客效能，实现营销对象化、可控化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市场推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启发顾客需求，提高购买欲望，加深品牌理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09E5-3F47-41A8-8C20-3074846777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5"/>
          <p:cNvSpPr/>
          <p:nvPr/>
        </p:nvSpPr>
        <p:spPr>
          <a:xfrm>
            <a:off x="324000" y="189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顾客管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8194"/>
          <p:cNvGrpSpPr/>
          <p:nvPr/>
        </p:nvGrpSpPr>
        <p:grpSpPr>
          <a:xfrm>
            <a:off x="5076720" y="1268280"/>
            <a:ext cx="3378240" cy="4249800"/>
            <a:chOff x="5076720" y="1268280"/>
            <a:chExt cx="3378240" cy="4249800"/>
          </a:xfrm>
        </p:grpSpPr>
        <p:sp>
          <p:nvSpPr>
            <p:cNvPr id="88" name="矩形 22"/>
            <p:cNvSpPr/>
            <p:nvPr/>
          </p:nvSpPr>
          <p:spPr>
            <a:xfrm>
              <a:off x="5076720" y="1625040"/>
              <a:ext cx="3378240" cy="3893040"/>
            </a:xfrm>
            <a:prstGeom prst="rect">
              <a:avLst/>
            </a:prstGeom>
            <a:noFill/>
            <a:ln w="255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5374800" y="1268280"/>
              <a:ext cx="2782080" cy="45972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43"/>
            <p:cNvSpPr/>
            <p:nvPr/>
          </p:nvSpPr>
          <p:spPr>
            <a:xfrm>
              <a:off x="5553360" y="1301400"/>
              <a:ext cx="24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标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25"/>
            <p:cNvSpPr/>
            <p:nvPr/>
          </p:nvSpPr>
          <p:spPr>
            <a:xfrm>
              <a:off x="5141160" y="2206800"/>
              <a:ext cx="324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VIP</a:t>
              </a:r>
              <a:r>
                <a:rPr b="1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顾客分级明确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26"/>
            <p:cNvSpPr/>
            <p:nvPr/>
          </p:nvSpPr>
          <p:spPr>
            <a:xfrm>
              <a:off x="5141160" y="3172320"/>
              <a:ext cx="324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提升品牌服务水平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27"/>
            <p:cNvSpPr/>
            <p:nvPr/>
          </p:nvSpPr>
          <p:spPr>
            <a:xfrm>
              <a:off x="5141160" y="4137480"/>
              <a:ext cx="324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客户数据系统化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8201"/>
          <p:cNvGrpSpPr/>
          <p:nvPr/>
        </p:nvGrpSpPr>
        <p:grpSpPr>
          <a:xfrm>
            <a:off x="466560" y="1268280"/>
            <a:ext cx="3384720" cy="4176720"/>
            <a:chOff x="466560" y="1268280"/>
            <a:chExt cx="3384720" cy="4176720"/>
          </a:xfrm>
        </p:grpSpPr>
        <p:sp>
          <p:nvSpPr>
            <p:cNvPr id="95" name="矩形 29"/>
            <p:cNvSpPr/>
            <p:nvPr/>
          </p:nvSpPr>
          <p:spPr>
            <a:xfrm>
              <a:off x="466560" y="1618920"/>
              <a:ext cx="3384720" cy="3826080"/>
            </a:xfrm>
            <a:prstGeom prst="rect">
              <a:avLst/>
            </a:prstGeom>
            <a:noFill/>
            <a:ln w="255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1"/>
            <p:cNvSpPr/>
            <p:nvPr/>
          </p:nvSpPr>
          <p:spPr>
            <a:xfrm>
              <a:off x="765000" y="1268280"/>
              <a:ext cx="2787480" cy="451800"/>
            </a:xfrm>
            <a:prstGeom prst="rect">
              <a:avLst/>
            </a:prstGeom>
            <a:solidFill>
              <a:srgbClr val="cccccc"/>
            </a:solidFill>
            <a:ln w="255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43"/>
            <p:cNvSpPr/>
            <p:nvPr/>
          </p:nvSpPr>
          <p:spPr>
            <a:xfrm>
              <a:off x="944280" y="1301040"/>
              <a:ext cx="242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现状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32"/>
            <p:cNvSpPr/>
            <p:nvPr/>
          </p:nvSpPr>
          <p:spPr>
            <a:xfrm>
              <a:off x="531360" y="2190960"/>
              <a:ext cx="325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顾客管理单一化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33"/>
            <p:cNvSpPr/>
            <p:nvPr/>
          </p:nvSpPr>
          <p:spPr>
            <a:xfrm>
              <a:off x="531360" y="3139560"/>
              <a:ext cx="325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服务无标准、差异化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34"/>
            <p:cNvSpPr/>
            <p:nvPr/>
          </p:nvSpPr>
          <p:spPr>
            <a:xfrm>
              <a:off x="531360" y="4088160"/>
              <a:ext cx="325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数据可分析性不强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2BB2-D8D5-45FF-970B-A2B6F8971B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7"/>
          <p:cNvSpPr/>
          <p:nvPr/>
        </p:nvSpPr>
        <p:spPr>
          <a:xfrm>
            <a:off x="682560" y="414972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服务差异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服务企业面对较强的竞争对手而在服务内容、服务渠道和服务形象等方面采取有别于竞争对手而又突出自己特征，以战胜竞争对手，在服务市场立住脚跟的一种做法。目的是要通过服务差异化突出自己的优势，与竞争对手相区别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71640" y="836640"/>
            <a:ext cx="1724040" cy="2252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4861080" y="907920"/>
            <a:ext cx="1942920" cy="2229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3"/>
          <a:stretch/>
        </p:blipFill>
        <p:spPr>
          <a:xfrm>
            <a:off x="6948360" y="907920"/>
            <a:ext cx="1771920" cy="23241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3"/>
          <p:cNvSpPr/>
          <p:nvPr/>
        </p:nvSpPr>
        <p:spPr>
          <a:xfrm>
            <a:off x="1116000" y="3213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产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3132000" y="3213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形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5"/>
          <p:cNvSpPr/>
          <p:nvPr/>
        </p:nvSpPr>
        <p:spPr>
          <a:xfrm>
            <a:off x="5580000" y="321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价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6"/>
          <p:cNvSpPr/>
          <p:nvPr/>
        </p:nvSpPr>
        <p:spPr>
          <a:xfrm>
            <a:off x="7596360" y="321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理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4"/>
          <a:stretch/>
        </p:blipFill>
        <p:spPr>
          <a:xfrm>
            <a:off x="466560" y="981000"/>
            <a:ext cx="1798920" cy="2048040"/>
          </a:xfrm>
          <a:prstGeom prst="rect">
            <a:avLst/>
          </a:prstGeom>
          <a:ln w="0">
            <a:noFill/>
          </a:ln>
        </p:spPr>
      </p:pic>
      <p:sp>
        <p:nvSpPr>
          <p:cNvPr id="1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D920-B0EB-44E8-BF29-76C6BB58F4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4"/>
          <p:cNvSpPr/>
          <p:nvPr/>
        </p:nvSpPr>
        <p:spPr>
          <a:xfrm>
            <a:off x="324000" y="189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市场推广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组合 10242"/>
          <p:cNvGrpSpPr/>
          <p:nvPr/>
        </p:nvGrpSpPr>
        <p:grpSpPr>
          <a:xfrm>
            <a:off x="5076720" y="1268280"/>
            <a:ext cx="3378240" cy="4249800"/>
            <a:chOff x="5076720" y="1268280"/>
            <a:chExt cx="3378240" cy="4249800"/>
          </a:xfrm>
        </p:grpSpPr>
        <p:sp>
          <p:nvSpPr>
            <p:cNvPr id="114" name="矩形 6"/>
            <p:cNvSpPr/>
            <p:nvPr/>
          </p:nvSpPr>
          <p:spPr>
            <a:xfrm>
              <a:off x="5076720" y="1625040"/>
              <a:ext cx="3378240" cy="3893040"/>
            </a:xfrm>
            <a:prstGeom prst="rect">
              <a:avLst/>
            </a:prstGeom>
            <a:noFill/>
            <a:ln w="255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5374800" y="1268280"/>
              <a:ext cx="2782080" cy="45972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43"/>
            <p:cNvSpPr/>
            <p:nvPr/>
          </p:nvSpPr>
          <p:spPr>
            <a:xfrm>
              <a:off x="5553360" y="1301400"/>
              <a:ext cx="24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标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9"/>
            <p:cNvSpPr/>
            <p:nvPr/>
          </p:nvSpPr>
          <p:spPr>
            <a:xfrm>
              <a:off x="5141160" y="2206800"/>
              <a:ext cx="324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推广多项合作方式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10"/>
            <p:cNvSpPr/>
            <p:nvPr/>
          </p:nvSpPr>
          <p:spPr>
            <a:xfrm>
              <a:off x="5141160" y="3172320"/>
              <a:ext cx="324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加大推广应景度、不限于节假日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1"/>
            <p:cNvSpPr/>
            <p:nvPr/>
          </p:nvSpPr>
          <p:spPr>
            <a:xfrm>
              <a:off x="5141160" y="4137480"/>
              <a:ext cx="324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要销量更要品牌认可度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0249"/>
          <p:cNvGrpSpPr/>
          <p:nvPr/>
        </p:nvGrpSpPr>
        <p:grpSpPr>
          <a:xfrm>
            <a:off x="466560" y="1268280"/>
            <a:ext cx="3384720" cy="4176720"/>
            <a:chOff x="466560" y="1268280"/>
            <a:chExt cx="3384720" cy="4176720"/>
          </a:xfrm>
        </p:grpSpPr>
        <p:sp>
          <p:nvSpPr>
            <p:cNvPr id="121" name="矩形 13"/>
            <p:cNvSpPr/>
            <p:nvPr/>
          </p:nvSpPr>
          <p:spPr>
            <a:xfrm>
              <a:off x="466560" y="1618920"/>
              <a:ext cx="3384720" cy="3826080"/>
            </a:xfrm>
            <a:prstGeom prst="rect">
              <a:avLst/>
            </a:prstGeom>
            <a:noFill/>
            <a:ln w="255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1"/>
            <p:cNvSpPr/>
            <p:nvPr/>
          </p:nvSpPr>
          <p:spPr>
            <a:xfrm>
              <a:off x="765000" y="1268280"/>
              <a:ext cx="2787480" cy="451800"/>
            </a:xfrm>
            <a:prstGeom prst="rect">
              <a:avLst/>
            </a:prstGeom>
            <a:solidFill>
              <a:srgbClr val="cccccc"/>
            </a:solidFill>
            <a:ln w="255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43"/>
            <p:cNvSpPr/>
            <p:nvPr/>
          </p:nvSpPr>
          <p:spPr>
            <a:xfrm>
              <a:off x="944280" y="1301040"/>
              <a:ext cx="242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现状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16"/>
            <p:cNvSpPr/>
            <p:nvPr/>
          </p:nvSpPr>
          <p:spPr>
            <a:xfrm>
              <a:off x="531360" y="2190960"/>
              <a:ext cx="325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营销渠道单一化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17"/>
            <p:cNvSpPr/>
            <p:nvPr/>
          </p:nvSpPr>
          <p:spPr>
            <a:xfrm>
              <a:off x="531360" y="3139560"/>
              <a:ext cx="325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营销内容基本化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18"/>
            <p:cNvSpPr/>
            <p:nvPr/>
          </p:nvSpPr>
          <p:spPr>
            <a:xfrm>
              <a:off x="531360" y="4088160"/>
              <a:ext cx="325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品牌渗入表面化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7105-F62D-486A-813E-F1B4A05886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4"/>
          <p:cNvSpPr/>
          <p:nvPr/>
        </p:nvSpPr>
        <p:spPr>
          <a:xfrm>
            <a:off x="755640" y="107784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老板问店员营业情况。店员：我卖给一位顾客鱼钩，再卖给他鱼竿和鱼线，他说要在海滨钓鱼，于是我建议他买条快艇，他说轿车无法带走，我又带他买了一辆卡车。老板惊讶：你卖这么多东西给一位只想买鱼钩的顾客？店员：他只想买瓶头痛药，我说头痛应注意放松，建议周末去钓鱼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圆角矩形 7"/>
          <p:cNvSpPr/>
          <p:nvPr/>
        </p:nvSpPr>
        <p:spPr>
          <a:xfrm>
            <a:off x="755640" y="3284640"/>
            <a:ext cx="2448000" cy="165564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8"/>
          <p:cNvSpPr/>
          <p:nvPr/>
        </p:nvSpPr>
        <p:spPr>
          <a:xfrm>
            <a:off x="3419640" y="3284640"/>
            <a:ext cx="2449440" cy="165564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圆角矩形 9"/>
          <p:cNvSpPr/>
          <p:nvPr/>
        </p:nvSpPr>
        <p:spPr>
          <a:xfrm>
            <a:off x="6083280" y="3284640"/>
            <a:ext cx="2449440" cy="165564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900000" y="36068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知道顾客需要什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3564000" y="342900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知道顾客需要什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6083280" y="37893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延伸顾客的需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3222-8727-42FE-A9BC-359E5CE144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1T06:58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0:48Z</dcterms:modified>
  <cp:revision>68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