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FBF-6EB1-4CEB-B06F-1B3D7A55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702-1F07-43AA-967F-21250E6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C37-4547-47FF-B54F-D7EC3B43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2CE-5001-4D68-82E3-02B65D84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0EF-1BD3-44B7-AAEC-5F8C546E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0C5-8416-4B01-8D5D-1D98486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379F-8E9B-4EBA-A425-B67BC9D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4A8F-1024-4AFF-8CA1-B578AE9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535-FDC9-4778-A563-675ABDB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4601-80A7-489B-AC88-567F4C0E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600-9558-476A-8C81-F676E48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F2F-3E3C-457A-8651-DD53291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0CD6-06BE-4EBD-9550-49A5ED3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07DE-2C2D-4A3D-944A-7AE7E505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6CA-5774-4FB8-891A-CF4E46AD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687F-C16B-4137-B42F-914C4B5F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DE9B-5F06-4F39-ABD7-A8A94979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575-B004-4E1D-9916-A3F538D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519-8F39-473B-9FB0-83AE0674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453-934B-4BD7-B430-1362BAC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F24-2C7A-4F91-B9BA-9EC4A63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7E0-543A-48E2-9C90-30807FC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529-A95A-49B3-AF7E-19A11BD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01-3F35-4E36-8A98-48163F0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622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1280" indent="-1054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148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08B05-A49E-4AB1-B4CB-A6DAEA62A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C0AE7-7716-403E-BE68-0AF15EB388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9EA89-EA52-48B2-8CCC-413BAAA71A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2" descr=""/>
          <p:cNvPicPr/>
          <p:nvPr/>
        </p:nvPicPr>
        <p:blipFill>
          <a:blip r:embed="rId1"/>
          <a:stretch/>
        </p:blipFill>
        <p:spPr>
          <a:xfrm>
            <a:off x="396720" y="0"/>
            <a:ext cx="937260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1137960"/>
            <a:ext cx="76104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爱心公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2288" descr=""/>
          <p:cNvPicPr/>
          <p:nvPr/>
        </p:nvPicPr>
        <p:blipFill>
          <a:blip r:embed="rId1"/>
          <a:stretch/>
        </p:blipFill>
        <p:spPr>
          <a:xfrm>
            <a:off x="287280" y="0"/>
            <a:ext cx="960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C342D-76CF-4771-937D-AE142D89AF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3312" descr=""/>
          <p:cNvPicPr/>
          <p:nvPr/>
        </p:nvPicPr>
        <p:blipFill>
          <a:blip r:embed="rId1"/>
          <a:stretch/>
        </p:blipFill>
        <p:spPr>
          <a:xfrm>
            <a:off x="216000" y="0"/>
            <a:ext cx="960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096" descr=""/>
          <p:cNvPicPr/>
          <p:nvPr/>
        </p:nvPicPr>
        <p:blipFill>
          <a:blip r:embed="rId1"/>
          <a:stretch/>
        </p:blipFill>
        <p:spPr>
          <a:xfrm>
            <a:off x="863640" y="0"/>
            <a:ext cx="8458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5120" descr=""/>
          <p:cNvPicPr/>
          <p:nvPr/>
        </p:nvPicPr>
        <p:blipFill>
          <a:blip r:embed="rId1"/>
          <a:stretch/>
        </p:blipFill>
        <p:spPr>
          <a:xfrm>
            <a:off x="971640" y="0"/>
            <a:ext cx="822960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8197"/>
          <p:cNvSpPr/>
          <p:nvPr/>
        </p:nvSpPr>
        <p:spPr>
          <a:xfrm>
            <a:off x="3095640" y="10800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44" descr=""/>
          <p:cNvPicPr/>
          <p:nvPr/>
        </p:nvPicPr>
        <p:blipFill>
          <a:blip r:embed="rId1"/>
          <a:stretch/>
        </p:blipFill>
        <p:spPr>
          <a:xfrm>
            <a:off x="144360" y="0"/>
            <a:ext cx="982980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矩形 6146"/>
          <p:cNvSpPr/>
          <p:nvPr/>
        </p:nvSpPr>
        <p:spPr>
          <a:xfrm>
            <a:off x="3388320" y="3606840"/>
            <a:ext cx="25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7168" descr=""/>
          <p:cNvPicPr/>
          <p:nvPr/>
        </p:nvPicPr>
        <p:blipFill>
          <a:blip r:embed="rId1"/>
          <a:stretch/>
        </p:blipFill>
        <p:spPr>
          <a:xfrm>
            <a:off x="0" y="395280"/>
            <a:ext cx="10080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7170"/>
          <p:cNvSpPr/>
          <p:nvPr/>
        </p:nvSpPr>
        <p:spPr>
          <a:xfrm>
            <a:off x="3388320" y="3606840"/>
            <a:ext cx="25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7"/>
          <p:cNvSpPr/>
          <p:nvPr/>
        </p:nvSpPr>
        <p:spPr>
          <a:xfrm>
            <a:off x="1943280" y="82872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192" descr=""/>
          <p:cNvPicPr/>
          <p:nvPr/>
        </p:nvPicPr>
        <p:blipFill>
          <a:blip r:embed="rId1"/>
          <a:stretch/>
        </p:blipFill>
        <p:spPr>
          <a:xfrm>
            <a:off x="792000" y="0"/>
            <a:ext cx="8458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9216" descr=""/>
          <p:cNvPicPr/>
          <p:nvPr/>
        </p:nvPicPr>
        <p:blipFill>
          <a:blip r:embed="rId1"/>
          <a:stretch/>
        </p:blipFill>
        <p:spPr>
          <a:xfrm>
            <a:off x="0" y="9360"/>
            <a:ext cx="10058400" cy="75502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7"/>
          <p:cNvSpPr/>
          <p:nvPr/>
        </p:nvSpPr>
        <p:spPr>
          <a:xfrm>
            <a:off x="2303640" y="39528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240" descr=""/>
          <p:cNvPicPr/>
          <p:nvPr/>
        </p:nvPicPr>
        <p:blipFill>
          <a:blip r:embed="rId1"/>
          <a:stretch/>
        </p:blipFill>
        <p:spPr>
          <a:xfrm>
            <a:off x="793800" y="0"/>
            <a:ext cx="8191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1264" descr=""/>
          <p:cNvPicPr/>
          <p:nvPr/>
        </p:nvPicPr>
        <p:blipFill>
          <a:blip r:embed="rId1"/>
          <a:stretch/>
        </p:blipFill>
        <p:spPr>
          <a:xfrm>
            <a:off x="503280" y="-19044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197"/>
          <p:cNvSpPr/>
          <p:nvPr/>
        </p:nvSpPr>
        <p:spPr>
          <a:xfrm>
            <a:off x="2664000" y="46836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7:4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