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7F7E-C550-42D7-A386-01817D14F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76F9-CA86-4661-A1D6-F8F467303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304F-F70F-4975-B9AA-68A82279F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2F29-CF00-4EA7-888B-8D880312F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A184A-9BDF-4E98-B3FD-DC18BC72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14BA3-EF02-4107-AEB5-F9184BF0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58832-D3C2-4493-A756-78423841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0F6D2-E6CF-47CD-A2BA-38D7C338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114A3-173D-4317-AD72-65B50993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DCE52-C637-4B5B-BC99-21BB31E7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58520-9451-4550-8995-C0419E3F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9233-1A0B-4BE3-B573-955CC4025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59FCE-DFB4-4563-8A9B-D25F135D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ADCD8-23C7-4F8D-86F9-FA22FCBB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48411-037D-45F3-92BE-F39171FD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D00D9-6117-4374-ADEC-33E7FC4F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531C5-3D3C-4D7D-B049-98438990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30FF-0841-4376-ADF7-AEEA1EB888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27FD-EE24-4E86-A761-8A9377B72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7250-340D-40BE-A5D2-3E2CBA0CE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4992-1B91-4F6B-B592-BFFEBAB0E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001C-7FB2-4A6C-9599-55550CA59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32D9-BD2D-449B-A696-4B20724CB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0401-BA56-40FD-8399-8336C15CD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5"/>
          <p:cNvSpPr/>
          <p:nvPr/>
        </p:nvSpPr>
        <p:spPr>
          <a:xfrm rot="5400000">
            <a:off x="-2099160" y="3143160"/>
            <a:ext cx="687420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" name="任意多边形 1026"/>
          <p:cNvSpPr/>
          <p:nvPr/>
        </p:nvSpPr>
        <p:spPr>
          <a:xfrm>
            <a:off x="1106640" y="0"/>
            <a:ext cx="950760" cy="6875640"/>
          </a:xfrm>
          <a:custGeom>
            <a:avLst/>
            <a:gdLst/>
            <a:ahLst/>
            <a:rect l="l" t="t" r="r" b="b"/>
            <a:pathLst>
              <a:path w="599" h="4331">
                <a:moveTo>
                  <a:pt x="591" y="0"/>
                </a:moveTo>
                <a:cubicBezTo>
                  <a:pt x="247" y="529"/>
                  <a:pt x="73" y="1373"/>
                  <a:pt x="77" y="2094"/>
                </a:cubicBezTo>
                <a:cubicBezTo>
                  <a:pt x="78" y="2816"/>
                  <a:pt x="254" y="3788"/>
                  <a:pt x="596" y="4331"/>
                </a:cubicBezTo>
                <a:cubicBezTo>
                  <a:pt x="599" y="4331"/>
                  <a:pt x="413" y="4331"/>
                  <a:pt x="324" y="4331"/>
                </a:cubicBezTo>
                <a:cubicBezTo>
                  <a:pt x="214" y="3941"/>
                  <a:pt x="10" y="2822"/>
                  <a:pt x="5" y="2100"/>
                </a:cubicBezTo>
                <a:cubicBezTo>
                  <a:pt x="0" y="1378"/>
                  <a:pt x="196" y="351"/>
                  <a:pt x="293" y="1"/>
                </a:cubicBezTo>
                <a:cubicBezTo>
                  <a:pt x="394" y="1"/>
                  <a:pt x="591" y="0"/>
                  <a:pt x="591" y="0"/>
                </a:cubicBezTo>
                <a:close/>
              </a:path>
            </a:pathLst>
          </a:cu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" name="任意多边形 1027"/>
          <p:cNvSpPr/>
          <p:nvPr/>
        </p:nvSpPr>
        <p:spPr>
          <a:xfrm>
            <a:off x="1217520" y="-12600"/>
            <a:ext cx="7931160" cy="6888240"/>
          </a:xfrm>
          <a:custGeom>
            <a:avLst/>
            <a:gdLst/>
            <a:ahLst/>
            <a:rect l="l" t="t" r="r" b="b"/>
            <a:pathLst>
              <a:path w="4996" h="4339">
                <a:moveTo>
                  <a:pt x="4993" y="0"/>
                </a:moveTo>
                <a:cubicBezTo>
                  <a:pt x="4993" y="0"/>
                  <a:pt x="4990" y="4335"/>
                  <a:pt x="4993" y="4336"/>
                </a:cubicBezTo>
                <a:cubicBezTo>
                  <a:pt x="4996" y="4337"/>
                  <a:pt x="615" y="4339"/>
                  <a:pt x="526" y="4339"/>
                </a:cubicBezTo>
                <a:cubicBezTo>
                  <a:pt x="342" y="4021"/>
                  <a:pt x="8" y="3349"/>
                  <a:pt x="0" y="2115"/>
                </a:cubicBezTo>
                <a:cubicBezTo>
                  <a:pt x="8" y="928"/>
                  <a:pt x="327" y="349"/>
                  <a:pt x="523" y="0"/>
                </a:cubicBezTo>
                <a:cubicBezTo>
                  <a:pt x="623" y="0"/>
                  <a:pt x="4993" y="0"/>
                  <a:pt x="4993" y="0"/>
                </a:cubicBezTo>
                <a:close/>
              </a:path>
            </a:pathLst>
          </a:cu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135864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672E-1DDE-4B75-94ED-74DEFFD0171A}" type="slidenum">
              <a:rPr b="1" lang="ko-KR" sz="1400" spc="-1" strike="noStrike">
                <a:solidFill>
                  <a:srgbClr val="00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文本框 1030"/>
          <p:cNvSpPr/>
          <p:nvPr/>
        </p:nvSpPr>
        <p:spPr>
          <a:xfrm>
            <a:off x="7047000" y="6477120"/>
            <a:ext cx="18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ff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5213-205B-40D2-8FB1-47D42ABB7E8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B113-AF52-4B10-8CD0-0BA83D8E7F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任意多边形 2049"/>
          <p:cNvSpPr/>
          <p:nvPr/>
        </p:nvSpPr>
        <p:spPr>
          <a:xfrm>
            <a:off x="-3240" y="1589040"/>
            <a:ext cx="915192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5" name="任意多边形 2050"/>
          <p:cNvSpPr/>
          <p:nvPr/>
        </p:nvSpPr>
        <p:spPr>
          <a:xfrm>
            <a:off x="-4680" y="1174680"/>
            <a:ext cx="915336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6" name="任意多边形 2051"/>
          <p:cNvSpPr/>
          <p:nvPr/>
        </p:nvSpPr>
        <p:spPr>
          <a:xfrm>
            <a:off x="0" y="-17640"/>
            <a:ext cx="9158400" cy="2048040"/>
          </a:xfrm>
          <a:custGeom>
            <a:avLst/>
            <a:gdLst/>
            <a:ahLst/>
            <a:rect l="l" t="t" r="r" b="b"/>
            <a:pathLst>
              <a:path w="5769" h="1290">
                <a:moveTo>
                  <a:pt x="0" y="3"/>
                </a:moveTo>
                <a:cubicBezTo>
                  <a:pt x="0" y="3"/>
                  <a:pt x="5767" y="6"/>
                  <a:pt x="5768" y="3"/>
                </a:cubicBezTo>
                <a:cubicBezTo>
                  <a:pt x="5769" y="0"/>
                  <a:pt x="5766" y="668"/>
                  <a:pt x="5766" y="757"/>
                </a:cubicBezTo>
                <a:cubicBezTo>
                  <a:pt x="5310" y="943"/>
                  <a:pt x="4445" y="1282"/>
                  <a:pt x="2802" y="1290"/>
                </a:cubicBezTo>
                <a:cubicBezTo>
                  <a:pt x="1222" y="1282"/>
                  <a:pt x="466" y="964"/>
                  <a:pt x="1" y="768"/>
                </a:cubicBezTo>
                <a:cubicBezTo>
                  <a:pt x="1" y="668"/>
                  <a:pt x="0" y="3"/>
                  <a:pt x="0" y="3"/>
                </a:cubicBezTo>
                <a:close/>
              </a:path>
            </a:pathLst>
          </a:cu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7" name="文本框 2052"/>
          <p:cNvSpPr/>
          <p:nvPr/>
        </p:nvSpPr>
        <p:spPr>
          <a:xfrm>
            <a:off x="7308720" y="580536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Company</a:t>
            </a:r>
            <a:r>
              <a:rPr b="0" lang="en-US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8" name="任意多边形 2054"/>
          <p:cNvSpPr/>
          <p:nvPr/>
        </p:nvSpPr>
        <p:spPr>
          <a:xfrm flipV="1">
            <a:off x="-4320" y="4771800"/>
            <a:ext cx="9151920" cy="59040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89" name="任意多边形 2055"/>
          <p:cNvSpPr/>
          <p:nvPr/>
        </p:nvSpPr>
        <p:spPr>
          <a:xfrm flipV="1">
            <a:off x="-6120" y="4822560"/>
            <a:ext cx="915372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90" name="任意多边形 2056"/>
          <p:cNvSpPr/>
          <p:nvPr/>
        </p:nvSpPr>
        <p:spPr>
          <a:xfrm>
            <a:off x="0" y="4921200"/>
            <a:ext cx="9151920" cy="1940040"/>
          </a:xfrm>
          <a:custGeom>
            <a:avLst/>
            <a:gdLst/>
            <a:ahLst/>
            <a:rect l="l" t="t" r="r" b="b"/>
            <a:pathLst>
              <a:path w="5765" h="1222">
                <a:moveTo>
                  <a:pt x="0" y="1220"/>
                </a:moveTo>
                <a:cubicBezTo>
                  <a:pt x="0" y="1220"/>
                  <a:pt x="5762" y="1216"/>
                  <a:pt x="5763" y="1219"/>
                </a:cubicBezTo>
                <a:cubicBezTo>
                  <a:pt x="5764" y="1222"/>
                  <a:pt x="5765" y="622"/>
                  <a:pt x="5765" y="533"/>
                </a:cubicBezTo>
                <a:cubicBezTo>
                  <a:pt x="5309" y="347"/>
                  <a:pt x="4444" y="8"/>
                  <a:pt x="2801" y="0"/>
                </a:cubicBezTo>
                <a:cubicBezTo>
                  <a:pt x="1221" y="8"/>
                  <a:pt x="465" y="326"/>
                  <a:pt x="0" y="522"/>
                </a:cubicBezTo>
                <a:cubicBezTo>
                  <a:pt x="0" y="622"/>
                  <a:pt x="0" y="1220"/>
                  <a:pt x="0" y="1220"/>
                </a:cubicBezTo>
                <a:close/>
              </a:path>
            </a:pathLst>
          </a:cu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9e4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4720" y="259920"/>
            <a:ext cx="6553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国外儿童风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굴림"/>
              </a:rPr>
              <a:t>模板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9e4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9e4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任意多边形 13313"/>
          <p:cNvSpPr/>
          <p:nvPr/>
        </p:nvSpPr>
        <p:spPr>
          <a:xfrm>
            <a:off x="1866960" y="192564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任意多边形 13315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3" name="任意多边形 13316"/>
          <p:cNvSpPr/>
          <p:nvPr/>
        </p:nvSpPr>
        <p:spPr>
          <a:xfrm>
            <a:off x="3124080" y="319248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4" name="任意多边形 13317"/>
          <p:cNvSpPr/>
          <p:nvPr/>
        </p:nvSpPr>
        <p:spPr>
          <a:xfrm>
            <a:off x="3124080" y="3989520"/>
            <a:ext cx="1449360" cy="4204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5" name="椭圆 13318"/>
          <p:cNvSpPr/>
          <p:nvPr/>
        </p:nvSpPr>
        <p:spPr>
          <a:xfrm>
            <a:off x="324000" y="236232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6" name="圆角矩形 13319"/>
          <p:cNvSpPr/>
          <p:nvPr/>
        </p:nvSpPr>
        <p:spPr>
          <a:xfrm>
            <a:off x="4578480" y="14940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e400"/>
              </a:gs>
              <a:gs pos="100000">
                <a:srgbClr val="c9c5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7" name="圆角矩形 13320"/>
          <p:cNvSpPr/>
          <p:nvPr/>
        </p:nvSpPr>
        <p:spPr>
          <a:xfrm>
            <a:off x="4578480" y="2703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84dc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8" name="圆角矩形 13321"/>
          <p:cNvSpPr/>
          <p:nvPr/>
        </p:nvSpPr>
        <p:spPr>
          <a:xfrm>
            <a:off x="4578480" y="3900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4c800"/>
              </a:gs>
              <a:gs pos="100000">
                <a:srgbClr val="56a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09" name="圆角矩形 13322"/>
          <p:cNvSpPr/>
          <p:nvPr/>
        </p:nvSpPr>
        <p:spPr>
          <a:xfrm>
            <a:off x="4578480" y="511164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00"/>
              </a:gs>
              <a:gs pos="100000">
                <a:srgbClr val="dc2c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椭圆 14337"/>
          <p:cNvSpPr/>
          <p:nvPr/>
        </p:nvSpPr>
        <p:spPr>
          <a:xfrm>
            <a:off x="2527200" y="1338120"/>
            <a:ext cx="5200920" cy="5038920"/>
          </a:xfrm>
          <a:prstGeom prst="ellipse">
            <a:avLst/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Part Concep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任意多边形 14339"/>
          <p:cNvSpPr/>
          <p:nvPr/>
        </p:nvSpPr>
        <p:spPr>
          <a:xfrm>
            <a:off x="5345280" y="1916280"/>
            <a:ext cx="2339640" cy="2589120"/>
          </a:xfrm>
          <a:custGeom>
            <a:avLst/>
            <a:gdLst/>
            <a:ahLst/>
            <a:rect l="l" t="t" r="r" b="b"/>
            <a:pathLst>
              <a:path fill="none" w="21600" h="24155">
                <a:moveTo>
                  <a:pt x="12687" y="0"/>
                </a:moveTo>
                <a:cubicBezTo>
                  <a:pt x="18089" y="3925"/>
                  <a:pt x="21600" y="10293"/>
                  <a:pt x="21600" y="17481"/>
                </a:cubicBezTo>
                <a:cubicBezTo>
                  <a:pt x="21600" y="19813"/>
                  <a:pt x="21230" y="22059"/>
                  <a:pt x="20548" y="24159"/>
                </a:cubicBezTo>
              </a:path>
              <a:path stroke="0" w="21600" h="24155">
                <a:moveTo>
                  <a:pt x="20543" y="24154"/>
                </a:moveTo>
                <a:cubicBezTo>
                  <a:pt x="21105" y="16178"/>
                  <a:pt x="22798" y="10391"/>
                  <a:pt x="24800" y="10391"/>
                </a:cubicBezTo>
                <a:cubicBezTo>
                  <a:pt x="27261" y="10391"/>
                  <a:pt x="29256" y="19139"/>
                  <a:pt x="29256" y="29931"/>
                </a:cubicBezTo>
                <a:cubicBezTo>
                  <a:pt x="29256" y="30848"/>
                  <a:pt x="29242" y="31751"/>
                  <a:pt x="29214" y="32629"/>
                </a:cubicBezTo>
                <a:lnTo>
                  <a:pt x="12687" y="0"/>
                </a:lnTo>
                <a:close/>
              </a:path>
            </a:pathLst>
          </a:custGeom>
          <a:gradFill rotWithShape="0">
            <a:gsLst>
              <a:gs pos="0">
                <a:srgbClr val="64c800"/>
              </a:gs>
              <a:gs pos="100000">
                <a:srgbClr val="060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3" name="任意多边形 14340"/>
          <p:cNvSpPr/>
          <p:nvPr/>
        </p:nvSpPr>
        <p:spPr>
          <a:xfrm>
            <a:off x="3741840" y="1360440"/>
            <a:ext cx="2749320" cy="2317680"/>
          </a:xfrm>
          <a:custGeom>
            <a:avLst/>
            <a:gdLst/>
            <a:ahLst/>
            <a:rect l="l" t="t" r="r" b="b"/>
            <a:pathLst>
              <a:path fill="none" w="25376" h="21600">
                <a:moveTo>
                  <a:pt x="0" y="4122"/>
                </a:moveTo>
                <a:cubicBezTo>
                  <a:pt x="3563" y="1528"/>
                  <a:pt x="7949" y="-1"/>
                  <a:pt x="12693" y="-1"/>
                </a:cubicBezTo>
                <a:cubicBezTo>
                  <a:pt x="17432" y="-1"/>
                  <a:pt x="21815" y="1525"/>
                  <a:pt x="25377" y="4113"/>
                </a:cubicBezTo>
              </a:path>
              <a:path stroke="0" w="25376" h="21600">
                <a:moveTo>
                  <a:pt x="25376" y="4115"/>
                </a:moveTo>
                <a:cubicBezTo>
                  <a:pt x="19618" y="965"/>
                  <a:pt x="15647" y="-5740"/>
                  <a:pt x="15647" y="-13501"/>
                </a:cubicBezTo>
                <a:cubicBezTo>
                  <a:pt x="15647" y="-24292"/>
                  <a:pt x="23324" y="-33040"/>
                  <a:pt x="32793" y="-33040"/>
                </a:cubicBezTo>
                <a:cubicBezTo>
                  <a:pt x="42262" y="-33040"/>
                  <a:pt x="49939" y="-24292"/>
                  <a:pt x="49939" y="-13501"/>
                </a:cubicBezTo>
                <a:cubicBezTo>
                  <a:pt x="49939" y="-8896"/>
                  <a:pt x="48541" y="-4663"/>
                  <a:pt x="46202" y="-1323"/>
                </a:cubicBezTo>
                <a:lnTo>
                  <a:pt x="0" y="4122"/>
                </a:lnTo>
                <a:close/>
              </a:path>
            </a:pathLst>
          </a:custGeom>
          <a:gradFill rotWithShape="0">
            <a:gsLst>
              <a:gs pos="0">
                <a:srgbClr val="1003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4" name="任意多边形 14341"/>
          <p:cNvSpPr/>
          <p:nvPr/>
        </p:nvSpPr>
        <p:spPr>
          <a:xfrm>
            <a:off x="2556000" y="1952640"/>
            <a:ext cx="2341440" cy="2587680"/>
          </a:xfrm>
          <a:custGeom>
            <a:avLst/>
            <a:gdLst/>
            <a:ahLst/>
            <a:rect l="l" t="t" r="r" b="b"/>
            <a:pathLst>
              <a:path fill="none" w="21600" h="24138">
                <a:moveTo>
                  <a:pt x="1054" y="24137"/>
                </a:moveTo>
                <a:cubicBezTo>
                  <a:pt x="367" y="22041"/>
                  <a:pt x="-1" y="19798"/>
                  <a:pt x="-1" y="17470"/>
                </a:cubicBezTo>
                <a:cubicBezTo>
                  <a:pt x="-1" y="10289"/>
                  <a:pt x="3503" y="3927"/>
                  <a:pt x="8894" y="0"/>
                </a:cubicBezTo>
              </a:path>
              <a:path stroke="0" w="21600" h="24138">
                <a:moveTo>
                  <a:pt x="8896" y="0"/>
                </a:moveTo>
                <a:cubicBezTo>
                  <a:pt x="7889" y="54"/>
                  <a:pt x="6855" y="81"/>
                  <a:pt x="5804" y="81"/>
                </a:cubicBezTo>
                <a:cubicBezTo>
                  <a:pt x="-5834" y="81"/>
                  <a:pt x="-15269" y="-3262"/>
                  <a:pt x="-15269" y="-7385"/>
                </a:cubicBezTo>
                <a:cubicBezTo>
                  <a:pt x="-15269" y="-11508"/>
                  <a:pt x="-5834" y="-14851"/>
                  <a:pt x="5804" y="-14851"/>
                </a:cubicBezTo>
                <a:cubicBezTo>
                  <a:pt x="17442" y="-14851"/>
                  <a:pt x="26877" y="-11508"/>
                  <a:pt x="26877" y="-7385"/>
                </a:cubicBezTo>
                <a:cubicBezTo>
                  <a:pt x="26877" y="-3811"/>
                  <a:pt x="19790" y="-824"/>
                  <a:pt x="10330" y="-92"/>
                </a:cubicBezTo>
                <a:lnTo>
                  <a:pt x="1054" y="24137"/>
                </a:lnTo>
                <a:close/>
              </a:path>
            </a:pathLst>
          </a:custGeom>
          <a:gradFill rotWithShape="0">
            <a:gsLst>
              <a:gs pos="0">
                <a:srgbClr val="000a10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5" name="任意多边形 14342"/>
          <p:cNvSpPr/>
          <p:nvPr/>
        </p:nvSpPr>
        <p:spPr>
          <a:xfrm>
            <a:off x="2757600" y="4005360"/>
            <a:ext cx="2228760" cy="2317680"/>
          </a:xfrm>
          <a:custGeom>
            <a:avLst/>
            <a:gdLst/>
            <a:ahLst/>
            <a:rect l="l" t="t" r="r" b="b"/>
            <a:pathLst>
              <a:path fill="none" w="20550" h="21600">
                <a:moveTo>
                  <a:pt x="20535" y="21599"/>
                </a:moveTo>
                <a:cubicBezTo>
                  <a:pt x="10935" y="21592"/>
                  <a:pt x="2800" y="15323"/>
                  <a:pt x="-3" y="6661"/>
                </a:cubicBezTo>
              </a:path>
              <a:path stroke="0" w="20550" h="21600">
                <a:moveTo>
                  <a:pt x="0" y="6652"/>
                </a:moveTo>
                <a:cubicBezTo>
                  <a:pt x="8998" y="6651"/>
                  <a:pt x="7869" y="6651"/>
                  <a:pt x="6482" y="6651"/>
                </a:cubicBezTo>
                <a:lnTo>
                  <a:pt x="20535" y="21599"/>
                </a:lnTo>
                <a:close/>
              </a:path>
            </a:pathLst>
          </a:custGeom>
          <a:gradFill rotWithShape="0">
            <a:gsLst>
              <a:gs pos="0">
                <a:srgbClr val="0f0e00"/>
              </a:gs>
              <a:gs pos="100000">
                <a:srgbClr val="e9e4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6" name="任意多边形 14343"/>
          <p:cNvSpPr/>
          <p:nvPr/>
        </p:nvSpPr>
        <p:spPr>
          <a:xfrm>
            <a:off x="5253120" y="4005360"/>
            <a:ext cx="2227320" cy="2317680"/>
          </a:xfrm>
          <a:custGeom>
            <a:avLst/>
            <a:gdLst/>
            <a:ahLst/>
            <a:rect l="l" t="t" r="r" b="b"/>
            <a:pathLst>
              <a:path fill="none" w="20548" h="21600">
                <a:moveTo>
                  <a:pt x="20547" y="6659"/>
                </a:moveTo>
                <a:cubicBezTo>
                  <a:pt x="17740" y="15335"/>
                  <a:pt x="9601" y="21600"/>
                  <a:pt x="-1" y="21600"/>
                </a:cubicBezTo>
              </a:path>
              <a:path stroke="0" w="20548" h="21600">
                <a:moveTo>
                  <a:pt x="0" y="21600"/>
                </a:moveTo>
                <a:cubicBezTo>
                  <a:pt x="0" y="21661"/>
                  <a:pt x="0" y="21724"/>
                  <a:pt x="0" y="21786"/>
                </a:cubicBezTo>
                <a:cubicBezTo>
                  <a:pt x="0" y="21934"/>
                  <a:pt x="0" y="22081"/>
                  <a:pt x="-1" y="22226"/>
                </a:cubicBezTo>
                <a:lnTo>
                  <a:pt x="20547" y="6659"/>
                </a:lnTo>
                <a:close/>
              </a:path>
            </a:pathLst>
          </a:custGeom>
          <a:gradFill rotWithShape="0">
            <a:gsLst>
              <a:gs pos="0">
                <a:srgbClr val="a3f25f"/>
              </a:gs>
              <a:gs pos="100000">
                <a:srgbClr val="0a0f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7" name="矩形 14344"/>
          <p:cNvSpPr/>
          <p:nvPr/>
        </p:nvSpPr>
        <p:spPr>
          <a:xfrm>
            <a:off x="4606200" y="161280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8" name="矩形 14345"/>
          <p:cNvSpPr/>
          <p:nvPr/>
        </p:nvSpPr>
        <p:spPr>
          <a:xfrm>
            <a:off x="282672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19" name="矩形 14346"/>
          <p:cNvSpPr/>
          <p:nvPr/>
        </p:nvSpPr>
        <p:spPr>
          <a:xfrm>
            <a:off x="646200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0" name="矩形 14347"/>
          <p:cNvSpPr/>
          <p:nvPr/>
        </p:nvSpPr>
        <p:spPr>
          <a:xfrm>
            <a:off x="350928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1" name="矩形 14348"/>
          <p:cNvSpPr/>
          <p:nvPr/>
        </p:nvSpPr>
        <p:spPr>
          <a:xfrm>
            <a:off x="572364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2" name="椭圆 14349"/>
          <p:cNvSpPr/>
          <p:nvPr/>
        </p:nvSpPr>
        <p:spPr>
          <a:xfrm>
            <a:off x="3983040" y="2798640"/>
            <a:ext cx="2298600" cy="2229120"/>
          </a:xfrm>
          <a:prstGeom prst="ellipse">
            <a:avLst/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3" name="椭圆 14350"/>
          <p:cNvSpPr/>
          <p:nvPr/>
        </p:nvSpPr>
        <p:spPr>
          <a:xfrm>
            <a:off x="4559400" y="3343320"/>
            <a:ext cx="1139760" cy="1090440"/>
          </a:xfrm>
          <a:prstGeom prst="ellipse">
            <a:avLst/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直角三角形 15362"/>
          <p:cNvSpPr/>
          <p:nvPr/>
        </p:nvSpPr>
        <p:spPr>
          <a:xfrm>
            <a:off x="1403280" y="1616040"/>
            <a:ext cx="4040280" cy="4645080"/>
          </a:xfrm>
          <a:prstGeom prst="rtTriangle">
            <a:avLst/>
          </a:prstGeom>
          <a:gradFill rotWithShape="0">
            <a:gsLst>
              <a:gs pos="0">
                <a:srgbClr val="64c800">
                  <a:alpha val="0"/>
                </a:srgbClr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6" name="圆角矩形 15363"/>
          <p:cNvSpPr/>
          <p:nvPr/>
        </p:nvSpPr>
        <p:spPr>
          <a:xfrm>
            <a:off x="2779560" y="16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b789e5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7" name="右箭头 15364"/>
          <p:cNvSpPr/>
          <p:nvPr/>
        </p:nvSpPr>
        <p:spPr>
          <a:xfrm>
            <a:off x="1940040" y="1808280"/>
            <a:ext cx="774720" cy="441360"/>
          </a:xfrm>
          <a:prstGeom prst="rightArrow">
            <a:avLst>
              <a:gd name="adj1" fmla="val 50000"/>
              <a:gd name="adj2" fmla="val 64215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8" name="圆角矩形 15365"/>
          <p:cNvSpPr/>
          <p:nvPr/>
        </p:nvSpPr>
        <p:spPr>
          <a:xfrm>
            <a:off x="3571920" y="25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84dc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29" name="圆角矩形 15366"/>
          <p:cNvSpPr/>
          <p:nvPr/>
        </p:nvSpPr>
        <p:spPr>
          <a:xfrm>
            <a:off x="4325760" y="3421080"/>
            <a:ext cx="317376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e400"/>
              </a:gs>
              <a:gs pos="100000">
                <a:srgbClr val="c9c5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0" name="圆角矩形 15367"/>
          <p:cNvSpPr/>
          <p:nvPr/>
        </p:nvSpPr>
        <p:spPr>
          <a:xfrm>
            <a:off x="5067360" y="428472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84c"/>
              </a:gs>
              <a:gs pos="100000">
                <a:srgbClr val="64c8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1" name="圆角矩形 15368"/>
          <p:cNvSpPr/>
          <p:nvPr/>
        </p:nvSpPr>
        <p:spPr>
          <a:xfrm>
            <a:off x="5808600" y="5146560"/>
            <a:ext cx="3173400" cy="66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04c"/>
              </a:gs>
              <a:gs pos="100000">
                <a:srgbClr val="ff33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2" name="右箭头 15369"/>
          <p:cNvSpPr/>
          <p:nvPr/>
        </p:nvSpPr>
        <p:spPr>
          <a:xfrm>
            <a:off x="2703600" y="2697120"/>
            <a:ext cx="776160" cy="441360"/>
          </a:xfrm>
          <a:prstGeom prst="rightArrow">
            <a:avLst>
              <a:gd name="adj1" fmla="val 50000"/>
              <a:gd name="adj2" fmla="val 64334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3" name="右箭头 15370"/>
          <p:cNvSpPr/>
          <p:nvPr/>
        </p:nvSpPr>
        <p:spPr>
          <a:xfrm>
            <a:off x="3456000" y="3532320"/>
            <a:ext cx="774720" cy="441360"/>
          </a:xfrm>
          <a:prstGeom prst="rightArrow">
            <a:avLst>
              <a:gd name="adj1" fmla="val 50000"/>
              <a:gd name="adj2" fmla="val 64215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4" name="右箭头 15371"/>
          <p:cNvSpPr/>
          <p:nvPr/>
        </p:nvSpPr>
        <p:spPr>
          <a:xfrm>
            <a:off x="4194000" y="4395960"/>
            <a:ext cx="776520" cy="441000"/>
          </a:xfrm>
          <a:prstGeom prst="rightArrow">
            <a:avLst>
              <a:gd name="adj1" fmla="val 50000"/>
              <a:gd name="adj2" fmla="val 64416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5" name="右箭头 15372"/>
          <p:cNvSpPr/>
          <p:nvPr/>
        </p:nvSpPr>
        <p:spPr>
          <a:xfrm>
            <a:off x="4946760" y="5257800"/>
            <a:ext cx="774720" cy="441360"/>
          </a:xfrm>
          <a:prstGeom prst="rightArrow">
            <a:avLst>
              <a:gd name="adj1" fmla="val 50000"/>
              <a:gd name="adj2" fmla="val 64215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6" name="文本框 15373"/>
          <p:cNvSpPr/>
          <p:nvPr/>
        </p:nvSpPr>
        <p:spPr>
          <a:xfrm>
            <a:off x="2413080" y="6237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굴림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e9e4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e9e400"/>
                </a:solidFill>
                <a:latin typeface="굴림"/>
              </a:rPr>
              <a:t>http://www.eeppt.com/moban/</a:t>
            </a:r>
            <a:endParaRPr b="0" lang="en-US" sz="16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Par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圆角矩形 16386"/>
          <p:cNvSpPr/>
          <p:nvPr/>
        </p:nvSpPr>
        <p:spPr>
          <a:xfrm>
            <a:off x="149400" y="1521000"/>
            <a:ext cx="8845200" cy="4644720"/>
          </a:xfrm>
          <a:prstGeom prst="roundRect">
            <a:avLst>
              <a:gd name="adj" fmla="val 8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39" name="矩形 16387"/>
          <p:cNvSpPr/>
          <p:nvPr/>
        </p:nvSpPr>
        <p:spPr>
          <a:xfrm>
            <a:off x="320760" y="1949400"/>
            <a:ext cx="1587240" cy="730440"/>
          </a:xfrm>
          <a:prstGeom prst="rect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0" name="矩形 16388"/>
          <p:cNvSpPr/>
          <p:nvPr/>
        </p:nvSpPr>
        <p:spPr>
          <a:xfrm>
            <a:off x="1920960" y="1949400"/>
            <a:ext cx="1587240" cy="7304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1" name="矩形 16389"/>
          <p:cNvSpPr/>
          <p:nvPr/>
        </p:nvSpPr>
        <p:spPr>
          <a:xfrm>
            <a:off x="3521160" y="1949400"/>
            <a:ext cx="1587240" cy="730440"/>
          </a:xfrm>
          <a:prstGeom prst="rect">
            <a:avLst/>
          </a:prstGeom>
          <a:solidFill>
            <a:srgbClr val="e9e400"/>
          </a:solidFill>
          <a:ln w="12600">
            <a:solidFill>
              <a:srgbClr val="e9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2" name="矩形 16390"/>
          <p:cNvSpPr/>
          <p:nvPr/>
        </p:nvSpPr>
        <p:spPr>
          <a:xfrm>
            <a:off x="5121360" y="1949400"/>
            <a:ext cx="1587240" cy="730440"/>
          </a:xfrm>
          <a:prstGeom prst="rect">
            <a:avLst/>
          </a:prstGeom>
          <a:solidFill>
            <a:srgbClr val="64c800"/>
          </a:solidFill>
          <a:ln w="12600">
            <a:solidFill>
              <a:srgbClr val="64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3" name="矩形 16391"/>
          <p:cNvSpPr/>
          <p:nvPr/>
        </p:nvSpPr>
        <p:spPr>
          <a:xfrm>
            <a:off x="6721560" y="1949400"/>
            <a:ext cx="1587240" cy="73044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4" name="矩形 16392"/>
          <p:cNvSpPr/>
          <p:nvPr/>
        </p:nvSpPr>
        <p:spPr>
          <a:xfrm>
            <a:off x="320760" y="3178080"/>
            <a:ext cx="1587240" cy="1987560"/>
          </a:xfrm>
          <a:prstGeom prst="rect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5" name="矩形 16393"/>
          <p:cNvSpPr/>
          <p:nvPr/>
        </p:nvSpPr>
        <p:spPr>
          <a:xfrm>
            <a:off x="1920960" y="3178080"/>
            <a:ext cx="1587240" cy="19875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6" name="矩形 16394"/>
          <p:cNvSpPr/>
          <p:nvPr/>
        </p:nvSpPr>
        <p:spPr>
          <a:xfrm>
            <a:off x="3521160" y="3178080"/>
            <a:ext cx="1587240" cy="1987560"/>
          </a:xfrm>
          <a:prstGeom prst="rect">
            <a:avLst/>
          </a:prstGeom>
          <a:solidFill>
            <a:srgbClr val="e9e400"/>
          </a:solidFill>
          <a:ln w="12600">
            <a:solidFill>
              <a:srgbClr val="e9e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7" name="矩形 16395"/>
          <p:cNvSpPr/>
          <p:nvPr/>
        </p:nvSpPr>
        <p:spPr>
          <a:xfrm>
            <a:off x="5121360" y="3178080"/>
            <a:ext cx="1587240" cy="1987560"/>
          </a:xfrm>
          <a:prstGeom prst="rect">
            <a:avLst/>
          </a:prstGeom>
          <a:solidFill>
            <a:srgbClr val="64c800"/>
          </a:solidFill>
          <a:ln w="12600">
            <a:solidFill>
              <a:srgbClr val="64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8" name="矩形 16396"/>
          <p:cNvSpPr/>
          <p:nvPr/>
        </p:nvSpPr>
        <p:spPr>
          <a:xfrm>
            <a:off x="6721560" y="3178080"/>
            <a:ext cx="1587240" cy="1987560"/>
          </a:xfrm>
          <a:prstGeom prst="rect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ext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ere</a:t>
            </a: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49" name="右箭头 16397"/>
          <p:cNvSpPr/>
          <p:nvPr/>
        </p:nvSpPr>
        <p:spPr>
          <a:xfrm>
            <a:off x="320760" y="2449440"/>
            <a:ext cx="8575560" cy="959040"/>
          </a:xfrm>
          <a:prstGeom prst="rightArrow">
            <a:avLst>
              <a:gd name="adj1" fmla="val 50000"/>
              <a:gd name="adj2" fmla="val 6114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50" name="右箭头 16398"/>
          <p:cNvSpPr/>
          <p:nvPr/>
        </p:nvSpPr>
        <p:spPr>
          <a:xfrm>
            <a:off x="320760" y="4935600"/>
            <a:ext cx="8575560" cy="958680"/>
          </a:xfrm>
          <a:prstGeom prst="rightArrow">
            <a:avLst>
              <a:gd name="adj1" fmla="val 50000"/>
              <a:gd name="adj2" fmla="val 611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矩形 17410"/>
          <p:cNvSpPr/>
          <p:nvPr/>
        </p:nvSpPr>
        <p:spPr>
          <a:xfrm>
            <a:off x="1835280" y="1722600"/>
            <a:ext cx="7129440" cy="45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53" name="矩形 17411"/>
          <p:cNvSpPr/>
          <p:nvPr/>
        </p:nvSpPr>
        <p:spPr>
          <a:xfrm>
            <a:off x="1938240" y="1811160"/>
            <a:ext cx="6916680" cy="4294440"/>
          </a:xfrm>
          <a:prstGeom prst="rect">
            <a:avLst/>
          </a:prstGeom>
          <a:gradFill rotWithShape="0">
            <a:gsLst>
              <a:gs pos="0">
                <a:srgbClr val="2e5d00"/>
              </a:gs>
              <a:gs pos="100000">
                <a:srgbClr val="64c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pic>
        <p:nvPicPr>
          <p:cNvPr id="254" name="内容占位符 17412" descr=""/>
          <p:cNvPicPr/>
          <p:nvPr/>
        </p:nvPicPr>
        <p:blipFill>
          <a:blip r:embed="rId1"/>
          <a:stretch/>
        </p:blipFill>
        <p:spPr>
          <a:xfrm>
            <a:off x="1203480" y="843120"/>
            <a:ext cx="79390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9e4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2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9D0F-E330-4627-AD5F-94B0582EA90D}" type="slidenum">
              <a:rPr b="0" lang="zh-CN" sz="1400" spc="-1" strike="noStrike">
                <a:solidFill>
                  <a:srgbClr val="e9e4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8433"/>
          <p:cNvSpPr txBox="1"/>
          <p:nvPr/>
        </p:nvSpPr>
        <p:spPr>
          <a:xfrm>
            <a:off x="2556000" y="1844640"/>
            <a:ext cx="540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9e4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e9e400">
                      <a:alpha val="50000"/>
                    </a:srgbClr>
                  </a:outerShdw>
                </a:effectLst>
                <a:latin typeface="Impact"/>
              </a:rPr>
              <a:t>Thank You 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9e400"/>
                  </a:gs>
                </a:gsLst>
                <a:lin ang="5400000"/>
              </a:gradFill>
              <a:effectLst>
                <a:outerShdw dist="153753" dir="2700000" blurRad="0" rotWithShape="0">
                  <a:srgbClr val="e9e4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5121"/>
          <p:cNvSpPr/>
          <p:nvPr/>
        </p:nvSpPr>
        <p:spPr>
          <a:xfrm>
            <a:off x="1746360" y="191628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2" name="圆角矩形 5122"/>
          <p:cNvSpPr/>
          <p:nvPr/>
        </p:nvSpPr>
        <p:spPr>
          <a:xfrm>
            <a:off x="1760400" y="2846520"/>
            <a:ext cx="691524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76"/>
              </a:gs>
              <a:gs pos="50000">
                <a:srgbClr val="0099ff"/>
              </a:gs>
              <a:gs pos="100000">
                <a:srgbClr val="004776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Strategy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3" name="圆角矩形 5123"/>
          <p:cNvSpPr/>
          <p:nvPr/>
        </p:nvSpPr>
        <p:spPr>
          <a:xfrm>
            <a:off x="1746360" y="3782880"/>
            <a:ext cx="6914880" cy="654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d00"/>
              </a:gs>
              <a:gs pos="50000">
                <a:srgbClr val="64c800"/>
              </a:gs>
              <a:gs pos="100000">
                <a:srgbClr val="2e5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Challenges Forward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4" name="圆角矩形 5124"/>
          <p:cNvSpPr/>
          <p:nvPr/>
        </p:nvSpPr>
        <p:spPr>
          <a:xfrm>
            <a:off x="1746360" y="479124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424c"/>
              </a:gs>
              <a:gs pos="50000">
                <a:srgbClr val="878fa5"/>
              </a:gs>
              <a:gs pos="100000">
                <a:srgbClr val="3e424c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Conclusion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圆角矩形 6145"/>
          <p:cNvSpPr/>
          <p:nvPr/>
        </p:nvSpPr>
        <p:spPr>
          <a:xfrm>
            <a:off x="1474920" y="324648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d00"/>
              </a:gs>
              <a:gs pos="50000">
                <a:srgbClr val="64c800"/>
              </a:gs>
              <a:gs pos="100000">
                <a:srgbClr val="2e5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7" name="圆角矩形 6146"/>
          <p:cNvSpPr/>
          <p:nvPr/>
        </p:nvSpPr>
        <p:spPr>
          <a:xfrm>
            <a:off x="1474920" y="457200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d00"/>
              </a:gs>
              <a:gs pos="50000">
                <a:srgbClr val="64c800"/>
              </a:gs>
              <a:gs pos="100000">
                <a:srgbClr val="2e5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8" name="圆角矩形 6147"/>
          <p:cNvSpPr/>
          <p:nvPr/>
        </p:nvSpPr>
        <p:spPr>
          <a:xfrm>
            <a:off x="1474920" y="1569960"/>
            <a:ext cx="7561080" cy="46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d00"/>
              </a:gs>
              <a:gs pos="50000">
                <a:srgbClr val="64c800"/>
              </a:gs>
              <a:gs pos="100000">
                <a:srgbClr val="2e5d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4560" y="1557360"/>
            <a:ext cx="7489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ti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You may want to allocate one slide per competitor</a:t>
            </a: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Your strengths relative to competitors</a:t>
            </a: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9e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9e400"/>
                </a:solidFill>
                <a:latin typeface="Arial"/>
              </a:rPr>
              <a:t>Your weaknesses relative to competitor</a:t>
            </a:r>
            <a:endParaRPr b="0" lang="en-US" sz="2400" spc="-1" strike="noStrike">
              <a:solidFill>
                <a:srgbClr val="e9e400"/>
              </a:solidFill>
              <a:latin typeface="Arial"/>
            </a:endParaRPr>
          </a:p>
        </p:txBody>
      </p:sp>
      <p:sp>
        <p:nvSpPr>
          <p:cNvPr id="141" name="文本框 6150"/>
          <p:cNvSpPr/>
          <p:nvPr/>
        </p:nvSpPr>
        <p:spPr>
          <a:xfrm>
            <a:off x="245880" y="5497560"/>
            <a:ext cx="9093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[Image information in product]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itle Master : Wee,Young Ji - Image Created &amp; licensed by Wee,Young Ji 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Note to customers: This image has been licensed to be used within this PowerPoint template only. 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You may not extract the image for any other use.</a:t>
            </a:r>
            <a:endParaRPr b="0" lang="en-US" sz="14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圆角矩形 7169"/>
          <p:cNvSpPr/>
          <p:nvPr/>
        </p:nvSpPr>
        <p:spPr>
          <a:xfrm>
            <a:off x="1692360" y="2492280"/>
            <a:ext cx="7343640" cy="398628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下箭头 7171"/>
          <p:cNvSpPr/>
          <p:nvPr/>
        </p:nvSpPr>
        <p:spPr>
          <a:xfrm>
            <a:off x="6032520" y="1838160"/>
            <a:ext cx="1104840" cy="368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2d2d2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f7f4d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5" name="圆角矩形 7172"/>
          <p:cNvSpPr/>
          <p:nvPr/>
        </p:nvSpPr>
        <p:spPr>
          <a:xfrm>
            <a:off x="1738440" y="1646280"/>
            <a:ext cx="7232400" cy="62856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0099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6" name="矩形 7173"/>
          <p:cNvSpPr/>
          <p:nvPr/>
        </p:nvSpPr>
        <p:spPr>
          <a:xfrm flipH="1">
            <a:off x="542304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a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7" name="矩形 7174"/>
          <p:cNvSpPr/>
          <p:nvPr/>
        </p:nvSpPr>
        <p:spPr>
          <a:xfrm flipH="1">
            <a:off x="192096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0a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8" name="等腰三角形 7175"/>
          <p:cNvSpPr/>
          <p:nvPr/>
        </p:nvSpPr>
        <p:spPr>
          <a:xfrm flipV="1">
            <a:off x="3276720" y="2637720"/>
            <a:ext cx="644400" cy="4827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49" name="等腰三角形 7176"/>
          <p:cNvSpPr/>
          <p:nvPr/>
        </p:nvSpPr>
        <p:spPr>
          <a:xfrm flipV="1">
            <a:off x="6804000" y="2625840"/>
            <a:ext cx="644400" cy="482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圆角矩形 8193"/>
          <p:cNvSpPr/>
          <p:nvPr/>
        </p:nvSpPr>
        <p:spPr>
          <a:xfrm>
            <a:off x="1908000" y="1293840"/>
            <a:ext cx="6912000" cy="518472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下箭头 8195"/>
          <p:cNvSpPr/>
          <p:nvPr/>
        </p:nvSpPr>
        <p:spPr>
          <a:xfrm>
            <a:off x="2282760" y="3933720"/>
            <a:ext cx="1047960" cy="2159280"/>
          </a:xfrm>
          <a:prstGeom prst="downArrow">
            <a:avLst>
              <a:gd name="adj1" fmla="val 50000"/>
              <a:gd name="adj2" fmla="val 39101"/>
            </a:avLst>
          </a:prstGeom>
          <a:gradFill rotWithShape="0">
            <a:gsLst>
              <a:gs pos="0">
                <a:srgbClr val="878fa5"/>
              </a:gs>
              <a:gs pos="100000">
                <a:srgbClr val="08090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3" name="上箭头 8196"/>
          <p:cNvSpPr/>
          <p:nvPr/>
        </p:nvSpPr>
        <p:spPr>
          <a:xfrm>
            <a:off x="2282760" y="1773360"/>
            <a:ext cx="1047960" cy="2039760"/>
          </a:xfrm>
          <a:prstGeom prst="upArrow">
            <a:avLst>
              <a:gd name="adj1" fmla="val 50000"/>
              <a:gd name="adj2" fmla="val 36919"/>
            </a:avLst>
          </a:prstGeom>
          <a:gradFill rotWithShape="0">
            <a:gsLst>
              <a:gs pos="0">
                <a:srgbClr val="000000"/>
              </a:gs>
              <a:gs pos="100000">
                <a:srgbClr val="878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4" name="矩形 8197"/>
          <p:cNvSpPr/>
          <p:nvPr/>
        </p:nvSpPr>
        <p:spPr>
          <a:xfrm>
            <a:off x="2424600" y="608328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5" name="矩形 8198"/>
          <p:cNvSpPr/>
          <p:nvPr/>
        </p:nvSpPr>
        <p:spPr>
          <a:xfrm>
            <a:off x="2392920" y="1413000"/>
            <a:ext cx="7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6" name="立方体 8199"/>
          <p:cNvSpPr/>
          <p:nvPr/>
        </p:nvSpPr>
        <p:spPr>
          <a:xfrm rot="5400000">
            <a:off x="5124240" y="-2988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bab600"/>
              </a:gs>
              <a:gs pos="100000">
                <a:srgbClr val="e9e4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7" name="立方体 8200"/>
          <p:cNvSpPr/>
          <p:nvPr/>
        </p:nvSpPr>
        <p:spPr>
          <a:xfrm rot="5400000">
            <a:off x="5124240" y="153180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56ad00"/>
              </a:gs>
              <a:gs pos="100000">
                <a:srgbClr val="64c8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58" name="立方体 8201"/>
          <p:cNvSpPr/>
          <p:nvPr/>
        </p:nvSpPr>
        <p:spPr>
          <a:xfrm rot="5400000">
            <a:off x="5124240" y="309384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84dc"/>
              </a:gs>
              <a:gs pos="100000">
                <a:srgbClr val="009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9218"/>
          <p:cNvSpPr/>
          <p:nvPr/>
        </p:nvSpPr>
        <p:spPr>
          <a:xfrm>
            <a:off x="3112920" y="1984320"/>
            <a:ext cx="4051440" cy="3968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64c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61" name="圆角矩形 9219"/>
          <p:cNvSpPr/>
          <p:nvPr/>
        </p:nvSpPr>
        <p:spPr>
          <a:xfrm flipH="1">
            <a:off x="61905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f8af"/>
              </a:gs>
              <a:gs pos="100000">
                <a:srgbClr val="a3f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62" name="圆角矩形 9220"/>
          <p:cNvSpPr/>
          <p:nvPr/>
        </p:nvSpPr>
        <p:spPr>
          <a:xfrm>
            <a:off x="16923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43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63" name="圆角矩形 9221"/>
          <p:cNvSpPr/>
          <p:nvPr/>
        </p:nvSpPr>
        <p:spPr>
          <a:xfrm>
            <a:off x="3960720" y="1830240"/>
            <a:ext cx="23590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4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4460760" y="5148360"/>
            <a:ext cx="1185840" cy="360"/>
            <a:chOff x="4460760" y="5148360"/>
            <a:chExt cx="1185840" cy="360"/>
          </a:xfrm>
        </p:grpSpPr>
        <p:sp>
          <p:nvSpPr>
            <p:cNvPr id="165" name="直接连接符 10241"/>
            <p:cNvSpPr/>
            <p:nvPr/>
          </p:nvSpPr>
          <p:spPr>
            <a:xfrm>
              <a:off x="4460760" y="5148360"/>
              <a:ext cx="1185840" cy="0"/>
            </a:xfrm>
            <a:prstGeom prst="line">
              <a:avLst/>
            </a:prstGeom>
            <a:ln w="76320">
              <a:solidFill>
                <a:srgbClr val="f7f4d5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460760" y="5148360"/>
              <a:ext cx="1185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60760" y="2422440"/>
            <a:ext cx="1185840" cy="360"/>
            <a:chOff x="4460760" y="2422440"/>
            <a:chExt cx="1185840" cy="360"/>
          </a:xfrm>
        </p:grpSpPr>
        <p:sp>
          <p:nvSpPr>
            <p:cNvPr id="168" name="直接连接符 10242"/>
            <p:cNvSpPr/>
            <p:nvPr/>
          </p:nvSpPr>
          <p:spPr>
            <a:xfrm>
              <a:off x="4460760" y="2422440"/>
              <a:ext cx="1185840" cy="0"/>
            </a:xfrm>
            <a:prstGeom prst="line">
              <a:avLst/>
            </a:prstGeom>
            <a:ln w="76320">
              <a:solidFill>
                <a:srgbClr val="f7f4d5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4460760" y="2422440"/>
              <a:ext cx="1185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60760" y="3773520"/>
            <a:ext cx="1185840" cy="360"/>
            <a:chOff x="4460760" y="3773520"/>
            <a:chExt cx="1185840" cy="360"/>
          </a:xfrm>
        </p:grpSpPr>
        <p:sp>
          <p:nvSpPr>
            <p:cNvPr id="171" name="直接连接符 10243"/>
            <p:cNvSpPr/>
            <p:nvPr/>
          </p:nvSpPr>
          <p:spPr>
            <a:xfrm>
              <a:off x="4460760" y="3773520"/>
              <a:ext cx="1185840" cy="0"/>
            </a:xfrm>
            <a:prstGeom prst="line">
              <a:avLst/>
            </a:prstGeom>
            <a:ln w="76320">
              <a:solidFill>
                <a:srgbClr val="f7f4d5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460760" y="3773520"/>
              <a:ext cx="1185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e400"/>
                </a:solidFill>
                <a:latin typeface="굴림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0245"/>
          <p:cNvSpPr/>
          <p:nvPr/>
        </p:nvSpPr>
        <p:spPr>
          <a:xfrm>
            <a:off x="1476360" y="1924200"/>
            <a:ext cx="3317760" cy="10000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5" name="矩形 10246"/>
          <p:cNvSpPr/>
          <p:nvPr/>
        </p:nvSpPr>
        <p:spPr>
          <a:xfrm>
            <a:off x="1476360" y="3278160"/>
            <a:ext cx="3317760" cy="10256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6" name="矩形 10247"/>
          <p:cNvSpPr/>
          <p:nvPr/>
        </p:nvSpPr>
        <p:spPr>
          <a:xfrm>
            <a:off x="1476360" y="4653000"/>
            <a:ext cx="3317760" cy="10303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7" name="立方体 10248"/>
          <p:cNvSpPr/>
          <p:nvPr/>
        </p:nvSpPr>
        <p:spPr>
          <a:xfrm rot="5400000">
            <a:off x="6805080" y="765000"/>
            <a:ext cx="1000080" cy="3318120"/>
          </a:xfrm>
          <a:prstGeom prst="cube">
            <a:avLst>
              <a:gd name="adj" fmla="val 11666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8" name="立方体 10249"/>
          <p:cNvSpPr/>
          <p:nvPr/>
        </p:nvSpPr>
        <p:spPr>
          <a:xfrm rot="5400000">
            <a:off x="6792120" y="2129400"/>
            <a:ext cx="1023840" cy="3317760"/>
          </a:xfrm>
          <a:prstGeom prst="cube">
            <a:avLst>
              <a:gd name="adj" fmla="val 1166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2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79" name="立方体 10250"/>
          <p:cNvSpPr/>
          <p:nvPr/>
        </p:nvSpPr>
        <p:spPr>
          <a:xfrm rot="5400000">
            <a:off x="6788880" y="3507480"/>
            <a:ext cx="1030320" cy="3317760"/>
          </a:xfrm>
          <a:prstGeom prst="cube">
            <a:avLst>
              <a:gd name="adj" fmla="val 11666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3</a:t>
            </a:r>
            <a:endParaRPr b="0" lang="en-US" sz="24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art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圆角矩形 11266"/>
          <p:cNvSpPr/>
          <p:nvPr/>
        </p:nvSpPr>
        <p:spPr>
          <a:xfrm>
            <a:off x="1476360" y="1557360"/>
            <a:ext cx="7559640" cy="4319640"/>
          </a:xfrm>
          <a:prstGeom prst="roundRect">
            <a:avLst>
              <a:gd name="adj" fmla="val 16667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2" name="立方体 11267"/>
          <p:cNvSpPr/>
          <p:nvPr/>
        </p:nvSpPr>
        <p:spPr>
          <a:xfrm rot="5400000">
            <a:off x="903960" y="3096000"/>
            <a:ext cx="3095640" cy="1741680"/>
          </a:xfrm>
          <a:prstGeom prst="cube">
            <a:avLst>
              <a:gd name="adj" fmla="val 11666"/>
            </a:avLst>
          </a:prstGeom>
          <a:solidFill>
            <a:srgbClr val="e9e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3" name="立方体 11268"/>
          <p:cNvSpPr/>
          <p:nvPr/>
        </p:nvSpPr>
        <p:spPr>
          <a:xfrm rot="5400000">
            <a:off x="2740680" y="3096000"/>
            <a:ext cx="3095640" cy="1741680"/>
          </a:xfrm>
          <a:prstGeom prst="cube">
            <a:avLst>
              <a:gd name="adj" fmla="val 11666"/>
            </a:avLst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4" name="立方体 11269"/>
          <p:cNvSpPr/>
          <p:nvPr/>
        </p:nvSpPr>
        <p:spPr>
          <a:xfrm rot="5400000">
            <a:off x="4579560" y="3097440"/>
            <a:ext cx="3095640" cy="1742760"/>
          </a:xfrm>
          <a:prstGeom prst="cube">
            <a:avLst>
              <a:gd name="adj" fmla="val 11666"/>
            </a:avLst>
          </a:prstGeom>
          <a:solidFill>
            <a:srgbClr val="64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5" name="立方体 11270"/>
          <p:cNvSpPr/>
          <p:nvPr/>
        </p:nvSpPr>
        <p:spPr>
          <a:xfrm rot="5400000">
            <a:off x="6416640" y="3097080"/>
            <a:ext cx="3095640" cy="1743120"/>
          </a:xfrm>
          <a:prstGeom prst="cube">
            <a:avLst>
              <a:gd name="adj" fmla="val 1166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6" name="等腰三角形 11271"/>
          <p:cNvSpPr/>
          <p:nvPr/>
        </p:nvSpPr>
        <p:spPr>
          <a:xfrm flipV="1" rot="16200000">
            <a:off x="3077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64c8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7" name="等腰三角形 11272"/>
          <p:cNvSpPr/>
          <p:nvPr/>
        </p:nvSpPr>
        <p:spPr>
          <a:xfrm flipV="1" rot="16200000">
            <a:off x="487800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64c8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8" name="等腰三角形 11273"/>
          <p:cNvSpPr/>
          <p:nvPr/>
        </p:nvSpPr>
        <p:spPr>
          <a:xfrm flipV="1" rot="16200000">
            <a:off x="6749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64c8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89" name="文本框 11274"/>
          <p:cNvSpPr/>
          <p:nvPr/>
        </p:nvSpPr>
        <p:spPr>
          <a:xfrm>
            <a:off x="2268360" y="59500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굴림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e9e4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e9e400"/>
                </a:solidFill>
                <a:latin typeface="굴림"/>
              </a:rPr>
              <a:t>http://www.eeppt.com/moban/</a:t>
            </a:r>
            <a:endParaRPr b="0" lang="en-US" sz="16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Part Centered 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任意多边形 12290"/>
          <p:cNvSpPr/>
          <p:nvPr/>
        </p:nvSpPr>
        <p:spPr>
          <a:xfrm>
            <a:off x="6132600" y="2743200"/>
            <a:ext cx="1895400" cy="83016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2" name="任意多边形 12291"/>
          <p:cNvSpPr/>
          <p:nvPr/>
        </p:nvSpPr>
        <p:spPr>
          <a:xfrm>
            <a:off x="6018120" y="4287960"/>
            <a:ext cx="1897200" cy="79668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3" name="任意多边形 12292"/>
          <p:cNvSpPr/>
          <p:nvPr/>
        </p:nvSpPr>
        <p:spPr>
          <a:xfrm>
            <a:off x="2762280" y="4226040"/>
            <a:ext cx="1898640" cy="82872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4" name="任意多边形 12293"/>
          <p:cNvSpPr/>
          <p:nvPr/>
        </p:nvSpPr>
        <p:spPr>
          <a:xfrm>
            <a:off x="2765520" y="2730600"/>
            <a:ext cx="1895400" cy="79668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5" name="八边形 12294"/>
          <p:cNvSpPr/>
          <p:nvPr/>
        </p:nvSpPr>
        <p:spPr>
          <a:xfrm>
            <a:off x="3484440" y="2776680"/>
            <a:ext cx="3708360" cy="2143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4c800"/>
              </a:gs>
              <a:gs pos="100000">
                <a:srgbClr val="2e5d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6" name="圆角矩形 12295"/>
          <p:cNvSpPr/>
          <p:nvPr/>
        </p:nvSpPr>
        <p:spPr>
          <a:xfrm>
            <a:off x="169236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6bb2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7" name="圆角矩形 12296"/>
          <p:cNvSpPr/>
          <p:nvPr/>
        </p:nvSpPr>
        <p:spPr>
          <a:xfrm>
            <a:off x="558180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8" name="圆角矩形 12297"/>
          <p:cNvSpPr/>
          <p:nvPr/>
        </p:nvSpPr>
        <p:spPr>
          <a:xfrm>
            <a:off x="169236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61a2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  <p:sp>
        <p:nvSpPr>
          <p:cNvPr id="199" name="圆角矩形 12298"/>
          <p:cNvSpPr/>
          <p:nvPr/>
        </p:nvSpPr>
        <p:spPr>
          <a:xfrm>
            <a:off x="558180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lin ang="5400000"/>
          </a:gradFill>
          <a:ln w="3816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e9e4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2:40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2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