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B9F-AB95-464A-A2A7-30FD1F9A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AB8-DC42-4EE9-8EDC-8CBE649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872DE-35BB-4FB9-BA56-22857B3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21BF4-8400-4DD9-A731-B00F476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5F9B8-4C38-4D3B-ADF1-A2BFB37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0BE8-7E4C-42D1-A257-FBEDFA4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5C59-B6EC-4912-8099-1C42E44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DE65B-1033-44C0-AA25-FD1FAA5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3D489-504C-459C-B0DA-2BE074D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B3E1-F558-46B2-B766-687BA2B1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977A5-74EE-4EBC-8C6C-5392BD3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7472E-489F-4A59-8D5F-0900E6A6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A66-186B-46CB-B8FA-8A90A125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91EAD-C3E7-430B-85F5-D66E39C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D4AFF-EC12-4411-8C7A-DEC32074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AC342-A48D-4B59-BCCA-D31DB9FD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CEE73-7A4F-4F61-855F-0B52FF6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75071-C4DA-4190-A79D-4996B8A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7A956-1570-4C05-93C5-823A9AE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72F1C-D063-4CD9-8591-8B9B1F64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88C1-AA97-44BE-98AE-1DDF403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C439F-89E1-4290-BFF0-4C327295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02BF4-96C4-45A6-AE58-7A9B880B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BE6-2232-45A7-B855-734911DE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BFFD1-1810-41F9-9C14-CC21C22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1EB8-B395-4831-B480-5EB24ACC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DD4C7-B8E5-4E42-9C90-6F165B6D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B8DE-B663-44ED-9F8C-10BC7DC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F5785-B904-4BF3-AA84-78351EE7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34781-1B61-476E-85AA-5203F05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6A718-1194-4C7F-B5F3-25616165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56A18-3846-4C9A-9F81-F7EFF9E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5D97-0A74-409C-97B2-483DC4B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E0E6B-F633-4E43-9599-488CFE9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4EA-41AD-4BDA-83E2-6086AD2B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8431-5998-49EF-A5C6-DE5D6FD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B6CFB-040A-4A0A-92D4-0507C78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7667-2B45-4CE0-B81C-3C0CB166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D1142-2EE2-4F2B-A641-65D8D1FE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7798E-C363-43AB-97F9-17AD6B9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6FD6F-8F0D-479F-9345-3220FBBC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5AFAD-8ADA-4822-B8F3-2CEBF913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36BD-A894-4BAD-98D3-595675A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548BA-945E-4550-A721-4461D49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E0B9-A191-42E8-8B8E-86F60D2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FA97-80B1-47D6-9123-30C3A5E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EE0B3-8F6F-4662-89E2-9E1B81F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599C3-B7DF-4591-B015-CCCBF4D8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31FA6-A298-4C2E-A42C-E59ECA7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FD2A0-EFD6-46FB-95BA-C3EA906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7E025-077D-483D-B471-2720D298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CCF9D-A3E7-4CB2-B5DF-12FC4214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9F8FF-7E8F-460C-B10C-73DD8D31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8AD7D-E710-4BD1-8FCE-4507051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76B0C-BB0A-43CE-A196-A5B6ACE8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4D198-BAD4-48DB-B066-B66B188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DD03-05FF-4DFE-AF0D-40D99BC8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C4AD8-5009-4924-B1F8-AB60C7C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697AA-488F-43A5-B4E6-2D8F564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B05B0-4BF6-4D59-BE40-E4BE9C6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C14D4-3F47-422B-B623-871061F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23836-E2A6-43FA-A3EE-9846E3F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DCFE-552B-435D-9DD3-FF705387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04116-3279-485D-9B27-3B59FD96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5A0-72B3-465A-B1CC-09D6D928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BEC6-6D38-4742-813E-DF71871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3BBE-E3EE-4800-B2FB-27AEE065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C90-DB49-4CD1-AD1E-4042A5E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3BA-D585-4100-B464-DE4D8EF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5C0-200B-4744-BE88-AE4F7A5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CC4-4223-46B9-8CE4-ACD5D3A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6281-91F0-4092-BBA5-2235AEC2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9FFB-4AF1-4590-8048-5D404B1D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54D5-0E91-434E-9A7D-83EF5C1A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623D-333B-411F-9041-DE8DE6D1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3EAF-D788-45C4-B7BA-2731B960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06E9-D238-40A6-8ED8-5E76B94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138F-F064-4B5F-88E2-CFEDF306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21D-65A1-4A0C-B10E-0DDC192B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B2E-C969-456D-B75F-D2C8C21F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5BEF-B75C-4F06-809F-638B195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3043-3AFA-459D-861B-C93FCFD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76BC-9976-42C7-A0D1-FD049EC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BE13-E33D-42DC-920F-1A5AC4A8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5866-FA1B-48D8-A959-E2C78E5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38E4-BDF8-4405-830E-B0B5B126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8AF5-7B97-4B5C-9CAA-C72EEF7D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373D-7BFC-4DAD-AB09-96E48F89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8BCA-1DF8-46FF-9CA9-58328B4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C9D2-96B6-496D-A86A-C7FCB26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BFE-F158-4F14-8C60-3D374FD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4381-87C2-4AAB-AD27-40B3DD5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D9B0E-0AC2-47B7-BD64-5554D53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F9B6-C4B6-421B-ACB1-07D4F0A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5AF3-B3F7-468F-98E6-0491769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BBC3-065E-415D-92FE-C781033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3D66-B9ED-4539-873B-44D664C9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5651-3218-4319-87C1-3A1D6AE9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496B-FAF6-4340-BFE3-477783B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BFB9-4BD6-42A3-B738-08AB0EB8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2C891-8A89-41A0-9DE8-274E145A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CFE-04BD-4157-82EF-775D55A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217E-D9DE-458B-9664-A9F9AB9A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26A59-429C-453E-BB22-4F36A87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5E17-B149-4E22-A734-4E2D052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0B60-F222-40FF-930F-DB81F535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3C3F-799F-463B-B0B1-9BEE7E7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354C-CEF3-4123-802F-E9A7669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1D5C-B859-4E4F-A387-988D3A2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CD02-1AAA-4780-82DA-7A787FE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AB00-DC28-4926-A2DC-2920C4C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9FF5-A187-49B3-8659-73A9C762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7AA-D176-4DF6-A873-04938FF8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2671-BB86-4E85-83B2-E3C203FB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0B20-11C6-42F9-B19F-D3E7262A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D6443-4CA4-4BD4-B8D8-F078914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E7619-0735-4A25-8866-308C7A9B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F5211-24BD-4B8B-831F-F339418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55A1-8534-4138-84D1-44D3B3C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D6CF-D0A0-4A75-A4E2-A89DF20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9930-3A77-4C20-BBB3-3E9EFB1E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A008-6026-4DAB-A8D8-222D1E7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DB0C-C416-4752-8FC5-2287185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914-81D8-46BF-9F07-52B2ECB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00BD-B52B-4610-AA21-3523F41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A8A3-3DEA-49B9-95E3-34B285FE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02F6-BF67-4D82-9F1B-D5E29E04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A58EE-2A85-4896-ABBE-7EEC2DE4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8635-21B4-4063-9724-D43BFDA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E8535-0FC6-400E-B70C-994D6CC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A7A1-31A1-4767-957B-66386C8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8801-796E-4E73-9B35-AB1CFB97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76E0E-65D2-4FFB-9890-579149C6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6E36-5EF5-47D9-A95E-93F1E93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5F9-3309-4790-8113-10F3FAC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8D35-7B39-4E91-8521-AF39C89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4711D-BE1F-4787-8ECE-51C4B76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9076-77AC-4945-9CA2-80224B39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3501-7A08-49B1-8901-5E186095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4E72-3518-43E9-8BFA-0C460457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A8CA-2928-4162-9D5B-2B427009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87EAE-70D7-431D-BA2A-D3D6DA2B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A0EC-455C-4842-ADA7-DE73042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D84D-3BB7-4E26-8F25-28152125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5096-E248-4D5D-A063-77D4983B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D5B-7DB0-4A28-BF12-7F798DA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74740-76A6-435C-AEE4-4C21080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96F19-6019-477F-9480-9348B8F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F104-89C8-416D-81A8-E4ABE86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E1059-EFF8-4AFA-AE25-6ACC98D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E765-B5DB-4D7D-8C00-00D8CB18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3F9BE-7FC4-48D5-845D-BC5EF794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90B5-D209-4BD3-968F-F49AD445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35383-27A0-42FD-B150-5DBE12FF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1369-AD03-4100-BE55-23D2B49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22A66-3A4A-48E1-A9B1-8F769DF8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950-C3F9-4F83-8D6D-E6822A1A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8F7E-87A7-4861-9E58-DAD94A611B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604-CA0A-4EEC-A9C6-772410836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05B-866C-4A26-A3B6-697E2CB05F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A15-CBE0-46B7-98D2-502CAC2D6F7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A82C-DF8E-48AB-9AC6-3B4924705C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Z:\newtek\_backgrounds_1.02\Art\power_point\17-\hanuka_happiness\star_of_david.png"/>
          <p:cNvPicPr/>
          <p:nvPr/>
        </p:nvPicPr>
        <p:blipFill>
          <a:blip r:embed="rId3"/>
          <a:stretch/>
        </p:blipFill>
        <p:spPr>
          <a:xfrm>
            <a:off x="2133720" y="304920"/>
            <a:ext cx="5029200" cy="461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F0D-985E-4864-9F98-D42F8A44E9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A667-47A2-4C4F-814C-0ED358C92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3330-FBEC-40EB-A889-68CE34E740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BBAF-182A-48DF-AF62-796CAE7CD3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AAB7-0218-4E19-A364-D969DAC234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858-7C04-42D5-987C-3DA7F2295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BA2-BA64-4F0E-A31C-18155D8453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9D4-ECB9-4694-B119-DAD284138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411444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bedff"/>
                </a:solidFill>
                <a:latin typeface="Arial"/>
                <a:ea typeface="宋体"/>
              </a:rPr>
              <a:t>Hanukkah Happiness</a:t>
            </a:r>
            <a:endParaRPr b="1" i="1" lang="en-US" sz="5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bedff"/>
                </a:solidFill>
                <a:latin typeface="Arial"/>
                <a:ea typeface="宋体"/>
              </a:rPr>
              <a:t>A Presentation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14340"/>
          <p:cNvSpPr/>
          <p:nvPr/>
        </p:nvSpPr>
        <p:spPr>
          <a:xfrm>
            <a:off x="1348560" y="404640"/>
            <a:ext cx="54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光明节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bedff"/>
                </a:solidFill>
                <a:latin typeface="Arial"/>
                <a:ea typeface="宋体"/>
              </a:rPr>
              <a:t>Your Title Here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 Her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itle Here</a:t>
            </a:r>
            <a:endParaRPr b="1" i="1" lang="en-US" sz="44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Your Sub Point Her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本框 17412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019920" cy="1981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Transition </a:t>
            </a:r>
            <a:br>
              <a:rPr sz="6000"/>
            </a:b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Page</a:t>
            </a:r>
            <a:endParaRPr b="1" i="1" lang="en-US" sz="60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5221440" y="55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1890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14" descr="jewish_boy_holding_menorah_hg_clr.gif"/>
          <p:cNvPicPr/>
          <p:nvPr/>
        </p:nvPicPr>
        <p:blipFill>
          <a:blip r:embed="rId2"/>
          <a:stretch/>
        </p:blipFill>
        <p:spPr>
          <a:xfrm>
            <a:off x="6172200" y="1104840"/>
            <a:ext cx="2400480" cy="4000680"/>
          </a:xfrm>
          <a:prstGeom prst="rect">
            <a:avLst/>
          </a:prstGeom>
          <a:ln w="0">
            <a:noFill/>
          </a:ln>
        </p:spPr>
      </p:pic>
      <p:sp>
        <p:nvSpPr>
          <p:cNvPr id="54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FDD0-B9E3-47C5-AEB5-B64A243874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280" y="5638680"/>
            <a:ext cx="6019920" cy="10670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ebedff"/>
                </a:solidFill>
                <a:latin typeface="Arial"/>
                <a:ea typeface="宋体"/>
              </a:rPr>
              <a:t>Elements Page</a:t>
            </a:r>
            <a:endParaRPr b="1" i="1" lang="en-US" sz="6000" spc="-1" strike="noStrike">
              <a:solidFill>
                <a:srgbClr val="ebedff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5221440" y="55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jewish_boy_girl_dreidel_hg_clr.gif"/>
          <p:cNvPicPr/>
          <p:nvPr/>
        </p:nvPicPr>
        <p:blipFill>
          <a:blip r:embed="rId1"/>
          <a:stretch/>
        </p:blipFill>
        <p:spPr>
          <a:xfrm>
            <a:off x="6772320" y="228600"/>
            <a:ext cx="2371680" cy="2705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jewish_boy_holding_menorah_hg_clr.gif"/>
          <p:cNvPicPr/>
          <p:nvPr/>
        </p:nvPicPr>
        <p:blipFill>
          <a:blip r:embed="rId2"/>
          <a:stretch/>
        </p:blipFill>
        <p:spPr>
          <a:xfrm>
            <a:off x="6858000" y="3200400"/>
            <a:ext cx="2035080" cy="3390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Z:\newtek\_backgrounds_1.02\Art\power_point\17-\hanuka_happiness\star_of_david.png"/>
          <p:cNvPicPr/>
          <p:nvPr/>
        </p:nvPicPr>
        <p:blipFill>
          <a:blip r:embed="rId3"/>
          <a:stretch/>
        </p:blipFill>
        <p:spPr>
          <a:xfrm>
            <a:off x="-228600" y="0"/>
            <a:ext cx="4191120" cy="3841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Z:\newtek\_backgrounds_1.02\Art\power_point\17-\hanuka_happiness\hanukkah_hapiness_trs.jpg"/>
          <p:cNvPicPr/>
          <p:nvPr/>
        </p:nvPicPr>
        <p:blipFill>
          <a:blip r:embed="rId4"/>
          <a:stretch/>
        </p:blipFill>
        <p:spPr>
          <a:xfrm>
            <a:off x="4114800" y="3657600"/>
            <a:ext cx="2590920" cy="2071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Z:\newtek\_backgrounds_1.02\Art\power_point\17-\hanuka_happiness\hanukkah_hapiness_prt.jpg"/>
          <p:cNvPicPr/>
          <p:nvPr/>
        </p:nvPicPr>
        <p:blipFill>
          <a:blip r:embed="rId5"/>
          <a:stretch/>
        </p:blipFill>
        <p:spPr>
          <a:xfrm>
            <a:off x="1371600" y="365760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Z:\newtek\_backgrounds_1.02\Art\power_point\17-\hanuka_happiness\hanukkah_hapiness_sld.jpg"/>
          <p:cNvPicPr/>
          <p:nvPr/>
        </p:nvPicPr>
        <p:blipFill>
          <a:blip r:embed="rId6"/>
          <a:stretch/>
        </p:blipFill>
        <p:spPr>
          <a:xfrm>
            <a:off x="4114800" y="1447920"/>
            <a:ext cx="2590920" cy="2073240"/>
          </a:xfrm>
          <a:prstGeom prst="rect">
            <a:avLst/>
          </a:prstGeom>
          <a:ln w="0">
            <a:noFill/>
          </a:ln>
        </p:spPr>
      </p:pic>
      <p:sp>
        <p:nvSpPr>
          <p:cNvPr id="562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23:45:4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