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BAC-515F-4194-9F42-FC3D06D1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782-B941-48F8-A881-10B539EC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DB4-AC4C-4E24-808B-94A4DDFF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0A6-C4F0-44B2-9BF3-64647FDB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B621-E4DB-4250-99F0-B8B24E18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93CD-1E2A-4E70-A860-A1E04A87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971F-954E-48BB-ABD1-C10A05A0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28BA-FD20-474D-A38D-BE1F9652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AD48-9FA3-444E-B4CB-0E460B96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FF03-4B0F-4095-8F8B-54263C9A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FC2A-D5BE-4342-BB5F-B7B40551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96C8-3F72-42EC-AAFF-4B15A9B2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672A-D62A-4F78-B257-5DAF5AFE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9548-1EAA-4C56-B935-E29C12BD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1746-AC68-4E9F-A663-B1A214ED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350A-6A03-485B-8EDA-F386FBF9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7AA5-0E26-43EE-946D-28991E90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A58-F96D-49D2-B23B-282EE960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0F8-7094-41A0-9705-CCD6B333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BFF-C664-457D-B3B6-8EF6361A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6B3-B639-4EEC-864E-05EBDD47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912-8D19-48B7-9EAE-F8BE72E0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C35-CE7D-4513-97A1-ED41DAF4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87C-9ECB-4B20-9C3B-53078765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6AB2-1E81-44D1-8837-F45456836603}" type="datetime">
              <a:rPr b="0" lang="en-IE" sz="1200" spc="-1" strike="noStrike">
                <a:solidFill>
                  <a:srgbClr val="898989"/>
                </a:solidFill>
                <a:latin typeface="Calibri"/>
                <a:ea typeface="宋体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FCF0-C767-45ED-A428-D489A58DAE94}" type="slidenum">
              <a:rPr b="0" lang="en-IE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EAA0-D0A1-4F68-8CCB-B892ED20241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74B2-271C-4871-BA5D-434B09C86C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5"/>
          <p:cNvSpPr/>
          <p:nvPr/>
        </p:nvSpPr>
        <p:spPr>
          <a:xfrm>
            <a:off x="151200" y="2598840"/>
            <a:ext cx="119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Calibri Light"/>
              </a:rPr>
              <a:t>WHAT IS THE BEST SOFTWARE FOR DOING XYZ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Relax" descr=""/>
          <p:cNvPicPr/>
          <p:nvPr/>
        </p:nvPicPr>
        <p:blipFill>
          <a:blip r:embed="rId1"/>
          <a:stretch/>
        </p:blipFill>
        <p:spPr>
          <a:xfrm>
            <a:off x="1623960" y="441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国外经典之灰色背景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Group 7" descr=""/>
          <p:cNvPicPr/>
          <p:nvPr/>
        </p:nvPicPr>
        <p:blipFill>
          <a:blip r:embed="rId1"/>
          <a:stretch/>
        </p:blipFill>
        <p:spPr>
          <a:xfrm>
            <a:off x="669960" y="787320"/>
            <a:ext cx="11103120" cy="62089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806400" y="3387600"/>
            <a:ext cx="342108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26568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25"/>
          <p:cNvSpPr/>
          <p:nvPr/>
        </p:nvSpPr>
        <p:spPr>
          <a:xfrm>
            <a:off x="199548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ight Triangle 16"/>
          <p:cNvSpPr/>
          <p:nvPr/>
        </p:nvSpPr>
        <p:spPr>
          <a:xfrm rot="13521000">
            <a:off x="4101120" y="3694680"/>
            <a:ext cx="233280" cy="23508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9"/>
          <p:cNvGrpSpPr/>
          <p:nvPr/>
        </p:nvGrpSpPr>
        <p:grpSpPr>
          <a:xfrm>
            <a:off x="4565520" y="1192320"/>
            <a:ext cx="3915000" cy="717480"/>
            <a:chOff x="4565520" y="1192320"/>
            <a:chExt cx="3915000" cy="717480"/>
          </a:xfrm>
        </p:grpSpPr>
        <p:sp>
          <p:nvSpPr>
            <p:cNvPr id="249" name="Rectangle 31"/>
            <p:cNvSpPr/>
            <p:nvPr/>
          </p:nvSpPr>
          <p:spPr>
            <a:xfrm>
              <a:off x="6148800" y="1200960"/>
              <a:ext cx="2331720" cy="708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1"/>
            <p:cNvSpPr/>
            <p:nvPr/>
          </p:nvSpPr>
          <p:spPr>
            <a:xfrm>
              <a:off x="6415920" y="127296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6a605e"/>
                  </a:solidFill>
                  <a:latin typeface="Calibri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2"/>
            <p:cNvSpPr/>
            <p:nvPr/>
          </p:nvSpPr>
          <p:spPr>
            <a:xfrm>
              <a:off x="6734520" y="11959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4000" spc="-1" strike="noStrike">
                  <a:solidFill>
                    <a:srgbClr val="7a706e"/>
                  </a:solidFill>
                  <a:latin typeface="Calibri"/>
                </a:rPr>
                <a:t>19.9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2" name="Group 18"/>
            <p:cNvGrpSpPr/>
            <p:nvPr/>
          </p:nvGrpSpPr>
          <p:grpSpPr>
            <a:xfrm>
              <a:off x="4565520" y="1192320"/>
              <a:ext cx="1770840" cy="708840"/>
              <a:chOff x="4565520" y="1192320"/>
              <a:chExt cx="1770840" cy="708840"/>
            </a:xfrm>
          </p:grpSpPr>
          <p:sp>
            <p:nvSpPr>
              <p:cNvPr id="253" name="Rectangle 19"/>
              <p:cNvSpPr/>
              <p:nvPr/>
            </p:nvSpPr>
            <p:spPr>
              <a:xfrm>
                <a:off x="4565520" y="1192320"/>
                <a:ext cx="1607760" cy="70884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Isosceles Triangle 20"/>
              <p:cNvSpPr/>
              <p:nvPr/>
            </p:nvSpPr>
            <p:spPr>
              <a:xfrm rot="5400000">
                <a:off x="6055920" y="1441800"/>
                <a:ext cx="381600" cy="17928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5" name="TextBox 26"/>
          <p:cNvSpPr/>
          <p:nvPr/>
        </p:nvSpPr>
        <p:spPr>
          <a:xfrm>
            <a:off x="4844160" y="12812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Calibri"/>
              </a:rPr>
              <a:t>AC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4554360" y="3780000"/>
            <a:ext cx="6824880" cy="723600"/>
            <a:chOff x="4554360" y="3780000"/>
            <a:chExt cx="6824880" cy="723600"/>
          </a:xfrm>
        </p:grpSpPr>
        <p:sp>
          <p:nvSpPr>
            <p:cNvPr id="257" name="Rectangle 32"/>
            <p:cNvSpPr/>
            <p:nvPr/>
          </p:nvSpPr>
          <p:spPr>
            <a:xfrm>
              <a:off x="5421240" y="3794760"/>
              <a:ext cx="5958000" cy="708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35"/>
            <p:cNvSpPr/>
            <p:nvPr/>
          </p:nvSpPr>
          <p:spPr>
            <a:xfrm>
              <a:off x="7311240" y="37800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4000" spc="-1" strike="noStrike">
                  <a:solidFill>
                    <a:srgbClr val="7a706e"/>
                  </a:solidFill>
                  <a:latin typeface="Calibri"/>
                </a:rPr>
                <a:t>20% </a:t>
              </a:r>
              <a:r>
                <a:rPr b="0" lang="en-IE" sz="2000" spc="-1" strike="noStrike">
                  <a:solidFill>
                    <a:srgbClr val="7a706e"/>
                  </a:solidFill>
                  <a:latin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9" name="Group 3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60" name="TextBox 39"/>
            <p:cNvSpPr/>
            <p:nvPr/>
          </p:nvSpPr>
          <p:spPr>
            <a:xfrm>
              <a:off x="4554360" y="38631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COMPETITOR 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67"/>
          <p:cNvGrpSpPr/>
          <p:nvPr/>
        </p:nvGrpSpPr>
        <p:grpSpPr>
          <a:xfrm>
            <a:off x="4545000" y="4686480"/>
            <a:ext cx="6824520" cy="708120"/>
            <a:chOff x="4545000" y="4686480"/>
            <a:chExt cx="6824520" cy="708120"/>
          </a:xfrm>
        </p:grpSpPr>
        <p:sp>
          <p:nvSpPr>
            <p:cNvPr id="262" name="Rectangle 40"/>
            <p:cNvSpPr/>
            <p:nvPr/>
          </p:nvSpPr>
          <p:spPr>
            <a:xfrm>
              <a:off x="5411880" y="4686480"/>
              <a:ext cx="5957640" cy="708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Box 41"/>
            <p:cNvSpPr/>
            <p:nvPr/>
          </p:nvSpPr>
          <p:spPr>
            <a:xfrm>
              <a:off x="7301520" y="468648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4000" spc="-1" strike="noStrike">
                  <a:solidFill>
                    <a:srgbClr val="7a706e"/>
                  </a:solidFill>
                  <a:latin typeface="Calibri"/>
                </a:rPr>
                <a:t>15% </a:t>
              </a:r>
              <a:r>
                <a:rPr b="0" lang="en-IE" sz="2000" spc="-1" strike="noStrike">
                  <a:solidFill>
                    <a:srgbClr val="7a706e"/>
                  </a:solidFill>
                  <a:latin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4" name="Group 4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65" name="TextBox 45"/>
            <p:cNvSpPr/>
            <p:nvPr/>
          </p:nvSpPr>
          <p:spPr>
            <a:xfrm>
              <a:off x="4545000" y="4769640"/>
              <a:ext cx="24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COMPETITOR 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Group 68"/>
          <p:cNvGrpSpPr/>
          <p:nvPr/>
        </p:nvGrpSpPr>
        <p:grpSpPr>
          <a:xfrm>
            <a:off x="4554360" y="5594400"/>
            <a:ext cx="6824880" cy="708120"/>
            <a:chOff x="4554360" y="5594400"/>
            <a:chExt cx="6824880" cy="708120"/>
          </a:xfrm>
        </p:grpSpPr>
        <p:sp>
          <p:nvSpPr>
            <p:cNvPr id="267" name="Rectangle 48"/>
            <p:cNvSpPr/>
            <p:nvPr/>
          </p:nvSpPr>
          <p:spPr>
            <a:xfrm>
              <a:off x="5421240" y="5594400"/>
              <a:ext cx="5958000" cy="708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Box 49"/>
            <p:cNvSpPr/>
            <p:nvPr/>
          </p:nvSpPr>
          <p:spPr>
            <a:xfrm>
              <a:off x="7311240" y="55944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4000" spc="-1" strike="noStrike">
                  <a:solidFill>
                    <a:srgbClr val="7a706e"/>
                  </a:solidFill>
                  <a:latin typeface="Calibri"/>
                </a:rPr>
                <a:t>11% </a:t>
              </a:r>
              <a:r>
                <a:rPr b="0" lang="en-IE" sz="2000" spc="-1" strike="noStrike">
                  <a:solidFill>
                    <a:srgbClr val="7a706e"/>
                  </a:solidFill>
                  <a:latin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9" name="Group 5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70" name="TextBox 53"/>
            <p:cNvSpPr/>
            <p:nvPr/>
          </p:nvSpPr>
          <p:spPr>
            <a:xfrm>
              <a:off x="4554360" y="56775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COMPETITOR 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Group 69"/>
          <p:cNvGrpSpPr/>
          <p:nvPr/>
        </p:nvGrpSpPr>
        <p:grpSpPr>
          <a:xfrm>
            <a:off x="4632480" y="2117880"/>
            <a:ext cx="6746760" cy="1861920"/>
            <a:chOff x="4632480" y="2117880"/>
            <a:chExt cx="6746760" cy="1861920"/>
          </a:xfrm>
        </p:grpSpPr>
        <p:sp>
          <p:nvSpPr>
            <p:cNvPr id="272" name="TextBox 54"/>
            <p:cNvSpPr/>
            <p:nvPr/>
          </p:nvSpPr>
          <p:spPr>
            <a:xfrm>
              <a:off x="5618520" y="25264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ACME is up to </a:t>
              </a:r>
              <a:r>
                <a:rPr b="1" lang="en-IE" sz="1800" spc="-1" strike="noStrike">
                  <a:solidFill>
                    <a:srgbClr val="7a706e"/>
                  </a:solidFill>
                  <a:latin typeface="Calibri"/>
                </a:rPr>
                <a:t>20% cheaper than leading competitors</a:t>
              </a: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3" name="TextBox 55" descr=""/>
            <p:cNvPicPr/>
            <p:nvPr/>
          </p:nvPicPr>
          <p:blipFill>
            <a:blip r:embed="rId2"/>
            <a:stretch/>
          </p:blipFill>
          <p:spPr>
            <a:xfrm>
              <a:off x="4632480" y="2117880"/>
              <a:ext cx="1269720" cy="186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TextBox 5"/>
          <p:cNvSpPr/>
          <p:nvPr/>
        </p:nvSpPr>
        <p:spPr>
          <a:xfrm>
            <a:off x="8680320" y="1335240"/>
            <a:ext cx="2322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6a605e"/>
                </a:solidFill>
                <a:latin typeface="Calibri"/>
              </a:rPr>
              <a:t>Incl. 24/7 support, free lifetime updat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ounded Rectangle 56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6-Point Star 57"/>
          <p:cNvSpPr/>
          <p:nvPr/>
        </p:nvSpPr>
        <p:spPr>
          <a:xfrm>
            <a:off x="1117440" y="5359320"/>
            <a:ext cx="355680" cy="355680"/>
          </a:xfrm>
          <a:custGeom>
            <a:avLst/>
            <a:gdLst/>
            <a:ahLst/>
            <a:rect l="l" t="t" r="r" b="b"/>
            <a:pathLst>
              <a:path w="355600" h="355600">
                <a:moveTo>
                  <a:pt x="0" y="88900"/>
                </a:moveTo>
                <a:lnTo>
                  <a:pt x="118532" y="88898"/>
                </a:lnTo>
                <a:lnTo>
                  <a:pt x="177800" y="0"/>
                </a:lnTo>
                <a:lnTo>
                  <a:pt x="237067" y="88898"/>
                </a:lnTo>
                <a:lnTo>
                  <a:pt x="355599" y="88900"/>
                </a:lnTo>
                <a:lnTo>
                  <a:pt x="296335" y="177800"/>
                </a:lnTo>
                <a:lnTo>
                  <a:pt x="355599" y="266700"/>
                </a:lnTo>
                <a:lnTo>
                  <a:pt x="237067" y="266701"/>
                </a:lnTo>
                <a:lnTo>
                  <a:pt x="177800" y="355600"/>
                </a:lnTo>
                <a:lnTo>
                  <a:pt x="118532" y="266701"/>
                </a:lnTo>
                <a:lnTo>
                  <a:pt x="0" y="266700"/>
                </a:lnTo>
                <a:lnTo>
                  <a:pt x="59264" y="177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Down Ribbon 58"/>
          <p:cNvSpPr/>
          <p:nvPr/>
        </p:nvSpPr>
        <p:spPr>
          <a:xfrm>
            <a:off x="1087560" y="2112840"/>
            <a:ext cx="404640" cy="198720"/>
          </a:xfrm>
          <a:custGeom>
            <a:avLst/>
            <a:gdLst>
              <a:gd name="textAreaLeft" fmla="*/ 101160 w 404640"/>
              <a:gd name="textAreaRight" fmla="*/ 303480 w 404640"/>
              <a:gd name="textAreaTop" fmla="*/ 3312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Group 59" descr=""/>
          <p:cNvPicPr/>
          <p:nvPr/>
        </p:nvPicPr>
        <p:blipFill>
          <a:blip r:embed="rId3"/>
          <a:stretch/>
        </p:blipFill>
        <p:spPr>
          <a:xfrm>
            <a:off x="1122480" y="1184400"/>
            <a:ext cx="338040" cy="34740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62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80" name="Oval 63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TextBox 64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Oval Callout 65"/>
          <p:cNvSpPr/>
          <p:nvPr/>
        </p:nvSpPr>
        <p:spPr>
          <a:xfrm>
            <a:off x="1117440" y="4451400"/>
            <a:ext cx="366840" cy="3207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Group 7" descr=""/>
          <p:cNvPicPr/>
          <p:nvPr/>
        </p:nvPicPr>
        <p:blipFill>
          <a:blip r:embed="rId1"/>
          <a:stretch/>
        </p:blipFill>
        <p:spPr>
          <a:xfrm>
            <a:off x="704880" y="787320"/>
            <a:ext cx="11103120" cy="62089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8"/>
          <p:cNvSpPr/>
          <p:nvPr/>
        </p:nvSpPr>
        <p:spPr>
          <a:xfrm>
            <a:off x="806400" y="4210200"/>
            <a:ext cx="3421080" cy="80784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26568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25"/>
          <p:cNvSpPr/>
          <p:nvPr/>
        </p:nvSpPr>
        <p:spPr>
          <a:xfrm>
            <a:off x="199548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ight Triangle 16"/>
          <p:cNvSpPr/>
          <p:nvPr/>
        </p:nvSpPr>
        <p:spPr>
          <a:xfrm rot="13521000">
            <a:off x="4101120" y="4496400"/>
            <a:ext cx="233280" cy="23508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ounded Rectangle 1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6-Point Star 19"/>
          <p:cNvSpPr/>
          <p:nvPr/>
        </p:nvSpPr>
        <p:spPr>
          <a:xfrm>
            <a:off x="1117440" y="5359320"/>
            <a:ext cx="355680" cy="355680"/>
          </a:xfrm>
          <a:custGeom>
            <a:avLst/>
            <a:gdLst/>
            <a:ahLst/>
            <a:rect l="l" t="t" r="r" b="b"/>
            <a:pathLst>
              <a:path w="355600" h="355600">
                <a:moveTo>
                  <a:pt x="0" y="88900"/>
                </a:moveTo>
                <a:lnTo>
                  <a:pt x="118532" y="88898"/>
                </a:lnTo>
                <a:lnTo>
                  <a:pt x="177800" y="0"/>
                </a:lnTo>
                <a:lnTo>
                  <a:pt x="237067" y="88898"/>
                </a:lnTo>
                <a:lnTo>
                  <a:pt x="355599" y="88900"/>
                </a:lnTo>
                <a:lnTo>
                  <a:pt x="296335" y="177800"/>
                </a:lnTo>
                <a:lnTo>
                  <a:pt x="355599" y="266700"/>
                </a:lnTo>
                <a:lnTo>
                  <a:pt x="237067" y="266701"/>
                </a:lnTo>
                <a:lnTo>
                  <a:pt x="177800" y="355600"/>
                </a:lnTo>
                <a:lnTo>
                  <a:pt x="118532" y="266701"/>
                </a:lnTo>
                <a:lnTo>
                  <a:pt x="0" y="266700"/>
                </a:lnTo>
                <a:lnTo>
                  <a:pt x="59264" y="177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Down Ribbon 20"/>
          <p:cNvSpPr/>
          <p:nvPr/>
        </p:nvSpPr>
        <p:spPr>
          <a:xfrm>
            <a:off x="1087560" y="2112840"/>
            <a:ext cx="404640" cy="198720"/>
          </a:xfrm>
          <a:custGeom>
            <a:avLst/>
            <a:gdLst>
              <a:gd name="textAreaLeft" fmla="*/ 101160 w 404640"/>
              <a:gd name="textAreaRight" fmla="*/ 303480 w 404640"/>
              <a:gd name="textAreaTop" fmla="*/ 3312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Group 22" descr=""/>
          <p:cNvPicPr/>
          <p:nvPr/>
        </p:nvPicPr>
        <p:blipFill>
          <a:blip r:embed="rId2"/>
          <a:stretch/>
        </p:blipFill>
        <p:spPr>
          <a:xfrm>
            <a:off x="1122480" y="1184400"/>
            <a:ext cx="338040" cy="34740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2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98" name="Oval 2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TextBox 2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Oval Callout 30"/>
          <p:cNvSpPr/>
          <p:nvPr/>
        </p:nvSpPr>
        <p:spPr>
          <a:xfrm>
            <a:off x="1117440" y="4451400"/>
            <a:ext cx="366840" cy="3207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4606920" y="1251000"/>
            <a:ext cx="6746760" cy="1861920"/>
            <a:chOff x="4606920" y="1251000"/>
            <a:chExt cx="6746760" cy="1861920"/>
          </a:xfrm>
        </p:grpSpPr>
        <p:sp>
          <p:nvSpPr>
            <p:cNvPr id="302" name="TextBox 32"/>
            <p:cNvSpPr/>
            <p:nvPr/>
          </p:nvSpPr>
          <p:spPr>
            <a:xfrm>
              <a:off x="5592960" y="165960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ACME is up to </a:t>
              </a:r>
              <a:r>
                <a:rPr b="1" lang="en-IE" sz="1800" spc="-1" strike="noStrike">
                  <a:solidFill>
                    <a:srgbClr val="7a706e"/>
                  </a:solidFill>
                  <a:latin typeface="Calibri"/>
                </a:rPr>
                <a:t>20% cheaper than leading competitors</a:t>
              </a: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3" name="TextBox 34" descr=""/>
            <p:cNvPicPr/>
            <p:nvPr/>
          </p:nvPicPr>
          <p:blipFill>
            <a:blip r:embed="rId3"/>
            <a:stretch/>
          </p:blipFill>
          <p:spPr>
            <a:xfrm>
              <a:off x="4606920" y="1251000"/>
              <a:ext cx="1269720" cy="186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Group 35"/>
          <p:cNvGrpSpPr/>
          <p:nvPr/>
        </p:nvGrpSpPr>
        <p:grpSpPr>
          <a:xfrm>
            <a:off x="4587840" y="2738520"/>
            <a:ext cx="6748560" cy="1861920"/>
            <a:chOff x="4587840" y="2738520"/>
            <a:chExt cx="6748560" cy="1861920"/>
          </a:xfrm>
        </p:grpSpPr>
        <p:sp>
          <p:nvSpPr>
            <p:cNvPr id="305" name="TextBox 36"/>
            <p:cNvSpPr/>
            <p:nvPr/>
          </p:nvSpPr>
          <p:spPr>
            <a:xfrm>
              <a:off x="5573880" y="3147120"/>
              <a:ext cx="5762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ACME is up to </a:t>
              </a:r>
              <a:r>
                <a:rPr b="1" lang="en-IE" sz="1800" spc="-1" strike="noStrike">
                  <a:solidFill>
                    <a:srgbClr val="7a706e"/>
                  </a:solidFill>
                  <a:latin typeface="Calibri"/>
                </a:rPr>
                <a:t>20% cheaper than leading competitors</a:t>
              </a: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6" name="TextBox 37" descr=""/>
            <p:cNvPicPr/>
            <p:nvPr/>
          </p:nvPicPr>
          <p:blipFill>
            <a:blip r:embed="rId4"/>
            <a:stretch/>
          </p:blipFill>
          <p:spPr>
            <a:xfrm>
              <a:off x="4587840" y="2738520"/>
              <a:ext cx="1270080" cy="186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38"/>
          <p:cNvGrpSpPr/>
          <p:nvPr/>
        </p:nvGrpSpPr>
        <p:grpSpPr>
          <a:xfrm>
            <a:off x="4579920" y="4324320"/>
            <a:ext cx="6746760" cy="1862280"/>
            <a:chOff x="4579920" y="4324320"/>
            <a:chExt cx="6746760" cy="1862280"/>
          </a:xfrm>
        </p:grpSpPr>
        <p:sp>
          <p:nvSpPr>
            <p:cNvPr id="308" name="TextBox 39"/>
            <p:cNvSpPr/>
            <p:nvPr/>
          </p:nvSpPr>
          <p:spPr>
            <a:xfrm>
              <a:off x="5565960" y="47332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ACME is up to </a:t>
              </a:r>
              <a:r>
                <a:rPr b="1" lang="en-IE" sz="1800" spc="-1" strike="noStrike">
                  <a:solidFill>
                    <a:srgbClr val="7a706e"/>
                  </a:solidFill>
                  <a:latin typeface="Calibri"/>
                </a:rPr>
                <a:t>20% cheaper than leading competitors</a:t>
              </a: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9" name="TextBox 40" descr=""/>
            <p:cNvPicPr/>
            <p:nvPr/>
          </p:nvPicPr>
          <p:blipFill>
            <a:blip r:embed="rId5"/>
            <a:stretch/>
          </p:blipFill>
          <p:spPr>
            <a:xfrm>
              <a:off x="4579920" y="4324320"/>
              <a:ext cx="1269720" cy="186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文本框 8197"/>
          <p:cNvSpPr/>
          <p:nvPr/>
        </p:nvSpPr>
        <p:spPr>
          <a:xfrm>
            <a:off x="4640400" y="26859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1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Group 7" descr=""/>
          <p:cNvPicPr/>
          <p:nvPr/>
        </p:nvPicPr>
        <p:blipFill>
          <a:blip r:embed="rId1"/>
          <a:stretch/>
        </p:blipFill>
        <p:spPr>
          <a:xfrm>
            <a:off x="704880" y="774720"/>
            <a:ext cx="11103120" cy="62071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806400" y="5052960"/>
            <a:ext cx="342108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11"/>
          <p:cNvSpPr/>
          <p:nvPr/>
        </p:nvSpPr>
        <p:spPr>
          <a:xfrm>
            <a:off x="195912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15"/>
          <p:cNvSpPr/>
          <p:nvPr/>
        </p:nvSpPr>
        <p:spPr>
          <a:xfrm>
            <a:off x="26568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25"/>
          <p:cNvSpPr/>
          <p:nvPr/>
        </p:nvSpPr>
        <p:spPr>
          <a:xfrm>
            <a:off x="199548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29"/>
          <p:cNvSpPr/>
          <p:nvPr/>
        </p:nvSpPr>
        <p:spPr>
          <a:xfrm>
            <a:off x="1889640" y="43704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ight Triangle 36"/>
          <p:cNvSpPr/>
          <p:nvPr/>
        </p:nvSpPr>
        <p:spPr>
          <a:xfrm rot="13521000">
            <a:off x="4101120" y="5352120"/>
            <a:ext cx="233280" cy="23508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37" descr=""/>
          <p:cNvPicPr/>
          <p:nvPr/>
        </p:nvPicPr>
        <p:blipFill>
          <a:blip r:embed="rId2"/>
          <a:stretch/>
        </p:blipFill>
        <p:spPr>
          <a:xfrm>
            <a:off x="5219640" y="2135160"/>
            <a:ext cx="5583240" cy="439740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2"/>
          <p:cNvGrpSpPr/>
          <p:nvPr/>
        </p:nvGrpSpPr>
        <p:grpSpPr>
          <a:xfrm>
            <a:off x="10487160" y="622440"/>
            <a:ext cx="1511280" cy="1511280"/>
            <a:chOff x="10487160" y="622440"/>
            <a:chExt cx="1511280" cy="1511280"/>
          </a:xfrm>
        </p:grpSpPr>
        <p:sp>
          <p:nvSpPr>
            <p:cNvPr id="323" name="Oval 46"/>
            <p:cNvSpPr/>
            <p:nvPr/>
          </p:nvSpPr>
          <p:spPr>
            <a:xfrm>
              <a:off x="10487160" y="622440"/>
              <a:ext cx="1511280" cy="1511280"/>
            </a:xfrm>
            <a:prstGeom prst="ellipse">
              <a:avLst/>
            </a:prstGeom>
            <a:solidFill>
              <a:srgbClr val="8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TextBox 48"/>
            <p:cNvSpPr/>
            <p:nvPr/>
          </p:nvSpPr>
          <p:spPr>
            <a:xfrm>
              <a:off x="10779840" y="7840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5 STA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5" name="5-Point Star 49"/>
          <p:cNvSpPr/>
          <p:nvPr/>
        </p:nvSpPr>
        <p:spPr>
          <a:xfrm>
            <a:off x="10656720" y="1171440"/>
            <a:ext cx="366840" cy="365400"/>
          </a:xfrm>
          <a:custGeom>
            <a:avLst/>
            <a:gdLst/>
            <a:ahLst/>
            <a:rect l="l" t="t" r="r" b="b"/>
            <a:pathLst>
              <a:path w="366712" h="365125">
                <a:moveTo>
                  <a:pt x="0" y="139464"/>
                </a:moveTo>
                <a:lnTo>
                  <a:pt x="140072" y="139465"/>
                </a:lnTo>
                <a:lnTo>
                  <a:pt x="183356" y="0"/>
                </a:lnTo>
                <a:lnTo>
                  <a:pt x="226640" y="139465"/>
                </a:lnTo>
                <a:lnTo>
                  <a:pt x="366712" y="139464"/>
                </a:lnTo>
                <a:lnTo>
                  <a:pt x="253390" y="225658"/>
                </a:lnTo>
                <a:lnTo>
                  <a:pt x="296676" y="365124"/>
                </a:lnTo>
                <a:lnTo>
                  <a:pt x="183356" y="278928"/>
                </a:lnTo>
                <a:lnTo>
                  <a:pt x="70036" y="365124"/>
                </a:lnTo>
                <a:lnTo>
                  <a:pt x="113321" y="225658"/>
                </a:lnTo>
                <a:close/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5-Point Star 50"/>
          <p:cNvSpPr/>
          <p:nvPr/>
        </p:nvSpPr>
        <p:spPr>
          <a:xfrm>
            <a:off x="11079000" y="1154160"/>
            <a:ext cx="366840" cy="366840"/>
          </a:xfrm>
          <a:custGeom>
            <a:avLst/>
            <a:gdLst/>
            <a:ahLst/>
            <a:rect l="l" t="t" r="r" b="b"/>
            <a:pathLst>
              <a:path w="366712" h="366712">
                <a:moveTo>
                  <a:pt x="0" y="140071"/>
                </a:moveTo>
                <a:lnTo>
                  <a:pt x="140072" y="140072"/>
                </a:lnTo>
                <a:lnTo>
                  <a:pt x="183356" y="0"/>
                </a:lnTo>
                <a:lnTo>
                  <a:pt x="226640" y="140072"/>
                </a:lnTo>
                <a:lnTo>
                  <a:pt x="366712" y="140071"/>
                </a:lnTo>
                <a:lnTo>
                  <a:pt x="253390" y="226639"/>
                </a:lnTo>
                <a:lnTo>
                  <a:pt x="296676" y="366711"/>
                </a:lnTo>
                <a:lnTo>
                  <a:pt x="183356" y="280141"/>
                </a:lnTo>
                <a:lnTo>
                  <a:pt x="70036" y="366711"/>
                </a:lnTo>
                <a:lnTo>
                  <a:pt x="113321" y="226639"/>
                </a:lnTo>
                <a:close/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5-Point Star 51"/>
          <p:cNvSpPr/>
          <p:nvPr/>
        </p:nvSpPr>
        <p:spPr>
          <a:xfrm>
            <a:off x="11503080" y="1154160"/>
            <a:ext cx="365040" cy="365040"/>
          </a:xfrm>
          <a:custGeom>
            <a:avLst/>
            <a:gdLst/>
            <a:ahLst/>
            <a:rect l="l" t="t" r="r" b="b"/>
            <a:pathLst>
              <a:path w="365125" h="365125">
                <a:moveTo>
                  <a:pt x="0" y="139464"/>
                </a:moveTo>
                <a:lnTo>
                  <a:pt x="139466" y="139465"/>
                </a:lnTo>
                <a:lnTo>
                  <a:pt x="182562" y="0"/>
                </a:lnTo>
                <a:lnTo>
                  <a:pt x="225658" y="139465"/>
                </a:lnTo>
                <a:lnTo>
                  <a:pt x="365124" y="139464"/>
                </a:lnTo>
                <a:lnTo>
                  <a:pt x="252293" y="225658"/>
                </a:lnTo>
                <a:lnTo>
                  <a:pt x="295392" y="365124"/>
                </a:lnTo>
                <a:lnTo>
                  <a:pt x="182562" y="278928"/>
                </a:lnTo>
                <a:lnTo>
                  <a:pt x="69732" y="365124"/>
                </a:lnTo>
                <a:lnTo>
                  <a:pt x="112831" y="225658"/>
                </a:lnTo>
                <a:close/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5-Point Star 52"/>
          <p:cNvSpPr/>
          <p:nvPr/>
        </p:nvSpPr>
        <p:spPr>
          <a:xfrm>
            <a:off x="10887120" y="1539720"/>
            <a:ext cx="366840" cy="366840"/>
          </a:xfrm>
          <a:custGeom>
            <a:avLst/>
            <a:gdLst/>
            <a:ahLst/>
            <a:rect l="l" t="t" r="r" b="b"/>
            <a:pathLst>
              <a:path w="366712" h="366712">
                <a:moveTo>
                  <a:pt x="0" y="140071"/>
                </a:moveTo>
                <a:lnTo>
                  <a:pt x="140072" y="140072"/>
                </a:lnTo>
                <a:lnTo>
                  <a:pt x="183356" y="0"/>
                </a:lnTo>
                <a:lnTo>
                  <a:pt x="226640" y="140072"/>
                </a:lnTo>
                <a:lnTo>
                  <a:pt x="366712" y="140071"/>
                </a:lnTo>
                <a:lnTo>
                  <a:pt x="253390" y="226639"/>
                </a:lnTo>
                <a:lnTo>
                  <a:pt x="296676" y="366711"/>
                </a:lnTo>
                <a:lnTo>
                  <a:pt x="183356" y="280141"/>
                </a:lnTo>
                <a:lnTo>
                  <a:pt x="70036" y="366711"/>
                </a:lnTo>
                <a:lnTo>
                  <a:pt x="113321" y="226639"/>
                </a:lnTo>
                <a:close/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5-Point Star 53"/>
          <p:cNvSpPr/>
          <p:nvPr/>
        </p:nvSpPr>
        <p:spPr>
          <a:xfrm>
            <a:off x="11307600" y="1525680"/>
            <a:ext cx="365400" cy="366480"/>
          </a:xfrm>
          <a:custGeom>
            <a:avLst/>
            <a:gdLst/>
            <a:ahLst/>
            <a:rect l="l" t="t" r="r" b="b"/>
            <a:pathLst>
              <a:path w="365125" h="366712">
                <a:moveTo>
                  <a:pt x="0" y="140071"/>
                </a:moveTo>
                <a:lnTo>
                  <a:pt x="139466" y="140072"/>
                </a:lnTo>
                <a:lnTo>
                  <a:pt x="182562" y="0"/>
                </a:lnTo>
                <a:lnTo>
                  <a:pt x="225658" y="140072"/>
                </a:lnTo>
                <a:lnTo>
                  <a:pt x="365124" y="140071"/>
                </a:lnTo>
                <a:lnTo>
                  <a:pt x="252293" y="226639"/>
                </a:lnTo>
                <a:lnTo>
                  <a:pt x="295392" y="366711"/>
                </a:lnTo>
                <a:lnTo>
                  <a:pt x="182562" y="280141"/>
                </a:lnTo>
                <a:lnTo>
                  <a:pt x="69732" y="366711"/>
                </a:lnTo>
                <a:lnTo>
                  <a:pt x="112831" y="226639"/>
                </a:lnTo>
                <a:close/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0" name="Group 1"/>
          <p:cNvGrpSpPr/>
          <p:nvPr/>
        </p:nvGrpSpPr>
        <p:grpSpPr>
          <a:xfrm>
            <a:off x="4613400" y="1123920"/>
            <a:ext cx="5508360" cy="1086840"/>
            <a:chOff x="4613400" y="1123920"/>
            <a:chExt cx="5508360" cy="1086840"/>
          </a:xfrm>
        </p:grpSpPr>
        <p:sp>
          <p:nvSpPr>
            <p:cNvPr id="331" name="TextBox 47"/>
            <p:cNvSpPr/>
            <p:nvPr/>
          </p:nvSpPr>
          <p:spPr>
            <a:xfrm>
              <a:off x="4630680" y="1123920"/>
              <a:ext cx="26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6a605e"/>
                  </a:solidFill>
                  <a:latin typeface="Calibri"/>
                </a:rPr>
                <a:t>Everybody Loves AC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TextBox 54"/>
            <p:cNvSpPr/>
            <p:nvPr/>
          </p:nvSpPr>
          <p:spPr>
            <a:xfrm>
              <a:off x="4613400" y="1568160"/>
              <a:ext cx="55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6a605e"/>
                  </a:solidFill>
                  <a:latin typeface="Calibri"/>
                </a:rPr>
                <a:t>Customers consistently rate ACME above competitor’s software</a:t>
              </a: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.  That makes us more than a little proud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Rounded Rectangle 27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6-Point Star 28"/>
          <p:cNvSpPr/>
          <p:nvPr/>
        </p:nvSpPr>
        <p:spPr>
          <a:xfrm>
            <a:off x="1117440" y="5359320"/>
            <a:ext cx="355680" cy="355680"/>
          </a:xfrm>
          <a:custGeom>
            <a:avLst/>
            <a:gdLst/>
            <a:ahLst/>
            <a:rect l="l" t="t" r="r" b="b"/>
            <a:pathLst>
              <a:path w="355600" h="355600">
                <a:moveTo>
                  <a:pt x="0" y="88900"/>
                </a:moveTo>
                <a:lnTo>
                  <a:pt x="118532" y="88898"/>
                </a:lnTo>
                <a:lnTo>
                  <a:pt x="177800" y="0"/>
                </a:lnTo>
                <a:lnTo>
                  <a:pt x="237067" y="88898"/>
                </a:lnTo>
                <a:lnTo>
                  <a:pt x="355599" y="88900"/>
                </a:lnTo>
                <a:lnTo>
                  <a:pt x="296335" y="177800"/>
                </a:lnTo>
                <a:lnTo>
                  <a:pt x="355599" y="266700"/>
                </a:lnTo>
                <a:lnTo>
                  <a:pt x="237067" y="266701"/>
                </a:lnTo>
                <a:lnTo>
                  <a:pt x="177800" y="355600"/>
                </a:lnTo>
                <a:lnTo>
                  <a:pt x="118532" y="266701"/>
                </a:lnTo>
                <a:lnTo>
                  <a:pt x="0" y="266700"/>
                </a:lnTo>
                <a:lnTo>
                  <a:pt x="59264" y="177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Down Ribbon 30"/>
          <p:cNvSpPr/>
          <p:nvPr/>
        </p:nvSpPr>
        <p:spPr>
          <a:xfrm>
            <a:off x="1087560" y="2112840"/>
            <a:ext cx="404640" cy="198720"/>
          </a:xfrm>
          <a:custGeom>
            <a:avLst/>
            <a:gdLst>
              <a:gd name="textAreaLeft" fmla="*/ 101160 w 404640"/>
              <a:gd name="textAreaRight" fmla="*/ 303480 w 404640"/>
              <a:gd name="textAreaTop" fmla="*/ 3312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Group 31" descr=""/>
          <p:cNvPicPr/>
          <p:nvPr/>
        </p:nvPicPr>
        <p:blipFill>
          <a:blip r:embed="rId3"/>
          <a:stretch/>
        </p:blipFill>
        <p:spPr>
          <a:xfrm>
            <a:off x="1122480" y="1184400"/>
            <a:ext cx="338040" cy="34740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35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338" name="Oval 38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TextBox 39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Oval Callout 40"/>
          <p:cNvSpPr/>
          <p:nvPr/>
        </p:nvSpPr>
        <p:spPr>
          <a:xfrm>
            <a:off x="1117440" y="4451400"/>
            <a:ext cx="366840" cy="3207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1A6D-F926-4D5D-807E-1E6D1DA027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5"/>
          <p:cNvSpPr/>
          <p:nvPr/>
        </p:nvSpPr>
        <p:spPr>
          <a:xfrm>
            <a:off x="3106080" y="25495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Calibri Light"/>
              </a:rPr>
              <a:t>CLICK THE LINK BELOW TO BU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995400" y="252396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Calibri Light"/>
              </a:rPr>
              <a:t>NOT JUST THE CHEAP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471720" y="252396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Calibri Light"/>
              </a:rPr>
              <a:t>THE MOST POP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793480" y="240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8fcece"/>
                </a:solidFill>
                <a:latin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2979360" y="259380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7200" spc="-1" strike="noStrike">
                <a:solidFill>
                  <a:srgbClr val="ffffff"/>
                </a:solidFill>
                <a:latin typeface="Calibri Light"/>
              </a:rPr>
              <a:t>BUT TH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6436080" y="2593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7200" spc="-1" strike="noStrike">
                <a:solidFill>
                  <a:srgbClr val="8fcece"/>
                </a:solidFill>
                <a:latin typeface="Calibri Light"/>
              </a:rPr>
              <a:t>BEST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3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Group 7" descr=""/>
          <p:cNvPicPr/>
          <p:nvPr/>
        </p:nvPicPr>
        <p:blipFill>
          <a:blip r:embed="rId1"/>
          <a:stretch/>
        </p:blipFill>
        <p:spPr>
          <a:xfrm>
            <a:off x="704880" y="787320"/>
            <a:ext cx="11103120" cy="6208920"/>
          </a:xfrm>
          <a:prstGeom prst="rect">
            <a:avLst/>
          </a:prstGeom>
          <a:ln w="0">
            <a:noFill/>
          </a:ln>
        </p:spPr>
      </p:pic>
      <p:sp>
        <p:nvSpPr>
          <p:cNvPr id="92" name="TextBox 15"/>
          <p:cNvSpPr/>
          <p:nvPr/>
        </p:nvSpPr>
        <p:spPr>
          <a:xfrm>
            <a:off x="26568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25"/>
          <p:cNvSpPr/>
          <p:nvPr/>
        </p:nvSpPr>
        <p:spPr>
          <a:xfrm>
            <a:off x="199548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60"/>
          <p:cNvGrpSpPr/>
          <p:nvPr/>
        </p:nvGrpSpPr>
        <p:grpSpPr>
          <a:xfrm>
            <a:off x="4726080" y="1322280"/>
            <a:ext cx="1608120" cy="1078200"/>
            <a:chOff x="4726080" y="1322280"/>
            <a:chExt cx="1608120" cy="1078200"/>
          </a:xfrm>
        </p:grpSpPr>
        <p:grpSp>
          <p:nvGrpSpPr>
            <p:cNvPr id="99" name="Group 9"/>
            <p:cNvGrpSpPr/>
            <p:nvPr/>
          </p:nvGrpSpPr>
          <p:grpSpPr>
            <a:xfrm>
              <a:off x="4726080" y="1322280"/>
              <a:ext cx="1608120" cy="1078200"/>
              <a:chOff x="4726080" y="1322280"/>
              <a:chExt cx="1608120" cy="1078200"/>
            </a:xfrm>
          </p:grpSpPr>
          <p:sp>
            <p:nvSpPr>
              <p:cNvPr id="100" name="Rectangle 1"/>
              <p:cNvSpPr/>
              <p:nvPr/>
            </p:nvSpPr>
            <p:spPr>
              <a:xfrm>
                <a:off x="4726080" y="1322280"/>
                <a:ext cx="1608120" cy="70776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Isosceles Triangle 5"/>
              <p:cNvSpPr/>
              <p:nvPr/>
            </p:nvSpPr>
            <p:spPr>
              <a:xfrm rot="10800000">
                <a:off x="4941000" y="184608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TextBox 10"/>
            <p:cNvSpPr/>
            <p:nvPr/>
          </p:nvSpPr>
          <p:spPr>
            <a:xfrm>
              <a:off x="5065200" y="13222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100K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6"/>
            <p:cNvSpPr/>
            <p:nvPr/>
          </p:nvSpPr>
          <p:spPr>
            <a:xfrm>
              <a:off x="4975920" y="16401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61"/>
          <p:cNvGrpSpPr/>
          <p:nvPr/>
        </p:nvGrpSpPr>
        <p:grpSpPr>
          <a:xfrm>
            <a:off x="7385400" y="1322280"/>
            <a:ext cx="1175760" cy="686160"/>
            <a:chOff x="7385400" y="1322280"/>
            <a:chExt cx="1175760" cy="686160"/>
          </a:xfrm>
        </p:grpSpPr>
        <p:grpSp>
          <p:nvGrpSpPr>
            <p:cNvPr id="105" name="Group 2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06" name="TextBox 28"/>
            <p:cNvSpPr/>
            <p:nvPr/>
          </p:nvSpPr>
          <p:spPr>
            <a:xfrm>
              <a:off x="7435800" y="1322280"/>
              <a:ext cx="10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19.6K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30"/>
            <p:cNvSpPr/>
            <p:nvPr/>
          </p:nvSpPr>
          <p:spPr>
            <a:xfrm>
              <a:off x="7385400" y="16401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62"/>
          <p:cNvGrpSpPr/>
          <p:nvPr/>
        </p:nvGrpSpPr>
        <p:grpSpPr>
          <a:xfrm>
            <a:off x="9344520" y="1330200"/>
            <a:ext cx="1718280" cy="677880"/>
            <a:chOff x="9344520" y="1330200"/>
            <a:chExt cx="1718280" cy="677880"/>
          </a:xfrm>
        </p:grpSpPr>
        <p:grpSp>
          <p:nvGrpSpPr>
            <p:cNvPr id="109" name="Group 2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10" name="TextBox 31"/>
            <p:cNvSpPr/>
            <p:nvPr/>
          </p:nvSpPr>
          <p:spPr>
            <a:xfrm>
              <a:off x="9756000" y="13302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32"/>
            <p:cNvSpPr/>
            <p:nvPr/>
          </p:nvSpPr>
          <p:spPr>
            <a:xfrm>
              <a:off x="9344520" y="16398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63"/>
          <p:cNvGrpSpPr/>
          <p:nvPr/>
        </p:nvGrpSpPr>
        <p:grpSpPr>
          <a:xfrm>
            <a:off x="5023440" y="3206880"/>
            <a:ext cx="1217160" cy="686160"/>
            <a:chOff x="5023440" y="3206880"/>
            <a:chExt cx="1217160" cy="686160"/>
          </a:xfrm>
        </p:grpSpPr>
        <p:grpSp>
          <p:nvGrpSpPr>
            <p:cNvPr id="113" name="Group 3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14" name="TextBox 43"/>
            <p:cNvSpPr/>
            <p:nvPr/>
          </p:nvSpPr>
          <p:spPr>
            <a:xfrm>
              <a:off x="5202720" y="32068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10K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44"/>
            <p:cNvSpPr/>
            <p:nvPr/>
          </p:nvSpPr>
          <p:spPr>
            <a:xfrm>
              <a:off x="5023440" y="35247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4"/>
          <p:cNvGrpSpPr/>
          <p:nvPr/>
        </p:nvGrpSpPr>
        <p:grpSpPr>
          <a:xfrm>
            <a:off x="7432920" y="3206880"/>
            <a:ext cx="1175760" cy="686160"/>
            <a:chOff x="7432920" y="3206880"/>
            <a:chExt cx="1175760" cy="686160"/>
          </a:xfrm>
        </p:grpSpPr>
        <p:grpSp>
          <p:nvGrpSpPr>
            <p:cNvPr id="117" name="Group 3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18" name="TextBox 45"/>
            <p:cNvSpPr/>
            <p:nvPr/>
          </p:nvSpPr>
          <p:spPr>
            <a:xfrm>
              <a:off x="7572960" y="3206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9.6K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46"/>
            <p:cNvSpPr/>
            <p:nvPr/>
          </p:nvSpPr>
          <p:spPr>
            <a:xfrm>
              <a:off x="7432920" y="35247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65"/>
          <p:cNvGrpSpPr/>
          <p:nvPr/>
        </p:nvGrpSpPr>
        <p:grpSpPr>
          <a:xfrm>
            <a:off x="9392040" y="3214800"/>
            <a:ext cx="1718280" cy="677520"/>
            <a:chOff x="9392040" y="3214800"/>
            <a:chExt cx="1718280" cy="677520"/>
          </a:xfrm>
        </p:grpSpPr>
        <p:grpSp>
          <p:nvGrpSpPr>
            <p:cNvPr id="121" name="Group 4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22" name="TextBox 47"/>
            <p:cNvSpPr/>
            <p:nvPr/>
          </p:nvSpPr>
          <p:spPr>
            <a:xfrm>
              <a:off x="9803520" y="32148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48"/>
            <p:cNvSpPr/>
            <p:nvPr/>
          </p:nvSpPr>
          <p:spPr>
            <a:xfrm>
              <a:off x="9392040" y="352404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7"/>
          <p:cNvGrpSpPr/>
          <p:nvPr/>
        </p:nvGrpSpPr>
        <p:grpSpPr>
          <a:xfrm>
            <a:off x="4537080" y="4889520"/>
            <a:ext cx="6746760" cy="1862280"/>
            <a:chOff x="4537080" y="4889520"/>
            <a:chExt cx="6746760" cy="1862280"/>
          </a:xfrm>
        </p:grpSpPr>
        <p:sp>
          <p:nvSpPr>
            <p:cNvPr id="125" name="TextBox 18"/>
            <p:cNvSpPr/>
            <p:nvPr/>
          </p:nvSpPr>
          <p:spPr>
            <a:xfrm>
              <a:off x="5523120" y="52984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Making ACME </a:t>
              </a:r>
              <a:r>
                <a:rPr b="1" lang="en-IE" sz="1800" spc="-1" strike="noStrike">
                  <a:solidFill>
                    <a:srgbClr val="7a706e"/>
                  </a:solidFill>
                  <a:latin typeface="Calibri"/>
                </a:rPr>
                <a:t>the number 1 Downloaded Software </a:t>
              </a: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for doing XYZ. It can’t be beaten on customer reviews and download number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TextBox 19" descr=""/>
            <p:cNvPicPr/>
            <p:nvPr/>
          </p:nvPicPr>
          <p:blipFill>
            <a:blip r:embed="rId2"/>
            <a:stretch/>
          </p:blipFill>
          <p:spPr>
            <a:xfrm>
              <a:off x="4537080" y="4889520"/>
              <a:ext cx="1269720" cy="18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66"/>
          <p:cNvGrpSpPr/>
          <p:nvPr/>
        </p:nvGrpSpPr>
        <p:grpSpPr>
          <a:xfrm>
            <a:off x="806400" y="927000"/>
            <a:ext cx="3562920" cy="806400"/>
            <a:chOff x="806400" y="927000"/>
            <a:chExt cx="3562920" cy="806400"/>
          </a:xfrm>
        </p:grpSpPr>
        <p:sp>
          <p:nvSpPr>
            <p:cNvPr id="128" name="Rectangle 8"/>
            <p:cNvSpPr/>
            <p:nvPr/>
          </p:nvSpPr>
          <p:spPr>
            <a:xfrm>
              <a:off x="806400" y="927000"/>
              <a:ext cx="3420720" cy="806400"/>
            </a:xfrm>
            <a:prstGeom prst="rect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ight Triangle 49"/>
            <p:cNvSpPr/>
            <p:nvPr/>
          </p:nvSpPr>
          <p:spPr>
            <a:xfrm rot="13521000">
              <a:off x="4087080" y="1224000"/>
              <a:ext cx="233640" cy="233640"/>
            </a:xfrm>
            <a:prstGeom prst="rtTriangle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Rounded Rectangle 50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6-Point Star 51"/>
          <p:cNvSpPr/>
          <p:nvPr/>
        </p:nvSpPr>
        <p:spPr>
          <a:xfrm>
            <a:off x="1117440" y="5359320"/>
            <a:ext cx="355680" cy="355680"/>
          </a:xfrm>
          <a:custGeom>
            <a:avLst/>
            <a:gdLst/>
            <a:ahLst/>
            <a:rect l="l" t="t" r="r" b="b"/>
            <a:pathLst>
              <a:path w="355600" h="355600">
                <a:moveTo>
                  <a:pt x="0" y="88900"/>
                </a:moveTo>
                <a:lnTo>
                  <a:pt x="118532" y="88898"/>
                </a:lnTo>
                <a:lnTo>
                  <a:pt x="177800" y="0"/>
                </a:lnTo>
                <a:lnTo>
                  <a:pt x="237067" y="88898"/>
                </a:lnTo>
                <a:lnTo>
                  <a:pt x="355599" y="88900"/>
                </a:lnTo>
                <a:lnTo>
                  <a:pt x="296335" y="177800"/>
                </a:lnTo>
                <a:lnTo>
                  <a:pt x="355599" y="266700"/>
                </a:lnTo>
                <a:lnTo>
                  <a:pt x="237067" y="266701"/>
                </a:lnTo>
                <a:lnTo>
                  <a:pt x="177800" y="355600"/>
                </a:lnTo>
                <a:lnTo>
                  <a:pt x="118532" y="266701"/>
                </a:lnTo>
                <a:lnTo>
                  <a:pt x="0" y="266700"/>
                </a:lnTo>
                <a:lnTo>
                  <a:pt x="59264" y="177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own Ribbon 52"/>
          <p:cNvSpPr/>
          <p:nvPr/>
        </p:nvSpPr>
        <p:spPr>
          <a:xfrm>
            <a:off x="1087560" y="2112840"/>
            <a:ext cx="404640" cy="198720"/>
          </a:xfrm>
          <a:custGeom>
            <a:avLst/>
            <a:gdLst>
              <a:gd name="textAreaLeft" fmla="*/ 101160 w 404640"/>
              <a:gd name="textAreaRight" fmla="*/ 303480 w 404640"/>
              <a:gd name="textAreaTop" fmla="*/ 3312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Group 53" descr=""/>
          <p:cNvPicPr/>
          <p:nvPr/>
        </p:nvPicPr>
        <p:blipFill>
          <a:blip r:embed="rId3"/>
          <a:stretch/>
        </p:blipFill>
        <p:spPr>
          <a:xfrm>
            <a:off x="1122480" y="1184400"/>
            <a:ext cx="338040" cy="347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35" name="Oval 5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5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Oval Callout 59"/>
          <p:cNvSpPr/>
          <p:nvPr/>
        </p:nvSpPr>
        <p:spPr>
          <a:xfrm>
            <a:off x="1117440" y="4451400"/>
            <a:ext cx="366840" cy="3207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7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750"/>
                            </p:stCondLst>
                            <p:childTnLst>
                              <p:par>
                                <p:cTn id="84" dur="indefinite" nodeType="after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Group 7" descr=""/>
          <p:cNvPicPr/>
          <p:nvPr/>
        </p:nvPicPr>
        <p:blipFill>
          <a:blip r:embed="rId1"/>
          <a:stretch/>
        </p:blipFill>
        <p:spPr>
          <a:xfrm>
            <a:off x="704880" y="774720"/>
            <a:ext cx="11103120" cy="6207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806400" y="1803240"/>
            <a:ext cx="342108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6568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5"/>
          <p:cNvSpPr/>
          <p:nvPr/>
        </p:nvSpPr>
        <p:spPr>
          <a:xfrm>
            <a:off x="199548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ight Triangle 36"/>
          <p:cNvSpPr/>
          <p:nvPr/>
        </p:nvSpPr>
        <p:spPr>
          <a:xfrm rot="13521000">
            <a:off x="4101120" y="2116800"/>
            <a:ext cx="233280" cy="23508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5" descr=""/>
          <p:cNvPicPr/>
          <p:nvPr/>
        </p:nvPicPr>
        <p:blipFill>
          <a:blip r:embed="rId2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51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6-Point Star 59"/>
          <p:cNvSpPr/>
          <p:nvPr/>
        </p:nvSpPr>
        <p:spPr>
          <a:xfrm>
            <a:off x="1117440" y="5359320"/>
            <a:ext cx="355680" cy="355680"/>
          </a:xfrm>
          <a:custGeom>
            <a:avLst/>
            <a:gdLst/>
            <a:ahLst/>
            <a:rect l="l" t="t" r="r" b="b"/>
            <a:pathLst>
              <a:path w="355600" h="355600">
                <a:moveTo>
                  <a:pt x="0" y="88900"/>
                </a:moveTo>
                <a:lnTo>
                  <a:pt x="118532" y="88898"/>
                </a:lnTo>
                <a:lnTo>
                  <a:pt x="177800" y="0"/>
                </a:lnTo>
                <a:lnTo>
                  <a:pt x="237067" y="88898"/>
                </a:lnTo>
                <a:lnTo>
                  <a:pt x="355599" y="88900"/>
                </a:lnTo>
                <a:lnTo>
                  <a:pt x="296335" y="177800"/>
                </a:lnTo>
                <a:lnTo>
                  <a:pt x="355599" y="266700"/>
                </a:lnTo>
                <a:lnTo>
                  <a:pt x="237067" y="266701"/>
                </a:lnTo>
                <a:lnTo>
                  <a:pt x="177800" y="355600"/>
                </a:lnTo>
                <a:lnTo>
                  <a:pt x="118532" y="266701"/>
                </a:lnTo>
                <a:lnTo>
                  <a:pt x="0" y="266700"/>
                </a:lnTo>
                <a:lnTo>
                  <a:pt x="59264" y="177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own Ribbon 60"/>
          <p:cNvSpPr/>
          <p:nvPr/>
        </p:nvSpPr>
        <p:spPr>
          <a:xfrm>
            <a:off x="1087560" y="2112840"/>
            <a:ext cx="404640" cy="198720"/>
          </a:xfrm>
          <a:custGeom>
            <a:avLst/>
            <a:gdLst>
              <a:gd name="textAreaLeft" fmla="*/ 101160 w 404640"/>
              <a:gd name="textAreaRight" fmla="*/ 303480 w 404640"/>
              <a:gd name="textAreaTop" fmla="*/ 3312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oup 61" descr=""/>
          <p:cNvPicPr/>
          <p:nvPr/>
        </p:nvPicPr>
        <p:blipFill>
          <a:blip r:embed="rId4"/>
          <a:stretch/>
        </p:blipFill>
        <p:spPr>
          <a:xfrm>
            <a:off x="1122480" y="1184400"/>
            <a:ext cx="338040" cy="3474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56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Oval Callout 67"/>
          <p:cNvSpPr/>
          <p:nvPr/>
        </p:nvSpPr>
        <p:spPr>
          <a:xfrm>
            <a:off x="1117440" y="4451400"/>
            <a:ext cx="366840" cy="3207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60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6a605e"/>
                  </a:solidFill>
                  <a:latin typeface="Calibri"/>
                </a:rPr>
                <a:t>TITLE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62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64" name="文本框 8197"/>
          <p:cNvSpPr/>
          <p:nvPr/>
        </p:nvSpPr>
        <p:spPr>
          <a:xfrm>
            <a:off x="4387680" y="176364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821 7.40741E-007 L 0.22903 -0.72616 E">
                                      <p:cBhvr>
                                        <p:cTn id="104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Group 7" descr=""/>
          <p:cNvPicPr/>
          <p:nvPr/>
        </p:nvPicPr>
        <p:blipFill>
          <a:blip r:embed="rId1"/>
          <a:stretch/>
        </p:blipFill>
        <p:spPr>
          <a:xfrm>
            <a:off x="704880" y="774720"/>
            <a:ext cx="11103120" cy="62071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806400" y="1803240"/>
            <a:ext cx="342108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5"/>
          <p:cNvSpPr/>
          <p:nvPr/>
        </p:nvSpPr>
        <p:spPr>
          <a:xfrm>
            <a:off x="26568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25"/>
          <p:cNvSpPr/>
          <p:nvPr/>
        </p:nvSpPr>
        <p:spPr>
          <a:xfrm>
            <a:off x="199548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ight Triangle 36"/>
          <p:cNvSpPr/>
          <p:nvPr/>
        </p:nvSpPr>
        <p:spPr>
          <a:xfrm rot="13521000">
            <a:off x="4101120" y="2116800"/>
            <a:ext cx="233280" cy="23508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55" descr=""/>
          <p:cNvPicPr/>
          <p:nvPr/>
        </p:nvPicPr>
        <p:blipFill>
          <a:blip r:embed="rId2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77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6-Point Star 59"/>
          <p:cNvSpPr/>
          <p:nvPr/>
        </p:nvSpPr>
        <p:spPr>
          <a:xfrm>
            <a:off x="1117440" y="5359320"/>
            <a:ext cx="355680" cy="355680"/>
          </a:xfrm>
          <a:custGeom>
            <a:avLst/>
            <a:gdLst/>
            <a:ahLst/>
            <a:rect l="l" t="t" r="r" b="b"/>
            <a:pathLst>
              <a:path w="355600" h="355600">
                <a:moveTo>
                  <a:pt x="0" y="88900"/>
                </a:moveTo>
                <a:lnTo>
                  <a:pt x="118532" y="88898"/>
                </a:lnTo>
                <a:lnTo>
                  <a:pt x="177800" y="0"/>
                </a:lnTo>
                <a:lnTo>
                  <a:pt x="237067" y="88898"/>
                </a:lnTo>
                <a:lnTo>
                  <a:pt x="355599" y="88900"/>
                </a:lnTo>
                <a:lnTo>
                  <a:pt x="296335" y="177800"/>
                </a:lnTo>
                <a:lnTo>
                  <a:pt x="355599" y="266700"/>
                </a:lnTo>
                <a:lnTo>
                  <a:pt x="237067" y="266701"/>
                </a:lnTo>
                <a:lnTo>
                  <a:pt x="177800" y="355600"/>
                </a:lnTo>
                <a:lnTo>
                  <a:pt x="118532" y="266701"/>
                </a:lnTo>
                <a:lnTo>
                  <a:pt x="0" y="266700"/>
                </a:lnTo>
                <a:lnTo>
                  <a:pt x="59264" y="177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Down Ribbon 60"/>
          <p:cNvSpPr/>
          <p:nvPr/>
        </p:nvSpPr>
        <p:spPr>
          <a:xfrm>
            <a:off x="1087560" y="2112840"/>
            <a:ext cx="404640" cy="198720"/>
          </a:xfrm>
          <a:custGeom>
            <a:avLst/>
            <a:gdLst>
              <a:gd name="textAreaLeft" fmla="*/ 101160 w 404640"/>
              <a:gd name="textAreaRight" fmla="*/ 303480 w 404640"/>
              <a:gd name="textAreaTop" fmla="*/ 3312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Group 61" descr=""/>
          <p:cNvPicPr/>
          <p:nvPr/>
        </p:nvPicPr>
        <p:blipFill>
          <a:blip r:embed="rId4"/>
          <a:stretch/>
        </p:blipFill>
        <p:spPr>
          <a:xfrm>
            <a:off x="1122480" y="1184400"/>
            <a:ext cx="338040" cy="34740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82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Oval Callout 67"/>
          <p:cNvSpPr/>
          <p:nvPr/>
        </p:nvSpPr>
        <p:spPr>
          <a:xfrm>
            <a:off x="1117440" y="4451400"/>
            <a:ext cx="366840" cy="3207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86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6a605e"/>
                  </a:solidFill>
                  <a:latin typeface="Calibri"/>
                </a:rPr>
                <a:t>ACTION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7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88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04 -0.72616 L 0.6 -0.58519 E">
                                      <p:cBhvr>
                                        <p:cTn id="11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Group 7" descr=""/>
          <p:cNvPicPr/>
          <p:nvPr/>
        </p:nvPicPr>
        <p:blipFill>
          <a:blip r:embed="rId1"/>
          <a:stretch/>
        </p:blipFill>
        <p:spPr>
          <a:xfrm>
            <a:off x="704880" y="774720"/>
            <a:ext cx="11103120" cy="62071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806400" y="1803240"/>
            <a:ext cx="342108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26568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5"/>
          <p:cNvSpPr/>
          <p:nvPr/>
        </p:nvSpPr>
        <p:spPr>
          <a:xfrm>
            <a:off x="199548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ight Triangle 36"/>
          <p:cNvSpPr/>
          <p:nvPr/>
        </p:nvSpPr>
        <p:spPr>
          <a:xfrm rot="13521000">
            <a:off x="4101120" y="2116800"/>
            <a:ext cx="233280" cy="23508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5" descr=""/>
          <p:cNvPicPr/>
          <p:nvPr/>
        </p:nvPicPr>
        <p:blipFill>
          <a:blip r:embed="rId2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3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202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6-Point Star 59"/>
          <p:cNvSpPr/>
          <p:nvPr/>
        </p:nvSpPr>
        <p:spPr>
          <a:xfrm>
            <a:off x="1117440" y="5359320"/>
            <a:ext cx="355680" cy="355680"/>
          </a:xfrm>
          <a:custGeom>
            <a:avLst/>
            <a:gdLst/>
            <a:ahLst/>
            <a:rect l="l" t="t" r="r" b="b"/>
            <a:pathLst>
              <a:path w="355600" h="355600">
                <a:moveTo>
                  <a:pt x="0" y="88900"/>
                </a:moveTo>
                <a:lnTo>
                  <a:pt x="118532" y="88898"/>
                </a:lnTo>
                <a:lnTo>
                  <a:pt x="177800" y="0"/>
                </a:lnTo>
                <a:lnTo>
                  <a:pt x="237067" y="88898"/>
                </a:lnTo>
                <a:lnTo>
                  <a:pt x="355599" y="88900"/>
                </a:lnTo>
                <a:lnTo>
                  <a:pt x="296335" y="177800"/>
                </a:lnTo>
                <a:lnTo>
                  <a:pt x="355599" y="266700"/>
                </a:lnTo>
                <a:lnTo>
                  <a:pt x="237067" y="266701"/>
                </a:lnTo>
                <a:lnTo>
                  <a:pt x="177800" y="355600"/>
                </a:lnTo>
                <a:lnTo>
                  <a:pt x="118532" y="266701"/>
                </a:lnTo>
                <a:lnTo>
                  <a:pt x="0" y="266700"/>
                </a:lnTo>
                <a:lnTo>
                  <a:pt x="59264" y="177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Down Ribbon 60"/>
          <p:cNvSpPr/>
          <p:nvPr/>
        </p:nvSpPr>
        <p:spPr>
          <a:xfrm>
            <a:off x="1087560" y="2112840"/>
            <a:ext cx="404640" cy="198720"/>
          </a:xfrm>
          <a:custGeom>
            <a:avLst/>
            <a:gdLst>
              <a:gd name="textAreaLeft" fmla="*/ 101160 w 404640"/>
              <a:gd name="textAreaRight" fmla="*/ 303480 w 404640"/>
              <a:gd name="textAreaTop" fmla="*/ 3312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Group 61" descr=""/>
          <p:cNvPicPr/>
          <p:nvPr/>
        </p:nvPicPr>
        <p:blipFill>
          <a:blip r:embed="rId4"/>
          <a:stretch/>
        </p:blipFill>
        <p:spPr>
          <a:xfrm>
            <a:off x="1122480" y="1184400"/>
            <a:ext cx="338040" cy="3474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07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Oval Callout 67"/>
          <p:cNvSpPr/>
          <p:nvPr/>
        </p:nvSpPr>
        <p:spPr>
          <a:xfrm>
            <a:off x="1117440" y="4451400"/>
            <a:ext cx="366840" cy="3207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211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6a605e"/>
                  </a:solidFill>
                  <a:latin typeface="Calibri"/>
                </a:rPr>
                <a:t>IMAGE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2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213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-0.58519 L 0.41862 -0.36829 E">
                                      <p:cBhvr>
                                        <p:cTn id="124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5"/>
          <p:cNvSpPr/>
          <p:nvPr/>
        </p:nvSpPr>
        <p:spPr>
          <a:xfrm>
            <a:off x="534960" y="2833560"/>
            <a:ext cx="11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Calibri Light"/>
              </a:rPr>
              <a:t>No Other Software Matches ACME For Range Of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Group 7" descr=""/>
          <p:cNvPicPr/>
          <p:nvPr/>
        </p:nvPicPr>
        <p:blipFill>
          <a:blip r:embed="rId1"/>
          <a:stretch/>
        </p:blipFill>
        <p:spPr>
          <a:xfrm>
            <a:off x="704880" y="787320"/>
            <a:ext cx="11103120" cy="62089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806400" y="2577960"/>
            <a:ext cx="3421080" cy="80676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5"/>
          <p:cNvSpPr/>
          <p:nvPr/>
        </p:nvSpPr>
        <p:spPr>
          <a:xfrm>
            <a:off x="26568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25"/>
          <p:cNvSpPr/>
          <p:nvPr/>
        </p:nvSpPr>
        <p:spPr>
          <a:xfrm>
            <a:off x="199548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" descr=""/>
          <p:cNvPicPr/>
          <p:nvPr/>
        </p:nvPicPr>
        <p:blipFill>
          <a:blip r:embed="rId2"/>
          <a:stretch/>
        </p:blipFill>
        <p:spPr>
          <a:xfrm>
            <a:off x="4349880" y="1054080"/>
            <a:ext cx="7254720" cy="5678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3"/>
          <a:stretch/>
        </p:blipFill>
        <p:spPr>
          <a:xfrm>
            <a:off x="4363920" y="1054080"/>
            <a:ext cx="7253280" cy="5678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"/>
          <p:cNvPicPr/>
          <p:nvPr/>
        </p:nvPicPr>
        <p:blipFill>
          <a:blip r:embed="rId4"/>
          <a:stretch/>
        </p:blipFill>
        <p:spPr>
          <a:xfrm>
            <a:off x="4363920" y="1054080"/>
            <a:ext cx="7255080" cy="5678640"/>
          </a:xfrm>
          <a:prstGeom prst="rect">
            <a:avLst/>
          </a:prstGeom>
          <a:ln w="0">
            <a:noFill/>
          </a:ln>
        </p:spPr>
      </p:pic>
      <p:sp>
        <p:nvSpPr>
          <p:cNvPr id="228" name="Right Triangle 20"/>
          <p:cNvSpPr/>
          <p:nvPr/>
        </p:nvSpPr>
        <p:spPr>
          <a:xfrm rot="13521000">
            <a:off x="4101120" y="2899440"/>
            <a:ext cx="233280" cy="23508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ounded Rectangle 22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6-Point Star 23"/>
          <p:cNvSpPr/>
          <p:nvPr/>
        </p:nvSpPr>
        <p:spPr>
          <a:xfrm>
            <a:off x="1117440" y="5359320"/>
            <a:ext cx="355680" cy="355680"/>
          </a:xfrm>
          <a:custGeom>
            <a:avLst/>
            <a:gdLst/>
            <a:ahLst/>
            <a:rect l="l" t="t" r="r" b="b"/>
            <a:pathLst>
              <a:path w="355600" h="355600">
                <a:moveTo>
                  <a:pt x="0" y="88900"/>
                </a:moveTo>
                <a:lnTo>
                  <a:pt x="118532" y="88898"/>
                </a:lnTo>
                <a:lnTo>
                  <a:pt x="177800" y="0"/>
                </a:lnTo>
                <a:lnTo>
                  <a:pt x="237067" y="88898"/>
                </a:lnTo>
                <a:lnTo>
                  <a:pt x="355599" y="88900"/>
                </a:lnTo>
                <a:lnTo>
                  <a:pt x="296335" y="177800"/>
                </a:lnTo>
                <a:lnTo>
                  <a:pt x="355599" y="266700"/>
                </a:lnTo>
                <a:lnTo>
                  <a:pt x="237067" y="266701"/>
                </a:lnTo>
                <a:lnTo>
                  <a:pt x="177800" y="355600"/>
                </a:lnTo>
                <a:lnTo>
                  <a:pt x="118532" y="266701"/>
                </a:lnTo>
                <a:lnTo>
                  <a:pt x="0" y="266700"/>
                </a:lnTo>
                <a:lnTo>
                  <a:pt x="59264" y="177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own Ribbon 24"/>
          <p:cNvSpPr/>
          <p:nvPr/>
        </p:nvSpPr>
        <p:spPr>
          <a:xfrm>
            <a:off x="1087560" y="2112840"/>
            <a:ext cx="404640" cy="198720"/>
          </a:xfrm>
          <a:custGeom>
            <a:avLst/>
            <a:gdLst>
              <a:gd name="textAreaLeft" fmla="*/ 101160 w 404640"/>
              <a:gd name="textAreaRight" fmla="*/ 303480 w 404640"/>
              <a:gd name="textAreaTop" fmla="*/ 3312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Group 26" descr=""/>
          <p:cNvPicPr/>
          <p:nvPr/>
        </p:nvPicPr>
        <p:blipFill>
          <a:blip r:embed="rId5"/>
          <a:stretch/>
        </p:blipFill>
        <p:spPr>
          <a:xfrm>
            <a:off x="1122480" y="1184400"/>
            <a:ext cx="338040" cy="3474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30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34" name="Oval 31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Box 32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Oval Callout 34"/>
          <p:cNvSpPr/>
          <p:nvPr/>
        </p:nvSpPr>
        <p:spPr>
          <a:xfrm>
            <a:off x="1117440" y="4451400"/>
            <a:ext cx="366840" cy="3207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37" descr=""/>
          <p:cNvPicPr/>
          <p:nvPr/>
        </p:nvPicPr>
        <p:blipFill>
          <a:blip r:embed="rId6"/>
          <a:stretch/>
        </p:blipFill>
        <p:spPr>
          <a:xfrm>
            <a:off x="4370400" y="1008000"/>
            <a:ext cx="7253280" cy="5676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750"/>
                            </p:stCondLst>
                            <p:childTnLst>
                              <p:par>
                                <p:cTn id="16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50"/>
                            </p:stCondLst>
                            <p:childTnLst>
                              <p:par>
                                <p:cTn id="17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9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11Z</dcterms:modified>
  <cp:revision>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