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4CB8-EB6D-4AB7-948E-162B2648C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90560" y="420696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3BB1-29E9-42D7-93D6-7C5D4C56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48640" y="20574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90560" y="42069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48640" y="42069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BBB0-56A7-4C1B-9165-249E8074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06360" y="20574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22160" y="20574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90560" y="42069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06360" y="42069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22160" y="42069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A701-15A1-4505-B3D1-D68F1EAA8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BB32-EE50-48A2-8C76-33355628D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90560" y="20574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D556-A3C1-45F4-969B-2927DA76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C11F-FE31-491B-9D15-88196DE8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48640" y="20574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3C71-9364-4459-BAE8-C21D7A05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51CE-AD42-4907-80FC-0E7EE38A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0DF5-405F-44C1-8D11-5BC95B7A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48640" y="20574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90560" y="42069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9748-C1A0-4696-A3AD-D92E556D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90560" y="20574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9EA0-D256-4DA8-81A4-F8FFDBCF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48640" y="20574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48640" y="42069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21D5-708A-4A2F-B204-33EE0EFF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48640" y="20574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90560" y="420696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1587-AB0B-45E3-A1A9-79BB15E6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90560" y="420696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511F-1CC5-440F-AB47-2F4CB9B3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48640" y="20574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90560" y="42069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48640" y="42069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3542-D704-4A2F-946E-22650BB1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06360" y="20574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22160" y="20574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90560" y="42069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06360" y="42069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22160" y="42069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69BC-CCDC-4751-BA37-B8E80055E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6AEC4-CA22-4A4F-810B-BF99469F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590560" y="20574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83852-3265-4EFB-8A73-5BE21F9E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76D9F-7615-490B-B217-8C0718B0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48640" y="20574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381BB-63B1-4768-BA3C-D78DF5D2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A2755-E6A0-4366-9B01-45E871D9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4B6D-AD86-4B31-A28D-F1EF3148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845D4-B1A9-4AF9-BF7C-A49423C7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48640" y="20574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590560" y="42069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AE075-EDB4-43A8-A0C6-56EC6C0D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48640" y="20574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8640" y="42069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16EF2-045C-4E03-9183-73F864A4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48640" y="20574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590560" y="420696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F22C8-8143-4E34-88AF-ABB34CAB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590560" y="420696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8ECED-1B4E-42A7-8648-EDF21E78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48640" y="20574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90560" y="42069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48640" y="42069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5B2BE-F6A3-4C7C-987B-CC2F2D88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06360" y="20574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022160" y="20574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590560" y="42069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06360" y="42069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022160" y="42069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3B184-C745-4B55-AC61-E01E2DF0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48640" y="20574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019B-6759-4CFF-9EBA-6D8ED39C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4107-9DE9-4DF0-9624-F02A02C3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A7D9-A6BB-414C-931C-3664C0A3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48640" y="20574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90560" y="42069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E032-7425-4978-B34A-121DE484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48640" y="20574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48640" y="42069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F11A-6246-4731-A890-78809502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48640" y="20574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90560" y="420696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3AB4-2E73-4EAC-A07D-25AA462C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90560" y="20574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BD07-4D0A-484C-A62C-BD9148A9A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C778-6A54-4987-9436-9316C7AFFA0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71FD-8C0C-4F39-AB9F-1DABCEF8AB8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590560" y="20574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FC36-0E80-41CB-BD48-BC17A5DEA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国外家庭活动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295280" y="2057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Sub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Title Goes He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5123"/>
          <p:cNvSpPr/>
          <p:nvPr/>
        </p:nvSpPr>
        <p:spPr>
          <a:xfrm>
            <a:off x="1781280" y="3294000"/>
            <a:ext cx="58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C689-C4B5-4E5C-AE7C-565F51D08A4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3T17:53:4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2:43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