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3FE-DE7A-4077-9CEE-3FEA124A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56F-1B75-4948-88BF-3EE39F1E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2E3D8-BBB8-4207-A107-46DF90CD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6B738-CB9B-4428-BDDB-3A3F3FCB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0561B-8F66-4E38-BA92-5C91FAE2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CA41D-39E2-462F-B26E-5C2E6E5D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121A8-057C-4B15-9A21-E89BA019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11319-C572-4242-AE90-68271E32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E4FA4-06B2-490C-A6D5-5D39ECBC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000C0-50FB-40FE-AC9C-F36093AE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CD1E8-5420-4892-BC9D-40BB8081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3CB3C-F44B-4F1A-9D54-49CB0943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AA8-E200-4954-B970-22447E62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D7756-4EBE-47EE-8DA2-D74DF1DE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3CC7E-C96D-4A3E-A274-5BC5197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17F20-402A-42EC-A4FE-D660F8B0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6F27F-0E1A-45F3-A669-965FBC95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2C4D3-C8BD-47FC-8F65-E1F82D9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5D03B-BF1D-4FB5-8A91-75324B1F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1C9A4-EAAC-4DA0-A015-1CD4639A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DD8B4-AE30-41BF-85DF-664CBED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7017F-DD11-49F0-AA41-02FDA5C6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5F151-13CC-4951-8CDD-1D165F53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2C3-8180-4D6B-9EE5-25666ACD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5DD25-8393-4DFF-8D78-B709CDB3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29024-799F-480E-B41C-1C667CB9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13A0B-273B-4978-8B65-E0A065C8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4E5C7-19CE-484F-B922-B3384427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2B869-F9A0-4CEE-A5A3-3334B0E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2804A-5FE2-44D1-9392-B348001E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A659F-41CB-491A-B638-BD68801E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59C4B-16D5-4B18-9237-F7F977B0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DFDCE-004D-438D-A403-C2FE390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4DD29-D812-4FC6-9D04-074A2658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5346-BD30-4311-901F-542F3EB6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06986-0F66-477A-99ED-601995A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265FB-D7FB-4488-AFE7-ABED67D3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708B9-BFD7-413C-99D9-DF3C8C00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6B58C-2CFE-4BD7-9EB3-B93F1675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70FD7-95EC-49C6-925B-71BED3D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08C64-C784-4BEE-8347-0B201A69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1A26C-21C9-46EF-B724-C136F94C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2D130-414B-4439-9B71-62498793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DC483-68E1-437E-B5FF-2E673B48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837FF-D908-4D22-A525-9E6DEC32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D0EE-D336-40F0-92EC-C134B60E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37298-F00F-43F5-9B2B-599CCEAA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153EC-4422-416D-87BD-C15ED19C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B6D9F-81AC-467E-BBE7-048FBA36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342B0-DE0E-47C2-A16C-90D85CFD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9FDF4-2992-48FF-907D-5F9BA223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2C89D-CB15-4EAA-B65F-5E7099A3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3544C-E239-47BF-AA13-96FA36B7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B4C87-FF7A-4322-8606-ADA0ECF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157A3-D4CE-4FC4-91E6-1ED84579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BBED6-A830-46FD-96C8-5ABD2A84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639B-E8B0-4D99-8D88-45B545B6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E1114-9E80-464D-8AE6-6C2047A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77536-616C-4E30-A755-71A5754C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5804E-A288-4D6F-9B79-33C97402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1342A-9D99-435C-9F93-6EA12A59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A1DE0-663A-4A57-BCE8-5EF6D431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0F21F-A83E-4C4F-92EC-BE7B1529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44C43-E72F-4673-A433-96D811D9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AB37-3F09-4A56-8281-960AA125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6C37-86AF-46E8-83EC-11ECD13F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074D-2A5B-4741-8F62-6600026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904D-0997-45B4-89EF-7E455AA6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DC4-F6E5-439E-8858-B9F026BA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5831-DE67-4966-A2D1-FFFF2C38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6371-7FB8-40E4-993A-81153070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3DC6-49DC-4709-9FE2-F380DA4D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C019-DC64-4D12-83BD-EAB4BA1C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FC07-38C0-45FE-A6B6-94CDF8A5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B50A-752B-48B2-88A9-D72A43BE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FD03-42C3-41DE-B801-DBD89F79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F543-8BB1-43CD-A32E-B2220BBB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3FF6-66C1-4E2A-AF02-E99E4117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7532-73BE-45C0-B907-F4ADD9DB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350-BC67-43FC-A702-A8B093EC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92A3A-1378-4D99-9801-2A8086A2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FFEF-B429-4F54-819C-92AB77D4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DA6A-A436-435C-A035-7261F4CB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789E-D349-40BA-A83F-EF09A483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BEFB-2649-4689-9803-7A87E28F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63C4-8C45-48C9-ABFE-E4435609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9FD2-A733-4ACE-B931-F7650BB2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5CC55-921A-4B6F-A148-92EC1126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E7B6-CBA2-4E87-B08D-374DBA9A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8527-4917-450D-A35F-6467E17A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2A5-C463-4A80-875E-3D18C29D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2D08-06F1-4FF2-B402-BCF096C8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39AA-8C4C-404D-A52F-613F53EB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29A3-4134-4793-B7E6-B35F709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C81C-8759-4163-9D43-2802FE8A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E123-CD29-479E-97AB-9F26B47A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5C7C8-E178-4DA0-BD76-4F07540D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F4C9-FCE4-4C2B-ABED-92121B83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EC6D-D74F-48FA-9506-6AE02445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A2F3D-08E4-45D1-8C9E-611DE6B6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5A459-3A51-4F0F-BA19-0BF465B2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925-2FD1-4B96-A4D5-BA20E1F8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7CEA-B77A-41E9-AB6B-60F2AFF2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B0E4C-B4D0-4B41-BCCC-D018D53D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7341A-4AAC-471E-BF1C-9EF8156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B5AF-0522-4DC6-8BFF-BD0142A5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CD9C-A884-4B0D-A240-6BF0A955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4BBD-5D79-40F4-AFEB-65FA18D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A1046-4440-4B36-8E6E-E2A41CE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266B-C7AE-42BF-AEBA-7FA7794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DD56B-8CEF-4041-B409-00E9E02C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9ED0E-BADA-45F1-A5E9-B7CE4B66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AD5-ACE0-493F-81D1-1980FEFD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BFDFF-B693-4D8B-8B15-8095E07C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1DA06-144F-49F6-8649-42DDAF88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A433-74F8-4FEE-8928-0440DF87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74266-CB38-44ED-8D3E-89D30BB2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C8FB-5A45-4AF2-9A71-4B18347E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C7D3-730D-4698-BE26-5E910D93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8F043-26A7-41F9-9B24-4F8A2C6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A4833-13E6-4141-A1D0-30CB17D8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E7D88-8648-42CE-AE9C-AC67F602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B322-DC1D-401A-8E5D-5B0B923B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A4F-F04A-466D-BCC1-607AB764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92CBE-4D53-4081-9ABE-76585462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649FE-B4F6-4793-AB32-A0000DFB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95EE6-2439-4173-A71A-31E647F5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0120C-457C-4C18-A154-21DD0ABF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60285-A041-400A-A176-D108DECA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19951-EE24-4DB9-AA9E-316A4430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71393-696E-4D8A-A240-49B52D70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2BA90-17B4-43C6-8608-CCC1A727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1EDA2-DBF4-42BC-8067-79DE8DD1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627C7-8AC7-4AF7-A07B-EAFA1A5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DBA-3E12-45D4-8D64-7321633E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719C3-6ADB-4B5F-8F6A-E24B89F9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E0C76-7FCD-47AC-A571-066F154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E405A-9192-4D66-BCEB-E3C4F884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A0B7E-0732-4988-BD46-F720D3FB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B5BC-25AB-47C7-905A-7A9D13CD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D87BA-C809-4813-9EB5-6C6F6084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8A790-3202-49C0-BB56-C4CCB04E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D46DC-1B86-436B-A5CA-97322AAB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7A0A3-F52A-424B-9E26-66F9F833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1CA20-F46E-468A-A03F-5D7F5447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57C-9379-46A3-95D9-39872487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A6CFE-F2E8-452E-A6EA-D2245FA3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B9598-C7F8-428C-AD6F-90480525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BF63C-A1C2-428B-9B69-3C5CE7FB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4B79E-E528-4C63-A9CB-1C049A94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4495D-AC92-4E13-941C-58953F10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34DC-1402-4C9F-B3A0-4D2D917A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C383D-3396-4C18-8BD4-373D4387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A25F8-1F1C-4BD9-BB11-C2617399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A1C2D-2C40-4448-9892-54F1F15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C652C-84E4-4BA0-A1AF-451C488F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647A-67E0-42B0-8BE5-4DEB3D001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826E-ED61-478F-8E86-CE2FB8C079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850C-DC90-42A8-BADB-D1FC3AF2AB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0FF-FA94-426C-B052-29B5AD0C00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EC7E-48CC-40E9-AB46-51E44963E8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2993-A776-44F2-9CB5-E6E05E86F0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8926-6D64-4E88-9CA0-CA6AF39438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BD98-0609-4C3A-9FC9-BF0E0D310F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0FBD-DCE3-4838-A148-CA6B7A2DAA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77AE-C661-4280-BB03-C5ACF30329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2B91-B0DA-477E-BA00-3C0D1AF175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DBBF-5A01-4752-8B14-06CDE0B0C4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3845-EFD1-4412-BE43-7C9E4DCB14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672E-25D3-45FC-B281-6C3AA9953A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960" y="2285640"/>
            <a:ext cx="3886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fbdd"/>
                </a:solidFill>
                <a:latin typeface="Arial"/>
                <a:ea typeface="宋体"/>
              </a:rPr>
              <a:t>Eyes of a Child</a:t>
            </a:r>
            <a:endParaRPr b="0" lang="en-US" sz="40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75960" y="396252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433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2317680" y="13716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家庭教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bdd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6388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7B2C-5918-410B-A817-E9958FE3CF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ransitio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ge</a:t>
            </a:r>
            <a:endParaRPr b="0" lang="en-US" sz="4400" spc="-1" strike="noStrike">
              <a:solidFill>
                <a:srgbClr val="f0fb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20:35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