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BA0-4703-499F-85FF-EF859BC3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ED9-40FC-44DB-AA37-34F62678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74D-CA91-4483-B613-CBC49CD2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144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5796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144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5796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44C-23BC-4299-9124-FC28C931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F9DF-B0A5-457C-AF3F-8D186DBE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5FC5-8669-4FCB-9087-80EB209E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DE3A-0316-4D71-8097-EC6DB6BA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70BF-1EBE-4A68-8207-3F18A65D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D51B-D705-49CC-A813-40AAE2A3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59E1-C8DF-4341-9B4C-6307BFB8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4F32-5036-4F39-8797-F095F6AD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E138-2082-4028-BEFC-3820FB6E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4234-1AFA-44C1-9CCD-30647E6A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E4E7-7779-499F-86E4-180F5855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B38A-F8CE-4092-9368-19F8EF21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7C28-DDE4-4932-B3D7-83CC1CC4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144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5796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144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5796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1211-DA71-461B-905E-F08D3AF4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4591E-0D1D-4714-B79D-97778504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0028-663E-48C8-BA62-CCDE08FF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A6999-41C4-4114-8D21-1F1D84B5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F1251-5A27-4718-B4E1-94E8963E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08F46-A1C3-4744-9B4C-D1724692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DE8-2290-4C0F-989F-F9689E10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5C00-34B4-49EB-98C1-1469E8F7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C3FF5-97DB-4EF0-A9A9-90F14FEA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D2DBE-97BE-4A37-BEEC-B0113CB9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5F75-E58F-4225-9940-B7D2A5BD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E579B-F160-404A-86B5-5604FCB7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4536D-A197-4509-A2B5-A71EE2F5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88144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57960" y="83808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88144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457960" y="3465000"/>
            <a:ext cx="245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D0DEF-7825-41B4-83CF-E96D8E7D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376-585C-4DF2-9358-9B269798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151-3911-4B9F-AD57-BA522E31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562-5CB4-4B65-A713-1865CC9D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536-994A-4F16-9B9F-DB9FE539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09120" y="346500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64E-14C6-41AF-9900-715CEB36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09120" y="838080"/>
            <a:ext cx="3718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465000"/>
            <a:ext cx="761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15C1-E4D1-47CE-B498-6DFEFEA7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41EF-FCBA-4B4B-9BAE-85318F406EE8}" type="slidenum">
              <a:rPr b="1" lang="en-US" sz="10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E624-AF0A-4ACC-945E-2B54CAB0C2C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8568-C115-42A8-9BB5-87F622FA47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79B5-7F5F-4F9B-A303-39F6D3AFF6B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国外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简约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模板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34747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9204-03F3-457D-964B-C29BC18FC1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3:45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58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