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10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778-969B-40F4-8C93-4CB29879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3A1-9BC2-49D2-82C9-270D5650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68B-B615-4885-BC99-A6CA5884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03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5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03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5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E60C-9F65-4BAB-9DB3-9A8ACBE0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943E-2ABE-4AA6-A5F8-228D8B3F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B78A-AFF1-468D-B742-57751016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7349-4571-42CE-9E34-FB417931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1785-83E7-4E13-9128-CDE36104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4CE2-1B9C-489A-9956-69D9C589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2D77-1FFF-4174-8819-FA107A10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77B3-04E6-451A-BE4D-F11F784D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4D3-DFFB-4845-978D-384A614B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F3AC-B9FF-4F08-A156-9A1ECA1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DD36-98F4-4CF5-A974-64616EFD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BD51-A054-49B7-A6F4-797BB05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A511-3D50-47C0-AFF5-EDA65DA8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203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45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203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45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59BA-759B-4087-BF80-81633AB3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56D7-56E3-420F-AD79-A258F9EB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7B96-CE3C-452B-8CF7-98EE55CB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D619-165F-4042-AED4-CF305B73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16CB-1DB1-4A0D-93AD-44007D27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F4B99-1204-4424-A14E-2FD5B512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9E6-F2EB-4D00-915F-F037D41E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DA08E-7286-4231-9F99-E0198CD3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60FE-E928-4D52-A175-E4F447D2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CECC-613B-443D-81C6-0016315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8ACD-4476-4758-89D9-F217D196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F6FB2-D0C3-40D0-971B-23E68EE1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76A6-6632-4F8A-9BA3-2B0D26C1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203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45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203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45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B3CD-6AD2-43D3-968C-2F0FB9DD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010-BCB8-4B06-8B8C-5DAFD5AC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D76-3254-443C-AD8D-0E41132F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9343-D991-46EA-959F-3E35EA9D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177-B050-421D-8409-4F53E966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F17-A8B6-4472-828B-A7A4729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492-CB15-47BD-8F35-1A48BD65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C0E1-F4BC-432F-B3FC-A4069A521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图片 1030" descr="C:\power_point_templates\muldoon3.gif"/>
          <p:cNvPicPr/>
          <p:nvPr/>
        </p:nvPicPr>
        <p:blipFill>
          <a:blip r:embed="rId10"/>
          <a:stretch/>
        </p:blipFill>
        <p:spPr>
          <a:xfrm>
            <a:off x="0" y="3794040"/>
            <a:ext cx="1897200" cy="306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B6AA-CC46-491C-8000-38B2B476D9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5E73-1222-4E6F-95AC-B03904CCDC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4952880" y="2971800"/>
            <a:ext cx="3581640" cy="360"/>
            <a:chOff x="4952880" y="2971800"/>
            <a:chExt cx="3581640" cy="360"/>
          </a:xfrm>
        </p:grpSpPr>
        <p:sp>
          <p:nvSpPr>
            <p:cNvPr id="84" name="直接连接符 2054"/>
            <p:cNvSpPr/>
            <p:nvPr/>
          </p:nvSpPr>
          <p:spPr>
            <a:xfrm>
              <a:off x="4952880" y="2971800"/>
              <a:ext cx="3581640" cy="0"/>
            </a:xfrm>
            <a:prstGeom prst="line">
              <a:avLst/>
            </a:prstGeom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4952880" y="2971800"/>
              <a:ext cx="358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E29E-0C25-468B-9D77-847A5B2EC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00240" y="8377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Main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876560" y="304812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ub Tit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文本框 4100"/>
          <p:cNvSpPr/>
          <p:nvPr/>
        </p:nvSpPr>
        <p:spPr>
          <a:xfrm>
            <a:off x="1815840" y="458640"/>
            <a:ext cx="533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Times New Roman"/>
              </a:rPr>
              <a:t>国外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卡通交警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6145" descr="C:\power_point_templates\muldoon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6146"/>
          <p:cNvSpPr/>
          <p:nvPr/>
        </p:nvSpPr>
        <p:spPr>
          <a:xfrm>
            <a:off x="1962000" y="5950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ADC4-CA13-4541-8931-271B3B525F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0:14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29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