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2C2B-C3A1-4AF7-A024-4D8B23072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AF7-E337-4870-99E1-A4FAD257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3A719-C652-4DA6-B22C-DDF2EA84F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06DFE0-92EB-42DB-AEE9-B2F3C000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8CD78D-E876-45C4-81E3-85919502F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41B845-77C7-4DE5-A38B-440EF4CA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2499FF-40C8-4867-B828-626D0A538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387B50-EF58-4513-B7CD-1E6AB918E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EB55E-67D7-4D53-815E-E4E84A92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9511BF-05F1-4D03-9A76-D1A14900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73E5C-1DF3-40F7-B516-AA49E0612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659CC-1E65-4067-9F27-E761457C3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3504-6771-472C-893B-020904AB9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5878B1-2E24-4719-A816-CD132E334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6AAD8-03B0-41CF-9745-CBA2CE71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2DF4EE-0C20-44A8-B4C1-32116532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0813B-B295-4F85-B321-E6CD38EA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BDC672-56B8-463F-B93A-F4460FDF6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1D702-5010-4909-B5F8-BE7C7E40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CD8296-B9A6-4A4B-AE31-2F205F31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3EB88-7516-4179-8CF3-7DD982E4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61597-E6D1-4D6E-BF6C-C07DF8B1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0DBD9D-86B8-41EA-B5CA-F77F1656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36280-5B15-4C14-8A8D-738CCF44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578BE9-757F-4509-93EC-51FA728B8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9A9EC-F291-4D94-94BE-0E0382F0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B90920-0510-4345-8378-630C737F9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9748F1-88AE-4AFE-91D1-CDAF6B525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EF684-7540-43AA-AF20-99D7BE09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712AC6-3CB3-408B-96B6-2775D025E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827F1-8326-46B4-91A3-574F9DC7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6CBDD-F673-4708-803E-4A21BAF6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FD1E7-8BF8-4238-8961-6C0FF120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342AF1-45E9-4F35-9D33-C6C53BAA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CEDA-9EC8-4CE6-8438-BD3415228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14CB79-19E1-4E81-8A35-0BD727678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EC95BD-E7A4-4628-9B16-FDA3E3673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A830A4-3262-4855-B154-D3CD0DEC3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071FD-CE0A-42E6-99F8-DFA4C6793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5A075-4F09-4506-8487-48B974140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6B5C0C-B92C-40AC-A611-6B3DB9146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144DD-577F-40D2-9D44-EBE839440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198610-2604-4930-8DE3-989BDB91A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67A4C-A37A-4E7F-9C6D-DCDD1565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2FA0C-905D-49ED-B28E-26DE0C5C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615C-06B0-4F53-AD90-83A87330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5E5462-2338-4838-B495-D0E5BCE6D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931D71-C398-4809-9A20-D00F5DF8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2E8D0C-5C60-4FF4-B8E2-406226B9D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65665-43D0-4558-8254-1723E718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3FB31-CB3D-415B-8DAB-5067ED78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272A08-F539-4D47-A141-3D9038137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7CADB-5006-4E1D-A1E1-83B1E48B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B97B29-EC9F-4BC9-8FFE-CE3A81D8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2DC0E-1C46-4857-B809-A344AB65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B4310F-3DEA-4D70-B52E-EF203E4C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6B5B7-E16F-4CA5-92AA-91B537068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074E3A-CA79-4197-89BF-3B8154D1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57B51-FEB5-4A76-A5C3-5A612792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9A4386-D36F-4B63-A65A-4CB5426F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CF553E-2F6D-4547-9EDD-F83604786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913605-8D50-4F61-B64C-F6C2715B4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D817C3-B592-44EF-B4BC-CF6D7F25F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AAE920-6037-4A9A-B816-4A9D4E9A7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BB49B-5F63-441F-B50D-BF5FD3E0F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75702-5908-4561-82F8-50B574967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B4940-8712-403E-BB17-FF1D284B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8172-0F17-4D1F-AEC9-94A373D13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6439-38D8-4A24-A1FF-3C4E3A9B9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CAEFF-7552-4F3C-B989-B283AEE21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661C5-0C46-4D6A-87C7-6DCEEA48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03DE-CCE9-4CBD-966D-92FC0AA42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FD0DC-C54C-4FD8-B89B-24BD51C9E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6297-74B3-4E81-B8BF-2E97E21A7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E9345-90FD-4CAA-8032-4D048F72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FB4C4-7F48-4AA1-98AC-0775A3F0A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313E5-F7DC-4EE0-9790-602C353B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8DEF0-7F9D-43C9-85BA-446227DF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552FF-1D70-434C-AF85-076A77229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5CE-A8FC-49A7-9D1D-77843F23A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239E6A-37EE-47CE-B191-42F3ECB7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B25DB-57FD-42EE-933E-4826B31D5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2C0A2-FCE6-4BFE-B73B-1BABAE6B9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5A578-DD75-4CE5-AAE3-41618AF67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46CEB3-148B-4D68-B8D9-92923BF2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76F11-C46F-432E-BC57-5AE569166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9CAE1-AFDF-4AF5-BA06-8FF41E7B9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C3CDD8-F90A-4D8D-BA78-83FB80D2A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BFA5C-565B-4E7A-8E04-09C8A50BB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97911-7471-4F91-8F0B-976746A0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700B-7FFA-4011-A706-13317D6A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E6993-B93E-431E-BF64-38F464C31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9F0D5C-724B-4713-82F6-A2034FFA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E2FB9D-E0FC-4CFB-853A-4642D63B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1E3C0B-71ED-4250-9DE4-897072A3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32CD3-00E1-47D9-A999-C07667E7E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5D30B-120B-492F-AAE9-F99A33EB7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5E0D5-03CC-4F7D-9314-0D378F81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C8F4C-0B5F-41B1-80C2-75FD648AB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8F03F-0E63-46EC-BEB3-92C060BD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82A2A-38CD-4F18-9B76-E4319E3DF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9426C-7A55-4BC8-8196-38B488E0F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ACFD3C-0991-490A-B03E-7FE2C60B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A8A83-7897-4507-B284-55B2D6397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FC36C-5EAF-454F-8437-9957A0C2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A4B35-863E-4E31-B257-71B2030E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B5897-BF9B-4C16-85DB-583A7315F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85D9D5-06BD-4D46-BF99-1EDE02E3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8A7F2D-3A7C-4EDA-8F01-262E2212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19771E-75BC-4881-8DAA-780F89B0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BD57C6-1FFE-4069-BEDF-C8A3C18E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BC5EF5-BE58-46B1-B234-898132707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F2F-429D-4F48-8CF6-0EC5F9BF2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D11E6-8EA3-4681-9B77-B2F6A73D9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DAD294-B824-4A80-BA2A-7F8A7A7E3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CBACDC-61E2-4921-B292-1AB9C61F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95F75-57BA-4CBF-AB90-18609AFB4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5150F-5430-4488-AF73-B201577D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2D641D-5C1F-417C-B72D-D0800C232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73F01-97D7-4388-A99C-CAE8C98A7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397F1C-DB42-42FC-9DDC-21304F359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E129F-2110-480F-A201-12CB49D7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2D32CE-9DBB-40F2-9AAA-E65B9B33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5E3F9-5C97-496B-B3EB-0997B962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AA5F6F-1E8C-4FDA-8D19-CD53E438E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D8215-15F8-4168-A85C-A314960C0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AD3DC-3DF5-46D4-8FA4-2ABDA655A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49731B-64EB-4EB3-989D-7DD925BD1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B618E-A12C-477A-89C4-6CA3F861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2E63BE-C533-4B92-B460-5AEC5C11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003C09-4066-43BA-A285-29B52DE4C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4A51C-8484-4CC1-B64E-63BEDB897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93456-2356-46E2-B94E-241752D48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6C5AED-F550-4FAA-B0CF-691F27F0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32A11-6BB2-4900-A731-0E0AC44F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C2C1F-A275-4420-92A7-4525CDED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D4D76-BA2C-4BE0-B4E3-5DFD6EE1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F9AA63-05FB-4A78-A7CE-17653D5A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E71537-5830-48D9-B65E-9E4F23489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EE2BE5-1CAA-40C1-BB63-407BCBD7A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8E536A-D346-4AAD-83F0-FE0919067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D69D57-1A4E-44C7-B2DF-92697E6B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D47A2-B170-4D3B-BE59-6DA2B91D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1A9DA-2220-48F2-B42C-CF7629B65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67FF1-E560-4795-ADCB-8175AD94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212-8CC4-49F4-8B5B-2FC5ED72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437920" y="99036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025C17-C28B-46DE-8F42-6C9A7E4F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1155B-A33B-4815-9F05-F1D881385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7F0DFB-BAA2-47CF-851C-CDEE4B1A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6B2D65-F949-40D5-A355-833C1578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2437920" y="4255560"/>
            <a:ext cx="624852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E76DFC-8B10-4564-9AF3-D1ACE0858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640120" y="274284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4379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5640120" y="4255560"/>
            <a:ext cx="304920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08A81D-9B5E-4DC4-AAF2-E0C72F92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55040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663240" y="274284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243792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55040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663240" y="4255560"/>
            <a:ext cx="2011680" cy="13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CDBC29-FBA3-4987-889F-3F2914198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E3D0C-BCD3-456B-8218-DE236DD1D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65F76E-2801-45F6-A58F-A7FBCF20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245AA6-66F2-4703-A611-C5FCEC6C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E86E0-AC59-40B1-9E12-DDD7835B4E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F03A-1E6D-47FF-8E65-4345D26288B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D9720-3AF4-45EE-B86B-605366AE27C8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93147-3C3C-44D8-937E-3E5421EF235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6CDB-B374-4F00-BABC-192AD9C7B042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13420-AE95-43E0-B3E2-8BA02471934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-http://www.sc115.com--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B1B0-45FA-46C6-A5D5-AFA98175340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45310-6399-4591-8BD5-4D121165FE4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CE4FB-BA18-444C-AB79-D4AC151042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14094-8AF5-4CD9-A55B-F085E996E31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7F7A2-7ACE-405D-9A2D-8A268CCD75FC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1CBF7-C421-4B23-A41D-0D724D9A0AE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DA062-3817-455C-B2F6-43EEEA7C0E4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1" marL="586800" indent="-22572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2" marL="902880" indent="-18036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3" marL="1263960" indent="-180360">
              <a:spcBef>
                <a:spcPts val="700"/>
              </a:spcBef>
              <a:buClr>
                <a:srgbClr val="3333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4" marL="1625040" indent="-180360">
              <a:spcBef>
                <a:spcPts val="700"/>
              </a:spcBef>
              <a:buClr>
                <a:srgbClr val="3333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5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lvl="6" marL="1625040" indent="-1803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0284-FF25-4CF7-9074-C51F1A2C857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2361960" y="2130120"/>
            <a:ext cx="609588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  <a:ea typeface="宋体"/>
              </a:rPr>
              <a:t>Baby Boy</a:t>
            </a:r>
            <a:endParaRPr b="1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3886200"/>
            <a:ext cx="5410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dd your sub text goes her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35" name="文本框 14339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340"/>
          <p:cNvSpPr/>
          <p:nvPr/>
        </p:nvSpPr>
        <p:spPr>
          <a:xfrm>
            <a:off x="1631880" y="144792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卡通家庭人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3333cc"/>
              </a:solidFill>
              <a:latin typeface="Arial"/>
              <a:ea typeface="宋体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3333cc"/>
              </a:solidFill>
              <a:latin typeface="Arial"/>
              <a:ea typeface="宋体"/>
            </a:endParaRPr>
          </a:p>
        </p:txBody>
      </p:sp>
      <p:sp>
        <p:nvSpPr>
          <p:cNvPr id="539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37920" y="99036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宋体"/>
              </a:rPr>
              <a:t>Your print page is her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37920" y="2742840"/>
            <a:ext cx="624852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  <a:ea typeface="宋体"/>
              </a:rPr>
              <a:t>Add topics here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2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文本框 16388"/>
          <p:cNvSpPr/>
          <p:nvPr/>
        </p:nvSpPr>
        <p:spPr>
          <a:xfrm>
            <a:off x="1295280" y="38862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94D2-9D3C-438D-B4EA-526F992E829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219320" y="990360"/>
            <a:ext cx="6781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  <a:ea typeface="宋体"/>
              </a:rPr>
              <a:t>Transitional Page</a:t>
            </a:r>
            <a:endParaRPr b="1" lang="en-US" sz="4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4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6T14:19:4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33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