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FB6-46E6-42C8-80C0-A474BE32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1A8-04FD-4E93-B7F7-EFC9D668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A36E7-A004-4A70-BCB7-37444E57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6BBBF-4D1F-4865-9128-E2CB68E1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79EAE-0D14-46B3-AE5D-0001BEF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0AD37-2523-4735-ACE0-B1FF3A8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6FCB-1173-465E-85CB-28C75378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D61DF-CDB3-4E5B-B92F-2289470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55699-AA13-4A35-B6F1-AC179B9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35937-6547-45BF-B34A-B5175A04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393FE-DBC3-4D7D-A90D-D554D3B4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0C464-1763-4BA2-92D8-EA5FD00C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D4A-E5F5-471C-B699-16214DBA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8CDB-9F6C-450C-9046-53BC452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A4E05-1F14-4405-9E21-641DE2A6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14109-5B42-4A96-8F66-0B7669BA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9945D-F623-4472-A43C-4D510E1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57685-F9BC-4866-9AE8-DD441DB9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1BAFB-CE42-4B2B-8A65-9CE3235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CBF6C-47F9-4376-93D2-2C1B5A6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B1C0C-5C5C-4750-9FF4-30D779C3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CD683-3356-4F53-894E-36DFD5B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2C46F-4E62-45CB-9529-CF18CD2E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53C-E07A-4DEA-BBFE-4213909B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C1D1F-71BA-42EF-BB14-BFF3EC03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7C165-08C5-49FB-A1BD-CDAAF59F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AE60-4E53-4DCF-91EF-740897BD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61D7C-4445-4D69-975F-B881D5F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F3F58-4B62-442E-822A-A1151B50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7833E-2249-4CD3-BABF-AA54E876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4F84-504E-4546-83B9-89EADD7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41D58-5800-418F-9AE1-5F99922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5865F-2B0C-4EEE-859F-C13739A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84613-AC39-48EF-A997-1C479C8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C8EA-ED44-47C9-82AA-DCD563CE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1AB42-ED84-4A0D-8B7F-48D422F4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DD47C-F69F-4C14-8B51-FA69753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CC047-A906-4FC8-BE2D-9FA6749F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E3D7-3C95-435D-BD00-FF2E7D7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591C1-68B4-45FD-95A9-F0F8E3A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87DE9-86FD-418C-94A6-7354AF91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20540-877D-4CF6-8B29-7C9DAE5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78F40-C692-4299-AE31-DEC05A27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65D4D-02F9-4E0F-A8F3-91C102A0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A6230-0B2F-415F-ABBD-2339198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8270-FAE5-4A6B-BF73-86E72AA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2BD13-8AD7-42C5-A838-D958495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62E9A-D4A5-4199-8C30-0717900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C8E6C-9B0D-411D-A8E9-4F2F367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8785B-92EE-47B1-A3CD-E01FF0ED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9CDA4-60E7-4B45-9BA5-D125AFB7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F42D7-969F-478E-8E5C-DE5D435E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12B8F-EC6B-4333-B039-EAA0333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E47F0-C39B-4637-9ED5-E9705496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48DB0-E155-4F46-905C-B904CF9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FDEEC-8FA7-44DF-971B-0EDDE57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9EF0-00A9-4770-97B7-C3AE061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28D71-0AAE-4D9A-BC80-C1E4C71B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71180-6A21-40E0-A748-5EAC091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08C78-8A7B-4F5C-A94D-77E3D065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FDF02-1550-4F8C-B529-01178529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EA313-43E9-4D74-B861-459E845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D4BB5-7A62-4D29-A1D6-9AE333A9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B2C42-6286-455F-A6F6-673A1AF0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5B687-4C10-42AF-B74F-1D64E6FF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A44A1-EB5D-42B6-B1A0-853BE59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C14B0-7966-46F6-8A8F-9637436D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C70C-C6CC-4754-8205-6B1E9A6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4ADD8-4950-4CCE-B213-3592716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6B760-C211-4DE1-8C2B-BD74EE76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ADC17-5DF5-45EF-BA55-9CE1408F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928B2-8B48-42C0-BDCD-CB523CB8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FE129-1A93-43EA-B846-E1129FB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195D0-5953-42C9-A679-DFA9DE1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BF70D-B9D1-4425-A7A9-ABDC075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E99C4-5340-4AEF-A0AD-3F3D6E1F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36254-D1ED-4FD5-9633-9CE37E14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86D-141D-4B22-A996-79B66DE5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249F-9BAA-4649-B3A5-C00DB8E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09B-949A-4D81-91F2-38F0CF4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EAA-52FB-463E-84C3-B46169F8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5765-82BD-4230-9F53-DBB76EA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09D2-CEA5-48EF-890A-EE80D640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1CB9-8BF6-4B50-A723-D2AD8A5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6C4F-179D-4935-AA80-44ADA11E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EBA6-A2E8-4F92-BA55-17354D4E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8CFB-7108-4072-BC8C-70B4471B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DD81-924A-47DB-9872-DCFD111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2B39-89C0-4336-83A7-7491A0B4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0761-A285-4AC2-9A5F-674A583E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B1BC-8EEF-43F1-B22D-92A2BF7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5F3-C521-4942-8F27-B8D410D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6149-6E43-4A4B-B73E-F3005CF9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C048-09E9-4A78-A48C-EC5CEDB4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816F-C834-4B36-B695-D5F5431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C2BB-4588-4859-A22C-C48B3D2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A1A5-1AF8-4993-8CAE-59A000B4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CC76-927B-4D61-A31D-E080C0D7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1524-B5D8-4DDB-B83E-F554B295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ADD4-BA20-46AF-983A-C45C08D1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8CE7-B8E9-42C9-853E-DB5A782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412F-CD2F-4C80-81E7-DD5B0AB1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862-EE39-4AA8-9235-064858B1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238C-88E1-455F-8AA9-45836C8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E64D-B5CD-4D9A-A557-D56BF9FB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9182-2CDE-4D98-AFF7-961C42A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E2B6-E44A-42CD-B348-AD54391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B735-52CC-4C57-B64D-C961F11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6B9EA-B534-49EC-95D2-E58968C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20EE-2DAD-4E0B-88C9-D2C29A1C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8F82-9089-47B7-B9C7-238510D3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0B92-949C-4DBE-AA97-316B94D8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2B3C-E922-44B5-AE62-B92C5762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EC6-97B4-4957-B5A6-2EBB66D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24C3-BD19-447B-BA5C-3837368F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99009-BA4E-4158-9CE3-3ACEF70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069E-A158-4BFD-84AC-A7332FE8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88F0-13F6-419E-86A0-880A4D8F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699D-72AF-42DC-968E-4ADB74DD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4448-3C8B-4CA2-866E-0F15F3D9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B333-1FC6-4216-923B-2EDFFEF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AB58-DEAA-4F2C-95F4-0A053CF4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AB03-254E-4333-A58A-9134270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6B5A-0C76-4899-AB86-80F49092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4BC-2AB9-41F4-AA76-3DAFDF2F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6576-8FCA-4DDF-B716-78EC2616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D15F4-F186-4772-A06B-793CF603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9C75-8FA6-44AB-A508-697523B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2CF5-B672-4FC6-BC2B-DB5E4B88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E1197-0455-4218-8154-31CFBC1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92D2-589B-4321-A9A5-A510FDE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8D80-4998-4841-9ECC-62DFABC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AD897-3994-40F5-9E63-98BDD34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B3E7-0940-4F2E-9978-279F5DB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6D64-F9F8-48B2-B696-EE58C14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956-1A37-4924-AF47-8F1CD3A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DD9A-ACDF-40FA-BD2E-F1E040E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D3BD6-55FC-470D-8E4C-2B207341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9B16F-E0C0-4D11-86B3-B0924BE4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60E1-510C-45B8-B81D-B7A7926A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5E9C-437D-4B27-AB58-96795DDF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97A2-55B1-443D-AD37-39BF0A22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85928-CCDE-43A2-83A1-C54FD66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5813F-ABA1-4C25-B5A6-7B10561C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630D-ED27-48A0-94E6-D3F7A2E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83729-EC47-4562-8E26-76508C8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6A6-8801-4FDE-8C5E-AA91D0C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DED9-395E-437A-85C7-2DD41EE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29C9-2BA1-4C55-A06D-9F9C7B8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C01D-1114-4FE4-8EAC-97111E5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48C8-4115-4115-8426-1F19960D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EF5F-25E0-41CE-A9E9-F331762E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10B3-C768-4835-ABD0-D47F665A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8735-AFFA-41E2-9E90-144DB564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F8F18-8EA0-4D36-BECF-A018C29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A6B02-5DDE-4731-9C21-76B9E30B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B0D44-478D-4DE8-BA46-494229F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4BA-6AE6-4D0A-8A79-8770E23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F6281-288A-45AE-B898-06140A0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FF66-EA9B-4946-B58A-98214E5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0B04A-D209-49FE-A632-3841418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CE96-79A2-482E-9921-EE634A7B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460F-E005-41CD-815E-9E60A1D4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D8AB8-A885-406D-B4C6-5CD16073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9F55-200C-4829-A1E6-A27CCF7B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6F5C0-BC84-4B90-A7C8-0B598284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296CB-3A37-4464-A42A-00ACD36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5198B-D00A-4044-96EE-A7B3106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d00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d00cc"/>
                </a:solidFill>
                <a:latin typeface="Times New Roman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-http://www.sc115.com--PPT</a:t>
            </a:r>
            <a:r>
              <a:rPr b="0" lang="zh-CN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7DE-C280-48F7-8485-5682845D5C47}" type="slidenum">
              <a:rPr b="0" lang="en-US" sz="1000" spc="-1" strike="noStrike">
                <a:solidFill>
                  <a:srgbClr val="8d00cc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F9CF-C78A-421A-A114-A54E3AE2B7D9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D2A-AFDE-460A-B79F-1FBF2DF63308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621-5851-492E-AA5E-C92D8F626B3F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5783-8E12-4ACD-B990-41E0D697A70B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355-E60A-4D5A-9470-041FD44D6840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D889-65D9-44C1-AA81-A193E462A0A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素彩网</a:t>
            </a:r>
            <a:r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-http://www.sc115.com--PPT</a:t>
            </a: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模板免费下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FA9B-7CF3-4963-AA49-40443E382C52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6C1D-BB71-4C10-854D-0E0C5E9C2A31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671-F6A7-45BA-B39D-F8D8707FBB37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9ACC-D4D1-4010-A7BB-0A4791466CC6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5A24-1AF2-47F4-9638-270AE9B9D5E3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A7DC-B72D-49E0-A605-499262809DF2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397-C5AB-4454-B5EC-555DCC3CEB78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C40-D294-4E64-AC54-A08318001302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00cc"/>
                </a:solidFill>
                <a:latin typeface="Arial"/>
                <a:ea typeface="宋体"/>
              </a:rPr>
              <a:t>A New Life Too</a:t>
            </a:r>
            <a:endParaRPr b="0" lang="en-US" sz="4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0" y="5562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pic>
        <p:nvPicPr>
          <p:cNvPr id="588" name="Picture 33" descr="baby_suck_on_pacifier_hg_clr"/>
          <p:cNvPicPr/>
          <p:nvPr/>
        </p:nvPicPr>
        <p:blipFill>
          <a:blip r:embed="rId1"/>
          <a:stretch/>
        </p:blipFill>
        <p:spPr>
          <a:xfrm>
            <a:off x="2438280" y="1600200"/>
            <a:ext cx="3867120" cy="33148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536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15365"/>
          <p:cNvSpPr/>
          <p:nvPr/>
        </p:nvSpPr>
        <p:spPr>
          <a:xfrm>
            <a:off x="2617560" y="10666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卡通婴儿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00cc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3" name="页脚占位符 3"/>
          <p:cNvSpPr/>
          <p:nvPr/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00cc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8d00cc"/>
              </a:solidFill>
              <a:latin typeface="Arial"/>
              <a:ea typeface="宋体"/>
            </a:endParaRPr>
          </a:p>
        </p:txBody>
      </p:sp>
      <p:pic>
        <p:nvPicPr>
          <p:cNvPr id="596" name="Picture 7" descr="black_woman_rocking_baby_in_chair_hg_clr"/>
          <p:cNvPicPr/>
          <p:nvPr/>
        </p:nvPicPr>
        <p:blipFill>
          <a:blip r:embed="rId2"/>
          <a:stretch/>
        </p:blipFill>
        <p:spPr>
          <a:xfrm>
            <a:off x="3352680" y="1295280"/>
            <a:ext cx="262908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3233-D33B-4AFB-85B9-C4F24818EA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00cc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03" name="页脚占位符 3"/>
          <p:cNvSpPr/>
          <p:nvPr/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843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1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