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935-79B5-4F4F-ABC3-F222F8AE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9E6-FC60-4059-B3F8-C6623422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BEA-98F9-43D8-B8FE-B3081F56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65A-1559-4178-9E67-DE923488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E3AE-6720-4F69-A330-AFAED824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E122-186A-4FF6-AF40-1B9B1B10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695A-8245-45A3-9823-7642CA21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354E-9B1F-4FC1-BC52-6F187CC4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43B0-64BF-41AF-8DD2-A388FD95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B20C-05FE-4E49-872E-7CB987C1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9F63-3F3C-40C8-ABB7-A22789B1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588-9A67-4FB8-94B4-F8D6CBA2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592-77F5-479D-8EFD-F7FDAE5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1B6A-22C4-4E5C-A4DA-E8ED8B0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570-AAB7-410A-9AE9-9335B13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356B-8B31-485C-B0FE-CE14DD01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B6C4-6769-47AC-8A91-6909493F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502-6104-4BAB-8B2D-4E6B0EDC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011-E23E-43AC-8E47-00679374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985-8254-4BBC-9415-E2A40E4B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FBA-A2A1-4B4C-B547-608093E9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282-19FA-4148-8D97-A6286F4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020-42FF-4E06-9709-4EE92E2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C43-A2B1-4F2C-AEA4-B1E6664A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S_yinyueyishu2_0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5FC4-E6A9-42A3-B10B-4370B568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BB0-4649-4FB1-8D50-B4913A661E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C66F-45B9-4ACD-86CF-4FAB32C085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LT_yinyueyishu2_0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ddddd"/>
                </a:solidFill>
                <a:latin typeface="Arial"/>
              </a:rPr>
              <a:t>国外浪漫吉他音乐专业</a:t>
            </a:r>
            <a:r>
              <a:rPr b="0" lang="zh-CN" sz="4000" spc="-1" strike="noStrike">
                <a:solidFill>
                  <a:srgbClr val="ddddd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dddddd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E2E6-E5F7-4439-ACB6-58C1F5CA32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05:30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53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