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D204-D648-4F0B-B336-9478CB3D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6858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81080" y="3822840"/>
            <a:ext cx="6858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DA0E-14C8-4CEE-98A1-A4C55BBA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8108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9540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4BD-2AAD-4799-A5CD-09D35550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99840" y="83772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18240" y="83772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81080" y="382284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99840" y="382284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18240" y="382284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048-0C4A-4434-A475-4B35B31C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6C18-36A1-47B5-A384-F34BFC5F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BD6E-5372-4186-8038-13CB8E01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1296-1CE5-46F8-9EBE-9D5C7FB1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1892-B80B-412A-8195-8A78F95F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CD13-37FB-42F3-82BA-6009A3C0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980720" y="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D5EA-EEAD-4E6E-AC14-14A905A7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8108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C780-CEBA-47FB-A7C1-E51858B6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1001-C6B5-44FD-855D-55EBC62C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9540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FAD9-A1E9-4A99-8BE6-A89C8DFE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81080" y="3822840"/>
            <a:ext cx="6858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69D6-349D-4602-A0A8-E32BE227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6858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981080" y="3822840"/>
            <a:ext cx="6858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9B1D-0E01-49E8-B032-888F05FE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8108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49540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3257-5789-400E-BD35-C7626081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99840" y="83772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18240" y="83772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981080" y="382284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299840" y="382284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18240" y="382284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2B14-4701-486A-86E2-9045C627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0F54B-922C-472C-99EC-5D6AFB72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F5744-E389-4D4C-95D1-BA227837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4A5F1-699A-4DE8-B17D-501504C5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33718-2C9A-4884-820A-4FA2EC9B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90781-AA4F-4DC6-85F0-BB82FF49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CC3E-7B58-4291-B080-8BA88D71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980720" y="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18663-250F-4BFC-8A13-413A3D4E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98108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C7819-3954-42BC-9FCD-3FA1AE5C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49540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83ED3-2E98-4D7D-A024-11079271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81080" y="3822840"/>
            <a:ext cx="6858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83CF9-CC69-41A1-96D8-AE47B82E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6858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981080" y="3822840"/>
            <a:ext cx="6858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635F4-A345-493E-8691-FE768107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98108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49540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B400D-1CE6-4A69-A0EA-4E680694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99840" y="83772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618240" y="83772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981080" y="382284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299840" y="382284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618240" y="382284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E5749-AC6F-4968-8885-17BF7242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C523-F87E-4B99-B9E6-7F47EEF2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F6BF-BF17-4CDE-972B-449408E3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80720" y="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D745-A598-4980-AFA8-7409CEDC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8108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1D4-0463-4CE2-891A-4E60604D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9540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6BC7-6EFF-486E-A160-C3E983F2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81080" y="3822840"/>
            <a:ext cx="6858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FAD-D2B3-43BB-A392-BABA8EB6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83772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29A0-0EAA-40C1-953D-09B862AF8797}" type="slidenum">
              <a:rPr b="0" lang="en-US" sz="10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1030" descr="sick_stomach"/>
          <p:cNvPicPr/>
          <p:nvPr/>
        </p:nvPicPr>
        <p:blipFill>
          <a:blip r:embed="rId3"/>
          <a:stretch/>
        </p:blipFill>
        <p:spPr>
          <a:xfrm>
            <a:off x="-1701720" y="228600"/>
            <a:ext cx="4749840" cy="662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DAC6-2160-4E12-AE6F-89B5A544D8FB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86E6-24A4-4B68-ABD1-DB22E7DD7C4C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981080" y="83772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02C6-65C6-444D-A02E-246CDFB1CF73}" type="slidenum"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Silly Stoma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ras Bold ITC"/>
              </a:rPr>
              <a:t>Your Subtitle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4099" descr="stomach_butterflies_flying_hg_clr"/>
          <p:cNvPicPr/>
          <p:nvPr/>
        </p:nvPicPr>
        <p:blipFill>
          <a:blip r:embed="rId1"/>
          <a:stretch/>
        </p:blipFill>
        <p:spPr>
          <a:xfrm>
            <a:off x="2209680" y="1219320"/>
            <a:ext cx="4953240" cy="495288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410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4101"/>
          <p:cNvSpPr/>
          <p:nvPr/>
        </p:nvSpPr>
        <p:spPr>
          <a:xfrm>
            <a:off x="2196360" y="990720"/>
            <a:ext cx="36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国外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漫画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6145" descr="healthy_stomach"/>
          <p:cNvPicPr/>
          <p:nvPr/>
        </p:nvPicPr>
        <p:blipFill>
          <a:blip r:embed="rId2"/>
          <a:stretch/>
        </p:blipFill>
        <p:spPr>
          <a:xfrm>
            <a:off x="1752480" y="533520"/>
            <a:ext cx="5656320" cy="5943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437920" y="2666520"/>
            <a:ext cx="17528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34" name="文本框 6148"/>
          <p:cNvSpPr/>
          <p:nvPr/>
        </p:nvSpPr>
        <p:spPr>
          <a:xfrm>
            <a:off x="1752480" y="632448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9148-A94D-4BB5-B587-58293DA9C38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17:34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56Z</dcterms:modified>
  <cp:revision>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