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BD5-FA43-4598-8902-A7F95D63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A8D-DDEA-4B67-85D7-3BCC09AC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CFF-DBC6-40AE-8061-9F4D8832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F86-5992-4360-AEB8-34850566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FE7C-B603-43A5-A3FA-821CA318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279C-D367-481A-BD6E-D68DD3F1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40D2-613B-46C5-A325-236585B6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39E3-3663-4D4B-9490-C4A3977E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8989-E820-461C-A875-971FDF7C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8027-4A65-4163-A098-945D5720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9047-227B-4FA3-B029-207B6D27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844B-39D9-4006-AB8D-1BF27040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F89F-A0DE-4C32-8648-32134FCF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C938-C4F9-4DEE-9AE3-FD3B3D46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1661-922C-4826-8507-76FE3B13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CF28-D263-483E-8117-29E16342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1AED-56D4-4285-AD1F-82A9436A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43225-6F2A-43B1-88CC-CD1820A3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0167B-4C5B-47D0-A875-A464EC87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3AB95-D666-4113-947D-5DB351A4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37909-D742-46C9-88A0-7987E72E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0B694-4C8F-4283-9BE4-636AD90C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373-F455-4DD4-9FD1-89FC5779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775F5-CA76-453C-9175-DF8B5808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5CABD-841F-42EF-8A19-7B9A1090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C0AB0-4217-48A6-883F-CB9D5A51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8D364-092B-4F76-B744-927EE37D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67A42-9FAB-4662-A449-65026607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F1C0A-243B-4527-A194-3AD0A81C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7E69E-F216-4FDB-BC80-C48389CC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8CA-A796-4EA3-A59F-AA2183C1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9116-40B2-479C-B571-89A4653F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146-0C70-43DD-9F6B-20C893DB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E80D-0B0B-4E29-B840-6F3682BC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CFE-07AE-44E8-B6F4-7B51A62C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4768-A0D9-4F3A-B1C1-DA316E2E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E770-9BAF-4814-B6BF-AED3B1A95258}" type="slidenum">
              <a:rPr b="1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F07A-5B7D-4565-9CD0-F573BBEF243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3624-533B-4C7C-8F30-0B4BE14D80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8A45-F4E9-4D44-AC98-FDBE0F86EB56}" type="slidenum">
              <a:rPr b="1" lang="en-US" sz="800" spc="-1" strike="noStrike">
                <a:solidFill>
                  <a:srgbClr val="ffffff"/>
                </a:solidFill>
                <a:latin typeface="Arial Black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ero"/>
              </a:rPr>
              <a:t>国外</a:t>
            </a:r>
            <a:r>
              <a:rPr b="1" lang="en-US" sz="4000" spc="-1" strike="noStrike">
                <a:solidFill>
                  <a:srgbClr val="003399"/>
                </a:solidFill>
                <a:latin typeface="Aero"/>
              </a:rPr>
              <a:t>庆祝生日</a:t>
            </a:r>
            <a:r>
              <a:rPr b="1" lang="en-US" sz="4000" spc="-1" strike="noStrike">
                <a:solidFill>
                  <a:srgbClr val="003399"/>
                </a:solidFill>
                <a:latin typeface="Aero"/>
              </a:rPr>
              <a:t>PPT</a:t>
            </a:r>
            <a:r>
              <a:rPr b="1" lang="en-US" sz="4000" spc="-1" strike="noStrike">
                <a:solidFill>
                  <a:srgbClr val="003399"/>
                </a:solidFill>
                <a:latin typeface="Aero"/>
              </a:rPr>
              <a:t>模板</a:t>
            </a:r>
            <a:r>
              <a:rPr b="1" lang="zh-CN" sz="4000" spc="-1" strike="noStrike">
                <a:solidFill>
                  <a:srgbClr val="003399"/>
                </a:solidFill>
                <a:latin typeface="Aero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6629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ero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5943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ero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240" y="6858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ero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ero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8197"/>
          <p:cNvSpPr/>
          <p:nvPr/>
        </p:nvSpPr>
        <p:spPr>
          <a:xfrm>
            <a:off x="1447920" y="58672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715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ero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ero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FE65-76B4-4D48-88DA-FEDF8659FF2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64515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Arial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64516" descr="animfactory_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64517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438280" y="2286000"/>
            <a:ext cx="6477120" cy="360"/>
            <a:chOff x="2438280" y="2286000"/>
            <a:chExt cx="6477120" cy="360"/>
          </a:xfrm>
        </p:grpSpPr>
        <p:sp>
          <p:nvSpPr>
            <p:cNvPr id="139" name="直接连接符 64519"/>
            <p:cNvSpPr/>
            <p:nvPr/>
          </p:nvSpPr>
          <p:spPr>
            <a:xfrm>
              <a:off x="2438280" y="2286000"/>
              <a:ext cx="6477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2438280" y="2286000"/>
              <a:ext cx="647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64567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Arial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64568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64569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64570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64571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内容占位符 64735" descr="happy_birthday_qx"/>
          <p:cNvPicPr/>
          <p:nvPr/>
        </p:nvPicPr>
        <p:blipFill>
          <a:blip r:embed="rId4"/>
          <a:stretch/>
        </p:blipFill>
        <p:spPr>
          <a:xfrm>
            <a:off x="25146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7" name="内容占位符 64736" descr="happy_birthday_sld"/>
          <p:cNvPicPr/>
          <p:nvPr/>
        </p:nvPicPr>
        <p:blipFill>
          <a:blip r:embed="rId5"/>
          <a:stretch/>
        </p:blipFill>
        <p:spPr>
          <a:xfrm>
            <a:off x="41148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8" name="内容占位符 64737" descr="happy_birthday_prt"/>
          <p:cNvPicPr/>
          <p:nvPr/>
        </p:nvPicPr>
        <p:blipFill>
          <a:blip r:embed="rId6"/>
          <a:stretch/>
        </p:blipFill>
        <p:spPr>
          <a:xfrm>
            <a:off x="57150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9" name="内容占位符 64738" descr="happy_birthday_trs"/>
          <p:cNvPicPr/>
          <p:nvPr/>
        </p:nvPicPr>
        <p:blipFill>
          <a:blip r:embed="rId7"/>
          <a:stretch/>
        </p:blipFill>
        <p:spPr>
          <a:xfrm>
            <a:off x="73152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3T20:13:3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45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