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549C-1DAF-4735-8DC2-DAE17C1C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795960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92200" y="4424040"/>
            <a:ext cx="795960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1091-3CD5-4CE5-BEBD-1E5F5CD0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1000" y="22046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2200" y="44240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1000" y="44240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1D10-7A60-4B1D-93E2-26E1352A0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25628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83560" y="2204640"/>
            <a:ext cx="25628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74920" y="2204640"/>
            <a:ext cx="25628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92200" y="4424040"/>
            <a:ext cx="25628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83560" y="4424040"/>
            <a:ext cx="25628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74920" y="4424040"/>
            <a:ext cx="25628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3005-F361-4DFC-84AC-F49EC9F51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92200" y="2204640"/>
            <a:ext cx="79596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79596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388404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2204640"/>
            <a:ext cx="388404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71320" y="980640"/>
            <a:ext cx="796572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1000" y="2204640"/>
            <a:ext cx="388404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2200" y="44240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592200" y="2204640"/>
            <a:ext cx="79596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CB00-F7EC-4905-8138-573133C0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388404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1000" y="22046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1000" y="44240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1000" y="22046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2200" y="4424040"/>
            <a:ext cx="795960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795960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2200" y="4424040"/>
            <a:ext cx="795960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1000" y="22046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2200" y="44240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1000" y="44240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25628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83560" y="2204640"/>
            <a:ext cx="25628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4920" y="2204640"/>
            <a:ext cx="25628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92200" y="4424040"/>
            <a:ext cx="25628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83560" y="4424040"/>
            <a:ext cx="25628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4920" y="4424040"/>
            <a:ext cx="25628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5EE2-9B2C-4389-9D36-50BE01179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92200" y="2204640"/>
            <a:ext cx="79596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9AD9-520A-454C-8F4A-8F856A52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79596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E3E4-61F3-433D-AC14-20B566D6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388404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1000" y="2204640"/>
            <a:ext cx="388404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1BDE-FC49-4536-98B5-66BC1936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6731-E167-41BF-81A4-20DAF81C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79596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E3F8-AF71-4FE5-9CDF-6B9CF648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571320" y="980640"/>
            <a:ext cx="796572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E3ED-9C30-4A15-839C-D6458013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1000" y="2204640"/>
            <a:ext cx="388404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2200" y="44240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15D4-BD2B-4289-978E-FE03962B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388404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1000" y="22046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1000" y="44240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98CA-830C-4E31-A0F1-96C02F16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1000" y="22046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2200" y="4424040"/>
            <a:ext cx="795960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7498-1FD9-4B17-8FA7-7D41D772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795960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92200" y="4424040"/>
            <a:ext cx="795960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5C88-9E9D-4F5B-8448-D9BF8123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1000" y="22046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2200" y="44240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1000" y="44240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61AD-704F-4419-990B-D09A79236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25628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83560" y="2204640"/>
            <a:ext cx="25628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74920" y="2204640"/>
            <a:ext cx="25628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92200" y="4424040"/>
            <a:ext cx="25628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83560" y="4424040"/>
            <a:ext cx="25628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74920" y="4424040"/>
            <a:ext cx="25628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5F2C-733B-4906-9881-5C235D01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388404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2204640"/>
            <a:ext cx="388404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935C-B121-4815-B488-BC14D7AF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E7F0-60D5-4B33-BCEC-F8B61421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571320" y="980640"/>
            <a:ext cx="796572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5A72-DB86-4BC7-82A6-CE1E9FA8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1000" y="2204640"/>
            <a:ext cx="388404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200" y="44240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2FE6-5703-452D-A96D-07B2293F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388404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1000" y="22046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1000" y="44240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6C7C-15D3-42F4-BB7A-D616E0AC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92200" y="22046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1000" y="2204640"/>
            <a:ext cx="388404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2200" y="4424040"/>
            <a:ext cx="7959600" cy="202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040C-D5F6-4426-AB75-CC9C8FA6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2"/>
          <p:cNvSpPr/>
          <p:nvPr/>
        </p:nvSpPr>
        <p:spPr>
          <a:xfrm rot="16200000">
            <a:off x="5485320" y="-912240"/>
            <a:ext cx="908280" cy="273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pic>
        <p:nvPicPr>
          <p:cNvPr id="1" name="Picture 37" descr="hd_home"/>
          <p:cNvPicPr/>
          <p:nvPr/>
        </p:nvPicPr>
        <p:blipFill>
          <a:blip r:embed="rId2"/>
          <a:stretch/>
        </p:blipFill>
        <p:spPr>
          <a:xfrm>
            <a:off x="4211640" y="0"/>
            <a:ext cx="4932360" cy="90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92200" y="2204640"/>
            <a:ext cx="79596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-354240">
              <a:spcBef>
                <a:spcPts val="1199"/>
              </a:spcBef>
              <a:buClr>
                <a:srgbClr val="7f9db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960" indent="-349920">
              <a:spcBef>
                <a:spcPts val="1199"/>
              </a:spcBef>
              <a:buClr>
                <a:srgbClr val="7f9db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0120" indent="-342360">
              <a:spcBef>
                <a:spcPts val="1199"/>
              </a:spcBef>
              <a:buClr>
                <a:srgbClr val="7f9db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3280" indent="-351720">
              <a:spcBef>
                <a:spcPts val="1199"/>
              </a:spcBef>
              <a:buClr>
                <a:srgbClr val="7f9db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7880" indent="-352800">
              <a:spcBef>
                <a:spcPts val="1199"/>
              </a:spcBef>
              <a:buClr>
                <a:srgbClr val="7f9db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7880" indent="-352800">
              <a:spcBef>
                <a:spcPts val="11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7880" indent="-352800">
              <a:spcBef>
                <a:spcPts val="11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582120" y="6453360"/>
            <a:ext cx="1800360" cy="4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C483-9566-4F5B-B91D-3CB1555124F0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2411280" y="6453360"/>
            <a:ext cx="4321440" cy="4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ACF technolo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732720" y="6453360"/>
            <a:ext cx="1800000" cy="4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467E-6614-45BE-9512-A1363A5ED560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8"/>
          <p:cNvSpPr/>
          <p:nvPr/>
        </p:nvSpPr>
        <p:spPr>
          <a:xfrm>
            <a:off x="0" y="981000"/>
            <a:ext cx="9144000" cy="79236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6b85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  <p:sp>
        <p:nvSpPr>
          <p:cNvPr id="8" name="Rectangle 20"/>
          <p:cNvSpPr/>
          <p:nvPr/>
        </p:nvSpPr>
        <p:spPr>
          <a:xfrm rot="16200000">
            <a:off x="5703840" y="-1131840"/>
            <a:ext cx="901800" cy="316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pic>
        <p:nvPicPr>
          <p:cNvPr id="9" name="Picture 24" descr="KHS_Logo"/>
          <p:cNvPicPr/>
          <p:nvPr/>
        </p:nvPicPr>
        <p:blipFill>
          <a:blip r:embed="rId3"/>
          <a:srcRect l="0" t="0" r="7934" b="0"/>
          <a:stretch/>
        </p:blipFill>
        <p:spPr>
          <a:xfrm>
            <a:off x="28440" y="76320"/>
            <a:ext cx="1822680" cy="828720"/>
          </a:xfrm>
          <a:prstGeom prst="rect">
            <a:avLst/>
          </a:prstGeom>
          <a:ln w="0">
            <a:noFill/>
          </a:ln>
        </p:spPr>
      </p:pic>
      <p:sp>
        <p:nvSpPr>
          <p:cNvPr id="10" name="Text Box 25"/>
          <p:cNvSpPr/>
          <p:nvPr/>
        </p:nvSpPr>
        <p:spPr>
          <a:xfrm>
            <a:off x="171000" y="-24444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11,05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1" name="Text Box 26"/>
          <p:cNvSpPr/>
          <p:nvPr/>
        </p:nvSpPr>
        <p:spPr>
          <a:xfrm>
            <a:off x="882360" y="-24444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10,00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2" name="Text Box 27"/>
          <p:cNvSpPr/>
          <p:nvPr/>
        </p:nvSpPr>
        <p:spPr>
          <a:xfrm>
            <a:off x="4491360" y="-2444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0,00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3" name="Text Box 29"/>
          <p:cNvSpPr/>
          <p:nvPr/>
        </p:nvSpPr>
        <p:spPr>
          <a:xfrm>
            <a:off x="8462520" y="-24444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11,05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4" name="Text Box 30"/>
          <p:cNvSpPr/>
          <p:nvPr/>
        </p:nvSpPr>
        <p:spPr>
          <a:xfrm>
            <a:off x="-434520" y="71748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7,00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5" name="Text Box 31"/>
          <p:cNvSpPr/>
          <p:nvPr/>
        </p:nvSpPr>
        <p:spPr>
          <a:xfrm>
            <a:off x="-434520" y="91440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6,80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6" name="Text Box 32"/>
          <p:cNvSpPr/>
          <p:nvPr/>
        </p:nvSpPr>
        <p:spPr>
          <a:xfrm>
            <a:off x="-434520" y="129708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5,40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7" name="Text Box 33"/>
          <p:cNvSpPr/>
          <p:nvPr/>
        </p:nvSpPr>
        <p:spPr>
          <a:xfrm>
            <a:off x="-434520" y="158580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4,60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8" name="Text Box 34"/>
          <p:cNvSpPr/>
          <p:nvPr/>
        </p:nvSpPr>
        <p:spPr>
          <a:xfrm>
            <a:off x="-434520" y="201780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3,40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9" name="Text Box 35"/>
          <p:cNvSpPr/>
          <p:nvPr/>
        </p:nvSpPr>
        <p:spPr>
          <a:xfrm>
            <a:off x="-434520" y="408312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2,40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20" name="Text Box 36"/>
          <p:cNvSpPr/>
          <p:nvPr/>
        </p:nvSpPr>
        <p:spPr>
          <a:xfrm>
            <a:off x="-434520" y="624672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2,40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pic>
        <p:nvPicPr>
          <p:cNvPr id="21" name="Picture 39" descr="_muster_96000 Kopie"/>
          <p:cNvPicPr/>
          <p:nvPr/>
        </p:nvPicPr>
        <p:blipFill>
          <a:blip r:embed="rId4"/>
          <a:stretch/>
        </p:blipFill>
        <p:spPr>
          <a:xfrm>
            <a:off x="2556000" y="0"/>
            <a:ext cx="6588000" cy="939960"/>
          </a:xfrm>
          <a:prstGeom prst="rect">
            <a:avLst/>
          </a:prstGeom>
          <a:ln w="0">
            <a:noFill/>
          </a:ln>
        </p:spPr>
      </p:pic>
      <p:grpSp>
        <p:nvGrpSpPr>
          <p:cNvPr id="22" name=""/>
          <p:cNvGrpSpPr/>
          <p:nvPr/>
        </p:nvGrpSpPr>
        <p:grpSpPr>
          <a:xfrm>
            <a:off x="0" y="932040"/>
            <a:ext cx="9144000" cy="360"/>
            <a:chOff x="0" y="932040"/>
            <a:chExt cx="9144000" cy="360"/>
          </a:xfrm>
        </p:grpSpPr>
        <p:sp>
          <p:nvSpPr>
            <p:cNvPr id="23" name="Line 38"/>
            <p:cNvSpPr/>
            <p:nvPr/>
          </p:nvSpPr>
          <p:spPr>
            <a:xfrm>
              <a:off x="0" y="932040"/>
              <a:ext cx="9144000" cy="0"/>
            </a:xfrm>
            <a:prstGeom prst="line">
              <a:avLst/>
            </a:prstGeom>
            <a:ln w="57240">
              <a:solidFill>
                <a:srgbClr val="7f9db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24" name=""/>
            <p:cNvSpPr txBox="1"/>
            <p:nvPr/>
          </p:nvSpPr>
          <p:spPr>
            <a:xfrm>
              <a:off x="0" y="9320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4" descr="001"/>
          <p:cNvPicPr/>
          <p:nvPr/>
        </p:nvPicPr>
        <p:blipFill>
          <a:blip r:embed="rId2"/>
          <a:stretch/>
        </p:blipFill>
        <p:spPr>
          <a:xfrm>
            <a:off x="2268360" y="260280"/>
            <a:ext cx="6875640" cy="41767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2"/>
          <p:cNvSpPr/>
          <p:nvPr/>
        </p:nvSpPr>
        <p:spPr>
          <a:xfrm>
            <a:off x="1887480" y="260280"/>
            <a:ext cx="1028880" cy="41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64" name="Rectangle 1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7f9d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pic>
        <p:nvPicPr>
          <p:cNvPr id="65" name="Picture 52" descr="KHS_Logo"/>
          <p:cNvPicPr/>
          <p:nvPr/>
        </p:nvPicPr>
        <p:blipFill>
          <a:blip r:embed="rId3"/>
          <a:srcRect l="3045" t="0" r="8176" b="0"/>
          <a:stretch/>
        </p:blipFill>
        <p:spPr>
          <a:xfrm>
            <a:off x="152280" y="685800"/>
            <a:ext cx="2498760" cy="11779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3"/>
          <p:cNvSpPr/>
          <p:nvPr/>
        </p:nvSpPr>
        <p:spPr>
          <a:xfrm>
            <a:off x="171000" y="-24444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11,05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67" name="Text Box 54"/>
          <p:cNvSpPr/>
          <p:nvPr/>
        </p:nvSpPr>
        <p:spPr>
          <a:xfrm>
            <a:off x="882360" y="-24444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10,00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68" name="Text Box 55"/>
          <p:cNvSpPr/>
          <p:nvPr/>
        </p:nvSpPr>
        <p:spPr>
          <a:xfrm>
            <a:off x="4491360" y="-2444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0,00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69" name="Text Box 56"/>
          <p:cNvSpPr/>
          <p:nvPr/>
        </p:nvSpPr>
        <p:spPr>
          <a:xfrm>
            <a:off x="8462520" y="-24444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11,05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70" name="Text Box 57"/>
          <p:cNvSpPr/>
          <p:nvPr/>
        </p:nvSpPr>
        <p:spPr>
          <a:xfrm>
            <a:off x="-434520" y="71748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7,00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71" name="Text Box 58"/>
          <p:cNvSpPr/>
          <p:nvPr/>
        </p:nvSpPr>
        <p:spPr>
          <a:xfrm>
            <a:off x="-434520" y="91440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6,80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72" name="Text Box 59"/>
          <p:cNvSpPr/>
          <p:nvPr/>
        </p:nvSpPr>
        <p:spPr>
          <a:xfrm>
            <a:off x="-434520" y="129708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5,40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73" name="Text Box 60"/>
          <p:cNvSpPr/>
          <p:nvPr/>
        </p:nvSpPr>
        <p:spPr>
          <a:xfrm>
            <a:off x="-434520" y="158580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4,60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74" name="Text Box 61"/>
          <p:cNvSpPr/>
          <p:nvPr/>
        </p:nvSpPr>
        <p:spPr>
          <a:xfrm>
            <a:off x="-434520" y="201780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3,40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75" name="Text Box 62"/>
          <p:cNvSpPr/>
          <p:nvPr/>
        </p:nvSpPr>
        <p:spPr>
          <a:xfrm>
            <a:off x="-434520" y="408312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2,40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76" name="Text Box 63"/>
          <p:cNvSpPr/>
          <p:nvPr/>
        </p:nvSpPr>
        <p:spPr>
          <a:xfrm>
            <a:off x="-434520" y="624672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Humnst777 BT"/>
                <a:ea typeface="宋体"/>
              </a:rPr>
              <a:t>2,40</a:t>
            </a:r>
            <a:endParaRPr b="0" lang="en-US" sz="1000" spc="-1" strike="noStrike">
              <a:solidFill>
                <a:srgbClr val="000000"/>
              </a:solidFill>
              <a:latin typeface="Humnst777 BT"/>
            </a:endParaRPr>
          </a:p>
        </p:txBody>
      </p:sp>
      <p:pic>
        <p:nvPicPr>
          <p:cNvPr id="77" name="Picture 65" descr="Bild2_leiste Kopie"/>
          <p:cNvPicPr/>
          <p:nvPr/>
        </p:nvPicPr>
        <p:blipFill>
          <a:blip r:embed="rId4"/>
          <a:stretch/>
        </p:blipFill>
        <p:spPr>
          <a:xfrm>
            <a:off x="0" y="1908000"/>
            <a:ext cx="1889280" cy="4950000"/>
          </a:xfrm>
          <a:prstGeom prst="rect">
            <a:avLst/>
          </a:prstGeom>
          <a:ln w="0">
            <a:noFill/>
          </a:ln>
        </p:spPr>
      </p:pic>
      <p:pic>
        <p:nvPicPr>
          <p:cNvPr id="78" name="Object 66" descr=""/>
          <p:cNvPicPr/>
          <p:nvPr/>
        </p:nvPicPr>
        <p:blipFill>
          <a:blip r:embed="rId5"/>
          <a:stretch/>
        </p:blipFill>
        <p:spPr>
          <a:xfrm>
            <a:off x="0" y="5737320"/>
            <a:ext cx="1889280" cy="11174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7"/>
          <p:cNvSpPr/>
          <p:nvPr/>
        </p:nvSpPr>
        <p:spPr>
          <a:xfrm>
            <a:off x="-1440" y="1909800"/>
            <a:ext cx="1887480" cy="4941720"/>
          </a:xfrm>
          <a:prstGeom prst="rect">
            <a:avLst/>
          </a:prstGeom>
          <a:noFill/>
          <a:ln w="12600">
            <a:solidFill>
              <a:srgbClr val="7f9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0" y="3216240"/>
            <a:ext cx="1887480" cy="360"/>
            <a:chOff x="0" y="3216240"/>
            <a:chExt cx="1887480" cy="360"/>
          </a:xfrm>
        </p:grpSpPr>
        <p:sp>
          <p:nvSpPr>
            <p:cNvPr id="81" name="Line 68"/>
            <p:cNvSpPr/>
            <p:nvPr/>
          </p:nvSpPr>
          <p:spPr>
            <a:xfrm>
              <a:off x="0" y="3216240"/>
              <a:ext cx="1887480" cy="0"/>
            </a:xfrm>
            <a:prstGeom prst="line">
              <a:avLst/>
            </a:prstGeom>
            <a:ln w="12600">
              <a:solidFill>
                <a:srgbClr val="7f9db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0" y="3216240"/>
              <a:ext cx="1887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-3240" y="4362480"/>
            <a:ext cx="1887480" cy="360"/>
            <a:chOff x="-3240" y="4362480"/>
            <a:chExt cx="1887480" cy="360"/>
          </a:xfrm>
        </p:grpSpPr>
        <p:sp>
          <p:nvSpPr>
            <p:cNvPr id="84" name="Line 69"/>
            <p:cNvSpPr/>
            <p:nvPr/>
          </p:nvSpPr>
          <p:spPr>
            <a:xfrm>
              <a:off x="-3240" y="4362480"/>
              <a:ext cx="1887480" cy="0"/>
            </a:xfrm>
            <a:prstGeom prst="line">
              <a:avLst/>
            </a:prstGeom>
            <a:ln w="12600">
              <a:solidFill>
                <a:srgbClr val="7f9db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-3240" y="4362480"/>
              <a:ext cx="1887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-6480" y="5737320"/>
            <a:ext cx="1887840" cy="360"/>
            <a:chOff x="-6480" y="5737320"/>
            <a:chExt cx="1887840" cy="360"/>
          </a:xfrm>
        </p:grpSpPr>
        <p:sp>
          <p:nvSpPr>
            <p:cNvPr id="87" name="Line 70"/>
            <p:cNvSpPr/>
            <p:nvPr/>
          </p:nvSpPr>
          <p:spPr>
            <a:xfrm>
              <a:off x="-6480" y="5737320"/>
              <a:ext cx="1887840" cy="0"/>
            </a:xfrm>
            <a:prstGeom prst="line">
              <a:avLst/>
            </a:prstGeom>
            <a:ln w="12600">
              <a:solidFill>
                <a:srgbClr val="7f9db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-6480" y="5737320"/>
              <a:ext cx="1887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Humnst777 BT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592200" y="2204640"/>
            <a:ext cx="79596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-354240">
              <a:spcBef>
                <a:spcPts val="1199"/>
              </a:spcBef>
              <a:buClr>
                <a:srgbClr val="7f9db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960" indent="-349920">
              <a:spcBef>
                <a:spcPts val="1199"/>
              </a:spcBef>
              <a:buClr>
                <a:srgbClr val="7f9db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0120" indent="-342360">
              <a:spcBef>
                <a:spcPts val="1199"/>
              </a:spcBef>
              <a:buClr>
                <a:srgbClr val="7f9db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3280" indent="-351720">
              <a:spcBef>
                <a:spcPts val="1199"/>
              </a:spcBef>
              <a:buClr>
                <a:srgbClr val="7f9db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7880" indent="-352800">
              <a:spcBef>
                <a:spcPts val="1199"/>
              </a:spcBef>
              <a:buClr>
                <a:srgbClr val="7f9db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7880" indent="-352800">
              <a:spcBef>
                <a:spcPts val="11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7880" indent="-352800">
              <a:spcBef>
                <a:spcPts val="11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6b85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d6b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1A45-0C2C-423F-925D-096024EB2BC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502E-923F-496F-8EC8-8203C6CFDC9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3419640" y="5928840"/>
            <a:ext cx="4752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11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9" name="文本框 4098"/>
          <p:cNvSpPr/>
          <p:nvPr/>
        </p:nvSpPr>
        <p:spPr>
          <a:xfrm>
            <a:off x="2556000" y="645336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70" name="文本框 4099"/>
          <p:cNvSpPr/>
          <p:nvPr/>
        </p:nvSpPr>
        <p:spPr>
          <a:xfrm>
            <a:off x="3229560" y="227664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umnst777 BT"/>
                <a:ea typeface="Humnst777 BT"/>
              </a:rPr>
              <a:t>国外商务活动</a:t>
            </a:r>
            <a:r>
              <a:rPr b="0" lang="zh-CN" sz="4000" spc="-1" strike="noStrike">
                <a:solidFill>
                  <a:srgbClr val="000000"/>
                </a:solidFill>
                <a:latin typeface="Humnst777 BT"/>
                <a:ea typeface="宋体"/>
              </a:rPr>
              <a:t>幻灯片免费下载</a:t>
            </a:r>
            <a:endParaRPr b="0" lang="en-US" sz="40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1320" y="980640"/>
            <a:ext cx="79657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4d6b85"/>
              </a:solidFill>
              <a:latin typeface="Arial"/>
              <a:ea typeface="宋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2200" y="2204640"/>
            <a:ext cx="79596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75"/>
              </a:spcBef>
              <a:buClr>
                <a:srgbClr val="7f9db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5123"/>
          <p:cNvSpPr/>
          <p:nvPr/>
        </p:nvSpPr>
        <p:spPr>
          <a:xfrm>
            <a:off x="1044720" y="28526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950a0"/>
                </a:solidFill>
                <a:uFillTx/>
                <a:latin typeface="Humnst777 BT"/>
                <a:ea typeface="Humnst777 BT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Humnst777 BT"/>
                <a:ea typeface="Humnst777 BT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Humnst777 BT"/>
                <a:ea typeface="Humnst777 BT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Humnst777 BT"/>
            </a:endParaRPr>
          </a:p>
        </p:txBody>
      </p:sp>
      <p:sp>
        <p:nvSpPr>
          <p:cNvPr id="17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D009-C247-4DDB-B4E0-5E4AC0321A2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6"/>
          <p:cNvSpPr/>
          <p:nvPr/>
        </p:nvSpPr>
        <p:spPr>
          <a:xfrm>
            <a:off x="2489760" y="2895480"/>
            <a:ext cx="430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6b85"/>
                </a:solidFill>
                <a:latin typeface="Humnst777 BT"/>
                <a:ea typeface="宋体"/>
              </a:rPr>
              <a:t>Thank you </a:t>
            </a:r>
            <a:endParaRPr b="0" lang="en-US" sz="3600" spc="-1" strike="noStrike">
              <a:solidFill>
                <a:srgbClr val="000000"/>
              </a:solidFill>
              <a:latin typeface="Humnst777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umnst777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6b85"/>
                </a:solidFill>
                <a:latin typeface="Humnst777 BT"/>
                <a:ea typeface="宋体"/>
              </a:rPr>
              <a:t>for your attention</a:t>
            </a:r>
            <a:endParaRPr b="0" lang="en-US" sz="3600" spc="-1" strike="noStrike">
              <a:solidFill>
                <a:srgbClr val="000000"/>
              </a:solidFill>
              <a:latin typeface="Humnst777 B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09:13:3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2:38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