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BC27-B056-444C-9236-78A0A54C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699000"/>
            <a:ext cx="80769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32F-3FB5-42F0-9BFA-F6B633B2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8673-35E7-45EF-A073-F1121057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29528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29528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69900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69900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69900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0EC-B08A-4AAF-98F9-2732B08B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9B4E-FD2F-4C31-8C59-2CD37339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21B9-6FCE-492C-AD36-00A970F8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5F10-CCC5-4552-9B5C-7EC31B50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03A2-6CC6-445B-9BD1-1C51BA46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2631-5448-4C98-82A0-1AD37904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7F4B-77FA-459B-83B0-007270E5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315B-8CFC-473E-B307-A1E04D67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1A8-5DC8-4491-AC93-27CA3723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26FA-C8E6-4033-98E6-13887568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699000"/>
            <a:ext cx="80769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DA6A-6ED0-4362-AAA8-569EE8FE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699000"/>
            <a:ext cx="80769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9F67-A52B-424B-8348-D2A59603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573E-2154-47E9-85F8-D2FF9B53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29528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129528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69900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369900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369900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BEB4-91D7-41FB-B9DF-1E21F500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6A262-D0F4-409C-A228-714A1C50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B745F-003B-401C-87E5-2E7EFD42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6585C-A7E1-4D00-AD93-30AFFADA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A3908-D759-42C9-AA48-00D20E2B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C9C3E-9831-4228-87AD-E2AB219F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0FB-EE0A-49C9-8EFC-17A6C288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2DAB5-F65C-49BF-8BA6-CC13868E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BDC76-321E-4B2D-BAE8-7542EE1E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08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D4B4C-7E47-4086-8F0C-B130AE5B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3699000"/>
            <a:ext cx="80769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DE330-BB1F-4385-AD33-FAC55182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3699000"/>
            <a:ext cx="80769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3D158-2BEB-43A0-B019-088204CF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08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C8213-2093-4964-8ECE-0C7BA0D1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4480" y="129528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5800" y="129528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369900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4480" y="369900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5800" y="369900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DF750-1EF7-47C4-A990-CE587CC3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8CC-859B-47E1-B9A2-0861BE6A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221-6FF3-4C5D-9E15-AEF42A33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B44-0DB8-4A28-AE7F-442BCBB8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F3C-3658-4E42-B63C-5E229B83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1E2-F9AE-4D73-859A-A3CE6BCF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699000"/>
            <a:ext cx="80769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E87-55D4-4347-AED6-1BCA68BA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F6FE-B886-4F33-ADA2-F8A09CC5C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0368-0836-4EE2-8C84-D75BC80D1F9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2572-FF00-4D36-84D7-D570FE994D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01A2-BC72-479C-9195-58C5A41A0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04960" y="388584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c1c1c"/>
                </a:solidFill>
                <a:latin typeface="Arial"/>
              </a:rPr>
              <a:t>SHUT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504960" y="449568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ITLE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100"/>
          <p:cNvSpPr/>
          <p:nvPr/>
        </p:nvSpPr>
        <p:spPr>
          <a:xfrm>
            <a:off x="2520720" y="9907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国外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摄影爱好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6147"/>
          <p:cNvSpPr/>
          <p:nvPr/>
        </p:nvSpPr>
        <p:spPr>
          <a:xfrm>
            <a:off x="755640" y="249408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3B68-0469-464D-B93C-E65E5DC22F9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c1c1c"/>
                </a:solidFill>
                <a:latin typeface="Arial"/>
              </a:rPr>
              <a:t>TRANSITIONAL P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2:02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48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