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378-08E6-4ABF-AD1D-C4D593F6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590-5D24-4B8B-9E4B-2F1D493D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3F2-350B-4A6D-96F1-6F0EE3C8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F75-6DFC-47A1-98BF-2B3FD79E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2772-FBD7-476A-9F3E-CD3D6816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CEED-3557-45C2-BDF7-0A69A77C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CDFB-3113-44B7-8B1C-33591395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8F71-7619-41C8-AA80-FB6284E0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BC80-60FE-49CA-B101-5A6C4DB0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F022-F787-4051-87FE-B4A57848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9E9C-294C-4E57-832B-3FA3E852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8B7-8E98-4502-8A10-58D659F7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125A-F863-4A55-8FC0-0B1F0F1E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B809-2E64-4188-A520-75FF5E09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727F-FBB6-486A-B790-6122AF7E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F23B-822A-40E0-90B6-9A471CA9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6F30-C6A3-47B9-A606-02AAA137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40090-97EE-48CD-AFB6-749756DB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216D-8258-4AB5-8A2C-3D55761A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6557-FCFA-419D-A5C8-E64FDAF8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A1883-F785-42AD-A400-B5BC2ACB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42CD-441F-4CFC-A0AC-4A4A5776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BD1-655B-4AFE-BB9D-B5A0C320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BDD3-DD7F-4CAA-94BD-E69F5DF1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CAB2-3F34-428E-B1AC-C8F82E5D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0208-618A-4DEF-A686-27E142F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F83FC-D910-449B-97C3-2AA18EF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1AB6D-5575-41BA-B335-90A25D7F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7BAC-33FB-466F-94BD-6F732426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596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84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45FC-4B35-4F70-BDB4-4960B7DC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CED-8759-47AB-ADBD-BEBF0664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1E4-0F64-4B9F-BF07-D6F313B2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E39-A83D-4328-8A66-F8401AE3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B76-7C74-4E49-BCA5-7A0D88BF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37D-0E77-4A3F-9D54-E31F43AF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BAA-6ED2-400D-AAC6-54462AC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0A01-68FD-424A-9A15-9DF316067B19}" type="slidenum">
              <a:rPr b="1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5199-DA37-4A07-A37B-961A8B6D11A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E794-559E-48FF-80B5-C5020A7235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8BD2-1C4B-4AA5-8DDA-299B1CD9EAAC}" type="slidenum">
              <a:rPr b="1" lang="en-US" sz="8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5562720"/>
            <a:ext cx="8839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My Home T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61722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1453680" y="1295280"/>
            <a:ext cx="643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我的家乡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562720"/>
            <a:ext cx="8839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-360" y="61722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6511-16F3-4250-8178-5E5D23342A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7171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7:21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6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