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media/image13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E8F-C654-4AAC-80AC-3AF09E6B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064-94F5-45CC-85DD-277E8081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F51-4BDF-4E98-92EE-7CF70314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C4F2-2017-4049-95B5-5457DAEE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EDCB-BA3B-455B-AB45-7A297C14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CB54-D32F-418D-B053-FB276B31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45BF-9EF7-4FB3-B4AE-305D84E1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0E99-0B94-49FD-9D96-C38009A8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D9C5-A931-4246-9B49-70858A77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23A8-AF78-4874-8836-3FE97907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0CF1-0696-4429-9AEB-7F526122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2B09-3543-41B3-8380-41349572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26FB-2D89-4DC4-B062-9F04B16E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17BE-BB6E-4733-9517-E00B3E8C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38AD-3A83-42D9-836E-55E4F073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8715-7641-423C-80EA-2C04DA5C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EE29-961F-4DC3-A281-6DA10276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56DEF-AFA8-43DF-9158-A59CD997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9C1E7-92C5-4BA5-8567-664843AC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119FF-179F-4B01-8544-BFF41F42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D7A26-0C9A-4FD6-88C6-9F139E92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C6C81-5040-4AF8-AD1B-624B609D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35C-80F5-4B00-8C4E-97386003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A9DC1-3614-4995-BB6D-F9E7F9E7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A3018-3E51-4D6D-A90A-854401C0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7BE1D-A679-433F-98B6-8DD2E7A1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DD0E8-CAFA-49B0-BCFC-31A1AC99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C40AF-0798-4993-88A0-24CBCF94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9FA3E-7566-44BD-AB34-F16B8BE9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8978D-D7B8-4EF4-8F60-5C7A817C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7C96-B1A4-497B-951C-4D8A8576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FFF-28CD-44FA-A9CD-A884E84F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EF9-2515-4FCB-8B23-CBFBBA40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7FE-6FC4-4446-90BA-1910C69F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209-4945-4E4E-97BC-473F81B1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BD75-2FD6-4C83-B18D-DA25F0E4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972A-ABD8-495B-B27C-CA36FC7A6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F51C-147D-47C4-BA7B-AACC447CC8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2C94-9344-423E-B7CA-1D57FA78696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330D-9B4D-4ADF-8E8B-50431F87DF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2" descr="未标题-1.png"/>
          <p:cNvPicPr/>
          <p:nvPr/>
        </p:nvPicPr>
        <p:blipFill>
          <a:blip r:embed="rId2"/>
          <a:stretch/>
        </p:blipFill>
        <p:spPr>
          <a:xfrm>
            <a:off x="1357200" y="0"/>
            <a:ext cx="6348600" cy="63500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3" descr="未标题-2.png"/>
          <p:cNvPicPr/>
          <p:nvPr/>
        </p:nvPicPr>
        <p:blipFill>
          <a:blip r:embed="rId3"/>
          <a:stretch/>
        </p:blipFill>
        <p:spPr>
          <a:xfrm>
            <a:off x="1500120" y="3143160"/>
            <a:ext cx="6348600" cy="6348600"/>
          </a:xfrm>
          <a:prstGeom prst="rect">
            <a:avLst/>
          </a:prstGeom>
          <a:ln w="0">
            <a:noFill/>
          </a:ln>
        </p:spPr>
      </p:pic>
      <p:sp>
        <p:nvSpPr>
          <p:cNvPr id="133" name="矩形 4"/>
          <p:cNvSpPr/>
          <p:nvPr/>
        </p:nvSpPr>
        <p:spPr>
          <a:xfrm>
            <a:off x="7599240" y="648828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wardian Script ITC"/>
              </a:rPr>
              <a:t>Arkey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10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101"/>
          <p:cNvSpPr/>
          <p:nvPr/>
        </p:nvSpPr>
        <p:spPr>
          <a:xfrm>
            <a:off x="2739240" y="117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艺术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2" descr="未标题-3.png"/>
          <p:cNvPicPr/>
          <p:nvPr/>
        </p:nvPicPr>
        <p:blipFill>
          <a:blip r:embed="rId2"/>
          <a:stretch/>
        </p:blipFill>
        <p:spPr>
          <a:xfrm>
            <a:off x="1397160" y="254160"/>
            <a:ext cx="6349680" cy="6349680"/>
          </a:xfrm>
          <a:prstGeom prst="rect">
            <a:avLst/>
          </a:prstGeom>
          <a:ln w="0">
            <a:noFill/>
          </a:ln>
        </p:spPr>
      </p:pic>
      <p:sp>
        <p:nvSpPr>
          <p:cNvPr id="137" name="矩形 3"/>
          <p:cNvSpPr/>
          <p:nvPr/>
        </p:nvSpPr>
        <p:spPr>
          <a:xfrm>
            <a:off x="7599240" y="648828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wardian Script ITC"/>
              </a:rPr>
              <a:t>Arkey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未标题-3.png"/>
          <p:cNvPicPr/>
          <p:nvPr/>
        </p:nvPicPr>
        <p:blipFill>
          <a:blip r:embed="rId2"/>
          <a:stretch/>
        </p:blipFill>
        <p:spPr>
          <a:xfrm>
            <a:off x="1397160" y="254160"/>
            <a:ext cx="6349680" cy="6349680"/>
          </a:xfrm>
          <a:prstGeom prst="rect">
            <a:avLst/>
          </a:prstGeom>
          <a:ln w="0">
            <a:noFill/>
          </a:ln>
        </p:spPr>
      </p:pic>
      <p:sp>
        <p:nvSpPr>
          <p:cNvPr id="139" name="矩形 2"/>
          <p:cNvSpPr/>
          <p:nvPr/>
        </p:nvSpPr>
        <p:spPr>
          <a:xfrm>
            <a:off x="-187560" y="648828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wardian Script ITC"/>
              </a:rPr>
              <a:t>Arkey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1" descr="未标题-4.png"/>
          <p:cNvPicPr/>
          <p:nvPr/>
        </p:nvPicPr>
        <p:blipFill>
          <a:blip r:embed="rId2"/>
          <a:stretch/>
        </p:blipFill>
        <p:spPr>
          <a:xfrm>
            <a:off x="1397160" y="254160"/>
            <a:ext cx="6349680" cy="6349680"/>
          </a:xfrm>
          <a:prstGeom prst="rect">
            <a:avLst/>
          </a:prstGeom>
          <a:ln w="0">
            <a:noFill/>
          </a:ln>
        </p:spPr>
      </p:pic>
      <p:sp>
        <p:nvSpPr>
          <p:cNvPr id="141" name="矩形 2"/>
          <p:cNvSpPr/>
          <p:nvPr/>
        </p:nvSpPr>
        <p:spPr>
          <a:xfrm>
            <a:off x="-187560" y="648828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wardian Script ITC"/>
              </a:rPr>
              <a:t>Arkey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7171"/>
          <p:cNvSpPr/>
          <p:nvPr/>
        </p:nvSpPr>
        <p:spPr>
          <a:xfrm>
            <a:off x="1620720" y="43657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" descr="未标题-4.png"/>
          <p:cNvPicPr/>
          <p:nvPr/>
        </p:nvPicPr>
        <p:blipFill>
          <a:blip r:embed="rId2"/>
          <a:stretch/>
        </p:blipFill>
        <p:spPr>
          <a:xfrm>
            <a:off x="1397160" y="254160"/>
            <a:ext cx="6349680" cy="6349680"/>
          </a:xfrm>
          <a:prstGeom prst="rect">
            <a:avLst/>
          </a:prstGeom>
          <a:ln w="0">
            <a:noFill/>
          </a:ln>
        </p:spPr>
      </p:pic>
      <p:sp>
        <p:nvSpPr>
          <p:cNvPr id="144" name="矩形 2"/>
          <p:cNvSpPr/>
          <p:nvPr/>
        </p:nvSpPr>
        <p:spPr>
          <a:xfrm>
            <a:off x="7599240" y="648828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wardian Script ITC"/>
              </a:rPr>
              <a:t>Arkey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0261-8763-449F-90FA-206D872458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" descr="未标题-1.png"/>
          <p:cNvPicPr/>
          <p:nvPr/>
        </p:nvPicPr>
        <p:blipFill>
          <a:blip r:embed="rId2"/>
          <a:stretch/>
        </p:blipFill>
        <p:spPr>
          <a:xfrm>
            <a:off x="357120" y="471492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3" descr="未标题-2.png"/>
          <p:cNvPicPr/>
          <p:nvPr/>
        </p:nvPicPr>
        <p:blipFill>
          <a:blip r:embed="rId3"/>
          <a:stretch/>
        </p:blipFill>
        <p:spPr>
          <a:xfrm>
            <a:off x="1428840" y="1500120"/>
            <a:ext cx="6348240" cy="63486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4" descr="pshero_0064.png"/>
          <p:cNvPicPr/>
          <p:nvPr/>
        </p:nvPicPr>
        <p:blipFill>
          <a:blip r:embed="rId4"/>
          <a:stretch/>
        </p:blipFill>
        <p:spPr>
          <a:xfrm>
            <a:off x="2643120" y="1143000"/>
            <a:ext cx="3786120" cy="2243160"/>
          </a:xfrm>
          <a:prstGeom prst="rect">
            <a:avLst/>
          </a:prstGeom>
          <a:ln w="0">
            <a:noFill/>
          </a:ln>
        </p:spPr>
      </p:pic>
      <p:sp>
        <p:nvSpPr>
          <p:cNvPr id="152" name="矩形 5"/>
          <p:cNvSpPr/>
          <p:nvPr/>
        </p:nvSpPr>
        <p:spPr>
          <a:xfrm>
            <a:off x="3355920" y="3143160"/>
            <a:ext cx="22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dwardian Script ITC"/>
              </a:rPr>
              <a:t>Arkey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16Z</dcterms:modified>
  <cp:revision>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